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4688-E1D4-404B-ADF6-91B414E62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5950-F0A4-4AA0-A358-E06EB39E5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EE76-786C-42D2-9AEC-EB9697780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0410-AE2C-4231-AFDF-D8A48A4E0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9AC5-73DE-4505-8B59-5CABD537A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A40D-240B-47C5-AE3E-D3FC0B01A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9147-5FF8-484D-9489-0F817404E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551C-5148-4693-BF21-B112AABF5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69A1-009D-4F03-984B-503E55360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5436-16B2-4A46-96AA-C54CC975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EE23-139E-4FDD-A87B-F7969E3BC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47E4-1CF5-4557-9793-59A631E3D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7546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F2869-B284-49BE-89D5-3B052C1FA5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7546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2133720"/>
            <a:ext cx="60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00"/>
                </a:solidFill>
                <a:latin typeface="Times New Roman"/>
              </a:rPr>
              <a:t>Тема: Цветы из семян ясеня и кле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Осенние листья - Autumn Leaves &quot; PixelBrush - Портал о дизайне. Скачать фото, картинки, обои, рисунки, иконки, клипарты, вектор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175280" y="2060640"/>
            <a:ext cx="496872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6600"/>
                </a:solidFill>
                <a:latin typeface="Times New Roman"/>
              </a:rPr>
              <a:t>Тема: Цветы из    семян клена и   ясен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7546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SD 8870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7546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Желтые, оранжевые фоны для сайта &quot; Фоны для сайта"/>
          <p:cNvPicPr/>
          <p:nvPr/>
        </p:nvPicPr>
        <p:blipFill>
          <a:blip r:embed="rId1"/>
          <a:stretch/>
        </p:blipFill>
        <p:spPr>
          <a:xfrm>
            <a:off x="0" y="115920"/>
            <a:ext cx="3635280" cy="3429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Урожай / VFL.Ru это, фотохостинг без регистрации, и быстрый хостинг изображений."/>
          <p:cNvPicPr/>
          <p:nvPr/>
        </p:nvPicPr>
        <p:blipFill>
          <a:blip r:embed="rId2"/>
          <a:stretch/>
        </p:blipFill>
        <p:spPr>
          <a:xfrm>
            <a:off x="1763640" y="3157560"/>
            <a:ext cx="4932360" cy="3700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Листья. Высококачественный клипарт большого разрешения. &quot; Allpolus.com - все для дизайна и видеомонтажа. Photoshop, клипарты, фу"/>
          <p:cNvPicPr/>
          <p:nvPr/>
        </p:nvPicPr>
        <p:blipFill>
          <a:blip r:embed="rId3"/>
          <a:stretch/>
        </p:blipFill>
        <p:spPr>
          <a:xfrm>
            <a:off x="5292720" y="0"/>
            <a:ext cx="4284720" cy="41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2000" fill="hold"/>
                                        <p:tgtEl>
                                          <p:spTgt spid="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7546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ПромАльпФорум * просто работа * Фото - видео"/>
          <p:cNvPicPr/>
          <p:nvPr/>
        </p:nvPicPr>
        <p:blipFill>
          <a:blip r:embed="rId1"/>
          <a:stretch/>
        </p:blipFill>
        <p:spPr>
          <a:xfrm>
            <a:off x="0" y="0"/>
            <a:ext cx="3419640" cy="42861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Поделки ко Дню матери"/>
          <p:cNvPicPr/>
          <p:nvPr/>
        </p:nvPicPr>
        <p:blipFill>
          <a:blip r:embed="rId2"/>
          <a:stretch/>
        </p:blipFill>
        <p:spPr>
          <a:xfrm>
            <a:off x="3492360" y="2924280"/>
            <a:ext cx="5364360" cy="35938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39640" y="43657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емена ясе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234936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емена кл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2000" fill="hold"/>
                                        <p:tgtEl>
                                          <p:spTgt spid="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2000" fill="hold"/>
                                        <p:tgtEl>
                                          <p:spTgt spid="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7546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-2433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00"/>
                </a:solidFill>
                <a:latin typeface="Times New Roman"/>
              </a:rPr>
              <a:t>Виды аппликац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Поделки из бумаги открытки - Поделки, делаем самостоятельно"/>
          <p:cNvPicPr/>
          <p:nvPr/>
        </p:nvPicPr>
        <p:blipFill>
          <a:blip r:embed="rId1"/>
          <a:stretch/>
        </p:blipFill>
        <p:spPr>
          <a:xfrm>
            <a:off x="0" y="620640"/>
            <a:ext cx="4140360" cy="5400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аппликация из пластилина рыбка"/>
          <p:cNvPicPr/>
          <p:nvPr/>
        </p:nvPicPr>
        <p:blipFill>
          <a:blip r:embed="rId2"/>
          <a:stretch/>
        </p:blipFill>
        <p:spPr>
          <a:xfrm>
            <a:off x="4643280" y="1125360"/>
            <a:ext cx="4500720" cy="4464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95280" y="616572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Из бума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76720" y="5516640"/>
            <a:ext cx="370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80000" y="551664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Из пласти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7546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Детские поделки своими руками"/>
          <p:cNvPicPr/>
          <p:nvPr/>
        </p:nvPicPr>
        <p:blipFill>
          <a:blip r:embed="rId1"/>
          <a:stretch/>
        </p:blipFill>
        <p:spPr>
          <a:xfrm>
            <a:off x="0" y="0"/>
            <a:ext cx="5113440" cy="32907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84360" y="342900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Из листь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867280" y="3068640"/>
            <a:ext cx="28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1341360"/>
            <a:ext cx="23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Из яичной скорлу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Аппликация - из яичной скорлупы &quot; Поиск мастер классов, поделок своими руками и рукоделия на SearchMasterclass.Net"/>
          <p:cNvPicPr/>
          <p:nvPr/>
        </p:nvPicPr>
        <p:blipFill>
          <a:blip r:embed="rId2"/>
          <a:stretch/>
        </p:blipFill>
        <p:spPr>
          <a:xfrm>
            <a:off x="5715000" y="228600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7546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Ноябрь, 2012 (: креатифф на дому :) - Part 2"/>
          <p:cNvPicPr/>
          <p:nvPr/>
        </p:nvPicPr>
        <p:blipFill>
          <a:blip r:embed="rId1"/>
          <a:stretch/>
        </p:blipFill>
        <p:spPr>
          <a:xfrm>
            <a:off x="0" y="0"/>
            <a:ext cx="4762440" cy="33433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Перламутровые ромашки &quot; ProstoDelkino.com - поделки своими руками."/>
          <p:cNvPicPr/>
          <p:nvPr/>
        </p:nvPicPr>
        <p:blipFill>
          <a:blip r:embed="rId2"/>
          <a:stretch/>
        </p:blipFill>
        <p:spPr>
          <a:xfrm>
            <a:off x="5651640" y="0"/>
            <a:ext cx="3492360" cy="4572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Природные материалы, символизирующие осень. Поделки на осенн…"/>
          <p:cNvPicPr/>
          <p:nvPr/>
        </p:nvPicPr>
        <p:blipFill>
          <a:blip r:embed="rId3"/>
          <a:stretch/>
        </p:blipFill>
        <p:spPr>
          <a:xfrm>
            <a:off x="250920" y="3357720"/>
            <a:ext cx="4319640" cy="35002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435640" y="5734080"/>
            <a:ext cx="33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Цветы из семян ясеня и кл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2000" fill="hold"/>
                                        <p:tgtEl>
                                          <p:spTgt spid="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" dur="2000" fill="hold"/>
                                        <p:tgtEl>
                                          <p:spTgt spid="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2000" fill="hold"/>
                                        <p:tgtEl>
                                          <p:spTgt spid="7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5T13:15:34Z</dcterms:created>
  <dc:creator>U</dc:creator>
  <dc:description/>
  <dc:language>en-US</dc:language>
  <cp:lastModifiedBy>U</cp:lastModifiedBy>
  <dcterms:modified xsi:type="dcterms:W3CDTF">2014-10-05T14:21:56Z</dcterms:modified>
  <cp:revision>4</cp:revision>
  <dc:subject/>
  <dc:title>Слайд 1</dc:title>
</cp:coreProperties>
</file>