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7AD-E001-49F1-BE0E-0A9528A7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BAF-77BB-42A0-8B38-36D5B54C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971-9413-4E07-A1BB-71FB63E7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CB23-50CE-4E28-8CF6-6BFF0093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EA6-799E-4A24-A676-94569E04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E1D8-6394-4141-BA30-61DCC322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A8E-97FE-4692-9DB3-E3CC2FAC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89AD-0BC5-4DD3-B496-3DD89563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8043-6A66-43A6-B5DA-22EFB355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28D-B997-435E-B5E7-BA013DC7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D8F-9204-422C-A3CD-CE9395EE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485-CA81-414E-A37E-7A16516C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3505-52E4-41DA-943C-296C70C8D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213372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Тема: Цветы из семян ясеня и кл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Осенние листья - Autumn Leaves &quot; PixelBrush - Портал о дизайне. Скачать фото, картинки, обои, рисунки, иконки, клипарты, вектор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75280" y="2060640"/>
            <a:ext cx="49687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00"/>
                </a:solidFill>
                <a:latin typeface="Times New Roman"/>
              </a:rPr>
              <a:t>Тема: Цветы из    семян клена и   ясе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SD 887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Желтые, оранжевые фоны для сайта &quot; Фоны для сайта"/>
          <p:cNvPicPr/>
          <p:nvPr/>
        </p:nvPicPr>
        <p:blipFill>
          <a:blip r:embed="rId1"/>
          <a:stretch/>
        </p:blipFill>
        <p:spPr>
          <a:xfrm>
            <a:off x="0" y="115920"/>
            <a:ext cx="363528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Урожай / VFL.Ru это, фотохостинг без регистрации, и быстрый хостинг изображений."/>
          <p:cNvPicPr/>
          <p:nvPr/>
        </p:nvPicPr>
        <p:blipFill>
          <a:blip r:embed="rId2"/>
          <a:stretch/>
        </p:blipFill>
        <p:spPr>
          <a:xfrm>
            <a:off x="1763640" y="3157560"/>
            <a:ext cx="4932360" cy="3700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Листья. Высококачественный клипарт большого разрешения. &quot; Allpolus.com - все для дизайна и видеомонтажа. Photoshop, клипарты, фу"/>
          <p:cNvPicPr/>
          <p:nvPr/>
        </p:nvPicPr>
        <p:blipFill>
          <a:blip r:embed="rId3"/>
          <a:stretch/>
        </p:blipFill>
        <p:spPr>
          <a:xfrm>
            <a:off x="5292720" y="0"/>
            <a:ext cx="428472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ПромАльпФорум * просто работа * Фото - видео"/>
          <p:cNvPicPr/>
          <p:nvPr/>
        </p:nvPicPr>
        <p:blipFill>
          <a:blip r:embed="rId1"/>
          <a:stretch/>
        </p:blipFill>
        <p:spPr>
          <a:xfrm>
            <a:off x="0" y="0"/>
            <a:ext cx="3419640" cy="4286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Поделки ко Дню матери"/>
          <p:cNvPicPr/>
          <p:nvPr/>
        </p:nvPicPr>
        <p:blipFill>
          <a:blip r:embed="rId2"/>
          <a:stretch/>
        </p:blipFill>
        <p:spPr>
          <a:xfrm>
            <a:off x="3492360" y="2924280"/>
            <a:ext cx="5364360" cy="3593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43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емена ясе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2349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емена к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Виды апплик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Поделки из бумаги открытки - Поделки, делаем самостоятельно"/>
          <p:cNvPicPr/>
          <p:nvPr/>
        </p:nvPicPr>
        <p:blipFill>
          <a:blip r:embed="rId1"/>
          <a:stretch/>
        </p:blipFill>
        <p:spPr>
          <a:xfrm>
            <a:off x="0" y="620640"/>
            <a:ext cx="4140360" cy="540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аппликация из пластилина рыбка"/>
          <p:cNvPicPr/>
          <p:nvPr/>
        </p:nvPicPr>
        <p:blipFill>
          <a:blip r:embed="rId2"/>
          <a:stretch/>
        </p:blipFill>
        <p:spPr>
          <a:xfrm>
            <a:off x="4643280" y="1125360"/>
            <a:ext cx="4500720" cy="4464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5280" y="6165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з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5516640"/>
            <a:ext cx="37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80000" y="5516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з пласти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Детские поделки своими руками"/>
          <p:cNvPicPr/>
          <p:nvPr/>
        </p:nvPicPr>
        <p:blipFill>
          <a:blip r:embed="rId1"/>
          <a:stretch/>
        </p:blipFill>
        <p:spPr>
          <a:xfrm>
            <a:off x="0" y="0"/>
            <a:ext cx="5113440" cy="3290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3429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Из лист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06864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1341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Из яичной скорлу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Аппликация - из яичной скорлупы &quot; Поиск мастер классов, поделок своими руками и рукоделия на SearchMasterclass.Net"/>
          <p:cNvPicPr/>
          <p:nvPr/>
        </p:nvPicPr>
        <p:blipFill>
          <a:blip r:embed="rId2"/>
          <a:stretch/>
        </p:blipFill>
        <p:spPr>
          <a:xfrm>
            <a:off x="5715000" y="2286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Ноябрь, 2012 (: креатифф на дому :) - Part 2"/>
          <p:cNvPicPr/>
          <p:nvPr/>
        </p:nvPicPr>
        <p:blipFill>
          <a:blip r:embed="rId1"/>
          <a:stretch/>
        </p:blipFill>
        <p:spPr>
          <a:xfrm>
            <a:off x="0" y="0"/>
            <a:ext cx="4762440" cy="3343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Перламутровые ромашки &quot; ProstoDelkino.com - поделки своими руками."/>
          <p:cNvPicPr/>
          <p:nvPr/>
        </p:nvPicPr>
        <p:blipFill>
          <a:blip r:embed="rId2"/>
          <a:stretch/>
        </p:blipFill>
        <p:spPr>
          <a:xfrm>
            <a:off x="5651640" y="0"/>
            <a:ext cx="3492360" cy="4572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Природные материалы, символизирующие осень. Поделки на осенн…"/>
          <p:cNvPicPr/>
          <p:nvPr/>
        </p:nvPicPr>
        <p:blipFill>
          <a:blip r:embed="rId3"/>
          <a:stretch/>
        </p:blipFill>
        <p:spPr>
          <a:xfrm>
            <a:off x="250920" y="3357720"/>
            <a:ext cx="4319640" cy="3500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435640" y="573408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Цветы из семян ясеня и к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5T13:15:34Z</dcterms:created>
  <dc:creator>U</dc:creator>
  <dc:description/>
  <dc:language>en-US</dc:language>
  <cp:lastModifiedBy>U</cp:lastModifiedBy>
  <dcterms:modified xsi:type="dcterms:W3CDTF">2014-10-05T14:21:56Z</dcterms:modified>
  <cp:revision>4</cp:revision>
  <dc:subject/>
  <dc:title>Слайд 1</dc:title>
</cp:coreProperties>
</file>