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BF87-F60F-4D9B-A996-7D2032BC1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A47-51AA-4ADC-8EB1-99217DADE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6F1C-D756-4C38-B162-15406323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918F-DB39-4D1C-BC81-DD0A962A7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958B-83A3-4D86-850A-3476CC44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5B84-B084-4735-83BA-F9D3B2BE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BEE-CFE8-4DE3-BA03-F1C103DB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7BBD-BB2F-4C9E-818D-9A042742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6D29-C343-4B35-A4A8-066EE9ED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C528-0F8A-4432-8A9F-026026D7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68E-C5F7-4434-ABB5-E15D55209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0E44-C44C-4014-8C90-24B911A1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FD12-C0F7-4EBB-AC0E-C81055BAD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4:52:41Z</dcterms:created>
  <dc:creator>Мамулька</dc:creator>
  <dc:description/>
  <dc:language>en-US</dc:language>
  <cp:lastModifiedBy>Мамулька</cp:lastModifiedBy>
  <dcterms:modified xsi:type="dcterms:W3CDTF">2018-08-07T04:58:4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