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FBBB-BA9C-4D73-ADFC-AE4A02CC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ABE4-849A-43C0-8BD7-F910D997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13F0-F735-4987-AA4D-5AB41B560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FD2F-BB0A-4E57-85D9-E918427D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658E-23A5-4692-84D0-3041459DD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550C-78D6-466D-9219-4AF3FA2A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EBC9-9507-4415-8408-DF4B3AAB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6892-B56E-4ACC-9122-590CC73C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FA0B-C171-4143-98B2-FC4D5EB8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4E94-CB3C-4196-8251-A626993A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80A3-52C8-4542-822C-EA5BB2AE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7E30-FBA1-43E0-81C6-3AFA4600E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129A-B976-46C7-8B5F-8ACEEAAB9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7T04:52:41Z</dcterms:created>
  <dc:creator>Мамулька</dc:creator>
  <dc:description/>
  <dc:language>en-US</dc:language>
  <cp:lastModifiedBy>Мамулька</cp:lastModifiedBy>
  <dcterms:modified xsi:type="dcterms:W3CDTF">2018-08-07T04:58:4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