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50E-A084-4E33-B4DD-0E05AD0E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C22D-BB18-4A85-BCD4-88D6B5A6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F004-DCAD-47FD-BD5E-1564E0D4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BB4-BB64-4030-9A0F-A7723362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4825-6957-4171-A29A-D1AB88B7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05CF-703A-4B91-824A-FAE6C171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0774-037A-4DE6-B9E5-33F6CBD1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06D-1561-48DB-86CF-5716DA78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40A-23A3-4CA2-8C52-475EE6FC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FABF-F477-4909-8FFA-643F4775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220-5BBD-4678-9B2F-9C120278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B688-FD33-4FAF-8F5D-CB779652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5A58-2690-4180-8171-18922A127D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6.xml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260280"/>
            <a:ext cx="6408720" cy="792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mputers and the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400800" cy="4572000"/>
          </a:xfrm>
          <a:prstGeom prst="rect">
            <a:avLst/>
          </a:prstGeom>
          <a:ln w="0">
            <a:noFill/>
          </a:ln>
          <a:effectLst>
            <a:outerShdw dist="117181" dir="8361631" blurRad="0" rotWithShape="0">
              <a:srgbClr val="000000"/>
            </a:outerShdw>
          </a:effectLst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1008000"/>
            <a:ext cx="1225440" cy="1225440"/>
          </a:xfrm>
          <a:prstGeom prst="rect">
            <a:avLst/>
          </a:prstGeom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03640" y="765000"/>
            <a:ext cx="1439640" cy="1440000"/>
          </a:xfrm>
          <a:prstGeom prst="rect">
            <a:avLst/>
          </a:prstGeom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96160" y="993600"/>
            <a:ext cx="2089080" cy="1184400"/>
          </a:xfrm>
          <a:prstGeom prst="rect">
            <a:avLst/>
          </a:prstGeom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516720" y="3870360"/>
            <a:ext cx="2087640" cy="1701720"/>
          </a:xfrm>
          <a:prstGeom prst="rect">
            <a:avLst/>
          </a:prstGeom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63520" y="312840"/>
            <a:ext cx="1414440" cy="1936800"/>
          </a:xfrm>
          <a:prstGeom prst="rect">
            <a:avLst/>
          </a:prstGeom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572000" y="3860640"/>
            <a:ext cx="1590840" cy="1716120"/>
          </a:xfrm>
          <a:prstGeom prst="rect">
            <a:avLst/>
          </a:prstGeom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761000" y="836640"/>
            <a:ext cx="2025720" cy="1347840"/>
          </a:xfrm>
          <a:prstGeom prst="rect">
            <a:avLst/>
          </a:prstGeom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250920" y="4149720"/>
            <a:ext cx="1974600" cy="1386000"/>
          </a:xfrm>
          <a:prstGeom prst="rect">
            <a:avLst/>
          </a:prstGeom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2627280" y="4221000"/>
            <a:ext cx="1584360" cy="1368720"/>
          </a:xfrm>
          <a:prstGeom prst="rect">
            <a:avLst/>
          </a:prstGeom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</p:pic>
      <p:sp>
        <p:nvSpPr>
          <p:cNvPr id="52" name=""/>
          <p:cNvSpPr/>
          <p:nvPr/>
        </p:nvSpPr>
        <p:spPr>
          <a:xfrm>
            <a:off x="395280" y="2348280"/>
            <a:ext cx="1224000" cy="9140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ystem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2563200"/>
            <a:ext cx="1189080" cy="509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419560"/>
            <a:ext cx="1226880" cy="9140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use 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76720" y="2636280"/>
            <a:ext cx="1189080" cy="509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6000" y="2564640"/>
            <a:ext cx="1512720" cy="509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5876280"/>
            <a:ext cx="1350720" cy="509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9280" y="5861880"/>
            <a:ext cx="1333440" cy="509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eb 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64200" y="5861880"/>
            <a:ext cx="1279800" cy="509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88000" y="5876280"/>
            <a:ext cx="1279440" cy="509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p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888840"/>
            <a:ext cx="4465800" cy="3770640"/>
          </a:xfrm>
          <a:prstGeom prst="rect">
            <a:avLst/>
          </a:prstGeom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2143080" cy="2143080"/>
          </a:xfrm>
          <a:prstGeom prst="rect">
            <a:avLst/>
          </a:prstGeom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796000" y="4581360"/>
            <a:ext cx="2609640" cy="1752840"/>
          </a:xfrm>
          <a:prstGeom prst="rect">
            <a:avLst/>
          </a:prstGeom>
          <a:ln w="0">
            <a:noFill/>
          </a:ln>
          <a:effectLst>
            <a:outerShdw dist="81185" dir="7721969" blurRad="0" rotWithShape="0">
              <a:srgbClr val="000000"/>
            </a:outerShdw>
          </a:effectLst>
        </p:spPr>
      </p:pic>
      <p:sp>
        <p:nvSpPr>
          <p:cNvPr id="64" name=""/>
          <p:cNvSpPr/>
          <p:nvPr/>
        </p:nvSpPr>
        <p:spPr>
          <a:xfrm>
            <a:off x="250920" y="188280"/>
            <a:ext cx="4724280" cy="779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creen to show what the computer is doing. What it shows is called an output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89000"/>
            <a:ext cx="7634160" cy="1117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e main way to send information called ‘input’ to the computer. There are keys for characters such as letters, numbers and punctuation ma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89000"/>
            <a:ext cx="4976640" cy="441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duced printed copies of computer outp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59560"/>
            <a:ext cx="4976640" cy="779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nds pictures, another ‘input’, as well as text to the computer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89000"/>
            <a:ext cx="4556160" cy="441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case that contains computer “brain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89000"/>
            <a:ext cx="2679480" cy="441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d to produce 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189000"/>
            <a:ext cx="3882960" cy="441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d to make on-screen s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59917 E">
                                      <p:cBhvr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2274 0.4518 E">
                                      <p:cBhvr>
                                        <p:cTn id="16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9931 0.43096 E">
                                      <p:cBhvr>
                                        <p:cTn id="17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53 0.59893 E">
                                      <p:cBhvr>
                                        <p:cTn id="192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83689E-006 L -0.03941 0.83016 E">
                                      <p:cBhvr>
                                        <p:cTn id="20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6506E-006 L 0.41319 0.51066 E">
                                      <p:cBhvr>
                                        <p:cTn id="22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556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32000" y="260280"/>
            <a:ext cx="6408720" cy="792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unctions of the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3429000"/>
            <a:ext cx="5761080" cy="64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349360"/>
            <a:ext cx="5761080" cy="64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341360"/>
            <a:ext cx="7200720" cy="64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4508640"/>
            <a:ext cx="5761080" cy="64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5589720"/>
            <a:ext cx="6769080" cy="64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300720" y="2637000"/>
            <a:ext cx="2468520" cy="25923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</p:pic>
      <p:sp>
        <p:nvSpPr>
          <p:cNvPr id="79" name=""/>
          <p:cNvSpPr/>
          <p:nvPr/>
        </p:nvSpPr>
        <p:spPr>
          <a:xfrm>
            <a:off x="321840" y="342900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inding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8400" y="2349360"/>
            <a:ext cx="39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changing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4440" y="1413000"/>
            <a:ext cx="706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versation to people all over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2560" y="4510080"/>
            <a:ext cx="31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n-line sho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8240" y="5591160"/>
            <a:ext cx="664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istening to music and watching vi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88000" y="476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250920" y="4365360"/>
            <a:ext cx="7921440" cy="711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mmon criticisms of computer ga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061720"/>
            <a:ext cx="7921440" cy="1927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ttempts by manufacturers to encourage more women to buy computer ga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260280"/>
            <a:ext cx="3671640" cy="711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mputer ga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867280" y="260280"/>
            <a:ext cx="1816200" cy="987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0468 E">
                                      <p:cBhvr>
                                        <p:cTn id="32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6275 E">
                                      <p:cBhvr>
                                        <p:cTn id="323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6461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451640" y="476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188640"/>
            <a:ext cx="7014960" cy="711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isadvantages of computer ga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04000" y="4581360"/>
            <a:ext cx="1930320" cy="1784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1158840"/>
            <a:ext cx="5761080" cy="64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2093760"/>
            <a:ext cx="5761080" cy="64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3030480"/>
            <a:ext cx="5761080" cy="64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967200"/>
            <a:ext cx="5761080" cy="64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4902120"/>
            <a:ext cx="5761080" cy="64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838840"/>
            <a:ext cx="5761080" cy="6429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2400" y="1197000"/>
            <a:ext cx="50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creasing violent behavi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7840" y="20811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20" y="2081160"/>
            <a:ext cx="50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king children hyper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3880" y="3017880"/>
            <a:ext cx="459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king people unsoc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6760" y="3954600"/>
            <a:ext cx="236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ad for eye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3880" y="4889520"/>
            <a:ext cx="494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alling standards of lite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2760" y="5878440"/>
            <a:ext cx="542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reasing interests in 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30507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1</cp:lastModifiedBy>
  <dcterms:modified xsi:type="dcterms:W3CDTF">2012-02-11T16:08:48Z</dcterms:modified>
  <cp:revision>18</cp:revision>
  <dc:subject/>
  <dc:title>PowerPoint Presentation</dc:title>
</cp:coreProperties>
</file>