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A0C-DB1E-4DAF-8020-72E18D6E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D56-27EA-44E6-BB5D-2590774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60A-ADFE-4983-972C-5BDFD42D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5B8-CBA1-463D-B400-79F226D0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73D-D72D-427E-983E-1A5E4AFF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A72-DF2A-411F-832F-81702A6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9D3-1637-4172-A60F-B8784A8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803-61B1-4425-91BA-A43565B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B65-22CA-404F-B0AE-1B106DE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6B8-E410-45E6-B6BC-758AFA4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2B2-0C4E-4231-B3AD-3C7B691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F6D-4A69-44D9-BDEA-A93FFDA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7E1-2795-4C33-9F27-0D7B27F74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6.xml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260280"/>
            <a:ext cx="6408720" cy="79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uters and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00800" cy="4572000"/>
          </a:xfrm>
          <a:prstGeom prst="rect">
            <a:avLst/>
          </a:prstGeom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008000"/>
            <a:ext cx="1225440" cy="122544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3640" y="765000"/>
            <a:ext cx="1439640" cy="14400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96160" y="993600"/>
            <a:ext cx="2089080" cy="11844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3870360"/>
            <a:ext cx="2087640" cy="17017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63520" y="312840"/>
            <a:ext cx="1414440" cy="19368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0" y="3860640"/>
            <a:ext cx="1590840" cy="17161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761000" y="836640"/>
            <a:ext cx="2025720" cy="134784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4149720"/>
            <a:ext cx="1974600" cy="138600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627280" y="4221000"/>
            <a:ext cx="1584360" cy="13687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95280" y="2348280"/>
            <a:ext cx="1224000" cy="91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563200"/>
            <a:ext cx="118908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419560"/>
            <a:ext cx="1226880" cy="91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use 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636280"/>
            <a:ext cx="118908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2564640"/>
            <a:ext cx="151272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876280"/>
            <a:ext cx="135072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9280" y="5861880"/>
            <a:ext cx="133344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b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64200" y="5861880"/>
            <a:ext cx="127980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5876280"/>
            <a:ext cx="127944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888840"/>
            <a:ext cx="4465800" cy="3770640"/>
          </a:xfrm>
          <a:prstGeom prst="rect">
            <a:avLst/>
          </a:prstGeom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2143080" cy="214308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609640" cy="175284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250920" y="188280"/>
            <a:ext cx="4724280" cy="77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creen to show what the computer is doing. What it shows is called an output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9000"/>
            <a:ext cx="7634160" cy="111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main way to send information called ‘input’ to the computer. There are keys for characters such as letters, numbers and punctuation ma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89000"/>
            <a:ext cx="497664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ed printed copies of computer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59560"/>
            <a:ext cx="4976640" cy="77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nds pictures, another ‘input’, as well as text to the computer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89000"/>
            <a:ext cx="455616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case that contains computer “brain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267948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d to produce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9000"/>
            <a:ext cx="388296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d to make on-screen s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59917 E">
                                      <p:cBhvr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2274 0.4518 E">
                                      <p:cBhvr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931 0.43096 E">
                                      <p:cBhvr>
                                        <p:cTn id="17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.59893 E">
                                      <p:cBhvr>
                                        <p:cTn id="19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3689E-006 L -0.03941 0.83016 E">
                                      <p:cBhvr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506E-006 L 0.41319 0.51066 E">
                                      <p:cBhvr>
                                        <p:cTn id="22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556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32000" y="260280"/>
            <a:ext cx="6408720" cy="79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unctions of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42900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34936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341360"/>
            <a:ext cx="720072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5086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589720"/>
            <a:ext cx="6769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468520" cy="2592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  <p:sp>
        <p:nvSpPr>
          <p:cNvPr id="79" name=""/>
          <p:cNvSpPr/>
          <p:nvPr/>
        </p:nvSpPr>
        <p:spPr>
          <a:xfrm>
            <a:off x="321840" y="342900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nd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8400" y="234936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chang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1300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versation to people all over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2560" y="4510080"/>
            <a:ext cx="31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-line 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8240" y="5591160"/>
            <a:ext cx="66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istening to music and watching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250920" y="4365360"/>
            <a:ext cx="792144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mon criticisms of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061720"/>
            <a:ext cx="7921440" cy="192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ttempts by manufacturers to encourage more women to buy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60280"/>
            <a:ext cx="367164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1816200" cy="987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0468 E">
                                      <p:cBhvr>
                                        <p:cTn id="32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6275 E">
                                      <p:cBhvr>
                                        <p:cTn id="32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6461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8640"/>
            <a:ext cx="701496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advantages of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930320" cy="178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1588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09376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03048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96720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90212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388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00" y="119700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reasing violent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840" y="2081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20" y="208116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king children hype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3880" y="301788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king people unso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6760" y="3954600"/>
            <a:ext cx="23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d for eye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" y="488952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lling standards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760" y="587844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reasing interests in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3050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11T16:08:48Z</dcterms:modified>
  <cp:revision>18</cp:revision>
  <dc:subject/>
  <dc:title>PowerPoint Presentation</dc:title>
</cp:coreProperties>
</file>