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0393-6A11-481E-B7E9-948B9783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CBE6-A59D-41CC-BAA1-14603E55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6649-F9DB-4822-AD97-A492CEF30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DD6B-2055-4E52-87ED-591FB35EC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CC38-E5D9-4D49-98F3-B370FD38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47F8-8BE5-4744-A7D6-47D14218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C405-A722-47A7-9678-F6BE2CF0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68E1-0C77-457F-B26A-7AFAFCD7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9114-162D-44DC-AA7E-795F8BD0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78BD-401A-40E8-895D-EB508F6B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A1ED-E5FB-4007-92C4-91960E53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698F-EF9C-41E6-90E1-CBC2F6C3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B6FA-04D4-4C04-9F98-8D7A455CD4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Прямоугольник 6"/>
          <p:cNvGrpSpPr/>
          <p:nvPr/>
        </p:nvGrpSpPr>
        <p:grpSpPr>
          <a:xfrm>
            <a:off x="115920" y="152280"/>
            <a:ext cx="8905680" cy="6602400"/>
            <a:chOff x="115920" y="152280"/>
            <a:chExt cx="8905680" cy="6602400"/>
          </a:xfrm>
        </p:grpSpPr>
        <p:pic>
          <p:nvPicPr>
            <p:cNvPr id="6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115920" y="152280"/>
              <a:ext cx="8905680" cy="66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179280" y="189000"/>
              <a:ext cx="878544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Rectangle 1"/>
          <p:cNvSpPr/>
          <p:nvPr/>
        </p:nvSpPr>
        <p:spPr>
          <a:xfrm>
            <a:off x="0" y="6597360"/>
            <a:ext cx="163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Рисунок 8" descr="4.png"/>
          <p:cNvPicPr/>
          <p:nvPr/>
        </p:nvPicPr>
        <p:blipFill>
          <a:blip r:embed="rId3"/>
          <a:stretch/>
        </p:blipFill>
        <p:spPr>
          <a:xfrm>
            <a:off x="158760" y="171360"/>
            <a:ext cx="8802720" cy="651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  <a:ea typeface="Arial"/>
              </a:rPr>
              <a:t>Физминутка для глаз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858920" y="4653000"/>
            <a:ext cx="3776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втор работы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начальных класс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ельникова Г.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СОШ №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sergey_sirotin-magic.mp3" descr=""/>
          <p:cNvPicPr/>
          <p:nvPr/>
        </p:nvPicPr>
        <p:blipFill>
          <a:blip r:embed="rId1"/>
          <a:stretch/>
        </p:blipFill>
        <p:spPr>
          <a:xfrm>
            <a:off x="93250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4-конечная звезда 1"/>
          <p:cNvSpPr/>
          <p:nvPr/>
        </p:nvSpPr>
        <p:spPr>
          <a:xfrm>
            <a:off x="1187280" y="1052640"/>
            <a:ext cx="1297080" cy="1296720"/>
          </a:xfrm>
          <a:custGeom>
            <a:avLst/>
            <a:gdLst>
              <a:gd name="textAreaLeft" fmla="*/ 534240 w 1297080"/>
              <a:gd name="textAreaRight" fmla="*/ 762840 w 1297080"/>
              <a:gd name="textAreaTop" fmla="*/ 534240 h 1296720"/>
              <a:gd name="textAreaBottom" fmla="*/ 76248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4-конечная звезда 2"/>
          <p:cNvSpPr/>
          <p:nvPr/>
        </p:nvSpPr>
        <p:spPr>
          <a:xfrm>
            <a:off x="1258920" y="4292640"/>
            <a:ext cx="1297080" cy="1297080"/>
          </a:xfrm>
          <a:custGeom>
            <a:avLst/>
            <a:gdLst>
              <a:gd name="textAreaLeft" fmla="*/ 534240 w 1297080"/>
              <a:gd name="textAreaRight" fmla="*/ 762840 w 129708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-конечная звезда 3"/>
          <p:cNvSpPr/>
          <p:nvPr/>
        </p:nvSpPr>
        <p:spPr>
          <a:xfrm>
            <a:off x="6732720" y="1125360"/>
            <a:ext cx="1295280" cy="1295640"/>
          </a:xfrm>
          <a:custGeom>
            <a:avLst/>
            <a:gdLst>
              <a:gd name="textAreaLeft" fmla="*/ 533520 w 1295280"/>
              <a:gd name="textAreaRight" fmla="*/ 761760 w 1295280"/>
              <a:gd name="textAreaTop" fmla="*/ 533880 h 1295640"/>
              <a:gd name="textAreaBottom" fmla="*/ 7617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4-конечная звезда 4"/>
          <p:cNvSpPr/>
          <p:nvPr/>
        </p:nvSpPr>
        <p:spPr>
          <a:xfrm>
            <a:off x="6659640" y="4508640"/>
            <a:ext cx="1297080" cy="1296720"/>
          </a:xfrm>
          <a:custGeom>
            <a:avLst/>
            <a:gdLst>
              <a:gd name="textAreaLeft" fmla="*/ 534240 w 1297080"/>
              <a:gd name="textAreaRight" fmla="*/ 762840 w 1297080"/>
              <a:gd name="textAreaTop" fmla="*/ 534240 h 1296720"/>
              <a:gd name="textAreaBottom" fmla="*/ 76248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4-конечная звезда 5"/>
          <p:cNvSpPr/>
          <p:nvPr/>
        </p:nvSpPr>
        <p:spPr>
          <a:xfrm>
            <a:off x="3924360" y="2492280"/>
            <a:ext cx="1511280" cy="1441440"/>
          </a:xfrm>
          <a:custGeom>
            <a:avLst/>
            <a:gdLst>
              <a:gd name="textAreaLeft" fmla="*/ 622800 w 1511280"/>
              <a:gd name="textAreaRight" fmla="*/ 888480 w 1511280"/>
              <a:gd name="textAreaTop" fmla="*/ 594000 h 1441440"/>
              <a:gd name="textAreaBottom" fmla="*/ 84744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Users\Компас\Pictures\ракета.jpg"/>
          <p:cNvPicPr/>
          <p:nvPr/>
        </p:nvPicPr>
        <p:blipFill>
          <a:blip r:embed="rId1"/>
          <a:stretch/>
        </p:blipFill>
        <p:spPr>
          <a:xfrm>
            <a:off x="0" y="4365720"/>
            <a:ext cx="2286000" cy="2300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6838920" y="4292640"/>
            <a:ext cx="2305080" cy="2324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Users\Компас\Pictures\ракета 1.jpg"/>
          <p:cNvPicPr/>
          <p:nvPr/>
        </p:nvPicPr>
        <p:blipFill>
          <a:blip r:embed="rId3"/>
          <a:stretch/>
        </p:blipFill>
        <p:spPr>
          <a:xfrm>
            <a:off x="4067280" y="4869000"/>
            <a:ext cx="1108080" cy="1712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Users\Компас\Pictures\ракета 1.jpg"/>
          <p:cNvPicPr/>
          <p:nvPr/>
        </p:nvPicPr>
        <p:blipFill>
          <a:blip r:embed="rId4"/>
          <a:stretch/>
        </p:blipFill>
        <p:spPr>
          <a:xfrm rot="13977000">
            <a:off x="7342920" y="258120"/>
            <a:ext cx="1108080" cy="1712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Users\Компас\Pictures\ракета 1.jpg"/>
          <p:cNvPicPr/>
          <p:nvPr/>
        </p:nvPicPr>
        <p:blipFill>
          <a:blip r:embed="rId5"/>
          <a:stretch/>
        </p:blipFill>
        <p:spPr>
          <a:xfrm rot="8187000">
            <a:off x="423720" y="154080"/>
            <a:ext cx="1108080" cy="1712880"/>
          </a:xfrm>
          <a:prstGeom prst="rect">
            <a:avLst/>
          </a:prstGeom>
          <a:ln w="0">
            <a:noFill/>
          </a:ln>
        </p:spPr>
      </p:pic>
      <p:grpSp>
        <p:nvGrpSpPr>
          <p:cNvPr id="59" name="Группа 16"/>
          <p:cNvGrpSpPr/>
          <p:nvPr/>
        </p:nvGrpSpPr>
        <p:grpSpPr>
          <a:xfrm>
            <a:off x="-272880" y="-938160"/>
            <a:ext cx="9092880" cy="7402320"/>
            <a:chOff x="-272880" y="-938160"/>
            <a:chExt cx="9092880" cy="7402320"/>
          </a:xfrm>
        </p:grpSpPr>
        <p:sp>
          <p:nvSpPr>
            <p:cNvPr id="60" name="Пятно 2 17"/>
            <p:cNvSpPr/>
            <p:nvPr/>
          </p:nvSpPr>
          <p:spPr>
            <a:xfrm rot="887400">
              <a:off x="250560" y="0"/>
              <a:ext cx="8018280" cy="5145120"/>
            </a:xfrm>
            <a:prstGeom prst="irregularSeal2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Группа 7"/>
            <p:cNvGrpSpPr/>
            <p:nvPr/>
          </p:nvGrpSpPr>
          <p:grpSpPr>
            <a:xfrm>
              <a:off x="353160" y="1184040"/>
              <a:ext cx="8466840" cy="5280120"/>
              <a:chOff x="353160" y="1184040"/>
              <a:chExt cx="8466840" cy="5280120"/>
            </a:xfrm>
          </p:grpSpPr>
          <p:pic>
            <p:nvPicPr>
              <p:cNvPr id="62" name="Picture 5" descr="C:\Users\Компас\Pictures\космонавт.png"/>
              <p:cNvPicPr/>
              <p:nvPr/>
            </p:nvPicPr>
            <p:blipFill>
              <a:blip r:embed="rId6"/>
              <a:stretch/>
            </p:blipFill>
            <p:spPr>
              <a:xfrm>
                <a:off x="6980400" y="4064400"/>
                <a:ext cx="1839600" cy="239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TextBox 15"/>
              <p:cNvSpPr/>
              <p:nvPr/>
            </p:nvSpPr>
            <p:spPr>
              <a:xfrm>
                <a:off x="353160" y="1184040"/>
                <a:ext cx="7154640" cy="28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0" spc="-1" strike="noStrike">
                    <a:solidFill>
                      <a:srgbClr val="c00000"/>
                    </a:solidFill>
                    <a:latin typeface="Arial"/>
                  </a:rPr>
                  <a:t>Ребята,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0" spc="-1" strike="noStrike">
                    <a:solidFill>
                      <a:srgbClr val="c00000"/>
                    </a:solidFill>
                    <a:latin typeface="Arial"/>
                  </a:rPr>
                  <a:t>берегите 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0" spc="-1" strike="noStrike">
                    <a:solidFill>
                      <a:srgbClr val="c00000"/>
                    </a:solidFill>
                    <a:latin typeface="Arial"/>
                  </a:rPr>
                  <a:t>зрение!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15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" dur="15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" dur="15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150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" dur="150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" dur="150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15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5" dur="15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" dur="15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7000"/>
                            </p:stCondLst>
                            <p:childTnLst>
                              <p:par>
                                <p:cTn id="4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15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4" dur="15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" dur="15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2000"/>
                            </p:stCondLst>
                            <p:childTnLst>
                              <p:par>
                                <p:cTn id="5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150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3" dur="150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" dur="150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0"/>
                            </p:stCondLst>
                            <p:childTnLst>
                              <p:par>
                                <p:cTn id="56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57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7000"/>
                            </p:stCondLst>
                            <p:childTnLst>
                              <p:par>
                                <p:cTn id="59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7 C -0.06875 -0.0081 -0.11962 -0.08935 -0.11337 -0.18079 C -0.10729 -0.27245 -0.04636 -0.34028 0.02222 -0.33194 C 0.09097 -0.32384 0.14184 -0.24259 0.13559 -0.15116 C 0.12951 -0.05949 0.06857 0.00833 1.66667E-006 3.7037E-007 Z">
                                      <p:cBhvr>
                                        <p:cTn id="60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9000"/>
                            </p:stCondLst>
                            <p:childTnLst>
                              <p:par>
                                <p:cTn id="62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7.40741E-007 C -0.00625 0.09144 -0.06736 0.15903 -0.13594 0.1507 C -0.20451 0.14236 -0.25521 0.06088 -0.24896 -0.03055 C -0.24271 -0.12199 -0.1816 -0.18958 -0.11302 -0.18125 C -0.04444 -0.17292 0.00625 -0.09143 -1.94444E-006 -7.40741E-007 Z">
                                      <p:cBhvr>
                                        <p:cTn id="63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1000"/>
                            </p:stCondLst>
                            <p:childTnLst>
                              <p:par>
                                <p:cTn id="65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81481E-006 C -0.00399 -0.09167 0.04861 -0.17061 0.11754 -0.17616 C 0.18629 -0.18149 0.24549 -0.11135 0.24966 -0.01945 C 0.25365 0.07222 0.20104 0.15115 0.13212 0.15671 C 0.06337 0.16203 0.00417 0.09189 -2.22222E-006 4.81481E-006 Z">
                                      <p:cBhvr>
                                        <p:cTn id="6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3000"/>
                            </p:stCondLst>
                            <p:childTnLst>
                              <p:par>
                                <p:cTn id="68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69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5000"/>
                            </p:stCondLst>
                            <p:childTnLst>
                              <p:par>
                                <p:cTn id="71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11111E-006 C -0.06875 -0.00764 -0.11996 -0.08842 -0.11406 -0.17986 C -0.10833 -0.27153 -0.04774 -0.33981 0.02084 -0.33194 C 0.08959 -0.3243 0.1408 -0.24352 0.1349 -0.15208 C 0.12917 -0.06042 0.06858 0.00787 -4.72222E-006 -1.11111E-006 Z">
                                      <p:cBhvr>
                                        <p:cTn id="72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7000"/>
                            </p:stCondLst>
                            <p:childTnLst>
                              <p:par>
                                <p:cTn id="74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75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9000"/>
                            </p:stCondLst>
                            <p:childTnLst>
                              <p:par>
                                <p:cTn id="77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07407E-006 C -0.06892 -4.07407E-006 -0.125 -0.07476 -0.125 -0.16666 C -0.125 -0.25856 -0.06892 -0.33333 1.11111E-006 -0.33333 C 0.06892 -0.33333 0.125 -0.25856 0.125 -0.16666 C 0.125 -0.07476 0.06892 -4.07407E-006 1.11111E-006 -4.07407E-006 Z">
                                      <p:cBhvr>
                                        <p:cTn id="78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1000"/>
                            </p:stCondLst>
                            <p:childTnLst>
                              <p:par>
                                <p:cTn id="8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3000"/>
                            </p:stCondLst>
                            <p:childTnLst>
                              <p:par>
                                <p:cTn id="8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5000"/>
                            </p:stCondLst>
                            <p:childTnLst>
                              <p:par>
                                <p:cTn id="9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7000"/>
                            </p:stCondLst>
                            <p:childTnLst>
                              <p:par>
                                <p:cTn id="9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9000"/>
                            </p:stCondLst>
                            <p:childTnLst>
                              <p:par>
                                <p:cTn id="10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1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3000"/>
                            </p:stCondLst>
                            <p:childTnLst>
                              <p:par>
                                <p:cTn id="10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5000"/>
                            </p:stCondLst>
                            <p:childTnLst>
                              <p:par>
                                <p:cTn id="1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44444E-006 L 1.16563 -1.09213 E">
                                      <p:cBhvr>
                                        <p:cTn id="11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7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9000"/>
                            </p:stCondLst>
                            <p:childTnLst>
                              <p:par>
                                <p:cTn id="11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1000"/>
                            </p:stCondLst>
                            <p:childTnLst>
                              <p:par>
                                <p:cTn id="1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59259E-006 L -1.14184 -1.10255 E">
                                      <p:cBhvr>
                                        <p:cTn id="123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3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5000"/>
                            </p:stCondLst>
                            <p:childTnLst>
                              <p:par>
                                <p:cTn id="12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7000"/>
                            </p:stCondLst>
                            <p:childTnLst>
                              <p:par>
                                <p:cTn id="1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7 L -5.55556E-007 -1.24953 E">
                                      <p:cBhvr>
                                        <p:cTn id="133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9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1000"/>
                            </p:stCondLst>
                            <p:childTnLst>
                              <p:par>
                                <p:cTn id="13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3000"/>
                            </p:stCondLst>
                            <p:childTnLst>
                              <p:par>
                                <p:cTn id="1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22222E-006 L -1.10243 1.05 E">
                                      <p:cBhvr>
                                        <p:cTn id="143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75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7000"/>
                            </p:stCondLst>
                            <p:childTnLst>
                              <p:par>
                                <p:cTn id="14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9000"/>
                            </p:stCondLst>
                            <p:childTnLst>
                              <p:par>
                                <p:cTn id="1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1.48148E-006 L 1.19706 1.14445 E">
                                      <p:cBhvr>
                                        <p:cTn id="153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81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2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он 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http://gallery.ncv.ru/data/media/16/stars.png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Ракета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http://elenc.ru/uploads/posts/2009-07/1248871150_raketa.jpg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Ракета 1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http://www.vasc.org/images/Rocket.jpg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Космонавт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http://www.goodclipart.ru/data/multiki/CARTOONS10/22/CZ2390.png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узык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ергей Сиротин «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gi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»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http://www.relax-music.ru/music/sergey_sirotin-magic.mp3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14:25:50Z</dcterms:created>
  <dc:creator>Компас</dc:creator>
  <dc:description/>
  <dc:language>en-US</dc:language>
  <cp:lastModifiedBy>Панина</cp:lastModifiedBy>
  <dcterms:modified xsi:type="dcterms:W3CDTF">2018-08-08T19:25:09Z</dcterms:modified>
  <cp:revision>15</cp:revision>
  <dc:subject/>
  <dc:title>Физминутка для глаз</dc:title>
</cp:coreProperties>
</file>