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3D3-37A7-48F9-AD0D-DBE831E0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7473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83880" y="4020840"/>
            <a:ext cx="7473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B24-A14C-4A82-A6B7-4B34FC27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8388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1392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AB3-1453-4E8A-BBD8-1AE0E9C4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10720" y="175212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37920" y="175212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83880" y="402084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10720" y="402084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37920" y="402084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767-3F5E-41D9-A3B1-524089B7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701F-D01B-4EB0-BE3A-53E9633B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83880" y="1752120"/>
            <a:ext cx="7473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A303-AEAF-4265-B848-421233E3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7473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62AF-323E-4E02-85C9-36AD9535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3D6D-7FBF-48CF-A25F-1BF91265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68FF-35CB-46A3-9796-1050F4EA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83880" y="609480"/>
            <a:ext cx="74739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0FD4-7DFE-452F-BFBB-D9EEB400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8388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05BA-653C-47A1-B36B-3D54177E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83880" y="1752120"/>
            <a:ext cx="7473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4BD-BBCF-46B5-8A4B-13CB697D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1392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E04E-96B6-4B94-9471-04707EE2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83880" y="4020840"/>
            <a:ext cx="7473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C832-A286-4A38-8983-2ADB517E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7473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83880" y="4020840"/>
            <a:ext cx="7473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DB34-1DE2-4D1C-9C33-200AC2E4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8388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1392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5A8C-658E-4913-A013-D4E712E9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10720" y="175212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37920" y="175212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83880" y="402084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10720" y="402084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37920" y="4020840"/>
            <a:ext cx="2406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02D1-87F0-4928-AAE4-A8B74742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7473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E8D-89E2-441B-85FA-F589C873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A94-A4EB-48EE-8BF2-AD87E0E7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85B-6CCD-4AB6-B747-CE6D8289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83880" y="609480"/>
            <a:ext cx="74739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B07-DFF2-49EE-A473-02222ED4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8388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D23-8835-4290-A237-C0C72682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13920" y="402084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FD1-F506-46E3-B92B-70F7AEA6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388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3920" y="1752120"/>
            <a:ext cx="3647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83880" y="4020840"/>
            <a:ext cx="7473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B09-CA7B-4113-BBF6-F1BC40F6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1724040" y="5483160"/>
            <a:ext cx="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Line 3"/>
          <p:cNvSpPr/>
          <p:nvPr/>
        </p:nvSpPr>
        <p:spPr>
          <a:xfrm>
            <a:off x="1724040" y="5483160"/>
            <a:ext cx="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Line 4"/>
          <p:cNvSpPr/>
          <p:nvPr/>
        </p:nvSpPr>
        <p:spPr>
          <a:xfrm>
            <a:off x="1724040" y="5430960"/>
            <a:ext cx="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Line 5"/>
          <p:cNvSpPr/>
          <p:nvPr/>
        </p:nvSpPr>
        <p:spPr>
          <a:xfrm>
            <a:off x="1724040" y="5430960"/>
            <a:ext cx="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712880"/>
            <a:ext cx="946080" cy="4675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21320"/>
            <a:ext cx="9144000" cy="4431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1440" y="6388200"/>
            <a:ext cx="9142560" cy="334800"/>
          </a:xfrm>
          <a:prstGeom prst="pi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-소망B"/>
              </a:rPr>
              <a:t>Click to edit the title text format</a:t>
            </a: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3880" y="1752120"/>
            <a:ext cx="7473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842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651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9C9E-44D0-4419-BA32-25092B314E17}" type="slidenum">
              <a:rPr b="0" lang="en-US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Line 14"/>
          <p:cNvSpPr/>
          <p:nvPr/>
        </p:nvSpPr>
        <p:spPr>
          <a:xfrm>
            <a:off x="0" y="17049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Line 15"/>
          <p:cNvSpPr/>
          <p:nvPr/>
        </p:nvSpPr>
        <p:spPr>
          <a:xfrm flipV="1">
            <a:off x="949320" y="380520"/>
            <a:ext cx="0" cy="60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15" name="Line 17"/>
          <p:cNvSpPr/>
          <p:nvPr/>
        </p:nvSpPr>
        <p:spPr>
          <a:xfrm>
            <a:off x="9360" y="426960"/>
            <a:ext cx="9125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228600"/>
            <a:ext cx="9144000" cy="6477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724040" y="5483160"/>
            <a:ext cx="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724040" y="5483160"/>
            <a:ext cx="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724040" y="5430960"/>
            <a:ext cx="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Line 6"/>
          <p:cNvSpPr/>
          <p:nvPr/>
        </p:nvSpPr>
        <p:spPr>
          <a:xfrm>
            <a:off x="1724040" y="5430960"/>
            <a:ext cx="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31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0" y="6421320"/>
            <a:ext cx="9144000" cy="4431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Line 9"/>
          <p:cNvSpPr/>
          <p:nvPr/>
        </p:nvSpPr>
        <p:spPr>
          <a:xfrm>
            <a:off x="9360" y="426960"/>
            <a:ext cx="9125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1440" y="6388200"/>
            <a:ext cx="9142560" cy="334800"/>
          </a:xfrm>
          <a:prstGeom prst="pi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Picture 16" descr="CBA05_2"/>
          <p:cNvPicPr/>
          <p:nvPr/>
        </p:nvPicPr>
        <p:blipFill>
          <a:blip r:embed="rId3"/>
          <a:stretch/>
        </p:blipFill>
        <p:spPr>
          <a:xfrm>
            <a:off x="4010040" y="2895480"/>
            <a:ext cx="958680" cy="982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00080"/>
                </a:solidFill>
                <a:latin typeface="-소망B"/>
              </a:rPr>
              <a:t>Click to edit the title text format</a:t>
            </a:r>
            <a:endParaRPr b="0" lang="en-US" sz="3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83880" y="1752120"/>
            <a:ext cx="7473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70344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65480" y="640080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4192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C0A0-B1FB-4336-9993-1C3C19C15545}" type="slidenum">
              <a:rPr b="0" lang="en-US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 Black"/>
              </a:rPr>
              <a:t>З В У К И    Р Е Ч И</a:t>
            </a:r>
            <a:endParaRPr b="0" lang="en-US" sz="60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9280" y="4797360"/>
            <a:ext cx="87854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80"/>
                </a:solidFill>
                <a:latin typeface="Britannic Bold"/>
              </a:rPr>
              <a:t>Ф  О  Н  Е  Т  И  К А</a:t>
            </a:r>
            <a:endParaRPr b="0" lang="en-US" sz="66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05" name="Picture 4" descr="j0299125"/>
          <p:cNvPicPr/>
          <p:nvPr/>
        </p:nvPicPr>
        <p:blipFill>
          <a:blip r:embed="rId1"/>
          <a:stretch/>
        </p:blipFill>
        <p:spPr>
          <a:xfrm>
            <a:off x="3203640" y="1989000"/>
            <a:ext cx="2950920" cy="244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1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4240" y="609480"/>
            <a:ext cx="81597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 Black"/>
              </a:rPr>
              <a:t>ОСНОВНЫЕ ЗВУКИ РЕЧИ</a:t>
            </a:r>
            <a:endParaRPr b="0" lang="en-US" sz="4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021200" cy="7923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ГЛАСНЫЕ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8000" y="1700280"/>
            <a:ext cx="4176720" cy="72072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СОГЛАСНЫЕ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971640" y="2492280"/>
            <a:ext cx="8172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4572000" y="1700280"/>
            <a:ext cx="0" cy="468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2492280"/>
            <a:ext cx="4175280" cy="4388040"/>
          </a:xfrm>
          <a:prstGeom prst="rect">
            <a:avLst/>
          </a:prstGeom>
          <a:solidFill>
            <a:srgbClr val="ff66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400" spc="-1" strike="noStrike" u="sng">
                <a:solidFill>
                  <a:srgbClr val="ff0000"/>
                </a:solidFill>
                <a:uFillTx/>
                <a:latin typeface="Times New Roman"/>
              </a:rPr>
              <a:t>Гласные звуки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состоят     </a:t>
            </a:r>
            <a:r>
              <a:rPr b="1" lang="ru-RU" sz="3400" spc="-1" strike="noStrike" u="sng">
                <a:solidFill>
                  <a:srgbClr val="ff0000"/>
                </a:solidFill>
                <a:uFillTx/>
                <a:latin typeface="Times New Roman"/>
              </a:rPr>
              <a:t>только    из голоса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При образовании         гласных звуков            выдыхаемый воздух   проходит через рот      свободно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788000" y="2492280"/>
            <a:ext cx="4211640" cy="4359960"/>
          </a:xfrm>
          <a:prstGeom prst="rect">
            <a:avLst/>
          </a:prstGeom>
          <a:solidFill>
            <a:srgbClr val="0099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 каждом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</a:rPr>
              <a:t>согласном       звуке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есть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</a:rPr>
              <a:t>шум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При образовании            согласных звуков выдыхаемый воздух в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ет во рту различные       препятствия (язык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ё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, зубы, губы), и о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го получается шум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slow" advTm="30000"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19280" y="476280"/>
            <a:ext cx="3732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 Black"/>
              </a:rPr>
              <a:t>ГЛАСНЫЕ 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Arial Black"/>
              </a:rPr>
              <a:t>ЗВУКИ - </a:t>
            </a: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41054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 Black"/>
              </a:rPr>
              <a:t>а о у ы э</a:t>
            </a:r>
            <a:endParaRPr b="0" lang="en-US" sz="6000" spc="-1" strike="noStrike">
              <a:solidFill>
                <a:srgbClr val="000000"/>
              </a:solidFill>
              <a:latin typeface="-소망M"/>
            </a:endParaRPr>
          </a:p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 Black"/>
              </a:rPr>
              <a:t>е ё ю я и</a:t>
            </a:r>
            <a:endParaRPr b="0" lang="en-US" sz="6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4005000"/>
            <a:ext cx="9144000" cy="237636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вод: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так, 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гласных </a:t>
            </a: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 Black"/>
              </a:rPr>
              <a:t>звуков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 в русском языке 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 Black"/>
              </a:rPr>
              <a:t>6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Arial Black"/>
              </a:rPr>
              <a:t>букв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ля обозначения этих звуков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1" lang="ru-RU" sz="4000" spc="-1" strike="noStrike" u="sng">
                <a:solidFill>
                  <a:srgbClr val="3333cc"/>
                </a:solidFill>
                <a:uFillTx/>
                <a:latin typeface="Arial Black"/>
              </a:rPr>
              <a:t>10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1908000" y="2852640"/>
            <a:ext cx="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971640" y="404640"/>
            <a:ext cx="37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3333cc"/>
                </a:solidFill>
                <a:latin typeface="Arial Black"/>
              </a:rPr>
              <a:t>ГЛАСНЫЕ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3333cc"/>
                </a:solidFill>
                <a:latin typeface="Arial Black"/>
              </a:rPr>
              <a:t>БУКВЫ - </a:t>
            </a:r>
            <a:r>
              <a:rPr b="1" lang="ru-RU" sz="4400" spc="-1" strike="noStrike">
                <a:solidFill>
                  <a:srgbClr val="3333cc"/>
                </a:solidFill>
                <a:latin typeface="Arial Black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5292720" y="184464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 Black"/>
              </a:rPr>
              <a:t>а   о   у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Arial Black"/>
              </a:rPr>
              <a:t>ы  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Arial Black"/>
              </a:rPr>
              <a:t>и  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66"/>
                </a:solidFill>
                <a:latin typeface="Arial Black"/>
              </a:rPr>
              <a:t>э</a:t>
            </a:r>
            <a:r>
              <a:rPr b="1" lang="ru-RU" sz="6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5076720" y="404640"/>
            <a:ext cx="0" cy="3529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5508720" y="206064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6227640" y="206064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5508720" y="206064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5508720" y="263700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Line 23"/>
          <p:cNvSpPr/>
          <p:nvPr/>
        </p:nvSpPr>
        <p:spPr>
          <a:xfrm flipH="1">
            <a:off x="6084360" y="2060640"/>
            <a:ext cx="1429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Line 24"/>
          <p:cNvSpPr/>
          <p:nvPr/>
        </p:nvSpPr>
        <p:spPr>
          <a:xfrm flipH="1">
            <a:off x="6156360" y="263700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Line 25"/>
          <p:cNvSpPr/>
          <p:nvPr/>
        </p:nvSpPr>
        <p:spPr>
          <a:xfrm>
            <a:off x="6804000" y="206064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7524720" y="206064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6804000" y="263700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6804000" y="206064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Line 31"/>
          <p:cNvSpPr/>
          <p:nvPr/>
        </p:nvSpPr>
        <p:spPr>
          <a:xfrm flipH="1">
            <a:off x="7380000" y="2060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Line 32"/>
          <p:cNvSpPr/>
          <p:nvPr/>
        </p:nvSpPr>
        <p:spPr>
          <a:xfrm flipH="1">
            <a:off x="7451280" y="263700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7956720" y="206064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8820000" y="206064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7956720" y="206064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Line 36"/>
          <p:cNvSpPr/>
          <p:nvPr/>
        </p:nvSpPr>
        <p:spPr>
          <a:xfrm>
            <a:off x="7956720" y="263700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Line 37"/>
          <p:cNvSpPr/>
          <p:nvPr/>
        </p:nvSpPr>
        <p:spPr>
          <a:xfrm flipH="1">
            <a:off x="8675280" y="2060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Line 38"/>
          <p:cNvSpPr/>
          <p:nvPr/>
        </p:nvSpPr>
        <p:spPr>
          <a:xfrm flipH="1">
            <a:off x="8675280" y="263700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39"/>
          <p:cNvSpPr/>
          <p:nvPr/>
        </p:nvSpPr>
        <p:spPr>
          <a:xfrm>
            <a:off x="5651640" y="299736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40"/>
          <p:cNvSpPr/>
          <p:nvPr/>
        </p:nvSpPr>
        <p:spPr>
          <a:xfrm>
            <a:off x="6516720" y="299736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5651640" y="299736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5651640" y="364500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Line 43"/>
          <p:cNvSpPr/>
          <p:nvPr/>
        </p:nvSpPr>
        <p:spPr>
          <a:xfrm flipH="1">
            <a:off x="6443280" y="299736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Line 44"/>
          <p:cNvSpPr/>
          <p:nvPr/>
        </p:nvSpPr>
        <p:spPr>
          <a:xfrm flipH="1">
            <a:off x="6372000" y="364500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Line 46"/>
          <p:cNvSpPr/>
          <p:nvPr/>
        </p:nvSpPr>
        <p:spPr>
          <a:xfrm>
            <a:off x="6877080" y="299736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Line 47"/>
          <p:cNvSpPr/>
          <p:nvPr/>
        </p:nvSpPr>
        <p:spPr>
          <a:xfrm>
            <a:off x="7596360" y="299736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Line 48"/>
          <p:cNvSpPr/>
          <p:nvPr/>
        </p:nvSpPr>
        <p:spPr>
          <a:xfrm>
            <a:off x="6877080" y="299736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Line 49"/>
          <p:cNvSpPr/>
          <p:nvPr/>
        </p:nvSpPr>
        <p:spPr>
          <a:xfrm>
            <a:off x="6877080" y="3645000"/>
            <a:ext cx="1429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Line 50"/>
          <p:cNvSpPr/>
          <p:nvPr/>
        </p:nvSpPr>
        <p:spPr>
          <a:xfrm flipH="1">
            <a:off x="7524360" y="2997360"/>
            <a:ext cx="7164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Line 51"/>
          <p:cNvSpPr/>
          <p:nvPr/>
        </p:nvSpPr>
        <p:spPr>
          <a:xfrm flipH="1">
            <a:off x="7451640" y="3645000"/>
            <a:ext cx="1447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7956720" y="299736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Line 54"/>
          <p:cNvSpPr/>
          <p:nvPr/>
        </p:nvSpPr>
        <p:spPr>
          <a:xfrm>
            <a:off x="8675640" y="2997360"/>
            <a:ext cx="0" cy="576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7956720" y="299736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Line 56"/>
          <p:cNvSpPr/>
          <p:nvPr/>
        </p:nvSpPr>
        <p:spPr>
          <a:xfrm>
            <a:off x="7956720" y="364500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Line 57"/>
          <p:cNvSpPr/>
          <p:nvPr/>
        </p:nvSpPr>
        <p:spPr>
          <a:xfrm flipH="1">
            <a:off x="8604360" y="299736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Line 58"/>
          <p:cNvSpPr/>
          <p:nvPr/>
        </p:nvSpPr>
        <p:spPr>
          <a:xfrm flipH="1">
            <a:off x="8604360" y="357336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slow" advTm="45000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84240" y="404280"/>
            <a:ext cx="815976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 Black"/>
              </a:rPr>
              <a:t>ЙОТИРОВАННЫЕ    ГЛАСНЫЕ</a:t>
            </a:r>
            <a:r>
              <a:rPr b="1" lang="ru-RU" sz="3000" spc="-1" strike="noStrike">
                <a:solidFill>
                  <a:srgbClr val="800080"/>
                </a:solidFill>
                <a:latin typeface="Arial Black"/>
              </a:rPr>
              <a:t>  </a:t>
            </a:r>
            <a:br>
              <a:rPr sz="3000"/>
            </a:b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е,   ё,   ю,   я</a:t>
            </a:r>
            <a:endParaRPr b="0" lang="en-US" sz="44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5329440" cy="35481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419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Йотированные гласные      </a:t>
            </a:r>
            <a:endParaRPr b="0" lang="en-US" sz="2900" spc="-1" strike="noStrike">
              <a:solidFill>
                <a:srgbClr val="000000"/>
              </a:solidFill>
              <a:latin typeface="-소망M"/>
            </a:endParaRPr>
          </a:p>
          <a:p>
            <a:pPr marL="41904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бозначают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300" spc="-1" strike="noStrike" u="sng">
                <a:solidFill>
                  <a:srgbClr val="ff0000"/>
                </a:solidFill>
                <a:uFillTx/>
                <a:latin typeface="Times New Roman"/>
              </a:rPr>
              <a:t>два звука:</a:t>
            </a:r>
            <a:endParaRPr b="0" lang="en-US" sz="3300" spc="-1" strike="noStrike">
              <a:solidFill>
                <a:srgbClr val="000000"/>
              </a:solidFill>
              <a:latin typeface="-소망M"/>
            </a:endParaRPr>
          </a:p>
          <a:p>
            <a:pPr marL="419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-소망M"/>
            </a:endParaRPr>
          </a:p>
          <a:p>
            <a:pPr marL="419040" indent="-41904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 u="sng">
                <a:solidFill>
                  <a:srgbClr val="ff0000"/>
                </a:solidFill>
                <a:uFillTx/>
                <a:latin typeface="Times New Roman"/>
              </a:rPr>
              <a:t>в начале слова;</a:t>
            </a:r>
            <a:endParaRPr b="0" lang="en-US" sz="3300" spc="-1" strike="noStrike">
              <a:solidFill>
                <a:srgbClr val="000000"/>
              </a:solidFill>
              <a:latin typeface="-소망M"/>
            </a:endParaRPr>
          </a:p>
          <a:p>
            <a:pPr marL="419040" indent="-41904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 u="sng">
                <a:solidFill>
                  <a:srgbClr val="ff0000"/>
                </a:solidFill>
                <a:uFillTx/>
                <a:latin typeface="Times New Roman"/>
              </a:rPr>
              <a:t>после  гласной;</a:t>
            </a:r>
            <a:endParaRPr b="0" lang="en-US" sz="3300" spc="-1" strike="noStrike">
              <a:solidFill>
                <a:srgbClr val="000000"/>
              </a:solidFill>
              <a:latin typeface="-소망M"/>
            </a:endParaRPr>
          </a:p>
          <a:p>
            <a:pPr marL="419040" indent="-419040">
              <a:lnSpc>
                <a:spcPct val="100000"/>
              </a:lnSpc>
              <a:spcBef>
                <a:spcPts val="825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 u="sng">
                <a:solidFill>
                  <a:srgbClr val="ff0000"/>
                </a:solidFill>
                <a:uFillTx/>
                <a:latin typeface="Times New Roman"/>
              </a:rPr>
              <a:t>после Ь и Ъ знаков.</a:t>
            </a:r>
            <a:endParaRPr b="0" lang="en-US" sz="3300" spc="-1" strike="noStrike">
              <a:solidFill>
                <a:srgbClr val="000000"/>
              </a:solidFill>
              <a:latin typeface="-소망M"/>
            </a:endParaRPr>
          </a:p>
          <a:p>
            <a:pPr marL="41904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-소망M"/>
            </a:endParaRPr>
          </a:p>
          <a:p>
            <a:pPr marL="41904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580000" y="1699920"/>
            <a:ext cx="3564000" cy="352908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ff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йэ       йо            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й а    й у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  <a:p>
            <a:pPr marL="3016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Е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ль, 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ё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ж, 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ю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ла, 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Я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на</a:t>
            </a:r>
            <a:endParaRPr b="0" lang="en-US" sz="2900" spc="-1" strike="noStrike">
              <a:solidFill>
                <a:srgbClr val="000000"/>
              </a:solidFill>
              <a:latin typeface="-소망M"/>
            </a:endParaRPr>
          </a:p>
          <a:p>
            <a:pPr marL="3016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Ре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е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т, мо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ё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, стро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ю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-소망M"/>
            </a:endParaRPr>
          </a:p>
          <a:p>
            <a:pPr marL="3016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Съ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е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л, ружь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ё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, ль</a:t>
            </a:r>
            <a:r>
              <a:rPr b="1" i="1" lang="ru-RU" sz="2900" spc="-1" strike="noStrike" u="sng">
                <a:solidFill>
                  <a:srgbClr val="ff0066"/>
                </a:solidFill>
                <a:uFillTx/>
                <a:latin typeface="Times New Roman"/>
              </a:rPr>
              <a:t>ю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9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6084720" y="184464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6948360" y="184464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6084720" y="1844640"/>
            <a:ext cx="1429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6084720" y="2492280"/>
            <a:ext cx="1429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6803640" y="1844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Line 11"/>
          <p:cNvSpPr/>
          <p:nvPr/>
        </p:nvSpPr>
        <p:spPr>
          <a:xfrm flipH="1">
            <a:off x="6803640" y="249228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7596360" y="184464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8532720" y="1844640"/>
            <a:ext cx="0" cy="64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7596360" y="1844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7596360" y="249228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8459280" y="184464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8388000" y="249228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6012000" y="270828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Line 21"/>
          <p:cNvSpPr/>
          <p:nvPr/>
        </p:nvSpPr>
        <p:spPr>
          <a:xfrm>
            <a:off x="6948360" y="270828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7451640" y="270828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8388360" y="2708280"/>
            <a:ext cx="0" cy="576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6012000" y="2708280"/>
            <a:ext cx="1425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012000" y="3284640"/>
            <a:ext cx="1425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Line 28"/>
          <p:cNvSpPr/>
          <p:nvPr/>
        </p:nvSpPr>
        <p:spPr>
          <a:xfrm flipH="1">
            <a:off x="6803640" y="2708280"/>
            <a:ext cx="1429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Line 30"/>
          <p:cNvSpPr/>
          <p:nvPr/>
        </p:nvSpPr>
        <p:spPr>
          <a:xfrm flipH="1">
            <a:off x="6803640" y="3284640"/>
            <a:ext cx="1429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7451640" y="2708280"/>
            <a:ext cx="1447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7451640" y="3284640"/>
            <a:ext cx="14472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Line 33"/>
          <p:cNvSpPr/>
          <p:nvPr/>
        </p:nvSpPr>
        <p:spPr>
          <a:xfrm flipH="1">
            <a:off x="8243640" y="270828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Line 35"/>
          <p:cNvSpPr/>
          <p:nvPr/>
        </p:nvSpPr>
        <p:spPr>
          <a:xfrm flipH="1">
            <a:off x="8243640" y="3284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179280" y="5300640"/>
            <a:ext cx="5329440" cy="19227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Йотированные  гласные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  согласных  обозначают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дин зву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и   показывают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ягкость   согласного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5580000" y="5300640"/>
            <a:ext cx="3564000" cy="2471400"/>
          </a:xfrm>
          <a:prstGeom prst="rect">
            <a:avLst/>
          </a:prstGeom>
          <a:solidFill>
            <a:srgbClr val="00cc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ркет -    парк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                           овёс -     ав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                              салют -     сал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                            няня -    н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Line 38"/>
          <p:cNvSpPr/>
          <p:nvPr/>
        </p:nvSpPr>
        <p:spPr>
          <a:xfrm>
            <a:off x="7093080" y="5445000"/>
            <a:ext cx="0" cy="289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Line 39"/>
          <p:cNvSpPr/>
          <p:nvPr/>
        </p:nvSpPr>
        <p:spPr>
          <a:xfrm>
            <a:off x="7093080" y="544500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Line 40"/>
          <p:cNvSpPr/>
          <p:nvPr/>
        </p:nvSpPr>
        <p:spPr>
          <a:xfrm>
            <a:off x="7093080" y="573408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Line 41"/>
          <p:cNvSpPr/>
          <p:nvPr/>
        </p:nvSpPr>
        <p:spPr>
          <a:xfrm>
            <a:off x="8388360" y="5445000"/>
            <a:ext cx="0" cy="289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Line 42"/>
          <p:cNvSpPr/>
          <p:nvPr/>
        </p:nvSpPr>
        <p:spPr>
          <a:xfrm flipH="1">
            <a:off x="8317080" y="544500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Line 43"/>
          <p:cNvSpPr/>
          <p:nvPr/>
        </p:nvSpPr>
        <p:spPr>
          <a:xfrm flipH="1">
            <a:off x="8317080" y="5734080"/>
            <a:ext cx="712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Line 44"/>
          <p:cNvSpPr/>
          <p:nvPr/>
        </p:nvSpPr>
        <p:spPr>
          <a:xfrm>
            <a:off x="6804000" y="5805360"/>
            <a:ext cx="0" cy="28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Line 45"/>
          <p:cNvSpPr/>
          <p:nvPr/>
        </p:nvSpPr>
        <p:spPr>
          <a:xfrm>
            <a:off x="6804000" y="580536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Line 46"/>
          <p:cNvSpPr/>
          <p:nvPr/>
        </p:nvSpPr>
        <p:spPr>
          <a:xfrm>
            <a:off x="6804000" y="609300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7740720" y="5805360"/>
            <a:ext cx="0" cy="28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48"/>
          <p:cNvSpPr/>
          <p:nvPr/>
        </p:nvSpPr>
        <p:spPr>
          <a:xfrm flipH="1">
            <a:off x="7667280" y="580536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49"/>
          <p:cNvSpPr/>
          <p:nvPr/>
        </p:nvSpPr>
        <p:spPr>
          <a:xfrm flipH="1">
            <a:off x="7667280" y="609300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Line 51"/>
          <p:cNvSpPr/>
          <p:nvPr/>
        </p:nvSpPr>
        <p:spPr>
          <a:xfrm>
            <a:off x="7020000" y="6165720"/>
            <a:ext cx="0" cy="28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Line 52"/>
          <p:cNvSpPr/>
          <p:nvPr/>
        </p:nvSpPr>
        <p:spPr>
          <a:xfrm>
            <a:off x="7020000" y="616572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Line 53"/>
          <p:cNvSpPr/>
          <p:nvPr/>
        </p:nvSpPr>
        <p:spPr>
          <a:xfrm>
            <a:off x="7020000" y="645336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Line 55"/>
          <p:cNvSpPr/>
          <p:nvPr/>
        </p:nvSpPr>
        <p:spPr>
          <a:xfrm>
            <a:off x="8101080" y="6165720"/>
            <a:ext cx="0" cy="287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Line 56"/>
          <p:cNvSpPr/>
          <p:nvPr/>
        </p:nvSpPr>
        <p:spPr>
          <a:xfrm flipH="1">
            <a:off x="8027640" y="616572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Line 57"/>
          <p:cNvSpPr/>
          <p:nvPr/>
        </p:nvSpPr>
        <p:spPr>
          <a:xfrm flipH="1">
            <a:off x="8027640" y="6453360"/>
            <a:ext cx="7308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Line 59"/>
          <p:cNvSpPr/>
          <p:nvPr/>
        </p:nvSpPr>
        <p:spPr>
          <a:xfrm>
            <a:off x="6804000" y="6524640"/>
            <a:ext cx="0" cy="333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Line 60"/>
          <p:cNvSpPr/>
          <p:nvPr/>
        </p:nvSpPr>
        <p:spPr>
          <a:xfrm>
            <a:off x="6804000" y="6524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Line 61"/>
          <p:cNvSpPr/>
          <p:nvPr/>
        </p:nvSpPr>
        <p:spPr>
          <a:xfrm>
            <a:off x="6804000" y="685800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Line 62"/>
          <p:cNvSpPr/>
          <p:nvPr/>
        </p:nvSpPr>
        <p:spPr>
          <a:xfrm>
            <a:off x="7812000" y="6524640"/>
            <a:ext cx="0" cy="333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Line 63"/>
          <p:cNvSpPr/>
          <p:nvPr/>
        </p:nvSpPr>
        <p:spPr>
          <a:xfrm flipH="1">
            <a:off x="7667280" y="652464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Line 64"/>
          <p:cNvSpPr/>
          <p:nvPr/>
        </p:nvSpPr>
        <p:spPr>
          <a:xfrm flipH="1">
            <a:off x="7667280" y="6858000"/>
            <a:ext cx="144360" cy="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advTm="50000">
    <p:checke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3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3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3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3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3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 Black"/>
              </a:rPr>
              <a:t>    </a:t>
            </a: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Т В Ё Р Д Ы Е  И  М Я Г К И Е</a:t>
            </a:r>
            <a:r>
              <a:rPr b="1" lang="ru-RU" sz="2800" spc="-1" strike="noStrike">
                <a:solidFill>
                  <a:srgbClr val="80008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200" spc="-1" strike="noStrike">
                <a:solidFill>
                  <a:srgbClr val="800080"/>
                </a:solidFill>
                <a:latin typeface="Arial Black"/>
              </a:rPr>
              <a:t>СОГЛАСНЫЕ</a:t>
            </a:r>
            <a:endParaRPr b="0" lang="en-US" sz="32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557360"/>
            <a:ext cx="9144000" cy="273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ольшинство  согласных  звуков образуют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ары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 Black"/>
              </a:rPr>
              <a:t>б в  г  д  з  к  л м  н  п  р  с  т ф  х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б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в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г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д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з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к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л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м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н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п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р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с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т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ф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000" spc="-1" strike="noStrike">
                <a:solidFill>
                  <a:srgbClr val="0000cc"/>
                </a:solidFill>
                <a:latin typeface="Arial Black"/>
              </a:rPr>
              <a:t> х</a:t>
            </a:r>
            <a:r>
              <a:rPr b="1" lang="ru-RU" sz="40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5084640"/>
            <a:ext cx="4356000" cy="17733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СЕГДА  ТВЁРДЫЕ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99"/>
                </a:solidFill>
                <a:latin typeface="Arial Black"/>
              </a:rPr>
              <a:t>Ж   Ш   Ц</a:t>
            </a:r>
            <a:endParaRPr b="0" lang="en-US" sz="48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4292280"/>
            <a:ext cx="9144000" cy="718920"/>
          </a:xfrm>
          <a:prstGeom prst="rect">
            <a:avLst/>
          </a:prstGeom>
          <a:solidFill>
            <a:srgbClr val="00ffff"/>
          </a:solidFill>
          <a:ln w="5724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Не  имеют  парных  звуков: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0" y="5084640"/>
            <a:ext cx="4572000" cy="17733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СЕГДА  МЯГКИЕ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 Black"/>
              </a:rPr>
              <a:t>Ч</a:t>
            </a:r>
            <a:r>
              <a:rPr b="1" lang="ru-RU" sz="66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800" spc="-1" strike="noStrike">
                <a:solidFill>
                  <a:srgbClr val="0000cc"/>
                </a:solidFill>
                <a:latin typeface="Arial Black"/>
              </a:rPr>
              <a:t>  Щ</a:t>
            </a:r>
            <a:r>
              <a:rPr b="1" lang="ru-RU" sz="66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r>
              <a:rPr b="1" lang="ru-RU" sz="4800" spc="-1" strike="noStrike">
                <a:solidFill>
                  <a:srgbClr val="0000cc"/>
                </a:solidFill>
                <a:latin typeface="Arial Black"/>
              </a:rPr>
              <a:t>  Й</a:t>
            </a:r>
            <a:r>
              <a:rPr b="1" lang="ru-RU" sz="6600" spc="-1" strike="noStrike" baseline="30000">
                <a:solidFill>
                  <a:srgbClr val="0000cc"/>
                </a:solidFill>
                <a:latin typeface="Arial Black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p:transition spd="slow" advTm="20000">
    <p:newsflash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3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3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3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950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4500"/>
                            </p:stCondLst>
                            <p:childTnLst>
                              <p:par>
                                <p:cTn id="2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500"/>
                            </p:stCondLst>
                            <p:childTnLst>
                              <p:par>
                                <p:cTn id="2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4500"/>
                            </p:stCondLst>
                            <p:childTnLst>
                              <p:par>
                                <p:cTn id="2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9500"/>
                            </p:stCondLst>
                            <p:childTnLst>
                              <p:par>
                                <p:cTn id="2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4500"/>
                            </p:stCondLst>
                            <p:childTnLst>
                              <p:par>
                                <p:cTn id="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З В О Н К И Е   И   Г Л У Х И Е</a:t>
            </a:r>
            <a:r>
              <a:rPr b="0" lang="ru-RU" sz="3600" spc="-1" strike="noStrike">
                <a:solidFill>
                  <a:srgbClr val="800080"/>
                </a:solidFill>
                <a:latin typeface="Arial Black"/>
              </a:rPr>
              <a:t>                    </a:t>
            </a:r>
            <a:br>
              <a:rPr sz="3600"/>
            </a:br>
            <a:r>
              <a:rPr b="1" lang="ru-RU" sz="3600" spc="-1" strike="noStrike">
                <a:solidFill>
                  <a:srgbClr val="800080"/>
                </a:solidFill>
                <a:latin typeface="Arial Black"/>
              </a:rPr>
              <a:t>СОГЛАСНЫЕ</a:t>
            </a:r>
            <a:r>
              <a:rPr b="0" lang="ru-RU" sz="3600" spc="-1" strike="noStrike">
                <a:solidFill>
                  <a:srgbClr val="80008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752480"/>
            <a:ext cx="9144000" cy="2252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арные согласны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-소망M"/>
            </a:endParaRPr>
          </a:p>
          <a:p>
            <a:pPr marL="339480" indent="-3394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Black"/>
              </a:rPr>
              <a:t>звонкие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–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cc99"/>
                </a:solidFill>
                <a:latin typeface="Arial Black"/>
              </a:rPr>
              <a:t>б   в   г   д   ж   з</a:t>
            </a:r>
            <a:endParaRPr b="0" lang="en-US" sz="4600" spc="-1" strike="noStrike">
              <a:solidFill>
                <a:srgbClr val="000000"/>
              </a:solidFill>
              <a:latin typeface="-소망M"/>
            </a:endParaRPr>
          </a:p>
          <a:p>
            <a:pPr marL="339480" indent="-3394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Black"/>
              </a:rPr>
              <a:t>глухие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–   </a:t>
            </a:r>
            <a:r>
              <a:rPr b="1" lang="ru-RU" sz="4600" spc="-1" strike="noStrike">
                <a:solidFill>
                  <a:srgbClr val="0000cc"/>
                </a:solidFill>
                <a:latin typeface="Arial Black"/>
              </a:rPr>
              <a:t>п   ф  к   т   ш   с</a:t>
            </a:r>
            <a:r>
              <a:rPr b="1" lang="ru-RU" sz="4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4005000"/>
            <a:ext cx="9144000" cy="718920"/>
          </a:xfrm>
          <a:prstGeom prst="rect">
            <a:avLst/>
          </a:prstGeom>
          <a:solidFill>
            <a:srgbClr val="00ffff"/>
          </a:solidFill>
          <a:ln w="57240">
            <a:solidFill>
              <a:srgbClr val="00cc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Не  имеют  парных  звуков: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4762080"/>
            <a:ext cx="4572000" cy="20955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всегда звонкие –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99"/>
                </a:solidFill>
                <a:latin typeface="Arial Black"/>
              </a:rPr>
              <a:t>л  м  н  р  й</a:t>
            </a:r>
            <a:endParaRPr b="0" lang="en-US" sz="5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3280" y="4762080"/>
            <a:ext cx="4500720" cy="209556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всегда глухие –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 Black"/>
              </a:rPr>
              <a:t>х  ц  ч  щ</a:t>
            </a:r>
            <a:endParaRPr b="0" lang="en-US" sz="5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p:transition spd="slow" advTm="50000">
    <p:newsflash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4000"/>
                            </p:stCondLst>
                            <p:childTnLst>
                              <p:par>
                                <p:cTn id="2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3880" y="609480"/>
            <a:ext cx="7473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 Black"/>
              </a:rPr>
              <a:t>СОГЛАСНЫЕ ЗВУКИ</a:t>
            </a:r>
            <a:endParaRPr b="0" lang="en-US" sz="4800" spc="-1" strike="noStrike">
              <a:solidFill>
                <a:srgbClr val="800080"/>
              </a:solidFill>
              <a:latin typeface="-소망B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321440" cy="4464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ritannic Bold"/>
              </a:rPr>
              <a:t>ШИПЯЩИЕ: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  <a:p>
            <a:pPr marL="26748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cc99"/>
                </a:solidFill>
                <a:latin typeface="Arial Black"/>
              </a:rPr>
              <a:t>Ж</a:t>
            </a:r>
            <a:endParaRPr b="0" lang="en-US" sz="4900" spc="-1" strike="noStrike">
              <a:solidFill>
                <a:srgbClr val="000000"/>
              </a:solidFill>
              <a:latin typeface="-소망M"/>
            </a:endParaRPr>
          </a:p>
          <a:p>
            <a:pPr marL="26748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cc99"/>
                </a:solidFill>
                <a:latin typeface="Arial Black"/>
              </a:rPr>
              <a:t>Ч</a:t>
            </a:r>
            <a:endParaRPr b="0" lang="en-US" sz="4900" spc="-1" strike="noStrike">
              <a:solidFill>
                <a:srgbClr val="000000"/>
              </a:solidFill>
              <a:latin typeface="-소망M"/>
            </a:endParaRPr>
          </a:p>
          <a:p>
            <a:pPr marL="26748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cc99"/>
                </a:solidFill>
                <a:latin typeface="Arial Black"/>
              </a:rPr>
              <a:t>Ш</a:t>
            </a:r>
            <a:endParaRPr b="0" lang="en-US" sz="4900" spc="-1" strike="noStrike">
              <a:solidFill>
                <a:srgbClr val="000000"/>
              </a:solidFill>
              <a:latin typeface="-소망M"/>
            </a:endParaRPr>
          </a:p>
          <a:p>
            <a:pPr marL="267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cc99"/>
                </a:solidFill>
                <a:latin typeface="Arial Black"/>
              </a:rPr>
              <a:t>Щ</a:t>
            </a:r>
            <a:r>
              <a:rPr b="1" lang="ru-RU" sz="4400" spc="-1" strike="noStrike">
                <a:solidFill>
                  <a:srgbClr val="00cc99"/>
                </a:solidFill>
                <a:latin typeface="Arial Black"/>
              </a:rPr>
              <a:t>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97360" y="1844640"/>
            <a:ext cx="4167360" cy="4464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ritannic Bold"/>
              </a:rPr>
              <a:t>СОНОРНЫЕ: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 Black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 Black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 Black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 Black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 Black"/>
              </a:rPr>
              <a:t>Й</a:t>
            </a:r>
            <a:endParaRPr b="0" lang="en-US" sz="4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p:transition advTm="40000"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7000"/>
                            </p:stCondLst>
                            <p:childTnLst>
                              <p:par>
                                <p:cTn id="3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3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art5</dc:creator>
  <dc:description/>
  <dc:language>en-US</dc:language>
  <cp:lastModifiedBy>user</cp:lastModifiedBy>
  <dcterms:modified xsi:type="dcterms:W3CDTF">2017-09-10T15:23:23Z</dcterms:modified>
  <cp:revision>32</cp:revision>
  <dc:subject/>
  <dc:title>PowerPoint 프레젠테이션</dc:title>
</cp:coreProperties>
</file>