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30AA-9F85-4E78-8323-37150900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41C-6940-4641-919C-6854D3815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7530-898E-4D07-B624-C0AEAF3B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7934-0A63-43A8-A63A-D5BFB836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9D3A-E88D-47DB-BE92-42C0EE22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898-5311-4FB2-B598-B5501093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B352-8DBA-4832-83B9-5AF08369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C97A-3F0A-4329-9A7D-A7D23434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7C62-E97E-4078-A6A5-55A2C821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A18D-FB17-4F73-8637-09F638F98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DA7-5528-41A9-AB7B-667AA316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EA1-F8BB-444E-8434-B1025282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81BA-A07E-4440-A96B-B75B3AB64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БДОУ «Детский сад №9» г. Сосногорска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БЛЮДЕНИЕ ИЛИ ИССЛЕДО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77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авитель: воспитатель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инко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измерения температуры воздуха – термоме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077000" cy="480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27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измерения уровня осадков – дождемер и снего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543480" cy="4800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48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чень обогащают работу с детьми солнечные ча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2082960"/>
            <a:ext cx="4495680" cy="420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41936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имой они, конечно, бесполезны, но в тёплое время года – очень интересны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1306440"/>
            <a:ext cx="4419720" cy="408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91120" y="2463840"/>
            <a:ext cx="4572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больше используется различных конструкций для наблюдения за погодой, тем больше возможностей у детей для развития исследователь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647960" cy="4402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05520" y="3048120"/>
            <a:ext cx="40384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блюдение за погодой -  важная составляющая познавательного развития детей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блюдать погоду достаточно просто визу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, гораздо интереснее исследовать особенности погоды с помощью несложных метеорологических конструк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авление и сила ветра определяется с помощью флюг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343400" cy="4221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8862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19720" y="3809880"/>
            <a:ext cx="373356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с помощью ветрового рук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43400" cy="435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67120" y="1143000"/>
            <a:ext cx="265752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78640" y="3124080"/>
            <a:ext cx="227160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верт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3960720" cy="247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4120" y="37339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4386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использовать ленты, султанчики, фла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95680" y="3962520"/>
            <a:ext cx="4416480" cy="248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038480" cy="4240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24280" y="1143000"/>
            <a:ext cx="39625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наблюдения за небом – простенький календарь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1922400"/>
            <a:ext cx="43434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различения вида облаков  - занимательный планшет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Ловушка для обла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57200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705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06:53:04Z</dcterms:created>
  <dc:creator>Мамулька</dc:creator>
  <dc:description/>
  <dc:language>en-US</dc:language>
  <cp:lastModifiedBy>Мамулька</cp:lastModifiedBy>
  <dcterms:modified xsi:type="dcterms:W3CDTF">2018-08-08T06:14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