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18A-3B6D-46BA-9908-A8D1F2D54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41B4-0C68-4E89-8309-FBB8C7BD5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272E-F269-4C82-93E1-D77B9191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4BD8-817A-44F2-9424-732585908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25BF-E0CC-4979-8B99-B6EEA0EA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78F-D759-40C2-9AE0-DC662970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ECA9-A6E4-40FF-9A1B-2A37E0E9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1297-0C64-4272-A9A0-1BA0A295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065E-DEE9-48AF-9E5E-AE2F8896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F1A5-2A11-430A-AA4A-5D5F4072A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8660-54EC-4160-BCA8-00F86EB0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43-D815-43CD-B101-BC7BA448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C21B0-28E3-491C-BCE6-3988BEBE2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БДОУ «Детский сад №9» г. Сосногорска</a:t>
            </a:r>
            <a:br>
              <a:rPr sz="2800"/>
            </a:br>
            <a:br>
              <a:rPr sz="2800"/>
            </a:br>
            <a:br>
              <a:rPr sz="2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БЛЮДЕНИЕ ИЛИ ИССЛЕДОВА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440"/>
            <a:ext cx="64771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авитель: воспитатель ДО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исинко О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мерения температуры воздуха – термомет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077000" cy="4800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029200" y="1447920"/>
            <a:ext cx="32716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измерения уровня осадков – дождемер и снегом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9480" y="1447920"/>
            <a:ext cx="3543480" cy="48006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348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чень обогащают работу с детьми солнечные ча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2082960"/>
            <a:ext cx="4495680" cy="42004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4419720" y="1219320"/>
            <a:ext cx="4419360" cy="40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Зимой они, конечно, бесполезны, но в тёплое время года – очень интересны детя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80880" y="1306440"/>
            <a:ext cx="4419720" cy="408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191120" y="2463840"/>
            <a:ext cx="457200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Чем больше используется различных конструкций для наблюдения за погодой, тем больше возможностей у детей для развития исследовательск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4647960" cy="4402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105520" y="3048120"/>
            <a:ext cx="4038480" cy="27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людение за погодой -  важная составляющая познавательного развития детей.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блюдать погоду достаточно просто визуаль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70102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о, гораздо интереснее исследовать особенности погоды с помощью несложных метеорологических конструк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правление и сила ветра определяется с помощью флюг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4343400" cy="4221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1295280"/>
            <a:ext cx="3886200" cy="2610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733560" cy="27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с помощью ветрового рук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343400" cy="435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767120" y="1143000"/>
            <a:ext cx="265752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78640" y="3124080"/>
            <a:ext cx="2271600" cy="34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ли верт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648320" y="1066680"/>
            <a:ext cx="3960720" cy="2471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334120" y="3733920"/>
            <a:ext cx="2819160" cy="2819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04920" y="1219320"/>
            <a:ext cx="4386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жно использовать ленты, султанчики, флаж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495680" y="3962520"/>
            <a:ext cx="4416480" cy="2487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04920" y="1676520"/>
            <a:ext cx="4038480" cy="4240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4724280" y="1143000"/>
            <a:ext cx="39625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наблюдения за небом – простенький календарь пог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4038480" cy="403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495680" y="1922400"/>
            <a:ext cx="4343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ля различения вида облаков  - занимательный планшет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«Ловушка для облаков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4572000" cy="43434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7051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7T06:53:04Z</dcterms:created>
  <dc:creator>Мамулька</dc:creator>
  <dc:description/>
  <dc:language>en-US</dc:language>
  <cp:lastModifiedBy>Мамулька</cp:lastModifiedBy>
  <dcterms:modified xsi:type="dcterms:W3CDTF">2018-08-08T06:14:0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