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488-DB57-49DC-98BB-ECDEB77A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F00-6AD5-443C-B8F2-C74AA18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27C-5C65-45DB-ADDE-FECEABB5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820-5164-42AE-B280-74D20034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1A41-4EC4-4AE2-A08E-19D65725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86F-80E8-43F3-95C6-446239A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A9ED-4A33-4FFE-AA59-67CAC2A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B03-5892-4B5C-8E9A-8D75E83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6826-96DD-4BBC-8824-1DB3F33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8236-341D-4E51-B193-44BDE9FE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A507-3AE4-46AA-8245-80DD68E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27E-38B3-4E76-88D6-F42BA5D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FC8F-B32A-4AF3-8141-93F2FA5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AD0B-D1A7-42EB-87C0-57866B78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B06-DB8E-4F20-A033-7B7604A8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8B01-5C1E-4A20-BF67-63A2C54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915-084A-474E-9243-0F78917C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38E-A2A5-4E7C-AB26-BAF108BF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208-3CD6-4FEA-B9B1-C5782213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88F-CD57-4605-BCF1-ED264A5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B45-987E-493B-9E9D-8523FBB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1BA-F6DA-4171-9E1A-291F144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BD7-9F27-4E0E-8464-B49D714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352-C4CC-472C-8D2D-1C44B35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264-CA83-4897-AFF0-D2278E727F2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2E82-A34C-4C2F-8D8A-7881E5B282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аткосрочный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знавательный проект в подготовительной группе 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Красная книга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ь: Формировать познавательные, творческие интересы детей к окружающей среде, воспитание эмоционально-положительного отношения к природе родного кр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ублять и конкретизировать представление о животном и  растительном мире родного кра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значимость «Красной книги», для чего она созд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поисковую деятельность (развивать способность целенаправленно наблюдать, исследовать, давать правильную оценку предметам, явлениям, нравственную оценку отношениям, поступкам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оспитывать интерес и любовь к природ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86800" y="-4137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жидаемые результа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больше узнали о жизни животных и растений из «Красной книг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ированы  основы экологической культуры, экологической воспитанности до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атмосферы общности интересов, партнерски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104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: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Беседа по экологии «Наша красная книг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Дидактическая игра «Хищники и травоядны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нятие по экологии «Красная книга- сигнал опас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гр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«Загадки Красной книги. Угадай, кто я?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Занятие по рисованию «Животное из красной кни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гадывание загадок о живот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учивание стихотворения Б.Дубровина «Красная кни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жная игра «Хитрая лис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ультация для родителей «Красная книга-сигнал опасност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90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8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440" y="-100080"/>
            <a:ext cx="9524880" cy="705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8T16:40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