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032F-83F6-4BD6-B1AD-CB50598A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A9E-00DF-460E-97FB-0473C390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236-8165-4458-A751-9FD12F37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8F9C-AFCB-4980-A67C-53DF3A09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7217-66DF-493E-81F8-F425FE20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A119-03C4-4D15-A4E8-B497C39A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1358-DFC0-4AAD-88EF-98878472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DF35-3D8D-4F16-9167-4C116D0D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882E-6776-4993-A9C2-BB518B18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B465-5701-4BBD-9F47-50E0A049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B945-2B40-4791-9BB1-E244A72D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EFF-8226-455A-BF67-432BDEB4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DD7D-2D09-4E94-9A37-9A54FF97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FB4C-FC1F-4E03-880F-9A773BAF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3D85-C738-4C1F-98D0-91A116E3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F886-DA97-4FE1-85B6-177B26A4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743D-471A-4AC9-8F22-20C5B20B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155D-D7F7-4C98-9E2A-D26ED6DA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71BF-FC49-4F85-B7BD-DF2251B0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F23-9001-4C94-8F46-C7AD5BD2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F772-EE48-4DD5-8EE7-17A59DA8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9951-0525-4E9B-92F0-EDCB8BE3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31C-3352-4245-9807-E250D15C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B6A-E6F1-4E11-ADDD-B6EE4390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4151-26B5-463F-BB7C-0BED624954C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FF39-00CF-45A6-8E1C-C04FB276DFB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раткосрочный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знавательный проект в подготовительной группе 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Красная книга»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3809520"/>
            <a:ext cx="82296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ель: Формировать познавательные, творческие интересы детей к окружающей среде, воспитание эмоционально-положительного отношения к природе родного кра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 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чи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лублять и конкретизировать представление о животном и  растительном мире родного кра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ить значимость «Красной книги», для чего она созд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вать поисковую деятельность (развивать способность целенаправленно наблюдать, исследовать, давать правильную оценку предметам, явлениям, нравственную оценку отношениям, поступкам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Воспитывать интерес и любовь к природе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686800" y="-41371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жидаемые результат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и больше узнали о жизни животных и растений из «Красной книг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формированы  основы экологической культуры, экологической воспитанности дошколь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ние атмосферы общности интересов, партнерских отнош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10480" y="-52340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апы:    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Беседа по экологии «Наша красная книг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Дидактическая игра «Хищники и травоядны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нятие по экологии «Красная книга- сигнал опасност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Игра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«Загадки Красной книги. Угадай, кто я?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Занятие по рисованию «Животное из красной книг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гадывание загадок о живот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учивание стихотворения Б.Дубровина «Красная книг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вижная игра «Хитрая лис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сультация для родителей «Красная книга-сигнал опасност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6904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86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190440" y="-100080"/>
            <a:ext cx="9524880" cy="7058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8-08T16:40:2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