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B48B-3983-4577-9535-3D9A079C7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9F07-C616-4581-A872-A28D6EFE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D0F-8B04-4F24-84DF-D6EEDEC48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68AD-3463-48F7-8F28-CA9C0AFEB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A75-1771-43EA-A123-E20ED39D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65BE-1DF8-41D2-9E2D-D2C2BEE13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3423-1D26-4D96-911C-459C3F9AF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1A3-A0A7-49AD-A91D-569C99C87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4CE4-7505-455A-B789-C2FC06D4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9A00-ACF3-4291-8399-99859473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1D83-5F93-4680-A3E5-D42B2A38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C9CF-128E-4496-8F00-50F6E6F2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C256-C3C9-4C9D-8C27-919E2D35A82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20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바탕"/>
                <a:ea typeface="바탕"/>
              </a:rPr>
              <a:t>Дмитрий Шостакович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https://ds02.infourok.ru/uploads/ex/026b/000580aa-3d0cffb3/hello_html_2c10f586.png"/>
          <p:cNvPicPr/>
          <p:nvPr/>
        </p:nvPicPr>
        <p:blipFill>
          <a:blip r:embed="rId1"/>
          <a:stretch/>
        </p:blipFill>
        <p:spPr>
          <a:xfrm>
            <a:off x="500040" y="2143080"/>
            <a:ext cx="7929720" cy="4143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C:\Users\S\Desktop\i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C:\Users\S\Desktop\i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C:\Users\S\Desktop\i.jpg"/>
          <p:cNvPicPr/>
          <p:nvPr/>
        </p:nvPicPr>
        <p:blipFill>
          <a:blip r:embed="rId4"/>
          <a:stretch/>
        </p:blipFill>
        <p:spPr>
          <a:xfrm>
            <a:off x="0" y="152280"/>
            <a:ext cx="914400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images.gimsy.net/6/93/938610/muzykanty-na-vashe-torzhestvo-f938610.jpg"/>
          <p:cNvPicPr/>
          <p:nvPr/>
        </p:nvPicPr>
        <p:blipFill>
          <a:blip r:embed="rId1"/>
          <a:stretch/>
        </p:blipFill>
        <p:spPr>
          <a:xfrm>
            <a:off x="214200" y="142920"/>
            <a:ext cx="8715600" cy="6715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C:\Users\S\Desktop\0009-007-.jpg"/>
          <p:cNvPicPr/>
          <p:nvPr/>
        </p:nvPicPr>
        <p:blipFill>
          <a:blip r:embed="rId2"/>
          <a:stretch/>
        </p:blipFill>
        <p:spPr>
          <a:xfrm>
            <a:off x="0" y="-243000"/>
            <a:ext cx="9144000" cy="72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http://ic.pics.livejournal.com/ok1000/65060955/66699/66699_900.jpg"/>
          <p:cNvPicPr/>
          <p:nvPr/>
        </p:nvPicPr>
        <p:blipFill>
          <a:blip r:embed="rId1"/>
          <a:stretch/>
        </p:blipFill>
        <p:spPr>
          <a:xfrm>
            <a:off x="595440" y="465120"/>
            <a:ext cx="7905600" cy="5927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C:\Users\S\Desktop\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zaural100.ru/foto/filarmoniya02.jpg"/>
          <p:cNvPicPr/>
          <p:nvPr/>
        </p:nvPicPr>
        <p:blipFill>
          <a:blip r:embed="rId1"/>
          <a:srcRect l="0" t="3488" r="0" b="6975"/>
          <a:stretch/>
        </p:blipFill>
        <p:spPr>
          <a:xfrm>
            <a:off x="500040" y="11160"/>
            <a:ext cx="8429760" cy="6346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C:\Users\S\Desktop\0023-023-.jpg"/>
          <p:cNvPicPr/>
          <p:nvPr/>
        </p:nvPicPr>
        <p:blipFill>
          <a:blip r:embed="rId2"/>
          <a:stretch/>
        </p:blipFill>
        <p:spPr>
          <a:xfrm>
            <a:off x="-108000" y="-171360"/>
            <a:ext cx="9360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http://ruwest.ru/upload/iblock/afd/afdc22078c9b53c13299a04010f9a07e.jpg"/>
          <p:cNvPicPr/>
          <p:nvPr/>
        </p:nvPicPr>
        <p:blipFill>
          <a:blip r:embed="rId1"/>
          <a:stretch/>
        </p:blipFill>
        <p:spPr>
          <a:xfrm>
            <a:off x="714240" y="428760"/>
            <a:ext cx="7786800" cy="5929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Users\S\Desktop\21.jpg"/>
          <p:cNvPicPr/>
          <p:nvPr/>
        </p:nvPicPr>
        <p:blipFill>
          <a:blip r:embed="rId2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7" descr="http://www.2photo.ru/uploads/posts/6083/20090104/konstantin_alekseevich_vasilev/26_konstantin_alekseevich_vasilev.jpg"/>
          <p:cNvPicPr/>
          <p:nvPr/>
        </p:nvPicPr>
        <p:blipFill>
          <a:blip r:embed="rId1"/>
          <a:stretch/>
        </p:blipFill>
        <p:spPr>
          <a:xfrm>
            <a:off x="0" y="142920"/>
            <a:ext cx="9144000" cy="65721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Users\S\Desktop\11.jpg"/>
          <p:cNvPicPr/>
          <p:nvPr/>
        </p:nvPicPr>
        <p:blipFill>
          <a:blip r:embed="rId2"/>
          <a:stretch/>
        </p:blipFill>
        <p:spPr>
          <a:xfrm>
            <a:off x="-108000" y="142920"/>
            <a:ext cx="925200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http://classic-online.ru/uploads/000_person_photo/5800/5743.jpg"/>
          <p:cNvPicPr/>
          <p:nvPr/>
        </p:nvPicPr>
        <p:blipFill>
          <a:blip r:embed="rId1"/>
          <a:srcRect l="0" t="15285" r="2362" b="0"/>
          <a:stretch/>
        </p:blipFill>
        <p:spPr>
          <a:xfrm>
            <a:off x="496800" y="0"/>
            <a:ext cx="793296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C:\Users\S\Desktop\12.jpg"/>
          <p:cNvPicPr/>
          <p:nvPr/>
        </p:nvPicPr>
        <p:blipFill>
          <a:blip r:embed="rId2"/>
          <a:stretch/>
        </p:blipFill>
        <p:spPr>
          <a:xfrm>
            <a:off x="0" y="-150840"/>
            <a:ext cx="9215280" cy="71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http://forchel.ru/uploads/posts/2013-01/1358889207_sharmanka.jpg"/>
          <p:cNvPicPr/>
          <p:nvPr/>
        </p:nvPicPr>
        <p:blipFill>
          <a:blip r:embed="rId1"/>
          <a:stretch/>
        </p:blipFill>
        <p:spPr>
          <a:xfrm>
            <a:off x="642960" y="142920"/>
            <a:ext cx="8286840" cy="6429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C:\Users\S\Desktop\2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zaural100.ru/foto/filarmoniya02.jpg"/>
          <p:cNvPicPr/>
          <p:nvPr/>
        </p:nvPicPr>
        <p:blipFill>
          <a:blip r:embed="rId1"/>
          <a:srcRect l="0" t="3488" r="0" b="6975"/>
          <a:stretch/>
        </p:blipFill>
        <p:spPr>
          <a:xfrm>
            <a:off x="500040" y="357120"/>
            <a:ext cx="8429760" cy="6000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C:\Users\S\Desktop\0011-012-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http://www.aveclassics.net/_nw/16/78934484.jpg"/>
          <p:cNvPicPr/>
          <p:nvPr/>
        </p:nvPicPr>
        <p:blipFill>
          <a:blip r:embed="rId1"/>
          <a:stretch/>
        </p:blipFill>
        <p:spPr>
          <a:xfrm>
            <a:off x="642960" y="285840"/>
            <a:ext cx="8001000" cy="6143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S\Desktop\43681e452fa476297223f79dfe76e423.jpg"/>
          <p:cNvPicPr/>
          <p:nvPr/>
        </p:nvPicPr>
        <p:blipFill>
          <a:blip r:embed="rId2"/>
          <a:stretch/>
        </p:blipFill>
        <p:spPr>
          <a:xfrm>
            <a:off x="-3276720" y="-3843360"/>
            <a:ext cx="19050120" cy="142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5T08:15:46Z</dcterms:created>
  <dc:creator>XTreme.ws</dc:creator>
  <dc:description/>
  <dc:language>en-US</dc:language>
  <cp:lastModifiedBy>User</cp:lastModifiedBy>
  <dcterms:modified xsi:type="dcterms:W3CDTF">2017-10-23T16:20:03Z</dcterms:modified>
  <cp:revision>89</cp:revision>
  <dc:subject/>
  <dc:title>Создание предметно-развивающей среды в дошкольной организации.</dc:title>
</cp:coreProperties>
</file>