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6EDA-310F-43DF-87AB-9C00B59E1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BA34-890B-489F-91FB-52B73CD1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BF69-0C2A-4D82-B744-3E2C17CD8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7E80-3BDF-49A2-B944-B0AAC74A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15EB-AEEE-4EEF-AD1B-AB51A591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4C74-A2E6-4BBB-993D-E3785AD1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8FEC-75FF-4060-A9EF-8C3ED7E63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4844-4FD2-4583-833A-792A3588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BA90-513E-46B8-BFFE-323401C4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F4D0-0251-4588-AEED-6EE52459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8E04-D257-4F35-AFDD-B5A016B7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8612-D926-448D-A673-69D7FBF8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4AAF-CBA4-4127-9909-9B2D67AFC2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바탕"/>
                <a:ea typeface="바탕"/>
              </a:rPr>
              <a:t>Дмитрий Шостако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https://ds02.infourok.ru/uploads/ex/026b/000580aa-3d0cffb3/hello_html_2c10f586.png"/>
          <p:cNvPicPr/>
          <p:nvPr/>
        </p:nvPicPr>
        <p:blipFill>
          <a:blip r:embed="rId1"/>
          <a:stretch/>
        </p:blipFill>
        <p:spPr>
          <a:xfrm>
            <a:off x="500040" y="2143080"/>
            <a:ext cx="7929720" cy="4143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Users\S\Desktop\i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Users\S\Desktop\i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S\Desktop\i.jpg"/>
          <p:cNvPicPr/>
          <p:nvPr/>
        </p:nvPicPr>
        <p:blipFill>
          <a:blip r:embed="rId4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images.gimsy.net/6/93/938610/muzykanty-na-vashe-torzhestvo-f938610.jpg"/>
          <p:cNvPicPr/>
          <p:nvPr/>
        </p:nvPicPr>
        <p:blipFill>
          <a:blip r:embed="rId1"/>
          <a:stretch/>
        </p:blipFill>
        <p:spPr>
          <a:xfrm>
            <a:off x="214200" y="142920"/>
            <a:ext cx="8715600" cy="6715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S\Desktop\0009-007-.jpg"/>
          <p:cNvPicPr/>
          <p:nvPr/>
        </p:nvPicPr>
        <p:blipFill>
          <a:blip r:embed="rId2"/>
          <a:stretch/>
        </p:blipFill>
        <p:spPr>
          <a:xfrm>
            <a:off x="0" y="-243000"/>
            <a:ext cx="9144000" cy="72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http://ic.pics.livejournal.com/ok1000/65060955/66699/66699_900.jpg"/>
          <p:cNvPicPr/>
          <p:nvPr/>
        </p:nvPicPr>
        <p:blipFill>
          <a:blip r:embed="rId1"/>
          <a:stretch/>
        </p:blipFill>
        <p:spPr>
          <a:xfrm>
            <a:off x="595440" y="465120"/>
            <a:ext cx="7905600" cy="5927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S\Desktop\1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zaural100.ru/foto/filarmoniya02.jpg"/>
          <p:cNvPicPr/>
          <p:nvPr/>
        </p:nvPicPr>
        <p:blipFill>
          <a:blip r:embed="rId1"/>
          <a:srcRect l="0" t="3488" r="0" b="6975"/>
          <a:stretch/>
        </p:blipFill>
        <p:spPr>
          <a:xfrm>
            <a:off x="500040" y="11160"/>
            <a:ext cx="8429760" cy="6346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S\Desktop\0023-023-.jpg"/>
          <p:cNvPicPr/>
          <p:nvPr/>
        </p:nvPicPr>
        <p:blipFill>
          <a:blip r:embed="rId2"/>
          <a:stretch/>
        </p:blipFill>
        <p:spPr>
          <a:xfrm>
            <a:off x="-108000" y="-171360"/>
            <a:ext cx="9360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ruwest.ru/upload/iblock/afd/afdc22078c9b53c13299a04010f9a07e.jpg"/>
          <p:cNvPicPr/>
          <p:nvPr/>
        </p:nvPicPr>
        <p:blipFill>
          <a:blip r:embed="rId1"/>
          <a:stretch/>
        </p:blipFill>
        <p:spPr>
          <a:xfrm>
            <a:off x="714240" y="428760"/>
            <a:ext cx="7786800" cy="5929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S\Desktop\21.jpg"/>
          <p:cNvPicPr/>
          <p:nvPr/>
        </p:nvPicPr>
        <p:blipFill>
          <a:blip r:embed="rId2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http://www.2photo.ru/uploads/posts/6083/20090104/konstantin_alekseevich_vasilev/26_konstantin_alekseevich_vasilev.jpg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S\Desktop\11.jpg"/>
          <p:cNvPicPr/>
          <p:nvPr/>
        </p:nvPicPr>
        <p:blipFill>
          <a:blip r:embed="rId2"/>
          <a:stretch/>
        </p:blipFill>
        <p:spPr>
          <a:xfrm>
            <a:off x="-108000" y="142920"/>
            <a:ext cx="9252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http://classic-online.ru/uploads/000_person_photo/5800/5743.jpg"/>
          <p:cNvPicPr/>
          <p:nvPr/>
        </p:nvPicPr>
        <p:blipFill>
          <a:blip r:embed="rId1"/>
          <a:srcRect l="0" t="15285" r="2362" b="0"/>
          <a:stretch/>
        </p:blipFill>
        <p:spPr>
          <a:xfrm>
            <a:off x="496800" y="0"/>
            <a:ext cx="793296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S\Desktop\12.jpg"/>
          <p:cNvPicPr/>
          <p:nvPr/>
        </p:nvPicPr>
        <p:blipFill>
          <a:blip r:embed="rId2"/>
          <a:stretch/>
        </p:blipFill>
        <p:spPr>
          <a:xfrm>
            <a:off x="0" y="-150840"/>
            <a:ext cx="9215280" cy="71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http://forchel.ru/uploads/posts/2013-01/1358889207_sharmanka.jpg"/>
          <p:cNvPicPr/>
          <p:nvPr/>
        </p:nvPicPr>
        <p:blipFill>
          <a:blip r:embed="rId1"/>
          <a:stretch/>
        </p:blipFill>
        <p:spPr>
          <a:xfrm>
            <a:off x="642960" y="142920"/>
            <a:ext cx="8286840" cy="6429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Users\S\Desktop\2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zaural100.ru/foto/filarmoniya02.jpg"/>
          <p:cNvPicPr/>
          <p:nvPr/>
        </p:nvPicPr>
        <p:blipFill>
          <a:blip r:embed="rId1"/>
          <a:srcRect l="0" t="3488" r="0" b="6975"/>
          <a:stretch/>
        </p:blipFill>
        <p:spPr>
          <a:xfrm>
            <a:off x="500040" y="357120"/>
            <a:ext cx="8429760" cy="6000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S\Desktop\0011-012-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http://www.aveclassics.net/_nw/16/78934484.jpg"/>
          <p:cNvPicPr/>
          <p:nvPr/>
        </p:nvPicPr>
        <p:blipFill>
          <a:blip r:embed="rId1"/>
          <a:stretch/>
        </p:blipFill>
        <p:spPr>
          <a:xfrm>
            <a:off x="642960" y="285840"/>
            <a:ext cx="8001000" cy="6143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S\Desktop\43681e452fa476297223f79dfe76e423.jpg"/>
          <p:cNvPicPr/>
          <p:nvPr/>
        </p:nvPicPr>
        <p:blipFill>
          <a:blip r:embed="rId2"/>
          <a:stretch/>
        </p:blipFill>
        <p:spPr>
          <a:xfrm>
            <a:off x="-3276720" y="-3843360"/>
            <a:ext cx="19050120" cy="14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5T08:15:46Z</dcterms:created>
  <dc:creator>XTreme.ws</dc:creator>
  <dc:description/>
  <dc:language>en-US</dc:language>
  <cp:lastModifiedBy>User</cp:lastModifiedBy>
  <dcterms:modified xsi:type="dcterms:W3CDTF">2017-10-23T16:20:03Z</dcterms:modified>
  <cp:revision>89</cp:revision>
  <dc:subject/>
  <dc:title>Создание предметно-развивающей среды в дошкольной организации.</dc:title>
</cp:coreProperties>
</file>