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gif" ContentType="image/gif"/>
  <Override PartName="/ppt/media/image12.gif" ContentType="image/gif"/>
  <Override PartName="/ppt/media/image10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6.png" ContentType="image/png"/>
  <Override PartName="/ppt/media/image11.gif" ContentType="image/gif"/>
  <Override PartName="/ppt/media/image5.jpeg" ContentType="image/jpeg"/>
  <Override PartName="/ppt/media/image26.jpeg" ContentType="image/jpeg"/>
  <Override PartName="/ppt/media/image4.png" ContentType="image/png"/>
  <Override PartName="/ppt/media/image24.gif" ContentType="image/gif"/>
  <Override PartName="/ppt/media/image27.wmf" ContentType="image/x-wmf"/>
  <Override PartName="/ppt/media/image17.gif" ContentType="image/gif"/>
  <Override PartName="/ppt/media/image2.jpeg" ContentType="image/jpeg"/>
  <Override PartName="/ppt/media/image25.jpeg" ContentType="image/jpeg"/>
  <Override PartName="/ppt/media/image22.gif" ContentType="image/gif"/>
  <Override PartName="/ppt/media/image18.jpeg" ContentType="image/jpeg"/>
  <Override PartName="/ppt/media/image16.gif" ContentType="image/gif"/>
  <Override PartName="/ppt/media/image20.png" ContentType="image/png"/>
  <Override PartName="/ppt/media/image15.gif" ContentType="image/gif"/>
  <Override PartName="/ppt/media/image1.png" ContentType="image/png"/>
  <Override PartName="/ppt/media/image21.gif" ContentType="image/gif"/>
  <Override PartName="/ppt/media/image19.gif" ContentType="image/gif"/>
  <Override PartName="/ppt/media/image3.png" ContentType="image/png"/>
  <Override PartName="/ppt/media/image23.gif" ContentType="image/gi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F57F-3F59-45EC-8BB2-B7EE9C1F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60F3-DD87-4FD6-B79D-B4C08760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50E98-AB83-46FB-BDCC-FAC26CD0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5946F-E332-4A92-A1BE-B9F55F0A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9104D-C1B8-48F5-8316-A1D2AE7D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D6B29-E9B8-4624-ADE1-61AA10D5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077DC-06A8-4206-8A81-5F2353A6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F6A59-9131-43A5-927D-A8C0FC00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8E6D3-4B93-4A5E-A6B3-D233F71B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42872-4F6F-4040-BAD1-F9BDAC8A1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4C9073-D36A-4875-B3B6-16D1ADBF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53783-7AF9-4D0D-95A1-B4FAD9EE4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BEAA-5A58-4314-A6EB-67D5761B9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7BF4F-B76A-4E5C-846F-40BECB77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3294AA-FF11-43FC-B942-56B05039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675791-48BD-4C1D-B230-0C8AA30E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84F2C-DAC3-40C0-810C-D4162945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90A9D-BB01-48C1-A6AE-57397D65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2EA9D-13C6-4DBA-A74A-8D72F05C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3BD65-B19E-410C-B7A0-8A2264D3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6CCBF3-CF52-4211-8B9D-7E082820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40C8E-1D03-4A1E-995A-9D08AED3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E41B1-D8AE-4C53-93B2-343B489CF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51CE-D335-4C37-94A4-3AB10E9A0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5536B9-DAE8-49EA-BDFD-7D37296A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10F0C-6603-4A03-B637-CE1F6F7C8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1EA85-5155-4E1E-B648-35F38999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F5433-605A-4AA3-9D7A-420552B4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E2B32-3378-472D-83A5-E0C75B65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0E027-B161-4C19-AFB3-8501B8AD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B8FCD-DE48-4923-B56C-2197CE43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6EF2A-93B9-4BB3-9951-1F359907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E52ED-7998-43C0-B249-F80B983F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CD393-F55E-4562-8754-669B2A3D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B262-CD65-4A4B-9420-016302D4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52CF0-1102-4CD5-A873-3DF645FA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B4826-897D-46B6-A677-9FC98C1CC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19230-7DE1-4782-AE48-18F7595A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B89B8D-9187-486E-9408-7CC06853C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FCD678-0FC7-496E-B5D3-1A3AF019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7FF70E-61E2-4EB2-B5B7-F324211A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DEF271-05C4-4D28-861B-D1B51B10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972A8-5FB0-45A7-9F5C-04FDC921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F21CE7-354A-4AD8-988C-AE401E41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589A05-58C9-4C63-B713-001051F4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6CAF-96B2-4A32-9846-29D50F70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80640-DF96-45FB-816B-2577587C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993918-238D-4D11-8249-D2342A58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CAEDBB-AB59-459F-99DA-A699612F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4310CF-10D9-4111-9F04-9D5ED18E6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6CAC3F-E9E8-4753-BC4F-CA2BCDFBC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7ADFCA-E59A-4C93-8488-74380C77F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49EB54-8460-4D0A-AB2A-E8C28334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A452B9-9515-48CC-8C37-D14DA5CF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0D23D1-D2A0-409C-BDAD-58F6C2A2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85DF1B-3AA8-4659-9BA8-B8764B84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093D-BB04-4DDA-ACB0-04D47BBD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34609A-E83D-49B8-BE59-FC2E32A7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0BEC3F-E32E-4918-9703-1AF6A4DF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F2233A-A16E-446A-8246-7BA3C767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616C92-C015-4D78-9BE6-830D65E2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1E53AB-6EFF-444E-A4C4-62CF520B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CC2611-86B0-4DB1-B36D-5888DA270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F872B0-9C44-419C-ADB9-6404E7F11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86E674-E56E-44B4-A8E9-DD48DC70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3853A1-5C61-40A0-B5F9-638B340D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869D98-D00E-4A61-A00B-61890CF8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F2DB-8516-416B-B859-846E4392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ACF258-64CE-4446-A055-FC9A5711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260655-53B3-44B9-A7F6-00C743DF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1AA3FA-B1FA-4215-AC63-D72B8479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F2C02B-5E31-49EA-8EFB-8EFF439A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F571AD-801E-4FEE-8BDE-A097840C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3C02B4-8930-4156-9B15-E9D8710B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579CA5-284F-48D3-A931-F47B8B4E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A5684E-008B-4DD6-8A03-636454B66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612A45-432E-4130-8CFC-121861F6E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57A5F0-B223-49DB-BDCC-93DEB9BC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DB60-D303-4C85-B980-646A8491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BD666C-8E8C-4CDD-A129-4F1C6EC6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F4E410-832A-493E-BECE-3FEC2966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57B2E1-977B-43B4-9148-6937A3E2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5E9B05-6F21-4838-B8B2-49AB8C00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DBFD4B-40EA-4A8B-A9C0-DAC47E96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5DD19A-0A57-4AB5-8C63-7F8F2000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2ECA8C-A25F-47C6-82BE-DEF276A4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17BAFB-CF4D-46F1-8B76-1694068F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0169D9-2116-4D7C-86B2-62699E7F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4E23AA-9EBD-4E27-ACE0-4E942366C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3895-4050-45F2-BA67-1B0BA9B2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63B580-BBD3-41A5-BC9D-6ABBE7805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A44E-098F-4C6A-848A-608A6F03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1229-C949-41CB-92D2-2C76707F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955E-443B-4F7F-A53C-C916EC8D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C599-9A0D-4B07-805C-C45BC097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D721-6A4E-4260-B4DA-B48DB8F9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6CD9-5B19-4EFA-99B4-BFFA8A8B9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AD78-4594-4834-9B62-86C95149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A7A61-6F76-4D6C-833C-DDD03759D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BB92B-DA3D-4214-AE53-29E6CCB0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7AD90-4926-41DA-8AC2-F74958D0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7D5EC-0E87-41EB-A36C-676239BA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517FB-9BF8-4C34-88C8-B9AC3931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28F9-DE1B-4419-B6AA-4FB73E39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6A72E-2626-4682-9E1A-5129A169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D24E9-3210-4AB6-A960-856416D9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1063E-DE75-4317-8611-F82E122E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BC1AC-1882-42C2-8012-CFCC8B64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23FB2-F070-400B-9169-1DC3525D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600AA-235B-4A8F-8C54-AE166CC8A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0095B-4D80-4F30-BE3A-2E0323F55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651B8-8138-4B80-980D-641BAF20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3CAC4-FE6C-4AB4-8103-29C1944C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14D1F-359B-438B-9FA6-5E4BACE2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0083-95BB-4106-BC1E-F64A3C52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75E9E-77B9-40C4-B06C-84FB5F88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13638-307C-4DD1-B351-439EDC58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7CF62-A302-4534-816F-8207CD52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6F2F6-3BA5-47A0-A52A-3681ABCE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2CC3E-4F48-4731-BBC3-44E6BC36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3ECE1-D4AA-4011-BD6C-8FAF1B52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3C1A4-DFA5-47A4-BCA5-594E7E15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23EA0-82DD-4C96-9511-2F7E84DB8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9A772-CB22-4B77-AA5B-EC99F199E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B272F-CE23-4246-A031-418B549EC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ABB1-A9AC-4472-BDD0-D32BD511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C633A-61E5-4E83-A97A-B3A077E5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5FFE0-B7E7-49B5-BEE2-7697610A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B6876-4001-474C-AD31-6DC0EF7E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AD349-EA4F-454F-A11F-BC73EAD1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A7714-FBFF-4E30-98A1-83A5BBC8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6E607-4ACB-44FB-9775-F710E102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C0840-D637-4A3E-B6B2-A4B336BF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123CD-E85B-4052-BA1B-B9A41958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A7369-62C7-46EA-A74C-DF1BEF07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2419E-E9A3-47EC-AFDC-698BD053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AB6A-0E85-4631-A0B1-791922B7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27930-F917-4CC4-BAD5-661744B3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EBF73-74EC-4834-A3C6-BF1F56633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9DF97-5C29-416E-9EA5-160AFD6A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495C5-0FFD-4E2C-A1DD-753C7003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D201B-F83D-4283-B02E-E707D2DE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E7F5A-62FA-4846-AF2F-50441E2D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59681-1ED9-455A-BC41-2C48BD83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D3656-15C5-4D7E-8E0E-A38E0462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91424-4380-4BD4-A2F5-74A78306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3DAAD-6B51-4C98-8F3A-EAC62B49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6B40-EBE1-48BE-895D-049D7AA8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AF38C-3EB7-4AAC-9B8B-3ECE9B5D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0F813-31C6-4094-A8CA-5D61330AB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63279-37D0-462C-AC1B-95AC438F8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771A7-A247-48E0-9588-E8F1B5441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EAD7D-C607-4FA5-9CD2-23476E4D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E96F9-83F6-480C-843A-4C21EA16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5CED4-19EF-4526-A84B-BD9BC60C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11CFE-5B67-436A-88E7-97EE3E76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42B50-E72A-49D2-B443-0FA44A62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D4FC2-5536-4F0A-B8CE-BF0DF472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A5F2-BFF3-47B3-9C38-8C243702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E4C79-6EA1-4E31-A14C-643E0E6C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B6961-0449-4C17-A8FC-591187E1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4FE01-5B09-4FD2-9C7A-2ACA654F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30DA6-38AB-47EF-A45E-4DF8A64B3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F7A6F-7678-41C6-A87B-8FD8BBB1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162BA-7FC6-4EDD-9B59-B984437C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C0E81-36C8-4D6C-8B74-21EBC58D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8896F-FC13-4EC6-81CD-B0546A2F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B4CFD-44DD-46AC-A1B4-3BE6442D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C53A4-DE53-44C0-8A82-FC0F2ACB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9B7E-39ED-4E66-B510-52CF0B06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72EB5-C658-4B88-A712-100749C1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D4FA6-4EE6-4097-93D3-58BB0D5B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7A447-DB5F-4F9C-8BAD-18452BAC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4D7F0-CA0B-4084-A51C-07093E3A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EE37D-CEA2-4EC3-90C1-5C1D564C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76CE9-365F-46B1-BBA9-CCEEAA6E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EA2FC-3B4F-4FAB-B38E-58CB237FF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CF8FD-AD58-4549-97A0-C13B8596A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9E579-E53E-4AA8-8BC5-75847495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F0289-1C23-4A5A-B7D3-B1624991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44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3A53-265E-411E-956E-F1CEB28AC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A14A-5DBE-4C73-BE3F-807CBD8550F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451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0598-38B1-4330-8498-EE6541F3599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9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80EE-B41C-4C05-934A-8507F2D30A3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54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9A30-497C-4576-B80F-444FC79C727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4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4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D8C3-FDE9-4D13-98E0-5A4F20C5148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4535-BE6C-4DD7-B316-9842DFB276C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4023-4EC5-42F0-9AD8-84F6813E5D2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4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8122-0231-4911-B31A-54633D54F11F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3"/>
          <p:cNvSpPr/>
          <p:nvPr/>
        </p:nvSpPr>
        <p:spPr>
          <a:xfrm flipV="1">
            <a:off x="0" y="3002400"/>
            <a:ext cx="9144000" cy="77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6"/>
          <p:cNvGrpSpPr/>
          <p:nvPr/>
        </p:nvGrpSpPr>
        <p:grpSpPr>
          <a:xfrm>
            <a:off x="4038480" y="5691240"/>
            <a:ext cx="1079640" cy="635760"/>
            <a:chOff x="4038480" y="5691240"/>
            <a:chExt cx="1079640" cy="635760"/>
          </a:xfrm>
        </p:grpSpPr>
        <p:sp>
          <p:nvSpPr>
            <p:cNvPr id="139" name="Text Box 14"/>
            <p:cNvSpPr/>
            <p:nvPr/>
          </p:nvSpPr>
          <p:spPr>
            <a:xfrm>
              <a:off x="403848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5"/>
            <p:cNvSpPr/>
            <p:nvPr/>
          </p:nvSpPr>
          <p:spPr>
            <a:xfrm rot="5400000">
              <a:off x="443232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c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A520-CF00-465C-861B-B8492B2597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Object 44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Object 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DD8B-9B68-493D-AB7A-4FDB9384BB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2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234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4206-B96F-419E-84F2-7CA3B69965C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281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A493-1E35-4C3C-A37C-28940C1813D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22EF-8D12-4E6A-B4F1-FB49137CFFF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6112-36B9-4D16-9095-9158848F2B6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019920" cy="2210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Родительское </a:t>
            </a:r>
            <a:br>
              <a:rPr sz="4500"/>
            </a:b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собрание </a:t>
            </a:r>
            <a:br>
              <a:rPr sz="4500"/>
            </a:b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во 2 «Б» классе 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297180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3300"/>
                </a:solidFill>
                <a:latin typeface="Verdana"/>
              </a:rPr>
              <a:t>Тема: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70c0"/>
                </a:solidFill>
                <a:latin typeface="Verdana"/>
              </a:rPr>
              <a:t>«Первые уроки школьной отметки»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исьменная работа, содержащая только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е задачи решены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нет ошибок в ходе решения задач, но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хотя бы одна ошибка в ходе решения задачи и 1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если вычислительных ошибок нет, но не решена 1 задач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2-х задач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опущена ошибка в ходе решения задачи и 2 вычислительные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858000" y="502920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Комбинированная контрольная раб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(1 задача, примеры и задание другого ви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ошибки в ходе решения задачи при правильном выполнении всех заданий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допущены 3-4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задачи и хотя бы одна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при решении задач и примеров допущено более 5 вычислительных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Рисунок 3" descr="учитель.gif"/>
          <p:cNvPicPr/>
          <p:nvPr/>
        </p:nvPicPr>
        <p:blipFill>
          <a:blip r:embed="rId1"/>
          <a:stretch/>
        </p:blipFill>
        <p:spPr>
          <a:xfrm>
            <a:off x="7162920" y="518148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атематический 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5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5d135"/>
                </a:solidFill>
                <a:latin typeface="Arial"/>
              </a:rPr>
              <a:t>«3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4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«2» - не выполнена 1/2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400800" y="4876920"/>
            <a:ext cx="169380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80880" y="2276640"/>
            <a:ext cx="83822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Как воспринимать  отметки ребёнка? </a:t>
            </a: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3600"/>
            </a:br>
            <a:br>
              <a:rPr sz="4800"/>
            </a:br>
            <a:br>
              <a:rPr sz="4800"/>
            </a:b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1600200" y="480060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амятка для род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Не ругайте своего ребёнка за плохую  отметку. </a:t>
            </a:r>
            <a:r>
              <a:rPr b="1" lang="ru-RU" sz="2800" spc="-1" strike="noStrike">
                <a:solidFill>
                  <a:srgbClr val="692aa2"/>
                </a:solidFill>
                <a:latin typeface="Arial"/>
              </a:rPr>
              <a:t>Ему очень хочется быть в ваших глазах хорош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Если быть хорошим не получается, ребёнок начинает </a:t>
            </a:r>
            <a:r>
              <a:rPr b="0" lang="ru-RU" sz="2800" spc="-1" strike="noStrike" u="sng">
                <a:solidFill>
                  <a:srgbClr val="0a0aff"/>
                </a:solidFill>
                <a:uFillTx/>
                <a:latin typeface="Arial"/>
              </a:rPr>
              <a:t>врать и изворачиваться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чтобы избежать наказ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4" descr="j0282745"/>
          <p:cNvPicPr/>
          <p:nvPr/>
        </p:nvPicPr>
        <p:blipFill>
          <a:blip r:embed="rId1"/>
          <a:stretch/>
        </p:blipFill>
        <p:spPr>
          <a:xfrm>
            <a:off x="4267080" y="2362320"/>
            <a:ext cx="190512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чувствуйте своему ребёнку, если он долго трудился, но результат его труда не вы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ъясните ему, что важен не только высокий результат. Больше важны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знани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, которые он сможет                       приобрести в результате                    ежедневного, упорного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4" descr="Копия (5) AG00315_"/>
          <p:cNvPicPr/>
          <p:nvPr/>
        </p:nvPicPr>
        <p:blipFill>
          <a:blip r:embed="rId1"/>
          <a:stretch/>
        </p:blipFill>
        <p:spPr>
          <a:xfrm>
            <a:off x="5943600" y="3352680"/>
            <a:ext cx="2881440" cy="29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заставляйте своего ребёнка вымаливать себе оценку в конце триместра ради вашего душевного споко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Не учите своего ребёнка ловчить, унижаться и приспосабливаться ради положительного результата в виде высокой отм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5" descr="AG00319_"/>
          <p:cNvPicPr/>
          <p:nvPr/>
        </p:nvPicPr>
        <p:blipFill>
          <a:blip r:embed="rId1"/>
          <a:stretch/>
        </p:blipFill>
        <p:spPr>
          <a:xfrm>
            <a:off x="4464000" y="3544920"/>
            <a:ext cx="4680000" cy="3313080"/>
          </a:xfrm>
          <a:prstGeom prst="rect">
            <a:avLst/>
          </a:prstGeom>
          <a:ln w="0">
            <a:noFill/>
          </a:ln>
        </p:spPr>
      </p:pic>
      <p:pic>
        <p:nvPicPr>
          <p:cNvPr id="716" name="Рисунок 4" descr="24.jpg"/>
          <p:cNvPicPr/>
          <p:nvPr/>
        </p:nvPicPr>
        <p:blipFill>
          <a:blip r:embed="rId2"/>
          <a:stretch/>
        </p:blipFill>
        <p:spPr>
          <a:xfrm>
            <a:off x="533520" y="4572000"/>
            <a:ext cx="184788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когда не выражайте сомнений по поводу объективности выставленной вашему                  ребёнку оценки всл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Есть сомнения - идите в школу (к учителю) и попытайтесь объективно разобраться в ситу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е обвиняйте беспричинно других              взрослых и  одноклассников в                   проблемах собственного реб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Picture 4" descr="j0336396"/>
          <p:cNvPicPr/>
          <p:nvPr/>
        </p:nvPicPr>
        <p:blipFill>
          <a:blip r:embed="rId1"/>
          <a:stretch/>
        </p:blipFill>
        <p:spPr>
          <a:xfrm>
            <a:off x="7391520" y="1752480"/>
            <a:ext cx="1536480" cy="142236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4" descr="Рисунок16"/>
          <p:cNvPicPr/>
          <p:nvPr/>
        </p:nvPicPr>
        <p:blipFill>
          <a:blip r:embed="rId2"/>
          <a:stretch/>
        </p:blipFill>
        <p:spPr>
          <a:xfrm>
            <a:off x="7543800" y="3581280"/>
            <a:ext cx="1219320" cy="30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держивайте ребёнка в его, пусть не очень значительных, но победах над собой, над своей ле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монстрируйте положительные результаты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воего труд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чтобы ребёнку хотелось вам подраж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4" descr="J0076204"/>
          <p:cNvPicPr/>
          <p:nvPr/>
        </p:nvPicPr>
        <p:blipFill>
          <a:blip r:embed="rId1"/>
          <a:stretch/>
        </p:blipFill>
        <p:spPr>
          <a:xfrm>
            <a:off x="3048120" y="4114800"/>
            <a:ext cx="5616360" cy="220968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8" descr="Учитель"/>
          <p:cNvPicPr/>
          <p:nvPr/>
        </p:nvPicPr>
        <p:blipFill>
          <a:blip r:embed="rId2"/>
          <a:stretch/>
        </p:blipFill>
        <p:spPr>
          <a:xfrm>
            <a:off x="762120" y="4724280"/>
            <a:ext cx="1868400" cy="16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?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Устраивайте праздники по случ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получения отличной отмет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Arial"/>
              </a:rPr>
              <a:t>Хорошее, как и плохое, запоминается ребёнком надолго и его хочется    повтор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Пусть ребёнок получает хорошую  отметку ради того, чтобы его             отметили. Вскоре это                                   станет привыч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4" descr="BD13647_"/>
          <p:cNvPicPr/>
          <p:nvPr/>
        </p:nvPicPr>
        <p:blipFill>
          <a:blip r:embed="rId1"/>
          <a:stretch/>
        </p:blipFill>
        <p:spPr>
          <a:xfrm>
            <a:off x="5694480" y="4419720"/>
            <a:ext cx="2489040" cy="188892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4" descr="j0178301"/>
          <p:cNvPicPr/>
          <p:nvPr/>
        </p:nvPicPr>
        <p:blipFill>
          <a:blip r:embed="rId2"/>
          <a:stretch/>
        </p:blipFill>
        <p:spPr>
          <a:xfrm rot="813000">
            <a:off x="7315200" y="1066680"/>
            <a:ext cx="1676520" cy="15829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4" descr="Карандаш"/>
          <p:cNvPicPr/>
          <p:nvPr/>
        </p:nvPicPr>
        <p:blipFill>
          <a:blip r:embed="rId3"/>
          <a:stretch/>
        </p:blipFill>
        <p:spPr>
          <a:xfrm>
            <a:off x="7543800" y="2438280"/>
            <a:ext cx="1905120" cy="24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Rectangle 2" descr=""/>
          <p:cNvPicPr/>
          <p:nvPr/>
        </p:nvPicPr>
        <p:blipFill>
          <a:blip r:embed="rId1"/>
          <a:stretch/>
        </p:blipFill>
        <p:spPr>
          <a:xfrm>
            <a:off x="1214280" y="142920"/>
            <a:ext cx="7429680" cy="6429240"/>
          </a:xfrm>
          <a:prstGeom prst="rect">
            <a:avLst/>
          </a:prstGeom>
          <a:ln w="0">
            <a:noFill/>
          </a:ln>
        </p:spPr>
      </p:pic>
      <p:sp>
        <p:nvSpPr>
          <p:cNvPr id="674" name="Прямоугольник 4"/>
          <p:cNvSpPr/>
          <p:nvPr/>
        </p:nvSpPr>
        <p:spPr>
          <a:xfrm>
            <a:off x="2500200" y="58579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436a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5436a"/>
                </a:solidFill>
                <a:latin typeface="Arial"/>
              </a:rPr>
              <a:t>Р. Кипл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4" descr="Карандаш"/>
          <p:cNvPicPr/>
          <p:nvPr/>
        </p:nvPicPr>
        <p:blipFill>
          <a:blip r:embed="rId2"/>
          <a:stretch/>
        </p:blipFill>
        <p:spPr>
          <a:xfrm>
            <a:off x="7929720" y="3929040"/>
            <a:ext cx="1684080" cy="246060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4" descr="Глобус"/>
          <p:cNvPicPr/>
          <p:nvPr/>
        </p:nvPicPr>
        <p:blipFill>
          <a:blip r:embed="rId3"/>
          <a:stretch/>
        </p:blipFill>
        <p:spPr>
          <a:xfrm>
            <a:off x="142920" y="142920"/>
            <a:ext cx="1238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Как помочь ребёнку                                                                  в выполнении  домашних заданий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?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80520" y="3962160"/>
            <a:ext cx="8001000" cy="990360"/>
          </a:xfrm>
          <a:prstGeom prst="rect">
            <a:avLst/>
          </a:prstGeom>
          <a:solidFill>
            <a:srgbClr val="f7ebb7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оветы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8" descr="Учитель"/>
          <p:cNvPicPr/>
          <p:nvPr/>
        </p:nvPicPr>
        <p:blipFill>
          <a:blip r:embed="rId1"/>
          <a:stretch/>
        </p:blipFill>
        <p:spPr>
          <a:xfrm>
            <a:off x="3809880" y="304920"/>
            <a:ext cx="18687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ак правильно помогать ребёнку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4" name="Group 3"/>
          <p:cNvGrpSpPr/>
          <p:nvPr/>
        </p:nvGrpSpPr>
        <p:grpSpPr>
          <a:xfrm>
            <a:off x="228600" y="1832040"/>
            <a:ext cx="2971080" cy="3730320"/>
            <a:chOff x="228600" y="1832040"/>
            <a:chExt cx="2971080" cy="3730320"/>
          </a:xfrm>
        </p:grpSpPr>
        <p:sp>
          <p:nvSpPr>
            <p:cNvPr id="735" name="AutoShape 4"/>
            <p:cNvSpPr/>
            <p:nvPr/>
          </p:nvSpPr>
          <p:spPr>
            <a:xfrm>
              <a:off x="228600" y="2116440"/>
              <a:ext cx="2962440" cy="2641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AutoShape 5"/>
            <p:cNvSpPr/>
            <p:nvPr/>
          </p:nvSpPr>
          <p:spPr>
            <a:xfrm>
              <a:off x="274320" y="2124000"/>
              <a:ext cx="2873520" cy="25912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AutoShape 6"/>
            <p:cNvSpPr/>
            <p:nvPr/>
          </p:nvSpPr>
          <p:spPr>
            <a:xfrm>
              <a:off x="298080" y="4031640"/>
              <a:ext cx="2834280" cy="655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AutoShape 7"/>
            <p:cNvSpPr/>
            <p:nvPr/>
          </p:nvSpPr>
          <p:spPr>
            <a:xfrm>
              <a:off x="298080" y="2144520"/>
              <a:ext cx="2834280" cy="65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AutoShape 8"/>
            <p:cNvSpPr/>
            <p:nvPr/>
          </p:nvSpPr>
          <p:spPr>
            <a:xfrm>
              <a:off x="237240" y="4758120"/>
              <a:ext cx="2962440" cy="8042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AutoShape 9"/>
            <p:cNvSpPr/>
            <p:nvPr/>
          </p:nvSpPr>
          <p:spPr>
            <a:xfrm>
              <a:off x="298080" y="4926960"/>
              <a:ext cx="2834280" cy="568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1" name="Group 10"/>
            <p:cNvGrpSpPr/>
            <p:nvPr/>
          </p:nvGrpSpPr>
          <p:grpSpPr>
            <a:xfrm>
              <a:off x="1247760" y="1832040"/>
              <a:ext cx="880200" cy="594360"/>
              <a:chOff x="1247760" y="1832040"/>
              <a:chExt cx="880200" cy="594360"/>
            </a:xfrm>
          </p:grpSpPr>
          <p:sp>
            <p:nvSpPr>
              <p:cNvPr id="742" name="Oval 11"/>
              <p:cNvSpPr/>
              <p:nvPr/>
            </p:nvSpPr>
            <p:spPr>
              <a:xfrm>
                <a:off x="1247760" y="1832040"/>
                <a:ext cx="880200" cy="594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Oval 12"/>
              <p:cNvSpPr/>
              <p:nvPr/>
            </p:nvSpPr>
            <p:spPr>
              <a:xfrm>
                <a:off x="1256760" y="1836360"/>
                <a:ext cx="851040" cy="575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Oval 13"/>
              <p:cNvSpPr/>
              <p:nvPr/>
            </p:nvSpPr>
            <p:spPr>
              <a:xfrm>
                <a:off x="1267200" y="1839960"/>
                <a:ext cx="831240" cy="561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Oval 14"/>
              <p:cNvSpPr/>
              <p:nvPr/>
            </p:nvSpPr>
            <p:spPr>
              <a:xfrm>
                <a:off x="1276560" y="1845360"/>
                <a:ext cx="790560" cy="523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Oval 15"/>
              <p:cNvSpPr/>
              <p:nvPr/>
            </p:nvSpPr>
            <p:spPr>
              <a:xfrm>
                <a:off x="1322640" y="1859400"/>
                <a:ext cx="702360" cy="425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7" name="Text Box 16"/>
            <p:cNvSpPr/>
            <p:nvPr/>
          </p:nvSpPr>
          <p:spPr>
            <a:xfrm>
              <a:off x="1504440" y="191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 Box 17"/>
            <p:cNvSpPr/>
            <p:nvPr/>
          </p:nvSpPr>
          <p:spPr>
            <a:xfrm>
              <a:off x="333000" y="2536560"/>
              <a:ext cx="2817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Group 18"/>
          <p:cNvGrpSpPr/>
          <p:nvPr/>
        </p:nvGrpSpPr>
        <p:grpSpPr>
          <a:xfrm>
            <a:off x="3352680" y="1832040"/>
            <a:ext cx="2590560" cy="3806280"/>
            <a:chOff x="3352680" y="1832040"/>
            <a:chExt cx="2590560" cy="3806280"/>
          </a:xfrm>
        </p:grpSpPr>
        <p:sp>
          <p:nvSpPr>
            <p:cNvPr id="750" name="AutoShape 19"/>
            <p:cNvSpPr/>
            <p:nvPr/>
          </p:nvSpPr>
          <p:spPr>
            <a:xfrm>
              <a:off x="3352680" y="2122200"/>
              <a:ext cx="2586960" cy="2695320"/>
            </a:xfrm>
            <a:custGeom>
              <a:avLst/>
              <a:gdLst>
                <a:gd name="textAreaLeft" fmla="*/ 132480 w 2586960"/>
                <a:gd name="textAreaRight" fmla="*/ 2454480 w 2586960"/>
                <a:gd name="textAreaTop" fmla="*/ 132480 h 2695320"/>
                <a:gd name="textAreaBottom" fmla="*/ 2562840 h 2695320"/>
              </a:gdLst>
              <a:ahLst/>
              <a:rect l="textAreaLeft" t="textAreaTop" r="textAreaRight" b="textAreaBottom"/>
              <a:pathLst>
                <a:path w="21600" h="22505">
                  <a:moveTo>
                    <a:pt x="3782" y="0"/>
                  </a:moveTo>
                  <a:arcTo wR="3782" hR="3782" stAng="16200000" swAng="-5400000"/>
                  <a:lnTo>
                    <a:pt x="0" y="18723"/>
                  </a:lnTo>
                  <a:arcTo wR="3782" hR="3782" stAng="10800000" swAng="-5400000"/>
                  <a:lnTo>
                    <a:pt x="17818" y="2250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AutoShape 20"/>
            <p:cNvSpPr/>
            <p:nvPr/>
          </p:nvSpPr>
          <p:spPr>
            <a:xfrm>
              <a:off x="3392280" y="2130120"/>
              <a:ext cx="2509200" cy="2644200"/>
            </a:xfrm>
            <a:custGeom>
              <a:avLst/>
              <a:gdLst>
                <a:gd name="textAreaLeft" fmla="*/ 122400 w 2509200"/>
                <a:gd name="textAreaRight" fmla="*/ 2386800 w 2509200"/>
                <a:gd name="textAreaTop" fmla="*/ 122400 h 2644200"/>
                <a:gd name="textAreaBottom" fmla="*/ 2521800 h 2644200"/>
              </a:gdLst>
              <a:ahLst/>
              <a:rect l="textAreaLeft" t="textAreaTop" r="textAreaRight" b="textAreaBottom"/>
              <a:pathLst>
                <a:path w="21600" h="22762">
                  <a:moveTo>
                    <a:pt x="3600" y="0"/>
                  </a:moveTo>
                  <a:arcTo wR="3600" hR="3600" stAng="16200000" swAng="-5400000"/>
                  <a:lnTo>
                    <a:pt x="0" y="19162"/>
                  </a:lnTo>
                  <a:arcTo wR="3600" hR="3600" stAng="10800000" swAng="-5400000"/>
                  <a:lnTo>
                    <a:pt x="18000" y="22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AutoShape 21"/>
            <p:cNvSpPr/>
            <p:nvPr/>
          </p:nvSpPr>
          <p:spPr>
            <a:xfrm>
              <a:off x="3413160" y="4076640"/>
              <a:ext cx="2475000" cy="66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AutoShape 22"/>
            <p:cNvSpPr/>
            <p:nvPr/>
          </p:nvSpPr>
          <p:spPr>
            <a:xfrm>
              <a:off x="3413160" y="2150640"/>
              <a:ext cx="2475000" cy="66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23"/>
            <p:cNvSpPr/>
            <p:nvPr/>
          </p:nvSpPr>
          <p:spPr>
            <a:xfrm>
              <a:off x="4242600" y="1832040"/>
              <a:ext cx="768600" cy="606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4"/>
            <p:cNvSpPr/>
            <p:nvPr/>
          </p:nvSpPr>
          <p:spPr>
            <a:xfrm>
              <a:off x="4249800" y="1836360"/>
              <a:ext cx="744120" cy="58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5"/>
            <p:cNvSpPr/>
            <p:nvPr/>
          </p:nvSpPr>
          <p:spPr>
            <a:xfrm>
              <a:off x="4259880" y="1839240"/>
              <a:ext cx="726480" cy="573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6"/>
            <p:cNvSpPr/>
            <p:nvPr/>
          </p:nvSpPr>
          <p:spPr>
            <a:xfrm>
              <a:off x="4267080" y="1845360"/>
              <a:ext cx="690840" cy="53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27"/>
            <p:cNvSpPr/>
            <p:nvPr/>
          </p:nvSpPr>
          <p:spPr>
            <a:xfrm>
              <a:off x="4308840" y="1860480"/>
              <a:ext cx="613080" cy="43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Text Box 28"/>
            <p:cNvSpPr/>
            <p:nvPr/>
          </p:nvSpPr>
          <p:spPr>
            <a:xfrm>
              <a:off x="4444200" y="1918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Text Box 29"/>
            <p:cNvSpPr/>
            <p:nvPr/>
          </p:nvSpPr>
          <p:spPr>
            <a:xfrm>
              <a:off x="3443400" y="2550600"/>
              <a:ext cx="24598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AutoShape 30"/>
            <p:cNvSpPr/>
            <p:nvPr/>
          </p:nvSpPr>
          <p:spPr>
            <a:xfrm>
              <a:off x="3355920" y="4817880"/>
              <a:ext cx="2587320" cy="8204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AutoShape 31"/>
            <p:cNvSpPr/>
            <p:nvPr/>
          </p:nvSpPr>
          <p:spPr>
            <a:xfrm>
              <a:off x="3409200" y="4840200"/>
              <a:ext cx="2475000" cy="72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Group 32"/>
          <p:cNvGrpSpPr/>
          <p:nvPr/>
        </p:nvGrpSpPr>
        <p:grpSpPr>
          <a:xfrm>
            <a:off x="6019920" y="1828800"/>
            <a:ext cx="2742840" cy="4035600"/>
            <a:chOff x="6019920" y="1828800"/>
            <a:chExt cx="2742840" cy="4035600"/>
          </a:xfrm>
        </p:grpSpPr>
        <p:sp>
          <p:nvSpPr>
            <p:cNvPr id="764" name="AutoShape 33"/>
            <p:cNvSpPr/>
            <p:nvPr/>
          </p:nvSpPr>
          <p:spPr>
            <a:xfrm>
              <a:off x="6027480" y="2136600"/>
              <a:ext cx="2735280" cy="2857680"/>
            </a:xfrm>
            <a:custGeom>
              <a:avLst/>
              <a:gdLst>
                <a:gd name="textAreaLeft" fmla="*/ 140040 w 2735280"/>
                <a:gd name="textAreaRight" fmla="*/ 2595240 w 2735280"/>
                <a:gd name="textAreaTop" fmla="*/ 140040 h 2857680"/>
                <a:gd name="textAreaBottom" fmla="*/ 2717640 h 2857680"/>
              </a:gdLst>
              <a:ahLst/>
              <a:rect l="textAreaLeft" t="textAreaTop" r="textAreaRight" b="textAreaBottom"/>
              <a:pathLst>
                <a:path w="21600" h="22566">
                  <a:moveTo>
                    <a:pt x="3782" y="0"/>
                  </a:moveTo>
                  <a:arcTo wR="3782" hR="3782" stAng="16200000" swAng="-5400000"/>
                  <a:lnTo>
                    <a:pt x="0" y="18784"/>
                  </a:lnTo>
                  <a:arcTo wR="3782" hR="3782" stAng="10800000" swAng="-5400000"/>
                  <a:lnTo>
                    <a:pt x="17818" y="2256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AutoShape 34"/>
            <p:cNvSpPr/>
            <p:nvPr/>
          </p:nvSpPr>
          <p:spPr>
            <a:xfrm>
              <a:off x="6069960" y="2057400"/>
              <a:ext cx="2652840" cy="2890800"/>
            </a:xfrm>
            <a:custGeom>
              <a:avLst/>
              <a:gdLst>
                <a:gd name="textAreaLeft" fmla="*/ 129240 w 2652840"/>
                <a:gd name="textAreaRight" fmla="*/ 2523600 w 2652840"/>
                <a:gd name="textAreaTop" fmla="*/ 129240 h 2890800"/>
                <a:gd name="textAreaBottom" fmla="*/ 2761560 h 2890800"/>
              </a:gdLst>
              <a:ahLst/>
              <a:rect l="textAreaLeft" t="textAreaTop" r="textAreaRight" b="textAreaBottom"/>
              <a:pathLst>
                <a:path w="21600" h="23537">
                  <a:moveTo>
                    <a:pt x="3600" y="0"/>
                  </a:moveTo>
                  <a:arcTo wR="3600" hR="3600" stAng="16200000" swAng="-5400000"/>
                  <a:lnTo>
                    <a:pt x="0" y="19937"/>
                  </a:lnTo>
                  <a:arcTo wR="3600" hR="3600" stAng="10800000" swAng="-5400000"/>
                  <a:lnTo>
                    <a:pt x="18000" y="235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AutoShape 35"/>
            <p:cNvSpPr/>
            <p:nvPr/>
          </p:nvSpPr>
          <p:spPr>
            <a:xfrm>
              <a:off x="6091560" y="4208400"/>
              <a:ext cx="261684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AutoShape 36"/>
            <p:cNvSpPr/>
            <p:nvPr/>
          </p:nvSpPr>
          <p:spPr>
            <a:xfrm>
              <a:off x="6091560" y="2166840"/>
              <a:ext cx="261684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8" name="Group 37"/>
            <p:cNvGrpSpPr/>
            <p:nvPr/>
          </p:nvGrpSpPr>
          <p:grpSpPr>
            <a:xfrm>
              <a:off x="6968520" y="1828800"/>
              <a:ext cx="812520" cy="642960"/>
              <a:chOff x="6968520" y="1828800"/>
              <a:chExt cx="812520" cy="642960"/>
            </a:xfrm>
          </p:grpSpPr>
          <p:sp>
            <p:nvSpPr>
              <p:cNvPr id="769" name="Oval 38"/>
              <p:cNvSpPr/>
              <p:nvPr/>
            </p:nvSpPr>
            <p:spPr>
              <a:xfrm>
                <a:off x="6968520" y="1828800"/>
                <a:ext cx="81252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Oval 39"/>
              <p:cNvSpPr/>
              <p:nvPr/>
            </p:nvSpPr>
            <p:spPr>
              <a:xfrm>
                <a:off x="6976800" y="1833480"/>
                <a:ext cx="7855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Oval 40"/>
              <p:cNvSpPr/>
              <p:nvPr/>
            </p:nvSpPr>
            <p:spPr>
              <a:xfrm>
                <a:off x="6986520" y="1837440"/>
                <a:ext cx="7675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Oval 41"/>
              <p:cNvSpPr/>
              <p:nvPr/>
            </p:nvSpPr>
            <p:spPr>
              <a:xfrm>
                <a:off x="6995160" y="1843200"/>
                <a:ext cx="72972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Oval 42"/>
              <p:cNvSpPr/>
              <p:nvPr/>
            </p:nvSpPr>
            <p:spPr>
              <a:xfrm>
                <a:off x="7037640" y="1858680"/>
                <a:ext cx="64836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Text Box 43"/>
            <p:cNvSpPr/>
            <p:nvPr/>
          </p:nvSpPr>
          <p:spPr>
            <a:xfrm>
              <a:off x="71917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Text Box 44"/>
            <p:cNvSpPr/>
            <p:nvPr/>
          </p:nvSpPr>
          <p:spPr>
            <a:xfrm>
              <a:off x="6123960" y="2590920"/>
              <a:ext cx="26006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AutoShape 45"/>
            <p:cNvSpPr/>
            <p:nvPr/>
          </p:nvSpPr>
          <p:spPr>
            <a:xfrm>
              <a:off x="6019920" y="4994280"/>
              <a:ext cx="27345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AutoShape 46"/>
            <p:cNvSpPr/>
            <p:nvPr/>
          </p:nvSpPr>
          <p:spPr>
            <a:xfrm>
              <a:off x="6075720" y="5018040"/>
              <a:ext cx="26164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Прямоугольник 46"/>
          <p:cNvSpPr/>
          <p:nvPr/>
        </p:nvSpPr>
        <p:spPr>
          <a:xfrm>
            <a:off x="228600" y="22096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вмешивайтесь в выполнение домашнего задания, если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проси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мощ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Прямоугольник 47"/>
          <p:cNvSpPr/>
          <p:nvPr/>
        </p:nvSpPr>
        <p:spPr>
          <a:xfrm>
            <a:off x="3657600" y="243828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ьмите на себя только, то,  что он не может выпол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Прямоугольник 48"/>
          <p:cNvSpPr/>
          <p:nvPr/>
        </p:nvSpPr>
        <p:spPr>
          <a:xfrm>
            <a:off x="6019920" y="2362320"/>
            <a:ext cx="2895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 мере освоения ребёнком но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ействий, постепенно передавайте ему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Picture 8" descr="Учитель"/>
          <p:cNvPicPr/>
          <p:nvPr/>
        </p:nvPicPr>
        <p:blipFill>
          <a:blip r:embed="rId1"/>
          <a:stretch/>
        </p:blipFill>
        <p:spPr>
          <a:xfrm>
            <a:off x="762120" y="4876920"/>
            <a:ext cx="186840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Как помочь ребенку                                           выполнить домашнее задание»</a:t>
            </a:r>
            <a:br>
              <a:rPr sz="5400"/>
            </a:b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2286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енок должен готовить домашнее задан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амостоятель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не бесконтро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ясни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рудности, с которыми встречается ребенок при выполнении домашнего зад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строй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бенка на выполнение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тм выполнения домашнего задания               индивидуален для каждого ребенка                 Не Следует ни торопиться, и ни затяги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бсуждайте с ребёнком то, что                                           задал учитель учить дома. Он                       руководствуется учебным планом и                         и утверждённой школьной программ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5" descr="р19"/>
          <p:cNvPicPr/>
          <p:nvPr/>
        </p:nvPicPr>
        <p:blipFill>
          <a:blip r:embed="rId1"/>
          <a:stretch/>
        </p:blipFill>
        <p:spPr>
          <a:xfrm>
            <a:off x="6583320" y="3886200"/>
            <a:ext cx="2560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Прямоугольник 1"/>
          <p:cNvSpPr/>
          <p:nvPr/>
        </p:nvSpPr>
        <p:spPr>
          <a:xfrm>
            <a:off x="2286000" y="474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Это надо помнить !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каждого задания необходимо мотивировать применением его в будущ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ледует отвлекать ребенка, умственный труд требует сосредоточ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умная помощь и ненавязчивый контроль особенно необходимы ребенку в трудновыполнимых зад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Рисунок 4" descr="1september.jpg"/>
          <p:cNvPicPr/>
          <p:nvPr/>
        </p:nvPicPr>
        <p:blipFill>
          <a:blip r:embed="rId1"/>
          <a:stretch/>
        </p:blipFill>
        <p:spPr>
          <a:xfrm>
            <a:off x="7620120" y="152280"/>
            <a:ext cx="1333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43164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Ребёнок нуждается в постоянной поддержке родителей. Ваша искренняя заинтересованность в его школьных делах, серьёзное отношение к достижениям и трудностям помогут учени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Не забывайте напоминать о школьных правилах и необходимости их соблю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92aa2"/>
                </a:solidFill>
                <a:latin typeface="Arial"/>
              </a:rPr>
              <a:t>Составьте вместе распорядок дня, а затем следите за его выполн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190760" y="1294920"/>
            <a:ext cx="48006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26b18"/>
                </a:solidFill>
                <a:latin typeface="Arial"/>
              </a:rPr>
              <a:t>Когда человек учится, у него может что-то не получаться, это естественно. Ребёнок имеет право на ошиб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Не пропускайте трудности. При необходимости обращайтесь за помощью к учител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оддерживайте ребёнка в его желании добиться успеха. В каждой работе обязательно найдите, за что можно было бы его похвал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Похвала способна повысить интеллектуальные дост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AutoShape 4"/>
          <p:cNvSpPr/>
          <p:nvPr/>
        </p:nvSpPr>
        <p:spPr>
          <a:xfrm>
            <a:off x="0" y="0"/>
            <a:ext cx="4267080" cy="190512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WordArt 6"/>
          <p:cNvSpPr txBox="1"/>
          <p:nvPr/>
        </p:nvSpPr>
        <p:spPr>
          <a:xfrm>
            <a:off x="684360" y="476280"/>
            <a:ext cx="25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лез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93" name="WordArt 7"/>
          <p:cNvSpPr txBox="1"/>
          <p:nvPr/>
        </p:nvSpPr>
        <p:spPr>
          <a:xfrm>
            <a:off x="684360" y="98100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-360" y="4571640"/>
            <a:ext cx="8915400" cy="685800"/>
          </a:xfrm>
          <a:prstGeom prst="rect">
            <a:avLst/>
          </a:prstGeom>
          <a:solidFill>
            <a:srgbClr val="f4e294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Успехов и терпения ВАМ в воспитании и обучении детей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WordArt 3"/>
          <p:cNvSpPr txBox="1"/>
          <p:nvPr/>
        </p:nvSpPr>
        <p:spPr>
          <a:xfrm>
            <a:off x="914400" y="3048120"/>
            <a:ext cx="7391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65d135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Спасибо за сотрудничество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65d135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WordArt 2"/>
          <p:cNvSpPr txBox="1"/>
          <p:nvPr/>
        </p:nvSpPr>
        <p:spPr>
          <a:xfrm rot="20901000">
            <a:off x="831960" y="1698120"/>
            <a:ext cx="7418160" cy="271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6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пасибо за внимание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6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797" name="Picture 3" descr="j0305589[1]"/>
          <p:cNvPicPr/>
          <p:nvPr/>
        </p:nvPicPr>
        <p:blipFill>
          <a:blip r:embed="rId1"/>
          <a:stretch/>
        </p:blipFill>
        <p:spPr>
          <a:xfrm>
            <a:off x="6556320" y="4549680"/>
            <a:ext cx="1647720" cy="139392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8" descr="Учитель"/>
          <p:cNvPicPr/>
          <p:nvPr/>
        </p:nvPicPr>
        <p:blipFill>
          <a:blip r:embed="rId2"/>
          <a:stretch/>
        </p:blipFill>
        <p:spPr>
          <a:xfrm>
            <a:off x="457200" y="990720"/>
            <a:ext cx="1868400" cy="162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Прямоугольник 1"/>
          <p:cNvSpPr/>
          <p:nvPr/>
        </p:nvSpPr>
        <p:spPr>
          <a:xfrm>
            <a:off x="990720" y="152280"/>
            <a:ext cx="59436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ложение о критериях оценивания знаний учащихся 2-4 классов муниципального общеобразовательного учрежд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Общие поло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1. Настоящее положение регламентирует порядок оцени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ебных достижений, уровня знаний и умений, навыков учащихся при текущем и итоговом контроле обучающихся 2-4 классов и разработано на основ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кона РФ «Об образовании» в ред. от 02.02.2011 №2-ФЗ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ожения о порядке проведения промежуточной аттес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ереводных классах школ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ипового положения об общеобразовательном учреждении, утвержденного постановлением правительства РФ 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 марта  2001г. № 196 (в ред. от 10.03.2009 № 21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йствующих нормативных требований по оценке знаний, умений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выков учащихся по отдельным учебным предметам и образовательным областя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тодического письма «Контроль результат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учения в начальной школе», №1561/14-15 от 19.11.1998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2. Система контроля и оценки ставит следующую задачу: развить 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кольников умение проверять и контролировать себ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итически оценивать свою деятельность, находить ошибки и пути их устран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3. С учетом современных требований к оценочной деятельности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чальной школе вводится четырех балльная система цифровых оценок. Отменяется оценка «очень плохо» (отметка 1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ритерии оц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т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 более 2-х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или 1ошибка и 2 исправ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3» - не более 4-х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2» - 5 и более ошиб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781680" y="1371600"/>
            <a:ext cx="1905120" cy="1619280"/>
          </a:xfrm>
          <a:prstGeom prst="rect">
            <a:avLst/>
          </a:prstGeom>
          <a:ln w="0">
            <a:noFill/>
          </a:ln>
        </p:spPr>
      </p:pic>
      <p:pic>
        <p:nvPicPr>
          <p:cNvPr id="681" name="Рисунок 4" descr="335ohp.jpg"/>
          <p:cNvPicPr/>
          <p:nvPr/>
        </p:nvPicPr>
        <p:blipFill>
          <a:blip r:embed="rId2"/>
          <a:stretch/>
        </p:blipFill>
        <p:spPr>
          <a:xfrm>
            <a:off x="228600" y="1143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рфографическо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без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полность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1 ошибка или 1-2 ис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 полностью выполнено задание или полностью выполнено, но 2 ошиб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«2»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выполненно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писывание текста (без задания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безукоризненно выполненная работа, в которой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-2 исправления или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-3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4 ошибки и бол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5720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ловарный 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работа без ошиб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3-5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114800"/>
            <a:ext cx="190512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онтро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безошибочно выполнены все зад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выполнено правильно не менее 3/4 всех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3» - выполнено не менее ½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2» - ученик не справился с большинством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477120" y="495288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исьменная рабо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одержащая только при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вся работа выполнена безошибочно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допущены 1-2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3» - допущены 3-4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2» - допущены 5 и более вычислительных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50292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5:38:31Z</dcterms:created>
  <dc:creator>ThemeGallery</dc:creator>
  <dc:description/>
  <dc:language>en-US</dc:language>
  <cp:lastModifiedBy>Admin</cp:lastModifiedBy>
  <dcterms:modified xsi:type="dcterms:W3CDTF">2018-07-25T11:45:09Z</dcterms:modified>
  <cp:revision>94</cp:revision>
  <dc:subject/>
  <dc:title>PowerPoint Template</dc:title>
</cp:coreProperties>
</file>