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883-1493-4AD1-A2CA-AD0AFA56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A6B-D149-488A-B044-365022DF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D49BA-C5D3-4280-AF9B-F575B12E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8B954-CDE4-49C9-9FD4-C33B0D18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A03FC-8AF2-4B08-80AC-16DE3452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27470-B547-4EB5-B0E9-9402E61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7CF92-E6BA-4ECD-B5CD-FEF0EEB2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9C883-9CF0-4EED-BED5-B764377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C1DD9-A605-44C5-AA40-B11B0CC8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76EE1-A8D6-4DED-A642-0FF5B413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142E9-31F7-4F8C-BEB8-5B806959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FF4B3-4571-4784-88EA-E23F4511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E05-744A-4A36-9A59-F9698B77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D51AF-A550-4E01-BD92-02CEA08C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D3D3B-4638-44EB-A601-542E3C8D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B9315-1966-466C-9D7C-72A146A2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F4148-427B-42D3-9305-0F94A283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6FBD4-B825-418C-83D9-CC1BA0BF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56BB6-9139-4DA9-9D2E-4B4788B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5BCE5-A541-4080-B4B3-42DCA5A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4F1D3-5659-4EF8-9177-81C69336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1B381-BB2B-4792-9A89-32A049A5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D17C9-453D-43BC-9BAA-833F565B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973-5368-4B57-A822-C849EEAD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DF8E1-FC08-405C-BF84-0B857EC6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2496E-827F-458F-8774-1B0D7D4A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F3048-5306-4408-9A1C-152CD4D7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AC45-F2B2-407C-9086-BCC775A9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4FAC6-87AC-45E3-ADFE-D66BF9F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3B553-C9F8-4721-AE94-58E242E2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80384-D471-412C-9DF1-8082E9A2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0E1A6-C65D-4442-8888-4353BC26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65F6C-38C8-46E7-AEFA-D70F3C2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D41C9-37DF-4503-B32E-64AFACA8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2AA1-E6D5-4E86-B2B5-9BDD9346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EE191-2722-410D-BACB-C6C6EFC6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2D693-7839-4CA1-8DAC-EC983913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3BB48-AF42-4135-B0DE-CDC87699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7AC31-FF9F-4074-A9F1-45C0B820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569E2-7AA9-4EF0-AE29-AF96321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2B4F9-1D30-4898-AF95-DDB31FB0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B8E88-0DB0-4F5D-B477-FAE723CC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FC369-2D01-4107-8684-6B7893E2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BBA40-A531-458C-8BE3-AA4E25FE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C1044-D5D6-48EA-9F12-C8B668E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70F3-3DCB-4069-8749-2430A0AB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90BD0-6192-44CE-936C-A1BBF00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5418F-69E1-42BB-9B87-2E2D01DF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D485D-A0F0-4C2F-93C6-5E8C7CB0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945A1-9C9C-4566-9EE4-A902B366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33FED-5068-4557-8E4D-F2A3B73A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B8719-C033-451E-80DD-65F61FBD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ED536-D484-45F8-AB91-9118BDA4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D1D95-7CAF-42F8-B69E-1B328BE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CBA1F-2328-4932-A526-32D8B662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59030-BB7B-4C45-85E0-80798874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F6BD-1634-4E5E-B8F7-C40B338D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FFB05-E8A3-43A8-8999-3B980616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7FCE0-E0A7-4067-8368-10991CF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749BB-3C89-4B23-BA26-F8A9DF64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B5213-97F6-4DB9-A292-0C02BFF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C796B-A213-49E8-9292-A812DFC5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9B0A1-76A5-45F8-B9AD-2BA25EF8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23D59-6870-4C86-A08E-5DCD6BBC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E2041F-B1EF-480E-BA5F-ACE5AF86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825C6-26E0-4400-81F4-7B313C1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7BC713-6FDD-40E4-BF2E-1E72483A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D27F-34E7-472F-A8B5-4F861DEE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ECB9D-22B6-44B2-9257-7AECAFDD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89683-8D40-455F-9F61-89239ED7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6ABBF-8113-4943-92F1-D603C548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66278-01DC-4F51-9823-37859B8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322F8-A4D3-4CBA-A31C-38ACC58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A12D2-BE4E-4721-A354-D58F50F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AFBF9-45A7-4E5A-9B0B-C67421E8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FDCA5-B8C7-4C9C-B3B7-5C27DFBB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36E62-BB40-42BD-ACEB-DEE6D58D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A5CB1-B94B-4A3D-9DF5-F4B565C5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6038-E5DF-46D4-A1FF-218E9BCD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25A2B-7A42-4FBE-82AE-D98DD97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92BB6-5E1E-4CFD-9048-449B5293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7A54F-C98B-4F88-AC50-C26E8FB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77D99-1939-45BB-812F-EF7823E1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E869C-1435-469C-A613-333BE771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5454A-502C-4BC8-8638-405F2B36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D830F-2646-46A6-97CA-C10B0CC2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5C6BA-D1C9-4470-B101-57677DE2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1EBF5-65E4-4EE3-A57F-A0BE7BC8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2E6BD-52D8-428E-9908-93679DC6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EF56-073E-4EB7-BC70-E1F8DA8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C6231-210A-4936-AB65-84809B76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E072-D88E-4396-A8A2-C9BF9625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D22-DBAD-4663-8371-CDB2EDE4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2F5B-C015-4386-8B93-172887C9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6516-4365-49FB-8EC9-CE8AA0F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01F0-2004-41C2-931C-B0F63ACA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4BAC-132E-4AB7-953C-D53D0D87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A8FF-B08C-44C6-AD6E-1809DE6F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F865-EC3E-4A0A-8B09-8BBBE36F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C7EF2-AEBD-4EEB-A49D-4C22600C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6BAAB-4B73-4DC0-8FC4-65726A45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3B053-6855-4DEE-AF2C-E5A62283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B9D9-0DB8-4296-88D8-F6A5DFBC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A76-5FA1-4184-AD9C-D47B701A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8FC9A-46A6-4559-ACEC-8CB6D88C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199A-9C23-4126-A7DA-CAD6F682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1282-8344-409C-8E8C-3DE272D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72EA-9E66-4E61-9E17-835D0652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8E7B4-0338-4408-B810-665E2A94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7F0E-8F8B-47B1-AA79-E42D884C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14FC-571E-4EF8-8FCF-43B17BB1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1DB8D-B699-43A9-A9A0-4378FF3B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88DC-34F3-4716-B635-F95BAA64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30B3-9150-4B0C-ACA7-E1D6D67C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2A0-6F2E-4440-A97A-C3D71613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EBC6-288F-4FBE-ABB3-36EA8D67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DC82-4750-44FF-B0A8-AE59DD66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5203-4406-4094-B1DA-7CC3D16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40439-240F-4092-84FA-4FB0A7C2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0BD5-175C-4985-AF34-74E23641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A660-443C-4C1A-8773-75A911D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4BA4-D7A9-47DE-A06B-E17E815E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105DC-EEB7-433D-BA24-01E2FA80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DBC7-9BE6-4F8F-B7FA-1662AE94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3145-D9DA-4DAF-9F0C-C594FDF8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EF7-6487-4549-A21B-EC89A63A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956C-1DC7-4D2D-87F7-15C6B1C3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CC4A-3882-4938-8FD4-7C66BBFD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E8E27-2786-4FD9-BFBA-145A9438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9F88C-36F8-45DB-93C0-7DDDD4B0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7359F-A6E2-40F8-9E7D-D84C2AE9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B2E31-A711-45A2-A1AC-62DAF99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6648-AE8D-40CC-B6C3-15494B5F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8A84E-6AFD-472D-B8A1-F668E49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356DF-229C-4474-B39C-51521CFE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ED76-73F3-47BC-A48A-02F98D20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31C-DEE6-4B73-91DA-8AD7AA8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DC887-66C7-4525-86FF-4F17CCBE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F6176-99BE-4A68-9C87-C7DE3121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43A2-84BF-4C54-8241-9FACA805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91646-B0C1-47B0-B6D4-01AA5FDE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6711-E31D-47FB-94BF-E0F0110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F799D-E97D-4B7C-848D-969ADDDC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6177-D4D2-40E6-ABF4-5DCE001D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E375-9576-4DA9-862A-BBB640B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4886-4BBE-44C5-854C-AAC27DC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B017-1061-443A-8139-5327B75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E58-2770-4C49-B546-D8C35373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A40B6-A597-43C7-BDDC-7F97881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A250E-D267-40CA-8401-7AC3F760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114BD-527B-4BB8-B515-296C50F6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AC1A1-1388-4C48-821F-BD9F0222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2E8F5-7C62-4026-BB0D-BE7D2D24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763C0-E61A-4B36-873D-01BB881C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E9267-A656-42AB-92C4-63F50FE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93588-9713-441D-A3EF-951D9664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015A8-0B62-4943-9977-0C6F7B76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9E69-8896-481A-A277-DC82B4F9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3EB-46F9-4917-9FBA-4B81CD00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9A3B7-37AB-4778-8424-B50E7DB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42F1C-9D8A-4E41-AA34-7DB80D2B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86A8-4638-4D45-B005-3B34241D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34940-15A9-4F8E-80EB-D3CD720A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60BB1-0313-4F6E-BEDF-8C90B8D7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23B99-A715-4E36-9B7A-002AAAA6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129A9-C7E4-449D-AD1D-561D4E0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4D19F-0552-4D64-BDFE-09109359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BE035-7DA4-4659-8BBB-4ADA7483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31AE0-68A8-4C55-B7C4-58D7BAEB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8F5-7611-4776-BC0A-083987E6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B29E-D069-4419-8AE4-1C82FFF9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3697C-67AF-4610-954C-22DDDF4B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08972-E0CA-437F-A853-09CBEB14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F9AD4-DF67-414A-A7FE-AACB2A57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65B41-C73E-4D79-9251-A8F3BC1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E3105-4885-4FEA-8530-0F9095E0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1BA24-B07C-4EDF-8244-FF3B3DCE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873EC-73F5-46AB-8FF9-55E6CCC6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279E6-19E3-4530-B38E-E41459AD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282EA-7BD6-4964-A8A6-6F2412F9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6A38-717D-464A-BCF3-19C2C7A2E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F469-4BCF-4E68-95C4-16AE594F2D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868D-5E83-468B-A812-6AC6CEBD21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CF56-8D21-4A2B-80F2-532C532B3B2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A30D-0134-441F-92BF-926330E7891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08C-CA10-4476-BA8E-015E5123C51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DD3B-8E59-4BC7-A9BA-14DA0BA09C6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A996-FCCE-448A-83E2-0513AF1811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EA35-7C13-4B28-929B-135CF03A484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E49F-CA20-462F-B0B1-8A8A254DE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E70D-A7DC-475F-94A5-1DA9C55B42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634A-E9DD-4D5B-B3A3-315D15B289B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249C-2E70-4ADE-864D-7D90C98C5C1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829-4411-438B-9BD0-5A4684132D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9A36-714B-44CA-89F1-C64CA1FE67B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«Б»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Первые уроки школьной отметки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триместра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16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Rectangle 2" descr=""/>
          <p:cNvPicPr/>
          <p:nvPr/>
        </p:nvPicPr>
        <p:blipFill>
          <a:blip r:embed="rId1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674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436a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Карандаш"/>
          <p:cNvPicPr/>
          <p:nvPr/>
        </p:nvPicPr>
        <p:blipFill>
          <a:blip r:embed="rId2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5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42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50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4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69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3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7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Прямоугольник 1"/>
          <p:cNvSpPr/>
          <p:nvPr/>
        </p:nvSpPr>
        <p:spPr>
          <a:xfrm>
            <a:off x="990720" y="152280"/>
            <a:ext cx="59436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ожение о критериях оценивания знаний учащихся 2-4 классов муниципального общеобразовательного учреж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1. Настоящее положение регламентирует порядок оцени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бных достижений, уровня знаний и умений, навыков учащихся при текущем и итоговом контроле обучающихся 2-4 классов и разработано на основ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на РФ «Об образовании» в ред. от 02.02.2011 №2-Ф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ения о порядке проведения промежуточной аттес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еводных классах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пового положения об общеобразовательном учреждении, утвержденного постановлением правительства РФ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 марта  2001г. № 196 (в ред. от 10.03.2009 № 21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ующих нормативных требований по оценке знаний, ум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ов учащихся по отдельным учебным предметам и образовательным облас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ического письма «Контроль результа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я в начальной школе», №1561/14-15 от 19.11.199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2. Система контроля и оценки ставит следующую задачу: развить 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ьников умение проверять и контролировать се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ически оценивать свою деятельность, находить ошибки и пути их устра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3. С учетом современных требований к оценочной деятельност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ой школе вводится четырех балльная система цифровых оценок. Отменяется оценка «очень плохо» (отметка 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1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н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Admin</cp:lastModifiedBy>
  <dcterms:modified xsi:type="dcterms:W3CDTF">2018-07-25T11:45:09Z</dcterms:modified>
  <cp:revision>94</cp:revision>
  <dc:subject/>
  <dc:title>PowerPoint Template</dc:title>
</cp:coreProperties>
</file>