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3.wmf" ContentType="image/x-wmf"/>
  <Override PartName="/ppt/media/image20.png" ContentType="image/png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9044-D79B-4A06-AE38-EA5492F81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0013-80C4-49D1-9491-17BA0A81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2416-916D-4189-A924-B6CBE9FFA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1486-C71C-4BBA-9988-5BA83E07D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64EB-0394-45F5-9DD9-532F3955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D1FE-B081-41AD-B161-4B2CB91E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2C79-2693-423A-8287-CBB082E5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DD8E-8C5F-409B-9F5A-301CC7A8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16D3-A90B-4D39-84F2-0C1757F9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6D95-F466-46FA-AA40-75D5409E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BD23-7446-476D-9889-53FD0C52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6619-5F3D-4A45-8734-A6F15F29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BBAF-1A41-43B2-BEF7-82F024D8EE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2000" y="189000"/>
            <a:ext cx="6335640" cy="100800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port and the Olym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77080" y="1341360"/>
            <a:ext cx="1787400" cy="1719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716360" y="1413000"/>
            <a:ext cx="1683000" cy="1798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4221000"/>
            <a:ext cx="2263680" cy="141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132000" y="4005360"/>
            <a:ext cx="1150920" cy="1793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4932360" y="4076640"/>
            <a:ext cx="1617840" cy="1782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7020000" y="4005360"/>
            <a:ext cx="1428840" cy="1771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468360" y="1136520"/>
            <a:ext cx="2303280" cy="1200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332000" y="189000"/>
            <a:ext cx="6335640" cy="100800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Winter s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9960" y="2393280"/>
            <a:ext cx="1927440" cy="77004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lpine ski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49040" y="2896560"/>
            <a:ext cx="1071000" cy="77004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ki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61040" y="3256920"/>
            <a:ext cx="2113560" cy="77004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igure sk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09040" y="3185280"/>
            <a:ext cx="1994760" cy="77004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peed sk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4880" y="5777640"/>
            <a:ext cx="1604520" cy="77004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ce hocke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70920" y="5849280"/>
            <a:ext cx="1359000" cy="77004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iathl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51480" y="5849280"/>
            <a:ext cx="1977480" cy="77004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ee jump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23040" y="5849280"/>
            <a:ext cx="1240200" cy="77004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ur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9"/>
          <a:stretch/>
        </p:blipFill>
        <p:spPr>
          <a:xfrm>
            <a:off x="2411280" y="1484280"/>
            <a:ext cx="207180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1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692360" y="1916280"/>
            <a:ext cx="2224080" cy="946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443640" y="1628640"/>
            <a:ext cx="2398680" cy="1592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50920" y="1268280"/>
            <a:ext cx="909720" cy="2016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7020000" y="4149720"/>
            <a:ext cx="1295280" cy="1816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2124000" y="4437000"/>
            <a:ext cx="1830600" cy="1490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4284720" y="4365720"/>
            <a:ext cx="1828800" cy="1619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4140360" y="1557360"/>
            <a:ext cx="1933560" cy="1512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332000" y="260280"/>
            <a:ext cx="6335640" cy="100800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ummer s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520" y="3256920"/>
            <a:ext cx="1530000" cy="77004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olleyb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73080" y="2824920"/>
            <a:ext cx="1596960" cy="77004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wim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35640" y="3114000"/>
            <a:ext cx="1156320" cy="77004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ai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57960" y="3185280"/>
            <a:ext cx="1325520" cy="77004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ootb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160" y="5922360"/>
            <a:ext cx="1921320" cy="77004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eightlif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85560" y="5922360"/>
            <a:ext cx="1392840" cy="77004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hoo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28720" y="5922360"/>
            <a:ext cx="1808640" cy="77004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able tenn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45320" y="5984280"/>
            <a:ext cx="1715760" cy="77004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ymnastic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9"/>
          <a:stretch/>
        </p:blipFill>
        <p:spPr>
          <a:xfrm>
            <a:off x="179280" y="4149720"/>
            <a:ext cx="2070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7400" y="162000"/>
            <a:ext cx="6339600" cy="107748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Explain the meaning the words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6680" y="1600920"/>
            <a:ext cx="1756800" cy="77004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go in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3800" y="2609280"/>
            <a:ext cx="1479600" cy="77004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ttrac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8480" y="3617280"/>
            <a:ext cx="1543680" cy="77004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rown-u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6680" y="4696560"/>
            <a:ext cx="1561680" cy="77004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du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6680" y="5777640"/>
            <a:ext cx="1392840" cy="77004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hoo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15960" y="1600920"/>
            <a:ext cx="1444320" cy="77004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cell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14880" y="2680560"/>
            <a:ext cx="1428840" cy="77004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ili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57040" y="3761640"/>
            <a:ext cx="1782720" cy="77004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izewinn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70120" y="4769640"/>
            <a:ext cx="2103840" cy="77004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hampionsh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54880" y="5849280"/>
            <a:ext cx="1801080" cy="77004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mpet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70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8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9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6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6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6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45160" y="3288600"/>
            <a:ext cx="8710920" cy="489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99192" dir="778194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Last week I watched Biathlon European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_______________(4)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2000" y="1072440"/>
            <a:ext cx="6320880" cy="489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99192" dir="778194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his competition was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 ______(1)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in German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5160" y="6170040"/>
            <a:ext cx="8396640" cy="489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99192" dir="778194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Our sportsman become a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 ____________(8)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and got a med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4728600"/>
            <a:ext cx="7416720" cy="489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99192" dir="778194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After the Championship he gave an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__________(6)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7680" y="3995280"/>
            <a:ext cx="7183440" cy="489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99192" dir="778194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He told the _____________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about his childhoo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8760" y="2496600"/>
            <a:ext cx="7296120" cy="489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99192" dir="778194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He began to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__________(3)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skiing at the age of fiv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221040"/>
            <a:ext cx="3529080" cy="581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mplete the ga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9840" y="5452560"/>
            <a:ext cx="7444440" cy="489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99192" dir="778194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ew years later he was ____________(7) in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hootin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0200" y="1777320"/>
            <a:ext cx="8334360" cy="489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99192" dir="778194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And it gave him excellent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________(2)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to go in for biathl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56000" y="192600"/>
            <a:ext cx="6588000" cy="581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ut the sentences in the correct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667640" y="4076640"/>
            <a:ext cx="1220760" cy="16527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420720" y="112536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h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30040" y="1793880"/>
            <a:ext cx="12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fac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96720" y="25653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go in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3080" y="33577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Champ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87480" y="402588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journa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00200" y="474516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int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71480" y="546588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intere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33280" y="61848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prizewi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60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70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80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90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6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2546 E">
                                      <p:cBhvr>
                                        <p:cTn id="376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2546 E">
                                      <p:cBhvr>
                                        <p:cTn id="378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0486 E">
                                      <p:cBhvr>
                                        <p:cTn id="380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0486 E">
                                      <p:cBhvr>
                                        <p:cTn id="382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54583 E">
                                      <p:cBhvr>
                                        <p:cTn id="384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54583 E">
                                      <p:cBhvr>
                                        <p:cTn id="386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0996 E">
                                      <p:cBhvr>
                                        <p:cTn id="388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0996 E">
                                      <p:cBhvr>
                                        <p:cTn id="390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E">
                                      <p:cBhvr>
                                        <p:cTn id="392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E">
                                      <p:cBhvr>
                                        <p:cTn id="394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2569 E">
                                      <p:cBhvr>
                                        <p:cTn id="39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2569 E">
                                      <p:cBhvr>
                                        <p:cTn id="398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64051 E">
                                      <p:cBhvr>
                                        <p:cTn id="400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64051 E">
                                      <p:cBhvr>
                                        <p:cTn id="402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932360" y="189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0920" y="3600"/>
            <a:ext cx="4608360" cy="398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isten and choose the correct ans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49360"/>
            <a:ext cx="8642160" cy="6208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. The Olympic Motto i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aster, higher, strong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Just take par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Win or di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2. During the Olympic games people in ancient Greece coul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Eat in all coffees by fre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ravel to other countries without ticke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Visit the Olympics without problem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3. The early athletic competitions wer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Gymnastics and weightlift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Box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Running rac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4. All the competitors in ancient Greece wer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rofessional sportsma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ll the citizens who felt that they were among the best in their chosen spor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Only Gladiator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5. The Winter Olympics have been held sinc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92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93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9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6. The ancient Olympics were hel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Every two year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Every three year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Every four year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443640" y="836640"/>
            <a:ext cx="1724040" cy="1438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5292720" y="4869000"/>
            <a:ext cx="2867040" cy="15904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8840" y="809640"/>
            <a:ext cx="287280" cy="289080"/>
          </a:xfrm>
          <a:prstGeom prst="ellipse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3520" y="6485040"/>
            <a:ext cx="287280" cy="288720"/>
          </a:xfrm>
          <a:prstGeom prst="ellipse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4941720"/>
            <a:ext cx="287280" cy="289080"/>
          </a:xfrm>
          <a:prstGeom prst="ellipse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4149720"/>
            <a:ext cx="287280" cy="289080"/>
          </a:xfrm>
          <a:prstGeom prst="ellipse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3429000"/>
            <a:ext cx="287280" cy="289080"/>
          </a:xfrm>
          <a:prstGeom prst="ellipse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2349360"/>
            <a:ext cx="287280" cy="289080"/>
          </a:xfrm>
          <a:prstGeom prst="ellipse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000"/>
                            </p:stCondLst>
                            <p:childTnLst>
                              <p:par>
                                <p:cTn id="4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4000"/>
                            </p:stCondLst>
                            <p:childTnLst>
                              <p:par>
                                <p:cTn id="4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3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3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4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4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9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460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3" dur="114249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50920" y="264240"/>
            <a:ext cx="4537080" cy="520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73964" dir="72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hat is your favourite spor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911880"/>
            <a:ext cx="3744720" cy="520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73964" dir="72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favourite sport i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1561320"/>
            <a:ext cx="3241440" cy="520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73964" dir="72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o you go in for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2208960"/>
            <a:ext cx="5903640" cy="520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73964" dir="72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es, I do. I’ve already … for six yea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2856600"/>
            <a:ext cx="5184720" cy="520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73964" dir="72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ow often do you have training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3504240"/>
            <a:ext cx="3673440" cy="520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73964" dir="72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 go to … twice a we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4153680"/>
            <a:ext cx="3024000" cy="520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73964" dir="72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here do you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4801320"/>
            <a:ext cx="2520720" cy="520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73964" dir="72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 … at the …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5448960"/>
            <a:ext cx="4681440" cy="520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73964" dir="72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hat equipment do you ne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6096960"/>
            <a:ext cx="1800000" cy="520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73964" dir="72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 need …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084720" y="333360"/>
            <a:ext cx="2224080" cy="1862280"/>
          </a:xfrm>
          <a:prstGeom prst="rect">
            <a:avLst/>
          </a:prstGeom>
          <a:ln w="0">
            <a:noFill/>
          </a:ln>
          <a:effectLst>
            <a:outerShdw dist="85328" dir="6993903" blurRad="0" rotWithShape="0">
              <a:srgbClr val="000000"/>
            </a:outerShdw>
          </a:effectLst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410160" y="3500280"/>
            <a:ext cx="1779840" cy="2735280"/>
          </a:xfrm>
          <a:prstGeom prst="rect">
            <a:avLst/>
          </a:prstGeom>
          <a:ln w="0">
            <a:noFill/>
          </a:ln>
          <a:effectLst>
            <a:outerShdw dist="85328" dir="6993903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1</cp:lastModifiedBy>
  <dcterms:modified xsi:type="dcterms:W3CDTF">2012-02-08T16:35:08Z</dcterms:modified>
  <cp:revision>32</cp:revision>
  <dc:subject/>
  <dc:title>PowerPoint Presentation</dc:title>
</cp:coreProperties>
</file>