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hammer.wav" ContentType="audio/x-wav"/>
  <Override PartName="/ppt/media/camera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  <p:custShowLst>
    <p:custShow name="Произвольный показ 1" id="0">
      <p:sldLst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8B3A-ECD9-42FA-A199-049A0B85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1D3D-B209-47D2-8C03-BF9146BB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A8DD-E259-4FD6-8938-DCA701FDB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F0CF-07AE-45CC-B5AC-5EC810FE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5906-DC48-4AB5-842C-1B6AA5735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EF72-8315-45AD-8763-01FE9B47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87459-2234-4CCA-8972-81F267A8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10621-2161-492D-9BF0-B68B3FF1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F47D-2097-446B-BD8D-7C730C953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AA0E4-BC5C-4C26-BD37-781A5A66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22449-25AD-4240-BFEA-5FCD1287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DF3C-64DF-4A17-933D-6D74E35F8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2299-202D-49CE-8EDB-65C88CE8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087F-DDEB-4B2E-8B19-99DFB07E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6258-5F5E-434C-8944-DB322E5C2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1F5E-37CC-477B-95DB-E3A827992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58BE-3AC5-47E6-B7B4-0A0E28A37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0A2D-B0DA-4754-8C08-1562B88D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A620-10B3-4C90-8443-E11344A9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346E-50AD-406D-819C-99A9DE091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F209-BE04-4C2D-8486-D11E544C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9F66-8103-44F2-AB4F-47226B25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E5E3-CF42-4ABB-9923-92825F75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97A6-C26C-4B2A-B79E-C30D6C84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41EC-5F66-466A-BEED-B6512FF4A39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E288-22F4-4C50-971C-3821ADB36BD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mailto:vermarchenk@yandex.ru" TargetMode="External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" Target="slide2.xml"/><Relationship Id="rId10" Type="http://schemas.openxmlformats.org/officeDocument/2006/relationships/slide" Target="slide2.xml"/><Relationship Id="rId11" Type="http://schemas.openxmlformats.org/officeDocument/2006/relationships/slide" Target="slide2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3276720"/>
            <a:ext cx="8534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006666"/>
                </a:solidFill>
                <a:latin typeface="Lucida Handwriting"/>
              </a:rPr>
              <a:t>Сложение и вычитание                 в пределах 20</a:t>
            </a:r>
            <a:endParaRPr b="1" lang="en-US" sz="8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5-5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4+7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8+8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>
            <a:hlinkClick r:id="rId14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>
            <a:hlinkClick r:id="rId15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1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>
            <a:hlinkClick r:id="rId14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>
            <a:hlinkClick r:id="rId15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>
            <a:hlinkClick r:id="rId16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nextslide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9+8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5+7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4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5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6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7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8+3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">
            <a:hlinkClick r:id="" action="ppaction://hlinkshowjump?jump=nextslide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2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3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6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7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7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8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2" name="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9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7+7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2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3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4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5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6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7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8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9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0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0+6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2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5" name="">
            <a:hlinkClick r:id="rId14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6" name="">
            <a:hlinkClick r:id="rId15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">
            <a:hlinkClick r:id="" action="ppaction://hlinkshowjump?jump=nextslide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3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6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7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1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2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>
            <a:hlinkClick r:id="rId14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">
            <a:hlinkClick r:id="rId15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">
            <a:hlinkClick r:id="rId16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1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20-3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4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5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6" name="">
            <a:hlinkClick r:id="" action="ppaction://hlinkshowjump?jump=nextslide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">
            <a:hlinkClick r:id="rId4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8" name="">
            <a:hlinkClick r:id="rId5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9" name="">
            <a:hlinkClick r:id="rId6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0" name="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1" name="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4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5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2-8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Lucida Handwriting"/>
              </a:rPr>
              <a:t>  </a:t>
            </a:r>
            <a:r>
              <a:rPr b="1" lang="en-US" sz="8800" spc="-1" strike="noStrike">
                <a:solidFill>
                  <a:srgbClr val="006666"/>
                </a:solidFill>
                <a:latin typeface="Lucida Handwriting"/>
              </a:rPr>
              <a:t>Вы ошиблись!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>
            <a:hlinkClick r:id="" action="ppaction://hlinkshowjump?jump=nextslide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">
            <a:hlinkClick r:id="rId3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">
            <a:hlinkClick r:id="rId4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">
            <a:hlinkClick r:id="rId5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">
            <a:hlinkClick r:id="rId6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2-9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>
            <a:hlinkClick r:id="" action="ppaction://hlinkshowjump?jump=nextslide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1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4-6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>
            <a:hlinkClick r:id="" action="ppaction://hlinkshowjump?jump=nextslide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7+6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>
            <a:hlinkClick r:id="" action="ppaction://hlinkshowjump?jump=nextslide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20-7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9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1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2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3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4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5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6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7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8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9" name="">
            <a:hlinkClick r:id="" action="ppaction://hlinkshowjump?jump=nextslide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0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1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2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3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4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6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7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9+3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0" name="">
            <a:hlinkClick r:id="" action="ppaction://hlinkshowjump?jump=nextslide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1" name="">
            <a:hlinkClick r:id="rId2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2" name="">
            <a:hlinkClick r:id="rId3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3" name="">
            <a:hlinkClick r:id="rId4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">
            <a:hlinkClick r:id="rId5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5" name="">
            <a:hlinkClick r:id="rId6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80880" y="914400"/>
            <a:ext cx="54864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9-7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1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2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4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5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8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9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0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1" name="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">
            <a:hlinkClick r:id="" action="ppaction://hlinkshowjump?jump=nextslide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3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4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5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6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8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9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9+4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2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0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">
            <a:hlinkClick r:id="" action="ppaction://hlinkshowjump?jump=nextslide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4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5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6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7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8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0+2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3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4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5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6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7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8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9" name="">
            <a:hlinkClick r:id="" action="ppaction://hlinkshowjump?jump=nextslide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0" name="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1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2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3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4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5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6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7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8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9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0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1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5-7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4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5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6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7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8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9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0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1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2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3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4" name="">
            <a:hlinkClick r:id="" action="ppaction://hlinkshowjump?jump=nextslide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5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6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7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8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9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0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1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2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1+1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99072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6+6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5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6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7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8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9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0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1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2" name="">
            <a:hlinkClick r:id="" action="ppaction://hlinkshowjump?jump=nextslide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3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4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5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6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7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8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9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0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1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2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3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2-3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6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7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8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9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0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1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2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3" name="">
            <a:hlinkClick r:id="" action="ppaction://hlinkshowjump?jump=nextslide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4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5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6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7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8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9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0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1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2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3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4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6-7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7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8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9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0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1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2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3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4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5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6" name="">
            <a:hlinkClick r:id="" action="ppaction://hlinkshowjump?jump=nextslide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7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8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9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0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1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2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3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4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5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7+4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8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9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0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">
            <a:hlinkClick r:id="rId14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>
            <a:hlinkClick r:id="rId15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">
            <a:hlinkClick r:id="rId16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3" name="">
            <a:hlinkClick r:id="rId17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">
            <a:hlinkClick r:id="" action="ppaction://hlinkshowjump?jump=nextslide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6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9+9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9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0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2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>
            <a:hlinkClick r:id="" action="ppaction://hlinkshowjump?jump=nextslide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5-6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0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1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2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3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4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5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6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">
            <a:hlinkClick r:id="" action="ppaction://hlinkshowjump?jump=nextslide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8-9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6" name="">
            <a:hlinkClick r:id="" action="ppaction://hlinkshowjump?jump=nextslide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8" name="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9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1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2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3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4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5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6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7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8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9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0-3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3" name="">
            <a:hlinkClick r:id="rId2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4" name="">
            <a:hlinkClick r:id="rId3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5" name="">
            <a:hlinkClick r:id="rId4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6" name="">
            <a:hlinkClick r:id="rId5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7" name="">
            <a:hlinkClick r:id="rId6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8" name="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9" name="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0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1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2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3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4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5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6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7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8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9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0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0-8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3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4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5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6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7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8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9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1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2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3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4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5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6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7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8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9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0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1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4-5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4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5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6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7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8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9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0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1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2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3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4" name="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5" name="">
            <a:hlinkClick r:id="rId13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6" name="">
            <a:hlinkClick r:id="" action="ppaction://hlinkshowjump?jump=nextslide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7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8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9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0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1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2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9+5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5-6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5" name="">
            <a:hlinkClick r:id="" action="ppaction://hlinkshowjump?jump=nextslide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6" name="">
            <a:hlinkClick r:id="rId2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7" name="">
            <a:hlinkClick r:id="rId3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8" name="">
            <a:hlinkClick r:id="rId4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9" name="">
            <a:hlinkClick r:id="rId5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0" name="">
            <a:hlinkClick r:id="rId6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1" name="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2" name="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3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4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5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6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7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8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9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0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1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2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3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380880" y="914400"/>
            <a:ext cx="54864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2-10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6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7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8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9" name="">
            <a:hlinkClick r:id="" action="ppaction://hlinkshowjump?jump=nextslide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0" name="">
            <a:hlinkClick r:id="rId5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1" name="">
            <a:hlinkClick r:id="rId6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2" name="">
            <a:hlinkClick r:id="rId7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3" name="">
            <a:hlinkClick r:id="rId8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4" name="">
            <a:hlinkClick r:id="rId9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5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6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7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8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9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0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1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2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3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4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2-7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7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8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9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0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1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2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3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4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5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6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7" name="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8" name="">
            <a:hlinkClick r:id="" action="ppaction://hlinkshowjump?jump=nextslide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9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0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1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2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3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4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5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7+6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9144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6666"/>
                </a:solidFill>
                <a:latin typeface="Lucida Handwriting"/>
              </a:rPr>
              <a:t>Молодцы!</a:t>
            </a:r>
            <a:endParaRPr b="1" lang="en-US" sz="10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езентацию выполни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914400" y="3124080"/>
            <a:ext cx="7315200" cy="24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Марченко Вера Владимировн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-mail: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vermarchenk@yandex.r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ы скачали эту презентацию на сайте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viki.rdf.ru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99072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20-8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nextslide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19-8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nextslide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5+5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>
            <a:hlinkClick r:id="rId10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6+5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>
            <a:hlinkClick r:id="rId11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>
            <a:hlinkClick r:id="rId12" action="ppaction://hlinksldjump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3808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12193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>
            <a:hlinkClick r:id="rId3" action="ppaction://hlinksldjump"/>
          </p:cNvPr>
          <p:cNvSpPr/>
          <p:nvPr/>
        </p:nvSpPr>
        <p:spPr>
          <a:xfrm>
            <a:off x="20574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>
            <a:hlinkClick r:id="rId4" action="ppaction://hlinksldjump"/>
          </p:cNvPr>
          <p:cNvSpPr/>
          <p:nvPr/>
        </p:nvSpPr>
        <p:spPr>
          <a:xfrm>
            <a:off x="28954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>
            <a:hlinkClick r:id="rId5" action="ppaction://hlinksldjump"/>
          </p:cNvPr>
          <p:cNvSpPr/>
          <p:nvPr/>
        </p:nvSpPr>
        <p:spPr>
          <a:xfrm>
            <a:off x="37339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>
            <a:hlinkClick r:id="rId6" action="ppaction://hlinksldjump"/>
          </p:cNvPr>
          <p:cNvSpPr/>
          <p:nvPr/>
        </p:nvSpPr>
        <p:spPr>
          <a:xfrm>
            <a:off x="45720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>
            <a:hlinkClick r:id="rId7" action="ppaction://hlinksldjump"/>
          </p:cNvPr>
          <p:cNvSpPr/>
          <p:nvPr/>
        </p:nvSpPr>
        <p:spPr>
          <a:xfrm>
            <a:off x="54100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>
            <a:hlinkClick r:id="rId8" action="ppaction://hlinksldjump"/>
          </p:cNvPr>
          <p:cNvSpPr/>
          <p:nvPr/>
        </p:nvSpPr>
        <p:spPr>
          <a:xfrm>
            <a:off x="624852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>
            <a:hlinkClick r:id="rId9" action="ppaction://hlinksldjump"/>
          </p:cNvPr>
          <p:cNvSpPr/>
          <p:nvPr/>
        </p:nvSpPr>
        <p:spPr>
          <a:xfrm>
            <a:off x="7086600" y="4648320"/>
            <a:ext cx="83808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">
            <a:hlinkClick r:id="rId10" action="ppaction://hlinksldjump"/>
          </p:cNvPr>
          <p:cNvSpPr/>
          <p:nvPr/>
        </p:nvSpPr>
        <p:spPr>
          <a:xfrm>
            <a:off x="7924680" y="4648320"/>
            <a:ext cx="838440" cy="99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914400"/>
            <a:ext cx="4724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003366"/>
                </a:solidFill>
                <a:latin typeface="Lucida Handwriting"/>
              </a:rPr>
              <a:t>5+8</a:t>
            </a:r>
            <a:endParaRPr b="0" lang="en-US" sz="129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">
            <a:hlinkClick r:id="rId11" action="ppaction://hlinksldjump"/>
          </p:cNvPr>
          <p:cNvSpPr/>
          <p:nvPr/>
        </p:nvSpPr>
        <p:spPr>
          <a:xfrm>
            <a:off x="3808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>
            <a:hlinkClick r:id="rId12" action="ppaction://hlinksldjump"/>
          </p:cNvPr>
          <p:cNvSpPr/>
          <p:nvPr/>
        </p:nvSpPr>
        <p:spPr>
          <a:xfrm>
            <a:off x="12193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20574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>
            <a:hlinkClick r:id="rId13" action="ppaction://hlinksldjump"/>
          </p:cNvPr>
          <p:cNvSpPr/>
          <p:nvPr/>
        </p:nvSpPr>
        <p:spPr>
          <a:xfrm>
            <a:off x="28954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>
            <a:hlinkClick r:id="rId14" action="ppaction://hlinksldjump"/>
          </p:cNvPr>
          <p:cNvSpPr/>
          <p:nvPr/>
        </p:nvSpPr>
        <p:spPr>
          <a:xfrm>
            <a:off x="37339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5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>
            <a:hlinkClick r:id="rId15" action="ppaction://hlinksldjump"/>
          </p:cNvPr>
          <p:cNvSpPr/>
          <p:nvPr/>
        </p:nvSpPr>
        <p:spPr>
          <a:xfrm>
            <a:off x="45720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6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>
            <a:hlinkClick r:id="rId16" action="ppaction://hlinksldjump"/>
          </p:cNvPr>
          <p:cNvSpPr/>
          <p:nvPr/>
        </p:nvSpPr>
        <p:spPr>
          <a:xfrm>
            <a:off x="54100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7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>
            <a:hlinkClick r:id="rId17" action="ppaction://hlinksldjump"/>
          </p:cNvPr>
          <p:cNvSpPr/>
          <p:nvPr/>
        </p:nvSpPr>
        <p:spPr>
          <a:xfrm>
            <a:off x="624852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8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>
            <a:hlinkClick r:id="rId18" action="ppaction://hlinksldjump"/>
          </p:cNvPr>
          <p:cNvSpPr/>
          <p:nvPr/>
        </p:nvSpPr>
        <p:spPr>
          <a:xfrm>
            <a:off x="7086600" y="5638680"/>
            <a:ext cx="83808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19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>
            <a:hlinkClick r:id="rId19" action="ppaction://hlinksldjump"/>
          </p:cNvPr>
          <p:cNvSpPr/>
          <p:nvPr/>
        </p:nvSpPr>
        <p:spPr>
          <a:xfrm>
            <a:off x="7924680" y="5638680"/>
            <a:ext cx="838440" cy="9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Lucida Handwriting"/>
              </a:rPr>
              <a:t>20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рченко ВВ</cp:lastModifiedBy>
  <dcterms:modified xsi:type="dcterms:W3CDTF">2008-05-04T04:26:5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