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hammer.wav" ContentType="audio/x-wav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  <p:custShowLst>
    <p:custShow name="Произвольный показ 1" id="0">
      <p:sldLst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8D30-73F9-43B3-953A-5A96D592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F0FB-5227-499B-ACCF-D0FB1D46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E78B-FF33-4B68-A024-76FB5613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991C-3698-44BD-9D86-B065EC77A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2F25-EFBA-4A3E-A6C3-7E6DCCC0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62DF-E48C-4974-BF79-13047149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2003-F987-4047-AF10-B439C7DC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305CD-2019-4347-BC71-6FDEA248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F7430-6CB5-4CE0-B883-966FD497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30E5-6958-4BEE-9855-61E6479F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7D2E7-3149-442F-A8DD-FF858AC0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A42-93C5-4F23-8351-FB3F51F2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9A1A-47ED-4DB7-8D05-A5FDF59C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A8BC-6991-4C2F-8D11-1241F662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CE0EB-3A76-4C34-890B-84607490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3B72-3E3A-46AD-B7FC-7C0A18DD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B241-46B6-4569-B0DE-AFEF4BEF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2009-1852-4ACA-AA6B-2C2E605A3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4317-DE08-4775-8AFF-92F41399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1C1F-3AC0-4911-933B-C2A33559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8DC-EF43-4385-BFAF-614A9CC2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F5D-DC53-426D-938C-50EDAF1B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01FA-B4AB-4EA2-A3AA-E47E8D6A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7C9A-B45D-4252-81FE-1D2F8CE3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FCB9-B5E5-4CE3-8C89-7B00F45B6AD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6E94-649B-4674-A5BE-01D8228C2E3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mailto:vermarchenk@yandex.ru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27672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6666"/>
                </a:solidFill>
                <a:latin typeface="Lucida Handwriting"/>
              </a:rPr>
              <a:t>Сложение и вычитание                 в пределах 20</a:t>
            </a:r>
            <a:endParaRPr b="1" lang="en-US" sz="8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5-5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4+7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8+8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>
            <a:hlinkClick r:id="rId14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>
            <a:hlinkClick r:id="rId15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>
            <a:hlinkClick r:id="rId14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>
            <a:hlinkClick r:id="rId15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>
            <a:hlinkClick r:id="rId16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9+8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5+7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8+3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nextslide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7+7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8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0+6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">
            <a:hlinkClick r:id="rId14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">
            <a:hlinkClick r:id="rId15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">
            <a:hlinkClick r:id="" action="ppaction://hlinkshowjump?jump=nextslide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>
            <a:hlinkClick r:id="rId14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">
            <a:hlinkClick r:id="rId15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">
            <a:hlinkClick r:id="rId16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20-3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">
            <a:hlinkClick r:id="rId4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2-8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Lucida Handwriting"/>
              </a:rPr>
              <a:t>  </a:t>
            </a:r>
            <a:r>
              <a:rPr b="1" lang="en-US" sz="8800" spc="-1" strike="noStrike">
                <a:solidFill>
                  <a:srgbClr val="006666"/>
                </a:solidFill>
                <a:latin typeface="Lucida Handwriting"/>
              </a:rPr>
              <a:t>Вы ошиблись!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>
            <a:hlinkClick r:id="" action="ppaction://hlinkshowjump?jump=nextslide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>
            <a:hlinkClick r:id="rId3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>
            <a:hlinkClick r:id="rId4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2-9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>
            <a:hlinkClick r:id="" action="ppaction://hlinkshowjump?jump=nextslide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4-6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>
            <a:hlinkClick r:id="" action="ppaction://hlinkshowjump?jump=nextslide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7+6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>
            <a:hlinkClick r:id="" action="ppaction://hlinkshowjump?jump=nextslide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20-7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9+3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">
            <a:hlinkClick r:id="rId2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">
            <a:hlinkClick r:id="rId3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">
            <a:hlinkClick r:id="rId4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80880" y="914400"/>
            <a:ext cx="54864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9-7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2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">
            <a:hlinkClick r:id="" action="ppaction://hlinkshowjump?jump=nextslide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9+4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0+2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3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4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9" name="">
            <a:hlinkClick r:id="" action="ppaction://hlinkshowjump?jump=nextslide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5-7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0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2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3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0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1+1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99072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6+6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5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7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8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1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2" name="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3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4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8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9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1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2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2-3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6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7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9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0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2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3" name="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4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6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7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0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1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2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6-7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7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9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0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2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4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">
            <a:hlinkClick r:id="" action="ppaction://hlinkshowjump?jump=nextslide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8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2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5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7+4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9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0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>
            <a:hlinkClick r:id="rId14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>
            <a:hlinkClick r:id="rId15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>
            <a:hlinkClick r:id="rId16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3" name="">
            <a:hlinkClick r:id="rId17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">
            <a:hlinkClick r:id="" action="ppaction://hlinkshowjump?jump=nextslide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6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9+9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9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0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2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5-6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1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2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4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6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8-9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">
            <a:hlinkClick r:id="" action="ppaction://hlinkshowjump?jump=nextslide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1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2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4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7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0-3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3" name="">
            <a:hlinkClick r:id="rId2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4" name="">
            <a:hlinkClick r:id="rId3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5" name="">
            <a:hlinkClick r:id="rId4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8" name="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9" name="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0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1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2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3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5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6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7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8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9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0-8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4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8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9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2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4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5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6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7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9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1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4-5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4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7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8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0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1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2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4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5" name="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6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7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8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9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0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2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9+5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5-6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5" name="">
            <a:hlinkClick r:id="" action="ppaction://hlinkshowjump?jump=nextslide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6" name="">
            <a:hlinkClick r:id="rId2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7" name="">
            <a:hlinkClick r:id="rId3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">
            <a:hlinkClick r:id="rId4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0" name="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1" name="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2" name="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3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4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5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6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7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8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9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0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2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3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80880" y="914400"/>
            <a:ext cx="54864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2-10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6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7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8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">
            <a:hlinkClick r:id="" action="ppaction://hlinkshowjump?jump=nextslide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0" name="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1" name="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2" name="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3" name="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4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5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6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7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8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9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0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1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2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3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4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2-7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7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8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9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0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1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2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3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4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5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6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7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8" name="">
            <a:hlinkClick r:id="" action="ppaction://hlinkshowjump?jump=nextslide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9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0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1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2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3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4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5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7+6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6666"/>
                </a:solidFill>
                <a:latin typeface="Lucida Handwriting"/>
              </a:rPr>
              <a:t>Молодцы!</a:t>
            </a:r>
            <a:endParaRPr b="1" lang="en-US" sz="10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езентацию выполни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914400" y="3124080"/>
            <a:ext cx="731520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Марченко Вера Владимиров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vermarchenk@yandex.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 скачали эту презентацию на сайте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viki.rdf.r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99072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20-8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9-8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5+5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6+5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5+8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ченко ВВ</cp:lastModifiedBy>
  <dcterms:modified xsi:type="dcterms:W3CDTF">2008-05-04T04:26:5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