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B76-D8CD-455B-AFA5-CB9C38E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803-F02E-4B0B-9192-A548E1AE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97B-58B6-4F02-83C2-4F72B797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F7E-76DE-4477-82B5-4280B9BF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2F8-3175-4008-B4AA-D1F5B44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06B-81AA-49A7-B823-6D331777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727-6705-4451-A526-D507908A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940-C827-49CF-A3F3-C95E456E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718-8502-49C6-B7F2-16C2D6F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CFC-8DD0-4AED-829B-4F44666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836-184D-4CE3-B6A3-CE7AE1AD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E68-93C9-456A-9907-BAEA18C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03E-3E37-4F35-9155-44EDE5982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54936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TV and Cin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1942920" cy="1165320"/>
          </a:xfrm>
          <a:prstGeom prst="rect">
            <a:avLst/>
          </a:prstGeom>
          <a:ln w="0">
            <a:noFill/>
          </a:ln>
          <a:effectLst>
            <a:outerShdw dist="73964" dir="7263564" blurRad="0" rotWithShape="0">
              <a:srgbClr val="006600"/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303640" cy="181152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2016360" cy="138276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sp>
        <p:nvSpPr>
          <p:cNvPr id="45" name=""/>
          <p:cNvSpPr/>
          <p:nvPr/>
        </p:nvSpPr>
        <p:spPr>
          <a:xfrm>
            <a:off x="324000" y="1916280"/>
            <a:ext cx="172692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o 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1701000"/>
            <a:ext cx="216072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you should pay f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2853360"/>
            <a:ext cx="21603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elevision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2019240" cy="226692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8360" y="3860640"/>
            <a:ext cx="2467080" cy="184788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79280" y="4508640"/>
            <a:ext cx="3781440" cy="120960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8360" y="3933720"/>
            <a:ext cx="2467080" cy="184788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755640" y="573408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V c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12000" y="4221000"/>
            <a:ext cx="2847960" cy="160992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156360" y="4221000"/>
            <a:ext cx="2438280" cy="182880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588000" y="4149720"/>
            <a:ext cx="1905120" cy="152388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227640" y="4076640"/>
            <a:ext cx="2467080" cy="184788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6156360" y="4005360"/>
            <a:ext cx="2590920" cy="176220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5867280" y="5734080"/>
            <a:ext cx="2665440" cy="93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V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26028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Kinds of TV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00360" y="3284640"/>
            <a:ext cx="1647720" cy="277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50920" y="1125360"/>
            <a:ext cx="2419200" cy="189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093080" y="4149720"/>
            <a:ext cx="190476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79280" y="3933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859280" y="3789360"/>
            <a:ext cx="2067120" cy="2219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1960" y="2852640"/>
            <a:ext cx="17686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Quiz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7760" y="2708280"/>
            <a:ext cx="10249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2637720"/>
            <a:ext cx="26751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urrent affairs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2960" y="6021360"/>
            <a:ext cx="18889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oap o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54120" y="5877000"/>
            <a:ext cx="14439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5590440"/>
            <a:ext cx="22575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ildlife docu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560" y="5949720"/>
            <a:ext cx="14011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i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26028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Genres of fil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1739880" cy="2332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1613160" cy="23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1125360"/>
            <a:ext cx="1565280" cy="230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1488960" cy="2287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052720" y="4149720"/>
            <a:ext cx="1558800" cy="232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653080" y="4149720"/>
            <a:ext cx="1417680" cy="2282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50920" y="1125360"/>
            <a:ext cx="1650960" cy="230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308720" y="4149720"/>
            <a:ext cx="1497240" cy="227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852720" y="4149720"/>
            <a:ext cx="1559160" cy="232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760" y="3284280"/>
            <a:ext cx="14407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e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88040" y="3284280"/>
            <a:ext cx="14194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om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48760" y="3284280"/>
            <a:ext cx="12045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24560" y="3284280"/>
            <a:ext cx="23979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cience 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800" y="6100560"/>
            <a:ext cx="12855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Ho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04920" y="6092640"/>
            <a:ext cx="13827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hri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2880" y="6092640"/>
            <a:ext cx="14439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5661720"/>
            <a:ext cx="171432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Romant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440" y="6092640"/>
            <a:ext cx="14227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Mu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4440" y="188280"/>
            <a:ext cx="813132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What genres of films do they like</a:t>
            </a: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53272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40720" y="1278720"/>
            <a:ext cx="163152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A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6560" y="1267560"/>
            <a:ext cx="119700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R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7760" y="2420640"/>
            <a:ext cx="323388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Documenta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94200" y="3357360"/>
            <a:ext cx="332064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Science fi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0480" y="4294080"/>
            <a:ext cx="254808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Anim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6280" y="5229000"/>
            <a:ext cx="207720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ome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6840" y="2420640"/>
            <a:ext cx="282708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Foreign fil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3737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040" y="188280"/>
            <a:ext cx="474048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Visiting the cin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6680" y="1268280"/>
            <a:ext cx="52156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kind of film did they wat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6680" y="2276280"/>
            <a:ext cx="399204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was the film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960" y="3357360"/>
            <a:ext cx="589860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’s Emily’s favourite kind of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960" y="4365360"/>
            <a:ext cx="620640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did Cameron think about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5445000"/>
            <a:ext cx="47602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How did Carolina feel her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206440" cy="144936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sp>
        <p:nvSpPr>
          <p:cNvPr id="110" name=""/>
          <p:cNvSpPr/>
          <p:nvPr/>
        </p:nvSpPr>
        <p:spPr>
          <a:xfrm>
            <a:off x="5011200" y="1773000"/>
            <a:ext cx="39661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hey saw a documen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2708280"/>
            <a:ext cx="49197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t was about a global war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8840" y="3716280"/>
            <a:ext cx="24861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cience fi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7400" y="4868640"/>
            <a:ext cx="36748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t was a bit depress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78840" y="5949720"/>
            <a:ext cx="619884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he felt very unhappy and wanted to c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6553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1</cp:lastModifiedBy>
  <dcterms:modified xsi:type="dcterms:W3CDTF">2012-02-12T15:23:35Z</dcterms:modified>
  <cp:revision>22</cp:revision>
  <dc:subject/>
  <dc:title>PowerPoint Presentation</dc:title>
</cp:coreProperties>
</file>