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EA6-D298-4499-8299-2201F878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ECE-2ADB-4E63-B1BB-B71FF026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6D2-9197-43E7-9B0A-F4B5117A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43F-982C-4F6E-98D2-12A35A04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B82-2A67-42BF-8C0F-93C60D68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15F-D4F1-4988-9493-B774B597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15E-6BEF-4766-AFE2-F0E48312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8D7-C0DB-4D37-BE46-F0C781F9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001-EC6F-4876-A22C-04211F68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5A1-97DE-4DF4-95ED-5A610B39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045-65DF-49A1-9CA1-C398CFA1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C2C-24F4-4E29-9D5A-D93F44B9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9874-C71F-43A6-ACBC-F2BA0F02E0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549360"/>
            <a:ext cx="727236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TV and Cin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32720" y="1628640"/>
            <a:ext cx="1942920" cy="1165320"/>
          </a:xfrm>
          <a:prstGeom prst="rect">
            <a:avLst/>
          </a:prstGeom>
          <a:ln w="0">
            <a:noFill/>
          </a:ln>
          <a:effectLst>
            <a:outerShdw dist="73964" dir="7263564" blurRad="0" rotWithShape="0">
              <a:srgbClr val="006600"/>
            </a:outerShdw>
          </a:effectLst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2303640" cy="181152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2016360" cy="138276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sp>
        <p:nvSpPr>
          <p:cNvPr id="45" name=""/>
          <p:cNvSpPr/>
          <p:nvPr/>
        </p:nvSpPr>
        <p:spPr>
          <a:xfrm>
            <a:off x="324000" y="1916280"/>
            <a:ext cx="172692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o w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1701000"/>
            <a:ext cx="2160720" cy="104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you should pay f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2853360"/>
            <a:ext cx="2160360" cy="104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elevision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8360" y="3716280"/>
            <a:ext cx="2019240" cy="226692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68360" y="3860640"/>
            <a:ext cx="2467080" cy="184788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179280" y="4508640"/>
            <a:ext cx="3781440" cy="120960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68360" y="3933720"/>
            <a:ext cx="2467080" cy="184788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755640" y="573408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V c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012000" y="4221000"/>
            <a:ext cx="2847960" cy="1609920"/>
          </a:xfrm>
          <a:prstGeom prst="rect">
            <a:avLst/>
          </a:prstGeom>
          <a:ln w="0">
            <a:noFill/>
          </a:ln>
          <a:effectLst>
            <a:outerShdw dist="63504" dir="7616091" blurRad="0" rotWithShape="0">
              <a:srgbClr val="006600"/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156360" y="4221000"/>
            <a:ext cx="2438280" cy="1828800"/>
          </a:xfrm>
          <a:prstGeom prst="rect">
            <a:avLst/>
          </a:prstGeom>
          <a:ln w="0">
            <a:noFill/>
          </a:ln>
          <a:effectLst>
            <a:outerShdw dist="63504" dir="7616091" blurRad="0" rotWithShape="0">
              <a:srgbClr val="006600"/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588000" y="4149720"/>
            <a:ext cx="1905120" cy="1523880"/>
          </a:xfrm>
          <a:prstGeom prst="rect">
            <a:avLst/>
          </a:prstGeom>
          <a:ln w="0">
            <a:noFill/>
          </a:ln>
          <a:effectLst>
            <a:outerShdw dist="63504" dir="7616091" blurRad="0" rotWithShape="0">
              <a:srgbClr val="006600"/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227640" y="4076640"/>
            <a:ext cx="2467080" cy="1847880"/>
          </a:xfrm>
          <a:prstGeom prst="rect">
            <a:avLst/>
          </a:prstGeom>
          <a:ln w="0">
            <a:noFill/>
          </a:ln>
          <a:effectLst>
            <a:outerShdw dist="63504" dir="7616091" blurRad="0" rotWithShape="0">
              <a:srgbClr val="006600"/>
            </a:outerShdw>
          </a:effectLst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6156360" y="4005360"/>
            <a:ext cx="2590920" cy="1762200"/>
          </a:xfrm>
          <a:prstGeom prst="rect">
            <a:avLst/>
          </a:prstGeom>
          <a:ln w="0">
            <a:noFill/>
          </a:ln>
          <a:effectLst>
            <a:outerShdw dist="63504" dir="7616091" blurRad="0" rotWithShape="0">
              <a:srgbClr val="006600"/>
            </a:outerShdw>
          </a:effectLst>
        </p:spPr>
      </p:pic>
      <p:sp>
        <p:nvSpPr>
          <p:cNvPr id="58" name=""/>
          <p:cNvSpPr/>
          <p:nvPr/>
        </p:nvSpPr>
        <p:spPr>
          <a:xfrm>
            <a:off x="5867280" y="5734080"/>
            <a:ext cx="2665440" cy="93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V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260280"/>
            <a:ext cx="727236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Kinds of TV program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700360" y="3284640"/>
            <a:ext cx="1647720" cy="2771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50920" y="1125360"/>
            <a:ext cx="2419200" cy="1895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093080" y="4149720"/>
            <a:ext cx="190476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79280" y="3933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4859280" y="3789360"/>
            <a:ext cx="2067120" cy="2219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1960" y="2852640"/>
            <a:ext cx="176868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Quiz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7760" y="2708280"/>
            <a:ext cx="10249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2637720"/>
            <a:ext cx="2675160" cy="104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Current affairs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2960" y="6021360"/>
            <a:ext cx="18889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Soap o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54120" y="5877000"/>
            <a:ext cx="14439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Cart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5590440"/>
            <a:ext cx="2257560" cy="104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ildlife docu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560" y="5949720"/>
            <a:ext cx="14011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Si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1640" y="260280"/>
            <a:ext cx="727236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Genres of fil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84360" y="1125360"/>
            <a:ext cx="1739880" cy="2332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03640" y="1125360"/>
            <a:ext cx="1613160" cy="2300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1125360"/>
            <a:ext cx="1565280" cy="230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1488960" cy="2287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052720" y="4149720"/>
            <a:ext cx="1558800" cy="2320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653080" y="4149720"/>
            <a:ext cx="1417680" cy="2282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50920" y="1125360"/>
            <a:ext cx="1650960" cy="230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7308720" y="4149720"/>
            <a:ext cx="1497240" cy="227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3852720" y="4149720"/>
            <a:ext cx="1559160" cy="2320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7760" y="3284280"/>
            <a:ext cx="14407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es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88040" y="3284280"/>
            <a:ext cx="141948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Com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48760" y="3284280"/>
            <a:ext cx="12045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24560" y="3284280"/>
            <a:ext cx="23979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Science 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3800" y="6100560"/>
            <a:ext cx="12855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Ho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04920" y="6092640"/>
            <a:ext cx="13827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hri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72880" y="6092640"/>
            <a:ext cx="14439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Cart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5661720"/>
            <a:ext cx="1714320" cy="1049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Romant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440" y="6092640"/>
            <a:ext cx="14227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Mu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4440" y="188280"/>
            <a:ext cx="8131320" cy="84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What genres of films do they like</a:t>
            </a:r>
            <a:r>
              <a:rPr b="1" i="1" lang="ru-RU" sz="4400" spc="-1" strike="noStrike">
                <a:solidFill>
                  <a:srgbClr val="0066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532720" y="404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40720" y="1278720"/>
            <a:ext cx="1631520" cy="84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Ad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6560" y="1267560"/>
            <a:ext cx="1197000" cy="84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R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7760" y="2420640"/>
            <a:ext cx="3233880" cy="71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Documentar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94200" y="3357360"/>
            <a:ext cx="3320640" cy="71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Science fic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80480" y="4294080"/>
            <a:ext cx="2548080" cy="71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Anim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16280" y="5229000"/>
            <a:ext cx="2077200" cy="71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Come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6840" y="2420640"/>
            <a:ext cx="2827080" cy="711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Foreign fil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3737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7040" y="188280"/>
            <a:ext cx="4740480" cy="84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Visiting the cin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6680" y="1268280"/>
            <a:ext cx="521568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hat kind of film did they wat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6680" y="2276280"/>
            <a:ext cx="399204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hat was the film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5960" y="3357360"/>
            <a:ext cx="589860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hat’s Emily’s favourite kind of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960" y="4365360"/>
            <a:ext cx="620640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hat did Cameron think about the fil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4160" y="5445000"/>
            <a:ext cx="476028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How did Carolina feel her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206440" cy="144936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6600"/>
            </a:outerShdw>
          </a:effectLst>
        </p:spPr>
      </p:pic>
      <p:sp>
        <p:nvSpPr>
          <p:cNvPr id="110" name=""/>
          <p:cNvSpPr/>
          <p:nvPr/>
        </p:nvSpPr>
        <p:spPr>
          <a:xfrm>
            <a:off x="5011200" y="1773000"/>
            <a:ext cx="396612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hey saw a documen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2708280"/>
            <a:ext cx="49197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It was about a global war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8840" y="3716280"/>
            <a:ext cx="248616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Science fi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7400" y="4868640"/>
            <a:ext cx="367488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It was a bit depress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78840" y="5949720"/>
            <a:ext cx="6198840" cy="576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9184" dir="7528307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She felt very unhappy and wanted to c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6553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1</cp:lastModifiedBy>
  <dcterms:modified xsi:type="dcterms:W3CDTF">2012-02-12T15:23:35Z</dcterms:modified>
  <cp:revision>22</cp:revision>
  <dc:subject/>
  <dc:title>PowerPoint Presentation</dc:title>
</cp:coreProperties>
</file>