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51DF-D77C-4ACF-B818-BBCA4CF1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3BFC-A11D-43E4-819C-587C3545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35EE-3D9B-48E4-9523-7B95883C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200-76C9-4360-B89D-401B37B4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7DE-57F7-4EB4-B289-04C862A65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18F-7C59-491C-AB7D-BAB0B667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639F-356E-4B17-BFB0-9F4D2B0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7468-05CD-429D-8605-A11E5907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989B-D8E3-42D5-9EB6-A97F859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0D4-B7F4-4599-A08B-4F3F2D1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256-7279-4269-9F4F-BB35A7FE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6DC9-C72D-4CCF-914E-57403601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66C-E021-4C17-9AEC-20167332C6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EBC9D-31A4-4B8C-A057-CC3442C515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0FDF-C6C5-48D0-A8EA-64CA5D211D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cdn.thinglink.me/api/image/571344780278104064/1024/10/scaletowidth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857680" y="1071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епень с натуральным показател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http://spektr-tm.ru/wa-data/public/shop/products/06/01/10106/images/8272/8272.970.jpeg"/>
          <p:cNvPicPr/>
          <p:nvPr/>
        </p:nvPicPr>
        <p:blipFill>
          <a:blip r:embed="rId2"/>
          <a:srcRect l="12007" t="11642" r="11778" b="11814"/>
          <a:stretch/>
        </p:blipFill>
        <p:spPr>
          <a:xfrm>
            <a:off x="6215040" y="2428920"/>
            <a:ext cx="960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6157800" y="5229360"/>
            <a:ext cx="1386720" cy="1208160"/>
            <a:chOff x="6157800" y="5229360"/>
            <a:chExt cx="1386720" cy="1208160"/>
          </a:xfrm>
        </p:grpSpPr>
        <p:sp>
          <p:nvSpPr>
            <p:cNvPr id="191" name="Text Box 6"/>
            <p:cNvSpPr/>
            <p:nvPr/>
          </p:nvSpPr>
          <p:spPr>
            <a:xfrm>
              <a:off x="6157800" y="573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6961320" y="57340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6589440" y="52293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6084720" y="3933720"/>
            <a:ext cx="1386720" cy="1216080"/>
            <a:chOff x="6084720" y="3933720"/>
            <a:chExt cx="1386720" cy="1216080"/>
          </a:xfrm>
        </p:grpSpPr>
        <p:sp>
          <p:nvSpPr>
            <p:cNvPr id="195" name="Text Box 11"/>
            <p:cNvSpPr/>
            <p:nvPr/>
          </p:nvSpPr>
          <p:spPr>
            <a:xfrm>
              <a:off x="6084720" y="4446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888240" y="444636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6516360" y="39337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4"/>
          <p:cNvGrpSpPr/>
          <p:nvPr/>
        </p:nvGrpSpPr>
        <p:grpSpPr>
          <a:xfrm>
            <a:off x="6013440" y="1773360"/>
            <a:ext cx="1386720" cy="1208160"/>
            <a:chOff x="6013440" y="1773360"/>
            <a:chExt cx="1386720" cy="1208160"/>
          </a:xfrm>
        </p:grpSpPr>
        <p:sp>
          <p:nvSpPr>
            <p:cNvPr id="199" name="Text Box 15"/>
            <p:cNvSpPr/>
            <p:nvPr/>
          </p:nvSpPr>
          <p:spPr>
            <a:xfrm>
              <a:off x="6013440" y="227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6816960" y="22780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6445080" y="17733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6084720" y="2708280"/>
            <a:ext cx="1386720" cy="1208160"/>
            <a:chOff x="6084720" y="2708280"/>
            <a:chExt cx="1386720" cy="1208160"/>
          </a:xfrm>
        </p:grpSpPr>
        <p:sp>
          <p:nvSpPr>
            <p:cNvPr id="203" name="Text Box 19"/>
            <p:cNvSpPr/>
            <p:nvPr/>
          </p:nvSpPr>
          <p:spPr>
            <a:xfrm>
              <a:off x="6084720" y="321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6888240" y="321300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1"/>
            <p:cNvSpPr/>
            <p:nvPr/>
          </p:nvSpPr>
          <p:spPr>
            <a:xfrm>
              <a:off x="6516360" y="270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2"/>
          <p:cNvSpPr/>
          <p:nvPr/>
        </p:nvSpPr>
        <p:spPr>
          <a:xfrm>
            <a:off x="7609320" y="573408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46"/>
          <p:cNvGrpSpPr/>
          <p:nvPr/>
        </p:nvGrpSpPr>
        <p:grpSpPr>
          <a:xfrm>
            <a:off x="324000" y="620640"/>
            <a:ext cx="5113080" cy="1152720"/>
            <a:chOff x="324000" y="620640"/>
            <a:chExt cx="5113080" cy="1152720"/>
          </a:xfrm>
        </p:grpSpPr>
        <p:sp>
          <p:nvSpPr>
            <p:cNvPr id="208" name="Rectangle 44"/>
            <p:cNvSpPr/>
            <p:nvPr/>
          </p:nvSpPr>
          <p:spPr>
            <a:xfrm>
              <a:off x="324000" y="620640"/>
              <a:ext cx="5113080" cy="115272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5"/>
            <p:cNvGrpSpPr/>
            <p:nvPr/>
          </p:nvGrpSpPr>
          <p:grpSpPr>
            <a:xfrm>
              <a:off x="397080" y="693720"/>
              <a:ext cx="4821120" cy="825120"/>
              <a:chOff x="397080" y="693720"/>
              <a:chExt cx="4821120" cy="825120"/>
            </a:xfrm>
          </p:grpSpPr>
          <p:sp>
            <p:nvSpPr>
              <p:cNvPr id="210" name="Text Box 23"/>
              <p:cNvSpPr/>
              <p:nvPr/>
            </p:nvSpPr>
            <p:spPr>
              <a:xfrm>
                <a:off x="397080" y="693720"/>
                <a:ext cx="3335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а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:а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en-US" sz="4800" spc="-1" strike="noStrike">
                    <a:solidFill>
                      <a:srgbClr val="cc3300"/>
                    </a:solidFill>
                    <a:latin typeface="Times New Roman"/>
                  </a:rPr>
                  <a:t> =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 а 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ru-RU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-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24"/>
              <p:cNvSpPr/>
              <p:nvPr/>
            </p:nvSpPr>
            <p:spPr>
              <a:xfrm>
                <a:off x="3290760" y="693720"/>
                <a:ext cx="1927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c3300"/>
                    </a:solidFill>
                    <a:latin typeface="Times New Roman"/>
                  </a:rPr>
                  <a:t>=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а</a:t>
                </a:r>
                <a:r>
                  <a:rPr b="0" lang="ru-RU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 = 1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47"/>
          <p:cNvGrpSpPr/>
          <p:nvPr/>
        </p:nvGrpSpPr>
        <p:grpSpPr>
          <a:xfrm>
            <a:off x="5791320" y="228600"/>
            <a:ext cx="2881080" cy="1728720"/>
            <a:chOff x="5791320" y="228600"/>
            <a:chExt cx="2881080" cy="1728720"/>
          </a:xfrm>
        </p:grpSpPr>
        <p:sp>
          <p:nvSpPr>
            <p:cNvPr id="213" name="Rectangle 45"/>
            <p:cNvSpPr/>
            <p:nvPr/>
          </p:nvSpPr>
          <p:spPr>
            <a:xfrm>
              <a:off x="5791320" y="228600"/>
              <a:ext cx="2881080" cy="172872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020280" y="30168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 = 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002280" y="1020960"/>
              <a:ext cx="255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ru-RU" sz="4800" spc="-1" strike="noStrike" baseline="30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n</a:t>
              </a:r>
              <a:r>
                <a:rPr b="0" lang="en-US" sz="4800" spc="-1" strike="noStrike">
                  <a:solidFill>
                    <a:srgbClr val="cc3300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 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1+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28"/>
          <p:cNvSpPr/>
          <p:nvPr/>
        </p:nvSpPr>
        <p:spPr>
          <a:xfrm>
            <a:off x="7464600" y="227664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7393320" y="321300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7476480" y="443700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59520" y="220500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64120" y="3357720"/>
            <a:ext cx="16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59160" y="4653000"/>
            <a:ext cx="19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58800" y="5805360"/>
            <a:ext cx="24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2557440" y="220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2052360" y="33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1"/>
          <p:cNvSpPr/>
          <p:nvPr/>
        </p:nvSpPr>
        <p:spPr>
          <a:xfrm>
            <a:off x="248580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2989080" y="58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43"/>
          <p:cNvSpPr txBox="1"/>
          <p:nvPr/>
        </p:nvSpPr>
        <p:spPr>
          <a:xfrm>
            <a:off x="4211640" y="2708280"/>
            <a:ext cx="6476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80880" y="533520"/>
            <a:ext cx="7696440" cy="1523880"/>
          </a:xfrm>
          <a:prstGeom prst="rect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 flipV="1" rot="10800000">
            <a:off x="302760" y="532440"/>
            <a:ext cx="809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Число 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представили в виде суммы слагаемых, каждое из которых равно 3. Сколько слагаемых получ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6"/>
          <p:cNvGrpSpPr/>
          <p:nvPr/>
        </p:nvGrpSpPr>
        <p:grpSpPr>
          <a:xfrm>
            <a:off x="2517840" y="2187720"/>
            <a:ext cx="4720680" cy="1365480"/>
            <a:chOff x="2517840" y="2187720"/>
            <a:chExt cx="4720680" cy="1365480"/>
          </a:xfrm>
        </p:grpSpPr>
        <p:sp>
          <p:nvSpPr>
            <p:cNvPr id="232" name="Text Box 4"/>
            <p:cNvSpPr/>
            <p:nvPr/>
          </p:nvSpPr>
          <p:spPr>
            <a:xfrm>
              <a:off x="2517840" y="2187720"/>
              <a:ext cx="472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= 3+3+3+3+………+3+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5"/>
            <p:cNvSpPr/>
            <p:nvPr/>
          </p:nvSpPr>
          <p:spPr>
            <a:xfrm rot="5445000">
              <a:off x="5025600" y="995400"/>
              <a:ext cx="311040" cy="3657600"/>
            </a:xfrm>
            <a:custGeom>
              <a:avLst/>
              <a:gdLst>
                <a:gd name="textAreaLeft" fmla="*/ 0 w 311040"/>
                <a:gd name="textAreaRight" fmla="*/ 112320 w 3110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346"/>
                  </a:lnTo>
                  <a:cubicBezTo>
                    <a:pt x="10800" y="9246"/>
                    <a:pt x="16200" y="10146"/>
                    <a:pt x="21600" y="10146"/>
                  </a:cubicBezTo>
                  <a:cubicBezTo>
                    <a:pt x="16200" y="10146"/>
                    <a:pt x="10800" y="11046"/>
                    <a:pt x="10800" y="11946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5106960" y="29718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7"/>
          <p:cNvSpPr/>
          <p:nvPr/>
        </p:nvSpPr>
        <p:spPr>
          <a:xfrm>
            <a:off x="663840" y="337176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24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усть всего слагаемых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049920" y="432108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4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046320" y="493092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43:3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123360" y="546408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n = 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274760" y="6114960"/>
            <a:ext cx="58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олучилось 81 слагаем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148240" y="907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46"/>
          <p:cNvGrpSpPr/>
          <p:nvPr/>
        </p:nvGrpSpPr>
        <p:grpSpPr>
          <a:xfrm>
            <a:off x="324000" y="3645000"/>
            <a:ext cx="8610480" cy="2819160"/>
            <a:chOff x="324000" y="3645000"/>
            <a:chExt cx="8610480" cy="2819160"/>
          </a:xfrm>
        </p:grpSpPr>
        <p:sp>
          <p:nvSpPr>
            <p:cNvPr id="243" name="Rectangle 35"/>
            <p:cNvSpPr/>
            <p:nvPr/>
          </p:nvSpPr>
          <p:spPr>
            <a:xfrm>
              <a:off x="324000" y="3645000"/>
              <a:ext cx="8610480" cy="28191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3228840" y="37749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Второй способ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3"/>
          <p:cNvSpPr/>
          <p:nvPr/>
        </p:nvSpPr>
        <p:spPr>
          <a:xfrm>
            <a:off x="7886160" y="26028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468360" y="260280"/>
            <a:ext cx="795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520" y="333360"/>
            <a:ext cx="312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Упростит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250080" y="479520"/>
            <a:ext cx="44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1"/>
          <p:cNvSpPr/>
          <p:nvPr/>
        </p:nvSpPr>
        <p:spPr>
          <a:xfrm rot="5376600">
            <a:off x="990360" y="4267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9"/>
          <p:cNvGrpSpPr/>
          <p:nvPr/>
        </p:nvGrpSpPr>
        <p:grpSpPr>
          <a:xfrm>
            <a:off x="547560" y="4254480"/>
            <a:ext cx="1626840" cy="1130040"/>
            <a:chOff x="547560" y="4254480"/>
            <a:chExt cx="1626840" cy="1130040"/>
          </a:xfrm>
        </p:grpSpPr>
        <p:sp>
          <p:nvSpPr>
            <p:cNvPr id="251" name="Text Box 12"/>
            <p:cNvSpPr/>
            <p:nvPr/>
          </p:nvSpPr>
          <p:spPr>
            <a:xfrm>
              <a:off x="1022760" y="4854600"/>
              <a:ext cx="11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547560" y="486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776160" y="42544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649080" y="4178160"/>
            <a:ext cx="34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213800" y="41781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767520" y="5473800"/>
            <a:ext cx="2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41520" y="547380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305680" y="5473800"/>
            <a:ext cx="13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584400" y="547380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5"/>
          <p:cNvSpPr/>
          <p:nvPr/>
        </p:nvSpPr>
        <p:spPr>
          <a:xfrm rot="5376600">
            <a:off x="4813200" y="42541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 rot="5376600">
            <a:off x="1307880" y="55497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7"/>
          <p:cNvSpPr/>
          <p:nvPr/>
        </p:nvSpPr>
        <p:spPr>
          <a:xfrm rot="5376600">
            <a:off x="3822480" y="55497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8"/>
          <p:cNvSpPr/>
          <p:nvPr/>
        </p:nvSpPr>
        <p:spPr>
          <a:xfrm rot="5376600">
            <a:off x="5879880" y="54734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4584600" y="471168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109800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376488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574596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45"/>
          <p:cNvGrpSpPr/>
          <p:nvPr/>
        </p:nvGrpSpPr>
        <p:grpSpPr>
          <a:xfrm>
            <a:off x="324000" y="1197000"/>
            <a:ext cx="8610480" cy="2357280"/>
            <a:chOff x="324000" y="1197000"/>
            <a:chExt cx="8610480" cy="2357280"/>
          </a:xfrm>
        </p:grpSpPr>
        <p:sp>
          <p:nvSpPr>
            <p:cNvPr id="269" name="Rectangle 36"/>
            <p:cNvSpPr/>
            <p:nvPr/>
          </p:nvSpPr>
          <p:spPr>
            <a:xfrm>
              <a:off x="324000" y="1268280"/>
              <a:ext cx="8610480" cy="22860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4"/>
            <p:cNvSpPr/>
            <p:nvPr/>
          </p:nvSpPr>
          <p:spPr>
            <a:xfrm>
              <a:off x="3133800" y="119700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Первый способ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26"/>
          <p:cNvSpPr/>
          <p:nvPr/>
        </p:nvSpPr>
        <p:spPr>
          <a:xfrm>
            <a:off x="541080" y="1677960"/>
            <a:ext cx="34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4155480" y="1687680"/>
            <a:ext cx="34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1+1+2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48280" y="2449440"/>
            <a:ext cx="24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4+4+8+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214520" y="24494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196960" y="244944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4"/>
          <p:cNvGrpSpPr/>
          <p:nvPr/>
        </p:nvGrpSpPr>
        <p:grpSpPr>
          <a:xfrm>
            <a:off x="2987280" y="1916280"/>
            <a:ext cx="1281960" cy="1099440"/>
            <a:chOff x="2987280" y="1916280"/>
            <a:chExt cx="1281960" cy="1099440"/>
          </a:xfrm>
        </p:grpSpPr>
        <p:sp>
          <p:nvSpPr>
            <p:cNvPr id="277" name="Text Box 29"/>
            <p:cNvSpPr/>
            <p:nvPr/>
          </p:nvSpPr>
          <p:spPr>
            <a:xfrm>
              <a:off x="2987280" y="244944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3731760" y="2449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3"/>
            <p:cNvSpPr/>
            <p:nvPr/>
          </p:nvSpPr>
          <p:spPr>
            <a:xfrm>
              <a:off x="3503520" y="1916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4"/>
          <p:cNvSpPr/>
          <p:nvPr/>
        </p:nvSpPr>
        <p:spPr>
          <a:xfrm>
            <a:off x="685800" y="228600"/>
            <a:ext cx="6172200" cy="14479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7849800" y="304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839520" y="6094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ократ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71"/>
          <p:cNvGrpSpPr/>
          <p:nvPr/>
        </p:nvGrpSpPr>
        <p:grpSpPr>
          <a:xfrm>
            <a:off x="250920" y="2637000"/>
            <a:ext cx="8458200" cy="3581280"/>
            <a:chOff x="250920" y="2637000"/>
            <a:chExt cx="8458200" cy="3581280"/>
          </a:xfrm>
        </p:grpSpPr>
        <p:sp>
          <p:nvSpPr>
            <p:cNvPr id="285" name="Rectangle 37"/>
            <p:cNvSpPr/>
            <p:nvPr/>
          </p:nvSpPr>
          <p:spPr>
            <a:xfrm>
              <a:off x="250920" y="2637000"/>
              <a:ext cx="8458200" cy="3581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Group 27"/>
            <p:cNvGrpSpPr/>
            <p:nvPr/>
          </p:nvGrpSpPr>
          <p:grpSpPr>
            <a:xfrm>
              <a:off x="481320" y="4076640"/>
              <a:ext cx="2907720" cy="1130040"/>
              <a:chOff x="481320" y="4076640"/>
              <a:chExt cx="2907720" cy="1130040"/>
            </a:xfrm>
          </p:grpSpPr>
          <p:sp>
            <p:nvSpPr>
              <p:cNvPr id="287" name="Line 4"/>
              <p:cNvSpPr/>
              <p:nvPr/>
            </p:nvSpPr>
            <p:spPr>
              <a:xfrm>
                <a:off x="547560" y="4686120"/>
                <a:ext cx="28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5"/>
              <p:cNvSpPr/>
              <p:nvPr/>
            </p:nvSpPr>
            <p:spPr>
              <a:xfrm>
                <a:off x="481320" y="4076640"/>
                <a:ext cx="290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6"/>
              <p:cNvSpPr/>
              <p:nvPr/>
            </p:nvSpPr>
            <p:spPr>
              <a:xfrm>
                <a:off x="1632600" y="468612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34"/>
          <p:cNvGrpSpPr/>
          <p:nvPr/>
        </p:nvGrpSpPr>
        <p:grpSpPr>
          <a:xfrm>
            <a:off x="5652000" y="4149720"/>
            <a:ext cx="1142280" cy="1054080"/>
            <a:chOff x="5652000" y="4149720"/>
            <a:chExt cx="1142280" cy="1054080"/>
          </a:xfrm>
        </p:grpSpPr>
        <p:sp>
          <p:nvSpPr>
            <p:cNvPr id="291" name="Text Box 7"/>
            <p:cNvSpPr/>
            <p:nvPr/>
          </p:nvSpPr>
          <p:spPr>
            <a:xfrm>
              <a:off x="5652000" y="4378320"/>
              <a:ext cx="51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9"/>
            <p:cNvGrpSpPr/>
            <p:nvPr/>
          </p:nvGrpSpPr>
          <p:grpSpPr>
            <a:xfrm>
              <a:off x="6184800" y="4149720"/>
              <a:ext cx="609480" cy="1054080"/>
              <a:chOff x="6184800" y="4149720"/>
              <a:chExt cx="609480" cy="1054080"/>
            </a:xfrm>
          </p:grpSpPr>
          <p:sp>
            <p:nvSpPr>
              <p:cNvPr id="293" name="Text Box 8"/>
              <p:cNvSpPr/>
              <p:nvPr/>
            </p:nvSpPr>
            <p:spPr>
              <a:xfrm>
                <a:off x="6203160" y="414972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9"/>
              <p:cNvSpPr/>
              <p:nvPr/>
            </p:nvSpPr>
            <p:spPr>
              <a:xfrm>
                <a:off x="6203160" y="468324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8"/>
              <p:cNvSpPr/>
              <p:nvPr/>
            </p:nvSpPr>
            <p:spPr>
              <a:xfrm>
                <a:off x="6184800" y="4683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33"/>
          <p:cNvGrpSpPr/>
          <p:nvPr/>
        </p:nvGrpSpPr>
        <p:grpSpPr>
          <a:xfrm>
            <a:off x="3420720" y="3645000"/>
            <a:ext cx="2056320" cy="1587240"/>
            <a:chOff x="3420720" y="3645000"/>
            <a:chExt cx="2056320" cy="1587240"/>
          </a:xfrm>
        </p:grpSpPr>
        <p:grpSp>
          <p:nvGrpSpPr>
            <p:cNvPr id="297" name="Group 26"/>
            <p:cNvGrpSpPr/>
            <p:nvPr/>
          </p:nvGrpSpPr>
          <p:grpSpPr>
            <a:xfrm>
              <a:off x="4335480" y="3645000"/>
              <a:ext cx="1141560" cy="1587240"/>
              <a:chOff x="4335480" y="3645000"/>
              <a:chExt cx="1141560" cy="1587240"/>
            </a:xfrm>
          </p:grpSpPr>
          <p:sp>
            <p:nvSpPr>
              <p:cNvPr id="298" name="Text Box 21"/>
              <p:cNvSpPr/>
              <p:nvPr/>
            </p:nvSpPr>
            <p:spPr>
              <a:xfrm>
                <a:off x="4885920" y="417816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22"/>
              <p:cNvSpPr/>
              <p:nvPr/>
            </p:nvSpPr>
            <p:spPr>
              <a:xfrm>
                <a:off x="4657320" y="471168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4486320" y="47116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24"/>
              <p:cNvSpPr/>
              <p:nvPr/>
            </p:nvSpPr>
            <p:spPr>
              <a:xfrm>
                <a:off x="4335480" y="4178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25"/>
              <p:cNvSpPr/>
              <p:nvPr/>
            </p:nvSpPr>
            <p:spPr>
              <a:xfrm>
                <a:off x="4640040" y="3645000"/>
                <a:ext cx="39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Rectangle 29"/>
            <p:cNvSpPr/>
            <p:nvPr/>
          </p:nvSpPr>
          <p:spPr>
            <a:xfrm>
              <a:off x="3420720" y="4406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36"/>
          <p:cNvGrpSpPr/>
          <p:nvPr/>
        </p:nvGrpSpPr>
        <p:grpSpPr>
          <a:xfrm>
            <a:off x="7668000" y="4221000"/>
            <a:ext cx="995040" cy="977760"/>
            <a:chOff x="7668000" y="4221000"/>
            <a:chExt cx="995040" cy="977760"/>
          </a:xfrm>
        </p:grpSpPr>
        <p:grpSp>
          <p:nvGrpSpPr>
            <p:cNvPr id="305" name="Group 14"/>
            <p:cNvGrpSpPr/>
            <p:nvPr/>
          </p:nvGrpSpPr>
          <p:grpSpPr>
            <a:xfrm>
              <a:off x="8124480" y="4221000"/>
              <a:ext cx="538560" cy="977760"/>
              <a:chOff x="8124480" y="4221000"/>
              <a:chExt cx="538560" cy="977760"/>
            </a:xfrm>
          </p:grpSpPr>
          <p:sp>
            <p:nvSpPr>
              <p:cNvPr id="306" name="Text Box 15"/>
              <p:cNvSpPr/>
              <p:nvPr/>
            </p:nvSpPr>
            <p:spPr>
              <a:xfrm>
                <a:off x="8125560" y="467820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16"/>
              <p:cNvSpPr/>
              <p:nvPr/>
            </p:nvSpPr>
            <p:spPr>
              <a:xfrm>
                <a:off x="8196840" y="422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8124480" y="467820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Rectangle 30"/>
            <p:cNvSpPr/>
            <p:nvPr/>
          </p:nvSpPr>
          <p:spPr>
            <a:xfrm>
              <a:off x="7668000" y="4373280"/>
              <a:ext cx="51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35"/>
          <p:cNvGrpSpPr/>
          <p:nvPr/>
        </p:nvGrpSpPr>
        <p:grpSpPr>
          <a:xfrm>
            <a:off x="6877800" y="4221000"/>
            <a:ext cx="852480" cy="977760"/>
            <a:chOff x="6877800" y="4221000"/>
            <a:chExt cx="852480" cy="977760"/>
          </a:xfrm>
        </p:grpSpPr>
        <p:grpSp>
          <p:nvGrpSpPr>
            <p:cNvPr id="311" name="Group 13"/>
            <p:cNvGrpSpPr/>
            <p:nvPr/>
          </p:nvGrpSpPr>
          <p:grpSpPr>
            <a:xfrm>
              <a:off x="7257960" y="4221000"/>
              <a:ext cx="472320" cy="977760"/>
              <a:chOff x="7257960" y="4221000"/>
              <a:chExt cx="472320" cy="977760"/>
            </a:xfrm>
          </p:grpSpPr>
          <p:sp>
            <p:nvSpPr>
              <p:cNvPr id="312" name="Text Box 10"/>
              <p:cNvSpPr/>
              <p:nvPr/>
            </p:nvSpPr>
            <p:spPr>
              <a:xfrm>
                <a:off x="7267680" y="46782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Text Box 11"/>
              <p:cNvSpPr/>
              <p:nvPr/>
            </p:nvSpPr>
            <p:spPr>
              <a:xfrm>
                <a:off x="7335360" y="422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2"/>
              <p:cNvSpPr/>
              <p:nvPr/>
            </p:nvSpPr>
            <p:spPr>
              <a:xfrm>
                <a:off x="7257960" y="4678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Rectangle 32"/>
            <p:cNvSpPr/>
            <p:nvPr/>
          </p:nvSpPr>
          <p:spPr>
            <a:xfrm>
              <a:off x="6877800" y="4373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63"/>
          <p:cNvSpPr/>
          <p:nvPr/>
        </p:nvSpPr>
        <p:spPr>
          <a:xfrm>
            <a:off x="8028000" y="4005360"/>
            <a:ext cx="685800" cy="1447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5"/>
          <p:cNvSpPr/>
          <p:nvPr/>
        </p:nvSpPr>
        <p:spPr>
          <a:xfrm>
            <a:off x="37180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66"/>
          <p:cNvGrpSpPr/>
          <p:nvPr/>
        </p:nvGrpSpPr>
        <p:grpSpPr>
          <a:xfrm>
            <a:off x="3591360" y="380880"/>
            <a:ext cx="2907720" cy="1130040"/>
            <a:chOff x="3591360" y="380880"/>
            <a:chExt cx="2907720" cy="1130040"/>
          </a:xfrm>
        </p:grpSpPr>
        <p:sp>
          <p:nvSpPr>
            <p:cNvPr id="319" name="Line 67"/>
            <p:cNvSpPr/>
            <p:nvPr/>
          </p:nvSpPr>
          <p:spPr>
            <a:xfrm>
              <a:off x="3655800" y="99036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8"/>
            <p:cNvSpPr/>
            <p:nvPr/>
          </p:nvSpPr>
          <p:spPr>
            <a:xfrm>
              <a:off x="3591360" y="380880"/>
              <a:ext cx="29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9"/>
            <p:cNvSpPr/>
            <p:nvPr/>
          </p:nvSpPr>
          <p:spPr>
            <a:xfrm>
              <a:off x="4730040" y="99036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250920" y="5229360"/>
            <a:ext cx="8642160" cy="1368360"/>
          </a:xfrm>
          <a:prstGeom prst="rect">
            <a:avLst/>
          </a:prstGeom>
          <a:solidFill>
            <a:srgbClr val="cc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7773480" y="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24000" y="333360"/>
            <a:ext cx="7559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Запишите степень с основанием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, которую можно представить и в виде квадрата, и в виде куба, и в виде четвертой степени, и в виде  пятой степен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Group 13"/>
          <p:cNvGrpSpPr/>
          <p:nvPr/>
        </p:nvGrpSpPr>
        <p:grpSpPr>
          <a:xfrm>
            <a:off x="420120" y="3429000"/>
            <a:ext cx="8110440" cy="1557000"/>
            <a:chOff x="420120" y="3429000"/>
            <a:chExt cx="8110440" cy="1557000"/>
          </a:xfrm>
        </p:grpSpPr>
        <p:sp>
          <p:nvSpPr>
            <p:cNvPr id="327" name="Text Box 10"/>
            <p:cNvSpPr/>
            <p:nvPr/>
          </p:nvSpPr>
          <p:spPr>
            <a:xfrm>
              <a:off x="420120" y="3429000"/>
              <a:ext cx="103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ru-RU" sz="9600" spc="-1" strike="noStrike" baseline="30000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1477080" y="3429000"/>
              <a:ext cx="7053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</a:t>
              </a:r>
              <a:r>
                <a:rPr b="0" lang="en-US" sz="9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75120" y="5373720"/>
            <a:ext cx="8262000" cy="1099440"/>
            <a:chOff x="375120" y="5373720"/>
            <a:chExt cx="8262000" cy="1099440"/>
          </a:xfrm>
        </p:grpSpPr>
        <p:sp>
          <p:nvSpPr>
            <p:cNvPr id="330" name="Text Box 15"/>
            <p:cNvSpPr/>
            <p:nvPr/>
          </p:nvSpPr>
          <p:spPr>
            <a:xfrm>
              <a:off x="375120" y="5448240"/>
              <a:ext cx="88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1154520" y="5373720"/>
              <a:ext cx="7482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30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20 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12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5444280" y="3933720"/>
            <a:ext cx="2900160" cy="7034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5385240" y="5877000"/>
            <a:ext cx="3386520" cy="7034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37"/>
          <p:cNvGrpSpPr/>
          <p:nvPr/>
        </p:nvGrpSpPr>
        <p:grpSpPr>
          <a:xfrm>
            <a:off x="611280" y="3716280"/>
            <a:ext cx="4633920" cy="2088360"/>
            <a:chOff x="611280" y="3716280"/>
            <a:chExt cx="4633920" cy="2088360"/>
          </a:xfrm>
        </p:grpSpPr>
        <p:sp>
          <p:nvSpPr>
            <p:cNvPr id="336" name="Text Box 7"/>
            <p:cNvSpPr/>
            <p:nvPr/>
          </p:nvSpPr>
          <p:spPr>
            <a:xfrm>
              <a:off x="1693800" y="3716280"/>
              <a:ext cx="5875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8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611280" y="4923000"/>
              <a:ext cx="720720" cy="6984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8"/>
            <p:cNvSpPr/>
            <p:nvPr/>
          </p:nvSpPr>
          <p:spPr>
            <a:xfrm>
              <a:off x="3421440" y="4705200"/>
              <a:ext cx="65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312200" y="450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2988720" y="450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4860360" y="4560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23"/>
            <p:cNvSpPr/>
            <p:nvPr/>
          </p:nvSpPr>
          <p:spPr>
            <a:xfrm>
              <a:off x="2280240" y="4797360"/>
              <a:ext cx="99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24"/>
            <p:cNvSpPr/>
            <p:nvPr/>
          </p:nvSpPr>
          <p:spPr>
            <a:xfrm>
              <a:off x="4151880" y="4849920"/>
              <a:ext cx="99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(2</a:t>
              </a:r>
              <a:r>
                <a:rPr b="0" lang="ru-RU" sz="44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11280" y="1916280"/>
            <a:ext cx="4633920" cy="2088000"/>
            <a:chOff x="611280" y="1916280"/>
            <a:chExt cx="4633920" cy="2088000"/>
          </a:xfrm>
        </p:grpSpPr>
        <p:sp>
          <p:nvSpPr>
            <p:cNvPr id="345" name="Text Box 28"/>
            <p:cNvSpPr/>
            <p:nvPr/>
          </p:nvSpPr>
          <p:spPr>
            <a:xfrm>
              <a:off x="1836720" y="1916280"/>
              <a:ext cx="5875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8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11280" y="2707920"/>
              <a:ext cx="4633920" cy="1296360"/>
              <a:chOff x="611280" y="2707920"/>
              <a:chExt cx="4633920" cy="1296360"/>
            </a:xfrm>
          </p:grpSpPr>
          <p:sp>
            <p:nvSpPr>
              <p:cNvPr id="347" name="Rectangle 30"/>
              <p:cNvSpPr/>
              <p:nvPr/>
            </p:nvSpPr>
            <p:spPr>
              <a:xfrm>
                <a:off x="611280" y="3122280"/>
                <a:ext cx="720720" cy="6984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Text Box 31"/>
              <p:cNvSpPr/>
              <p:nvPr/>
            </p:nvSpPr>
            <p:spPr>
              <a:xfrm>
                <a:off x="3421440" y="2904840"/>
                <a:ext cx="6530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6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Text Box 32"/>
              <p:cNvSpPr/>
              <p:nvPr/>
            </p:nvSpPr>
            <p:spPr>
              <a:xfrm>
                <a:off x="1312560" y="2707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33"/>
              <p:cNvSpPr/>
              <p:nvPr/>
            </p:nvSpPr>
            <p:spPr>
              <a:xfrm>
                <a:off x="2844360" y="283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34"/>
              <p:cNvSpPr/>
              <p:nvPr/>
            </p:nvSpPr>
            <p:spPr>
              <a:xfrm>
                <a:off x="4860360" y="2760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35"/>
              <p:cNvSpPr/>
              <p:nvPr/>
            </p:nvSpPr>
            <p:spPr>
              <a:xfrm>
                <a:off x="2557080" y="31208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36"/>
              <p:cNvSpPr/>
              <p:nvPr/>
            </p:nvSpPr>
            <p:spPr>
              <a:xfrm>
                <a:off x="4151880" y="3049200"/>
                <a:ext cx="995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(2</a:t>
                </a:r>
                <a:r>
                  <a:rPr b="0" lang="ru-RU" sz="4400" spc="-1" strike="noStrike" baseline="30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Group 40"/>
          <p:cNvGrpSpPr/>
          <p:nvPr/>
        </p:nvGrpSpPr>
        <p:grpSpPr>
          <a:xfrm>
            <a:off x="324000" y="260280"/>
            <a:ext cx="8818920" cy="1922400"/>
            <a:chOff x="324000" y="260280"/>
            <a:chExt cx="8818920" cy="1922400"/>
          </a:xfrm>
        </p:grpSpPr>
        <p:sp>
          <p:nvSpPr>
            <p:cNvPr id="355" name="Text Box 2"/>
            <p:cNvSpPr/>
            <p:nvPr/>
          </p:nvSpPr>
          <p:spPr>
            <a:xfrm>
              <a:off x="324000" y="260280"/>
              <a:ext cx="7632720" cy="192240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Запиши вместо клеточки степень числа 2, так чтобы вышло верное равенство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8148240" y="907920"/>
              <a:ext cx="99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№</a:t>
              </a: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24000" y="260280"/>
            <a:ext cx="7127640" cy="253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Натуральное число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оканчивается единицей. Какой цифрой оканчивается степень числа 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а 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    с натуральным показателе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95280" y="4005360"/>
            <a:ext cx="684072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Для каких еще цифр выполняется аналогичное свойство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WordArt 6"/>
          <p:cNvSpPr txBox="1"/>
          <p:nvPr/>
        </p:nvSpPr>
        <p:spPr>
          <a:xfrm>
            <a:off x="826920" y="2997360"/>
            <a:ext cx="62596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 Цифрой 1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WordArt 7"/>
          <p:cNvSpPr txBox="1"/>
          <p:nvPr/>
        </p:nvSpPr>
        <p:spPr>
          <a:xfrm>
            <a:off x="684360" y="5516640"/>
            <a:ext cx="755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цифры 5 и цифры 6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849800" y="304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4000" y="1052640"/>
            <a:ext cx="6626160" cy="1739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Докажите, что при любом натуральном к,  число3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4к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оканчивается единиц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658240" y="4292640"/>
            <a:ext cx="3764160" cy="9169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4к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=(3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к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=81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741800" y="1557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10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304920" y="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ШЕСТЬСОТ ШЕСТЬДЕСЯТ Ш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228600" y="1143000"/>
            <a:ext cx="4267080" cy="1557000"/>
          </a:xfrm>
          <a:prstGeom prst="rect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Число 666 можно записать девятью циф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66=1+2+3+4+567+89=123+456+78+9=9+87+6+543+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72000" y="1600200"/>
            <a:ext cx="4191120" cy="1557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Число 666 можно записать как сумму первых 36 натур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666=1+2+3++……..+34+35+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0" y="3200400"/>
            <a:ext cx="4952880" cy="18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imes New Roman"/>
              </a:rPr>
              <a:t>Число 666 можно записать как сумму квадратов первых семи простых чисе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66=2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3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5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7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1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3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7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952880" y="3886200"/>
            <a:ext cx="3962520" cy="27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Число 666 можно записать как разность и сумму шестых степеней первых трех натуральных чисе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66=1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+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7"/>
          <p:cNvSpPr/>
          <p:nvPr/>
        </p:nvSpPr>
        <p:spPr>
          <a:xfrm flipV="1" rot="10800000">
            <a:off x="5850000" y="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«Здесь мудрость. Кто имеет ум, тот сочти число…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Откровение Иоанна Богосло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3480" y="5486400"/>
            <a:ext cx="274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Энциклопедия для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атематика. Том 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осква, «Аванта+», 199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302920" y="0"/>
            <a:ext cx="39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Одночлен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82920" y="944640"/>
            <a:ext cx="665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Определение одночлен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9"/>
          <p:cNvGrpSpPr/>
          <p:nvPr/>
        </p:nvGrpSpPr>
        <p:grpSpPr>
          <a:xfrm>
            <a:off x="468360" y="1700280"/>
            <a:ext cx="8351640" cy="1944720"/>
            <a:chOff x="468360" y="1700280"/>
            <a:chExt cx="8351640" cy="1944720"/>
          </a:xfrm>
        </p:grpSpPr>
        <p:sp>
          <p:nvSpPr>
            <p:cNvPr id="379" name="Text Box 5"/>
            <p:cNvSpPr/>
            <p:nvPr/>
          </p:nvSpPr>
          <p:spPr>
            <a:xfrm>
              <a:off x="611280" y="1700280"/>
              <a:ext cx="8208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Одночленом называется выражение, которое является произведением чисел, переменных и их степен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468360" y="1700280"/>
              <a:ext cx="0" cy="194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"/>
          <p:cNvGrpSpPr/>
          <p:nvPr/>
        </p:nvGrpSpPr>
        <p:grpSpPr>
          <a:xfrm>
            <a:off x="468360" y="3789360"/>
            <a:ext cx="8351640" cy="2531880"/>
            <a:chOff x="468360" y="3789360"/>
            <a:chExt cx="8351640" cy="2531880"/>
          </a:xfrm>
        </p:grpSpPr>
        <p:sp>
          <p:nvSpPr>
            <p:cNvPr id="382" name="Text Box 7"/>
            <p:cNvSpPr/>
            <p:nvPr/>
          </p:nvSpPr>
          <p:spPr>
            <a:xfrm>
              <a:off x="611280" y="3789360"/>
              <a:ext cx="8208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При умножении одночленов и возведении одночлена в степень используются правила умножения и возведения в степень степен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468360" y="4149720"/>
              <a:ext cx="0" cy="2016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18"/>
          <p:cNvSpPr/>
          <p:nvPr/>
        </p:nvSpPr>
        <p:spPr>
          <a:xfrm>
            <a:off x="1714680" y="1357200"/>
            <a:ext cx="2643120" cy="500040"/>
          </a:xfrm>
          <a:prstGeom prst="ellipse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вал 17"/>
          <p:cNvSpPr/>
          <p:nvPr/>
        </p:nvSpPr>
        <p:spPr>
          <a:xfrm>
            <a:off x="1857240" y="1357200"/>
            <a:ext cx="22860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j0344871"/>
          <p:cNvPicPr/>
          <p:nvPr/>
        </p:nvPicPr>
        <p:blipFill>
          <a:blip r:embed="rId1"/>
          <a:stretch/>
        </p:blipFill>
        <p:spPr>
          <a:xfrm>
            <a:off x="900000" y="806400"/>
            <a:ext cx="7417080" cy="5502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611280" y="549360"/>
            <a:ext cx="7489800" cy="343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251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ерево знаний</a:t>
            </a:r>
            <a:endParaRPr b="0" lang="en-US" sz="2400" spc="1" strike="noStrike">
              <a:ln w="936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861840" y="5661000"/>
            <a:ext cx="828216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0840" y="601992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прилеж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220120" y="6248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любозн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022800" y="633888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878360" y="57913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сообрази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133080" y="57913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19"/>
          <p:cNvSpPr/>
          <p:nvPr/>
        </p:nvSpPr>
        <p:spPr>
          <a:xfrm rot="19867800">
            <a:off x="1071720" y="2714760"/>
            <a:ext cx="2714400" cy="5713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0"/>
          <p:cNvSpPr/>
          <p:nvPr/>
        </p:nvSpPr>
        <p:spPr>
          <a:xfrm rot="246000">
            <a:off x="1500120" y="1357200"/>
            <a:ext cx="3071880" cy="571680"/>
          </a:xfrm>
          <a:prstGeom prst="ellipse">
            <a:avLst/>
          </a:prstGeom>
          <a:solidFill>
            <a:srgbClr val="60c9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22"/>
          <p:cNvSpPr/>
          <p:nvPr/>
        </p:nvSpPr>
        <p:spPr>
          <a:xfrm rot="822000">
            <a:off x="6184800" y="2790720"/>
            <a:ext cx="1911600" cy="5716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25"/>
          <p:cNvSpPr/>
          <p:nvPr/>
        </p:nvSpPr>
        <p:spPr>
          <a:xfrm>
            <a:off x="3357720" y="2428920"/>
            <a:ext cx="2931840" cy="10144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нглийскй            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Овал 26"/>
          <p:cNvSpPr/>
          <p:nvPr/>
        </p:nvSpPr>
        <p:spPr>
          <a:xfrm>
            <a:off x="3571920" y="1143000"/>
            <a:ext cx="2071800" cy="571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21"/>
          <p:cNvSpPr/>
          <p:nvPr/>
        </p:nvSpPr>
        <p:spPr>
          <a:xfrm rot="822000">
            <a:off x="5175360" y="1572840"/>
            <a:ext cx="2500200" cy="5716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24000" y="333360"/>
            <a:ext cx="7272360" cy="228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Можно ли данное выражение представить в виде квадрата одночлен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79760" y="3716280"/>
            <a:ext cx="14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81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08480" y="5516640"/>
            <a:ext cx="19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100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4475880" y="364500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-0,2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649400" y="5435640"/>
            <a:ext cx="268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(-3xy)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7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702520" y="386064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8103240" y="393372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2802960" y="558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7916400" y="54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1416600" y="4508640"/>
            <a:ext cx="14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(9ху)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45800" y="4508640"/>
            <a:ext cx="14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7813080" y="1125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250920" y="1197000"/>
            <a:ext cx="8569080" cy="3385800"/>
          </a:xfrm>
          <a:prstGeom prst="rect">
            <a:avLst/>
          </a:prstGeom>
          <a:solidFill>
            <a:srgbClr val="ccffcc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Заполни стрелу. В третьей клетке записывается произведение одночленов из первой и второй клеток, в четвертую записывается произведение одночленов из второй и третьей клеток и т.д. Найдите последний одночл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WordArt 3"/>
          <p:cNvSpPr txBox="1"/>
          <p:nvPr/>
        </p:nvSpPr>
        <p:spPr>
          <a:xfrm>
            <a:off x="1979640" y="333360"/>
            <a:ext cx="46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ела. 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745080" y="5300640"/>
            <a:ext cx="98568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753080" y="5300640"/>
            <a:ext cx="114300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6985080" y="5300640"/>
            <a:ext cx="147456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5905440" y="5300640"/>
            <a:ext cx="107964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50920" y="5300640"/>
            <a:ext cx="61092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826920" y="5300640"/>
            <a:ext cx="87948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2720880" y="5308560"/>
            <a:ext cx="1047960" cy="555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730520" y="5308560"/>
            <a:ext cx="985680" cy="555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7975440" y="5013360"/>
            <a:ext cx="1168560" cy="106200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657" y="0"/>
                </a:lnTo>
                <a:lnTo>
                  <a:pt x="21600" y="10800"/>
                </a:lnTo>
                <a:lnTo>
                  <a:pt x="7657" y="21600"/>
                </a:lnTo>
                <a:lnTo>
                  <a:pt x="0" y="21600"/>
                </a:lnTo>
                <a:lnTo>
                  <a:pt x="13943" y="1080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25440" y="522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792000" y="5229360"/>
            <a:ext cx="8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2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1658520" y="522936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2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2678040" y="5229360"/>
            <a:ext cx="10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x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3763080" y="52768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8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4699080" y="53006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32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3"/>
          <p:cNvSpPr/>
          <p:nvPr/>
        </p:nvSpPr>
        <p:spPr>
          <a:xfrm>
            <a:off x="5920200" y="53737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56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4"/>
          <p:cNvSpPr/>
          <p:nvPr/>
        </p:nvSpPr>
        <p:spPr>
          <a:xfrm>
            <a:off x="6969600" y="53737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192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2376360" y="5877000"/>
            <a:ext cx="38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8192x</a:t>
            </a:r>
            <a:r>
              <a:rPr b="0" lang="en-US" sz="4000" spc="-1" strike="noStrike" baseline="30000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7741080" y="26028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250920" y="260280"/>
            <a:ext cx="7416720" cy="43603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два одночлена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и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а другой в куб. Результаты перемножи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194840" y="4941720"/>
            <a:ext cx="6822360" cy="8251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3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82960" y="5805360"/>
            <a:ext cx="6861960" cy="825120"/>
          </a:xfrm>
          <a:prstGeom prst="rect">
            <a:avLst/>
          </a:prstGeom>
          <a:solidFill>
            <a:srgbClr val="ffc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3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868160" y="18446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24000" y="260280"/>
            <a:ext cx="7056360" cy="4360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два одночлен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и  4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а другой в куб. Результаты перемножил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128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2129040" y="4869000"/>
            <a:ext cx="6316200" cy="825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2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4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128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055240" y="5734080"/>
            <a:ext cx="635580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2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4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128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68000" y="8366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68360" y="260280"/>
            <a:ext cx="8240760" cy="119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кажите при каких значениях переменной  х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х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24000" y="1557360"/>
            <a:ext cx="3116160" cy="301860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Подсказка: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вспомним как располагаются графики функц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 = 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   у = 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3"/>
          <p:cNvGrpSpPr/>
          <p:nvPr/>
        </p:nvGrpSpPr>
        <p:grpSpPr>
          <a:xfrm>
            <a:off x="4146480" y="1614600"/>
            <a:ext cx="4997520" cy="5245200"/>
            <a:chOff x="4146480" y="1614600"/>
            <a:chExt cx="4997520" cy="5245200"/>
          </a:xfrm>
        </p:grpSpPr>
        <p:pic>
          <p:nvPicPr>
            <p:cNvPr id="433" name="Picture 4" descr="N2"/>
            <p:cNvPicPr/>
            <p:nvPr/>
          </p:nvPicPr>
          <p:blipFill>
            <a:blip r:embed="rId2"/>
            <a:srcRect l="34016" t="0" r="11339" b="28346"/>
            <a:stretch/>
          </p:blipFill>
          <p:spPr>
            <a:xfrm>
              <a:off x="4146480" y="1614600"/>
              <a:ext cx="499752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8"/>
            <p:cNvSpPr/>
            <p:nvPr/>
          </p:nvSpPr>
          <p:spPr>
            <a:xfrm>
              <a:off x="4363560" y="206064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9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9"/>
            <p:cNvSpPr/>
            <p:nvPr/>
          </p:nvSpPr>
          <p:spPr>
            <a:xfrm>
              <a:off x="5226840" y="627840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33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12"/>
          <p:cNvGrpSpPr/>
          <p:nvPr/>
        </p:nvGrpSpPr>
        <p:grpSpPr>
          <a:xfrm>
            <a:off x="4175280" y="1557360"/>
            <a:ext cx="4968720" cy="5300640"/>
            <a:chOff x="4175280" y="1557360"/>
            <a:chExt cx="4968720" cy="5300640"/>
          </a:xfrm>
        </p:grpSpPr>
        <p:pic>
          <p:nvPicPr>
            <p:cNvPr id="437" name="Picture 5" descr="N1"/>
            <p:cNvPicPr/>
            <p:nvPr/>
          </p:nvPicPr>
          <p:blipFill>
            <a:blip r:embed="rId3"/>
            <a:srcRect l="30237" t="0" r="11339" b="18897"/>
            <a:stretch/>
          </p:blipFill>
          <p:spPr>
            <a:xfrm>
              <a:off x="4175280" y="1557360"/>
              <a:ext cx="496872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0"/>
            <p:cNvSpPr/>
            <p:nvPr/>
          </p:nvSpPr>
          <p:spPr>
            <a:xfrm>
              <a:off x="4377240" y="230904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9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4702320" y="587448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33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Text Box 14"/>
          <p:cNvSpPr/>
          <p:nvPr/>
        </p:nvSpPr>
        <p:spPr>
          <a:xfrm>
            <a:off x="400680" y="5151600"/>
            <a:ext cx="3682800" cy="1130040"/>
          </a:xfrm>
          <a:prstGeom prst="rect">
            <a:avLst/>
          </a:prstGeom>
          <a:solidFill>
            <a:srgbClr val="cc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и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0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7525440" y="69228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7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7741800" y="333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90"/>
          <p:cNvSpPr/>
          <p:nvPr/>
        </p:nvSpPr>
        <p:spPr>
          <a:xfrm>
            <a:off x="6402240" y="182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276"/>
          <p:cNvGrpSpPr/>
          <p:nvPr/>
        </p:nvGrpSpPr>
        <p:grpSpPr>
          <a:xfrm>
            <a:off x="395280" y="1484280"/>
            <a:ext cx="8353440" cy="4681440"/>
            <a:chOff x="395280" y="1484280"/>
            <a:chExt cx="8353440" cy="4681440"/>
          </a:xfrm>
        </p:grpSpPr>
        <p:sp>
          <p:nvSpPr>
            <p:cNvPr id="446" name="Rectangle 273"/>
            <p:cNvSpPr/>
            <p:nvPr/>
          </p:nvSpPr>
          <p:spPr>
            <a:xfrm>
              <a:off x="395280" y="1484280"/>
              <a:ext cx="8353440" cy="4681440"/>
            </a:xfrm>
            <a:prstGeom prst="rect">
              <a:avLst/>
            </a:prstGeom>
            <a:solidFill>
              <a:srgbClr val="ccffff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Group 271"/>
            <p:cNvGrpSpPr/>
            <p:nvPr/>
          </p:nvGrpSpPr>
          <p:grpSpPr>
            <a:xfrm>
              <a:off x="466560" y="1700280"/>
              <a:ext cx="8281440" cy="3924720"/>
              <a:chOff x="466560" y="1700280"/>
              <a:chExt cx="8281440" cy="3924720"/>
            </a:xfrm>
          </p:grpSpPr>
          <p:sp>
            <p:nvSpPr>
              <p:cNvPr id="448" name="Text Box 3"/>
              <p:cNvSpPr/>
              <p:nvPr/>
            </p:nvSpPr>
            <p:spPr>
              <a:xfrm>
                <a:off x="466560" y="1700280"/>
                <a:ext cx="531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3333cc"/>
                    </a:solidFill>
                    <a:latin typeface="Times New Roman"/>
                  </a:rPr>
                  <a:t>Что больше А или В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Group 61"/>
              <p:cNvGrpSpPr/>
              <p:nvPr/>
            </p:nvGrpSpPr>
            <p:grpSpPr>
              <a:xfrm>
                <a:off x="694440" y="2635560"/>
                <a:ext cx="7457760" cy="2113200"/>
                <a:chOff x="694440" y="2635560"/>
                <a:chExt cx="7457760" cy="2113200"/>
              </a:xfrm>
            </p:grpSpPr>
            <p:sp>
              <p:nvSpPr>
                <p:cNvPr id="450" name="Text Box 4"/>
                <p:cNvSpPr/>
                <p:nvPr/>
              </p:nvSpPr>
              <p:spPr>
                <a:xfrm>
                  <a:off x="694440" y="2844360"/>
                  <a:ext cx="64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Text Box 5"/>
                <p:cNvSpPr/>
                <p:nvPr/>
              </p:nvSpPr>
              <p:spPr>
                <a:xfrm>
                  <a:off x="840600" y="4043160"/>
                  <a:ext cx="63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Group 39"/>
                <p:cNvGrpSpPr/>
                <p:nvPr/>
              </p:nvGrpSpPr>
              <p:grpSpPr>
                <a:xfrm>
                  <a:off x="1815840" y="2635560"/>
                  <a:ext cx="6214680" cy="954360"/>
                  <a:chOff x="1815840" y="2635560"/>
                  <a:chExt cx="6214680" cy="954360"/>
                </a:xfrm>
              </p:grpSpPr>
              <p:sp>
                <p:nvSpPr>
                  <p:cNvPr id="453" name="Text Box 6"/>
                  <p:cNvSpPr/>
                  <p:nvPr/>
                </p:nvSpPr>
                <p:spPr>
                  <a:xfrm>
                    <a:off x="1815840" y="2885400"/>
                    <a:ext cx="65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+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" name="Group 10"/>
                  <p:cNvGrpSpPr/>
                  <p:nvPr/>
                </p:nvGrpSpPr>
                <p:grpSpPr>
                  <a:xfrm>
                    <a:off x="2789640" y="2635560"/>
                    <a:ext cx="852840" cy="954360"/>
                    <a:chOff x="2789640" y="2635560"/>
                    <a:chExt cx="852840" cy="954360"/>
                  </a:xfrm>
                </p:grpSpPr>
                <p:sp>
                  <p:nvSpPr>
                    <p:cNvPr id="455" name="Line 7"/>
                    <p:cNvSpPr/>
                    <p:nvPr/>
                  </p:nvSpPr>
                  <p:spPr>
                    <a:xfrm>
                      <a:off x="278964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Text Box 8"/>
                    <p:cNvSpPr/>
                    <p:nvPr/>
                  </p:nvSpPr>
                  <p:spPr>
                    <a:xfrm>
                      <a:off x="2909880" y="313020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Text Box 9"/>
                    <p:cNvSpPr/>
                    <p:nvPr/>
                  </p:nvSpPr>
                  <p:spPr>
                    <a:xfrm>
                      <a:off x="290988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8" name="Group 11"/>
                  <p:cNvGrpSpPr/>
                  <p:nvPr/>
                </p:nvGrpSpPr>
                <p:grpSpPr>
                  <a:xfrm>
                    <a:off x="4252320" y="2635560"/>
                    <a:ext cx="852840" cy="954360"/>
                    <a:chOff x="4252320" y="2635560"/>
                    <a:chExt cx="852840" cy="954360"/>
                  </a:xfrm>
                </p:grpSpPr>
                <p:sp>
                  <p:nvSpPr>
                    <p:cNvPr id="459" name="Line 12"/>
                    <p:cNvSpPr/>
                    <p:nvPr/>
                  </p:nvSpPr>
                  <p:spPr>
                    <a:xfrm>
                      <a:off x="425232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Text Box 13"/>
                    <p:cNvSpPr/>
                    <p:nvPr/>
                  </p:nvSpPr>
                  <p:spPr>
                    <a:xfrm>
                      <a:off x="438228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Text Box 14"/>
                    <p:cNvSpPr/>
                    <p:nvPr/>
                  </p:nvSpPr>
                  <p:spPr>
                    <a:xfrm>
                      <a:off x="437616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19"/>
                  <p:cNvGrpSpPr/>
                  <p:nvPr/>
                </p:nvGrpSpPr>
                <p:grpSpPr>
                  <a:xfrm>
                    <a:off x="5592960" y="2635560"/>
                    <a:ext cx="852840" cy="954360"/>
                    <a:chOff x="5592960" y="2635560"/>
                    <a:chExt cx="852840" cy="954360"/>
                  </a:xfrm>
                </p:grpSpPr>
                <p:sp>
                  <p:nvSpPr>
                    <p:cNvPr id="463" name="Line 20"/>
                    <p:cNvSpPr/>
                    <p:nvPr/>
                  </p:nvSpPr>
                  <p:spPr>
                    <a:xfrm>
                      <a:off x="559296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Text Box 21"/>
                    <p:cNvSpPr/>
                    <p:nvPr/>
                  </p:nvSpPr>
                  <p:spPr>
                    <a:xfrm>
                      <a:off x="572436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Text Box 22"/>
                    <p:cNvSpPr/>
                    <p:nvPr/>
                  </p:nvSpPr>
                  <p:spPr>
                    <a:xfrm>
                      <a:off x="571824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6" name="Group 27"/>
                  <p:cNvGrpSpPr/>
                  <p:nvPr/>
                </p:nvGrpSpPr>
                <p:grpSpPr>
                  <a:xfrm>
                    <a:off x="7177680" y="2635560"/>
                    <a:ext cx="852840" cy="954360"/>
                    <a:chOff x="7177680" y="2635560"/>
                    <a:chExt cx="852840" cy="954360"/>
                  </a:xfrm>
                </p:grpSpPr>
                <p:sp>
                  <p:nvSpPr>
                    <p:cNvPr id="467" name="Line 28"/>
                    <p:cNvSpPr/>
                    <p:nvPr/>
                  </p:nvSpPr>
                  <p:spPr>
                    <a:xfrm>
                      <a:off x="717768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29"/>
                    <p:cNvSpPr/>
                    <p:nvPr/>
                  </p:nvSpPr>
                  <p:spPr>
                    <a:xfrm>
                      <a:off x="730764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Text Box 30"/>
                    <p:cNvSpPr/>
                    <p:nvPr/>
                  </p:nvSpPr>
                  <p:spPr>
                    <a:xfrm>
                      <a:off x="730152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0" name="Rectangle 36"/>
                  <p:cNvSpPr/>
                  <p:nvPr/>
                </p:nvSpPr>
                <p:spPr>
                  <a:xfrm>
                    <a:off x="6208920" y="2885400"/>
                    <a:ext cx="581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Rectangle 37"/>
                  <p:cNvSpPr/>
                  <p:nvPr/>
                </p:nvSpPr>
                <p:spPr>
                  <a:xfrm>
                    <a:off x="5111640" y="2885400"/>
                    <a:ext cx="35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Rectangle 38"/>
                  <p:cNvSpPr/>
                  <p:nvPr/>
                </p:nvSpPr>
                <p:spPr>
                  <a:xfrm>
                    <a:off x="3643920" y="2885400"/>
                    <a:ext cx="50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Group 40"/>
                <p:cNvGrpSpPr/>
                <p:nvPr/>
              </p:nvGrpSpPr>
              <p:grpSpPr>
                <a:xfrm>
                  <a:off x="1937520" y="3794760"/>
                  <a:ext cx="6214680" cy="954000"/>
                  <a:chOff x="1937520" y="3794760"/>
                  <a:chExt cx="6214680" cy="954000"/>
                </a:xfrm>
              </p:grpSpPr>
              <p:sp>
                <p:nvSpPr>
                  <p:cNvPr id="474" name="Text Box 41"/>
                  <p:cNvSpPr/>
                  <p:nvPr/>
                </p:nvSpPr>
                <p:spPr>
                  <a:xfrm>
                    <a:off x="1937520" y="4039200"/>
                    <a:ext cx="65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+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5" name="Group 42"/>
                  <p:cNvGrpSpPr/>
                  <p:nvPr/>
                </p:nvGrpSpPr>
                <p:grpSpPr>
                  <a:xfrm>
                    <a:off x="2911320" y="3794760"/>
                    <a:ext cx="852840" cy="954000"/>
                    <a:chOff x="2911320" y="3794760"/>
                    <a:chExt cx="852840" cy="954000"/>
                  </a:xfrm>
                </p:grpSpPr>
                <p:sp>
                  <p:nvSpPr>
                    <p:cNvPr id="476" name="Line 43"/>
                    <p:cNvSpPr/>
                    <p:nvPr/>
                  </p:nvSpPr>
                  <p:spPr>
                    <a:xfrm>
                      <a:off x="291132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Text Box 44"/>
                    <p:cNvSpPr/>
                    <p:nvPr/>
                  </p:nvSpPr>
                  <p:spPr>
                    <a:xfrm>
                      <a:off x="3030120" y="42890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Text Box 45"/>
                    <p:cNvSpPr/>
                    <p:nvPr/>
                  </p:nvSpPr>
                  <p:spPr>
                    <a:xfrm>
                      <a:off x="303012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" name="Group 46"/>
                  <p:cNvGrpSpPr/>
                  <p:nvPr/>
                </p:nvGrpSpPr>
                <p:grpSpPr>
                  <a:xfrm>
                    <a:off x="4374000" y="3794760"/>
                    <a:ext cx="852840" cy="954000"/>
                    <a:chOff x="4374000" y="3794760"/>
                    <a:chExt cx="852840" cy="954000"/>
                  </a:xfrm>
                </p:grpSpPr>
                <p:sp>
                  <p:nvSpPr>
                    <p:cNvPr id="480" name="Line 47"/>
                    <p:cNvSpPr/>
                    <p:nvPr/>
                  </p:nvSpPr>
                  <p:spPr>
                    <a:xfrm>
                      <a:off x="437400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Text Box 48"/>
                    <p:cNvSpPr/>
                    <p:nvPr/>
                  </p:nvSpPr>
                  <p:spPr>
                    <a:xfrm>
                      <a:off x="450180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Text Box 49"/>
                    <p:cNvSpPr/>
                    <p:nvPr/>
                  </p:nvSpPr>
                  <p:spPr>
                    <a:xfrm>
                      <a:off x="449280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" name="Group 50"/>
                  <p:cNvGrpSpPr/>
                  <p:nvPr/>
                </p:nvGrpSpPr>
                <p:grpSpPr>
                  <a:xfrm>
                    <a:off x="5714640" y="3794760"/>
                    <a:ext cx="852840" cy="954000"/>
                    <a:chOff x="5714640" y="3794760"/>
                    <a:chExt cx="852840" cy="954000"/>
                  </a:xfrm>
                </p:grpSpPr>
                <p:sp>
                  <p:nvSpPr>
                    <p:cNvPr id="484" name="Line 51"/>
                    <p:cNvSpPr/>
                    <p:nvPr/>
                  </p:nvSpPr>
                  <p:spPr>
                    <a:xfrm>
                      <a:off x="571464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Text Box 52"/>
                    <p:cNvSpPr/>
                    <p:nvPr/>
                  </p:nvSpPr>
                  <p:spPr>
                    <a:xfrm>
                      <a:off x="584352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Text Box 53"/>
                    <p:cNvSpPr/>
                    <p:nvPr/>
                  </p:nvSpPr>
                  <p:spPr>
                    <a:xfrm>
                      <a:off x="583704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Group 54"/>
                  <p:cNvGrpSpPr/>
                  <p:nvPr/>
                </p:nvGrpSpPr>
                <p:grpSpPr>
                  <a:xfrm>
                    <a:off x="7299360" y="3794760"/>
                    <a:ext cx="852840" cy="954000"/>
                    <a:chOff x="7299360" y="3794760"/>
                    <a:chExt cx="852840" cy="954000"/>
                  </a:xfrm>
                </p:grpSpPr>
                <p:sp>
                  <p:nvSpPr>
                    <p:cNvPr id="488" name="Line 55"/>
                    <p:cNvSpPr/>
                    <p:nvPr/>
                  </p:nvSpPr>
                  <p:spPr>
                    <a:xfrm>
                      <a:off x="729936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Text Box 56"/>
                    <p:cNvSpPr/>
                    <p:nvPr/>
                  </p:nvSpPr>
                  <p:spPr>
                    <a:xfrm>
                      <a:off x="742716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Text Box 57"/>
                    <p:cNvSpPr/>
                    <p:nvPr/>
                  </p:nvSpPr>
                  <p:spPr>
                    <a:xfrm>
                      <a:off x="742068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" name="Rectangle 58"/>
                  <p:cNvSpPr/>
                  <p:nvPr/>
                </p:nvSpPr>
                <p:spPr>
                  <a:xfrm>
                    <a:off x="6325560" y="4039200"/>
                    <a:ext cx="581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Rectangle 59"/>
                  <p:cNvSpPr/>
                  <p:nvPr/>
                </p:nvSpPr>
                <p:spPr>
                  <a:xfrm>
                    <a:off x="5228640" y="4039200"/>
                    <a:ext cx="35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60"/>
                  <p:cNvSpPr/>
                  <p:nvPr/>
                </p:nvSpPr>
                <p:spPr>
                  <a:xfrm>
                    <a:off x="3757680" y="4039200"/>
                    <a:ext cx="50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4" name="Text Box 171"/>
              <p:cNvSpPr/>
              <p:nvPr/>
            </p:nvSpPr>
            <p:spPr>
              <a:xfrm>
                <a:off x="8006040" y="2872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62"/>
              <p:cNvSpPr/>
              <p:nvPr/>
            </p:nvSpPr>
            <p:spPr>
              <a:xfrm>
                <a:off x="803880" y="4677840"/>
                <a:ext cx="7944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Times New Roman"/>
                  </a:rPr>
                  <a:t>Подсказка: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  Рассмотрите разность  А-В и сравните ее значение с нулем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WordArt 275"/>
          <p:cNvSpPr txBox="1"/>
          <p:nvPr/>
        </p:nvSpPr>
        <p:spPr>
          <a:xfrm>
            <a:off x="428760" y="260280"/>
            <a:ext cx="7072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ительное зад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468360" y="1844640"/>
            <a:ext cx="8209080" cy="3750840"/>
          </a:xfrm>
          <a:prstGeom prst="rect">
            <a:avLst/>
          </a:prstGeom>
          <a:solidFill>
            <a:srgbClr val="ff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три одночлена: 2а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4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и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8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Один из этих одночленов лишний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и один возвели в куб, результаты перемножили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51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452720" y="333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214200" y="260280"/>
            <a:ext cx="7143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ительное зад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2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50920" y="404640"/>
            <a:ext cx="3507840" cy="3742920"/>
            <a:chOff x="250920" y="404640"/>
            <a:chExt cx="3507840" cy="3742920"/>
          </a:xfrm>
        </p:grpSpPr>
        <p:grpSp>
          <p:nvGrpSpPr>
            <p:cNvPr id="503" name="Group 6"/>
            <p:cNvGrpSpPr/>
            <p:nvPr/>
          </p:nvGrpSpPr>
          <p:grpSpPr>
            <a:xfrm>
              <a:off x="250920" y="1052280"/>
              <a:ext cx="3507840" cy="3095280"/>
              <a:chOff x="250920" y="1052280"/>
              <a:chExt cx="3507840" cy="3095280"/>
            </a:xfrm>
          </p:grpSpPr>
          <p:pic>
            <p:nvPicPr>
              <p:cNvPr id="504" name="Picture 4" descr="j0300097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052280"/>
                <a:ext cx="3507840" cy="30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AutoShape 5"/>
              <p:cNvSpPr/>
              <p:nvPr/>
            </p:nvSpPr>
            <p:spPr>
              <a:xfrm>
                <a:off x="802800" y="1802880"/>
                <a:ext cx="2413440" cy="1686960"/>
              </a:xfrm>
              <a:prstGeom prst="smileyFace">
                <a:avLst>
                  <a:gd name="adj" fmla="val 9282"/>
                </a:avLst>
              </a:prstGeom>
              <a:solidFill>
                <a:srgbClr val="ff505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WordArt 7"/>
            <p:cNvSpPr txBox="1"/>
            <p:nvPr/>
          </p:nvSpPr>
          <p:spPr>
            <a:xfrm>
              <a:off x="539640" y="404640"/>
              <a:ext cx="3095640" cy="884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Плод знаний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7" name="WordArt 9"/>
          <p:cNvSpPr txBox="1"/>
          <p:nvPr/>
        </p:nvSpPr>
        <p:spPr>
          <a:xfrm>
            <a:off x="3492360" y="2060640"/>
            <a:ext cx="5238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 свидания!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ходите еще!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35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477080" y="428760"/>
            <a:ext cx="675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Ветвь 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83560" y="300024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72920" y="26668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 flipV="1" rot="10800000">
            <a:off x="5105160" y="1218240"/>
            <a:ext cx="3809880" cy="1557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озведение в степень иногда называют пятым математическим действ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4920" y="1143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Представления о возведении в степень встречаются уже в самых древних математических текстах, например, в Древнем Египте и Междуреч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920" y="4191120"/>
            <a:ext cx="30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Диофант Александрийский описывал степени так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3429000" y="3429000"/>
            <a:ext cx="5486400" cy="3200400"/>
            <a:chOff x="3429000" y="3429000"/>
            <a:chExt cx="5486400" cy="3200400"/>
          </a:xfrm>
        </p:grpSpPr>
        <p:sp>
          <p:nvSpPr>
            <p:cNvPr id="75" name="AutoShape 8"/>
            <p:cNvSpPr/>
            <p:nvPr/>
          </p:nvSpPr>
          <p:spPr>
            <a:xfrm>
              <a:off x="3429000" y="3429000"/>
              <a:ext cx="5486400" cy="3200400"/>
            </a:xfrm>
            <a:prstGeom prst="foldedCorner">
              <a:avLst>
                <a:gd name="adj" fmla="val 2916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3886200" y="3657600"/>
              <a:ext cx="46483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реди чисел находятся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получающиеся от умножения числа самого на себя, это же число называется стороной квадрата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тем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получающиеся от умножения квадратов на их сторону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о-квадрат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о-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убо-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WordArt 6"/>
          <p:cNvSpPr txBox="1"/>
          <p:nvPr/>
        </p:nvSpPr>
        <p:spPr>
          <a:xfrm>
            <a:off x="1676520" y="0"/>
            <a:ext cx="504828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Немного истори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28600" y="22860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дним из первых, к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конце 16 века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предпринял шаги к построению современной теории степеней, был нидерландский математик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он Стевин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Он обозначал неизвестную величину кружком, а внутри него указывал показатель степени. Он же предложил называть степени по их показателям - четвертой, пятой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4876920"/>
            <a:ext cx="5791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временные обозначения степ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ы находим у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Рене Декар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382960" y="60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23"/>
          <p:cNvGrpSpPr/>
          <p:nvPr/>
        </p:nvGrpSpPr>
        <p:grpSpPr>
          <a:xfrm>
            <a:off x="7315200" y="609480"/>
            <a:ext cx="533520" cy="581400"/>
            <a:chOff x="7315200" y="609480"/>
            <a:chExt cx="533520" cy="581400"/>
          </a:xfrm>
        </p:grpSpPr>
        <p:sp>
          <p:nvSpPr>
            <p:cNvPr id="83" name="Oval 4"/>
            <p:cNvSpPr/>
            <p:nvPr/>
          </p:nvSpPr>
          <p:spPr>
            <a:xfrm>
              <a:off x="7315200" y="60948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7392600" y="60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8"/>
          <p:cNvSpPr/>
          <p:nvPr/>
        </p:nvSpPr>
        <p:spPr>
          <a:xfrm>
            <a:off x="8314920" y="14479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24"/>
          <p:cNvGrpSpPr/>
          <p:nvPr/>
        </p:nvGrpSpPr>
        <p:grpSpPr>
          <a:xfrm>
            <a:off x="7315200" y="1523880"/>
            <a:ext cx="533520" cy="581400"/>
            <a:chOff x="7315200" y="1523880"/>
            <a:chExt cx="533520" cy="581400"/>
          </a:xfrm>
        </p:grpSpPr>
        <p:sp>
          <p:nvSpPr>
            <p:cNvPr id="87" name="Oval 5"/>
            <p:cNvSpPr/>
            <p:nvPr/>
          </p:nvSpPr>
          <p:spPr>
            <a:xfrm>
              <a:off x="7315200" y="152388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7392600" y="1523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8391240" y="25146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5"/>
          <p:cNvGrpSpPr/>
          <p:nvPr/>
        </p:nvGrpSpPr>
        <p:grpSpPr>
          <a:xfrm>
            <a:off x="7315200" y="2590920"/>
            <a:ext cx="533520" cy="581400"/>
            <a:chOff x="7315200" y="2590920"/>
            <a:chExt cx="533520" cy="581400"/>
          </a:xfrm>
        </p:grpSpPr>
        <p:sp>
          <p:nvSpPr>
            <p:cNvPr id="91" name="Oval 6"/>
            <p:cNvSpPr/>
            <p:nvPr/>
          </p:nvSpPr>
          <p:spPr>
            <a:xfrm>
              <a:off x="7315200" y="2590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7392600" y="259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9"/>
          <p:cNvGrpSpPr/>
          <p:nvPr/>
        </p:nvGrpSpPr>
        <p:grpSpPr>
          <a:xfrm>
            <a:off x="6562440" y="4997520"/>
            <a:ext cx="1927440" cy="1527480"/>
            <a:chOff x="6562440" y="4997520"/>
            <a:chExt cx="1927440" cy="1527480"/>
          </a:xfrm>
        </p:grpSpPr>
        <p:sp>
          <p:nvSpPr>
            <p:cNvPr id="94" name="Text Box 16"/>
            <p:cNvSpPr/>
            <p:nvPr/>
          </p:nvSpPr>
          <p:spPr>
            <a:xfrm>
              <a:off x="6777720" y="4997520"/>
              <a:ext cx="51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ru-RU" sz="36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8010360" y="525780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6562440" y="59436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х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6120" y="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49160" y="981000"/>
            <a:ext cx="549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пределение степен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2"/>
          <p:cNvGrpSpPr/>
          <p:nvPr/>
        </p:nvGrpSpPr>
        <p:grpSpPr>
          <a:xfrm>
            <a:off x="610920" y="1268280"/>
            <a:ext cx="8085240" cy="3430440"/>
            <a:chOff x="610920" y="1268280"/>
            <a:chExt cx="8085240" cy="3430440"/>
          </a:xfrm>
        </p:grpSpPr>
        <p:sp>
          <p:nvSpPr>
            <p:cNvPr id="101" name="Text Box 5"/>
            <p:cNvSpPr/>
            <p:nvPr/>
          </p:nvSpPr>
          <p:spPr>
            <a:xfrm>
              <a:off x="826920" y="1557360"/>
              <a:ext cx="78692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Степенью числа а с натуральным показателем 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, большим 1, называется произведение 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 множителей, каждый из которых равен а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610920" y="1268280"/>
              <a:ext cx="21960" cy="3380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1388520" y="4495680"/>
            <a:ext cx="3485160" cy="1725120"/>
            <a:chOff x="1388520" y="4495680"/>
            <a:chExt cx="3485160" cy="1725120"/>
          </a:xfrm>
        </p:grpSpPr>
        <p:sp>
          <p:nvSpPr>
            <p:cNvPr id="104" name="Text Box 8"/>
            <p:cNvSpPr/>
            <p:nvPr/>
          </p:nvSpPr>
          <p:spPr>
            <a:xfrm>
              <a:off x="1388520" y="4495680"/>
              <a:ext cx="3485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4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аааа…..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 rot="5400000">
              <a:off x="3618360" y="4177080"/>
              <a:ext cx="173160" cy="23241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60480 h 2324160"/>
                <a:gd name="textAreaBottom" fmla="*/ 2263680 h 23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3120480" y="5395680"/>
              <a:ext cx="145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 раз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1"/>
          <p:cNvSpPr/>
          <p:nvPr/>
        </p:nvSpPr>
        <p:spPr>
          <a:xfrm>
            <a:off x="6642720" y="4952880"/>
            <a:ext cx="15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7240" y="-22860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5640" y="685800"/>
            <a:ext cx="589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Умножение степеней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8"/>
          <p:cNvGrpSpPr/>
          <p:nvPr/>
        </p:nvGrpSpPr>
        <p:grpSpPr>
          <a:xfrm>
            <a:off x="5486400" y="2895480"/>
            <a:ext cx="3456000" cy="825120"/>
            <a:chOff x="5486400" y="2895480"/>
            <a:chExt cx="3456000" cy="825120"/>
          </a:xfrm>
        </p:grpSpPr>
        <p:sp>
          <p:nvSpPr>
            <p:cNvPr id="112" name="Rectangle 13"/>
            <p:cNvSpPr/>
            <p:nvPr/>
          </p:nvSpPr>
          <p:spPr>
            <a:xfrm>
              <a:off x="5486400" y="2971800"/>
              <a:ext cx="3456000" cy="719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5873040" y="2895480"/>
              <a:ext cx="2746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4800" spc="-1" strike="noStrike">
                  <a:solidFill>
                    <a:srgbClr val="3333cc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+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324000" y="907920"/>
            <a:ext cx="8377200" cy="2667240"/>
            <a:chOff x="324000" y="907920"/>
            <a:chExt cx="8377200" cy="2667240"/>
          </a:xfrm>
        </p:grpSpPr>
        <p:sp>
          <p:nvSpPr>
            <p:cNvPr id="115" name="Text Box 5"/>
            <p:cNvSpPr/>
            <p:nvPr/>
          </p:nvSpPr>
          <p:spPr>
            <a:xfrm>
              <a:off x="457200" y="1371600"/>
              <a:ext cx="82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умножении степеней с одинаковыми основаниями  основание оставляют прежним, а  показатели степеней складыв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4000" y="907920"/>
              <a:ext cx="0" cy="2667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837360" y="3581280"/>
            <a:ext cx="50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Деление степеней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324000" y="4005360"/>
            <a:ext cx="8453160" cy="1873080"/>
            <a:chOff x="324000" y="4005360"/>
            <a:chExt cx="8453160" cy="1873080"/>
          </a:xfrm>
        </p:grpSpPr>
        <p:sp>
          <p:nvSpPr>
            <p:cNvPr id="119" name="Text Box 9"/>
            <p:cNvSpPr/>
            <p:nvPr/>
          </p:nvSpPr>
          <p:spPr>
            <a:xfrm>
              <a:off x="533520" y="4191120"/>
              <a:ext cx="824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делении степеней с одинаковыми основаниями  основание оставляют прежним, а  показатели степеней вычитаются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324000" y="4005360"/>
              <a:ext cx="0" cy="1873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5435640" y="5734080"/>
            <a:ext cx="3456000" cy="825120"/>
            <a:chOff x="5435640" y="5734080"/>
            <a:chExt cx="3456000" cy="825120"/>
          </a:xfrm>
        </p:grpSpPr>
        <p:sp>
          <p:nvSpPr>
            <p:cNvPr id="122" name="Rectangle 14"/>
            <p:cNvSpPr/>
            <p:nvPr/>
          </p:nvSpPr>
          <p:spPr>
            <a:xfrm>
              <a:off x="5435640" y="5805360"/>
              <a:ext cx="3456000" cy="719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5508720" y="5734080"/>
              <a:ext cx="333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: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4800" spc="-1" strike="noStrike">
                  <a:solidFill>
                    <a:srgbClr val="3333cc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а 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ru-RU" sz="48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9"/>
          <p:cNvGrpSpPr/>
          <p:nvPr/>
        </p:nvGrpSpPr>
        <p:grpSpPr>
          <a:xfrm>
            <a:off x="468360" y="5877000"/>
            <a:ext cx="4841640" cy="825120"/>
            <a:chOff x="468360" y="5877000"/>
            <a:chExt cx="4841640" cy="825120"/>
          </a:xfrm>
        </p:grpSpPr>
        <p:sp>
          <p:nvSpPr>
            <p:cNvPr id="125" name="Rectangle 15"/>
            <p:cNvSpPr/>
            <p:nvPr/>
          </p:nvSpPr>
          <p:spPr>
            <a:xfrm>
              <a:off x="468360" y="5950080"/>
              <a:ext cx="4713120" cy="679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552600" y="5877000"/>
              <a:ext cx="47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ru-RU" sz="48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= 1,  а </a:t>
              </a:r>
              <a:r>
                <a:rPr b="0" lang="ru-RU" sz="3600" spc="-1" strike="noStrike">
                  <a:solidFill>
                    <a:srgbClr val="3333cc"/>
                  </a:solidFill>
                  <a:latin typeface="Times New Roman"/>
                </a:rPr>
                <a:t>не равно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4960" y="-22860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42280" y="685800"/>
            <a:ext cx="890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озведение в степень произвед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457200" y="1219320"/>
            <a:ext cx="8453520" cy="1556280"/>
            <a:chOff x="457200" y="1219320"/>
            <a:chExt cx="8453520" cy="1556280"/>
          </a:xfrm>
        </p:grpSpPr>
        <p:sp>
          <p:nvSpPr>
            <p:cNvPr id="131" name="Text Box 4"/>
            <p:cNvSpPr/>
            <p:nvPr/>
          </p:nvSpPr>
          <p:spPr>
            <a:xfrm>
              <a:off x="609480" y="1219320"/>
              <a:ext cx="8301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возведении в степень произведения  возводят в эту степень каждый множитель и  результаты перемнож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457200" y="1371600"/>
              <a:ext cx="0" cy="1371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356040" y="3716280"/>
            <a:ext cx="76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озведение степени в степень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611280" y="3933720"/>
            <a:ext cx="8532720" cy="1988280"/>
            <a:chOff x="611280" y="3933720"/>
            <a:chExt cx="8532720" cy="1988280"/>
          </a:xfrm>
        </p:grpSpPr>
        <p:sp>
          <p:nvSpPr>
            <p:cNvPr id="135" name="Line 8"/>
            <p:cNvSpPr/>
            <p:nvPr/>
          </p:nvSpPr>
          <p:spPr>
            <a:xfrm>
              <a:off x="611280" y="3933720"/>
              <a:ext cx="0" cy="1943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843120" y="4365720"/>
              <a:ext cx="8300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возведении степени в степень основание оставляют тем же, а показатели  перемнож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5495040" y="2924280"/>
            <a:ext cx="3222720" cy="82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( ab )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= 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739480" y="5445000"/>
            <a:ext cx="2680200" cy="82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= 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404640"/>
            <a:ext cx="6356520" cy="119124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Найдите значение выражения, используя свойства степе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120" y="2421000"/>
            <a:ext cx="270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944600" y="2438280"/>
            <a:ext cx="27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(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3"/>
          <p:cNvGrpSpPr/>
          <p:nvPr/>
        </p:nvGrpSpPr>
        <p:grpSpPr>
          <a:xfrm>
            <a:off x="533520" y="3581280"/>
            <a:ext cx="596160" cy="1313280"/>
            <a:chOff x="533520" y="3581280"/>
            <a:chExt cx="596160" cy="1313280"/>
          </a:xfrm>
        </p:grpSpPr>
        <p:sp>
          <p:nvSpPr>
            <p:cNvPr id="144" name="Text Box 7"/>
            <p:cNvSpPr/>
            <p:nvPr/>
          </p:nvSpPr>
          <p:spPr>
            <a:xfrm>
              <a:off x="546480" y="35812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533520" y="4186080"/>
              <a:ext cx="576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546480" y="41911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1220400" y="3505320"/>
            <a:ext cx="1032120" cy="1389240"/>
            <a:chOff x="1220400" y="3505320"/>
            <a:chExt cx="1032120" cy="1389240"/>
          </a:xfrm>
        </p:grpSpPr>
        <p:sp>
          <p:nvSpPr>
            <p:cNvPr id="148" name="Text Box 11"/>
            <p:cNvSpPr/>
            <p:nvPr/>
          </p:nvSpPr>
          <p:spPr>
            <a:xfrm>
              <a:off x="1220400" y="38178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1537200" y="35053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676520" y="4191120"/>
              <a:ext cx="576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537200" y="41911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60"/>
          <p:cNvGrpSpPr/>
          <p:nvPr/>
        </p:nvGrpSpPr>
        <p:grpSpPr>
          <a:xfrm>
            <a:off x="1828800" y="5181480"/>
            <a:ext cx="1655640" cy="1465560"/>
            <a:chOff x="1828800" y="5181480"/>
            <a:chExt cx="1655640" cy="1465560"/>
          </a:xfrm>
        </p:grpSpPr>
        <p:sp>
          <p:nvSpPr>
            <p:cNvPr id="153" name="Text Box 17"/>
            <p:cNvSpPr/>
            <p:nvPr/>
          </p:nvSpPr>
          <p:spPr>
            <a:xfrm>
              <a:off x="1877400" y="5181480"/>
              <a:ext cx="140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 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828800" y="5913360"/>
              <a:ext cx="165564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082240" y="594360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61"/>
          <p:cNvGrpSpPr/>
          <p:nvPr/>
        </p:nvGrpSpPr>
        <p:grpSpPr>
          <a:xfrm>
            <a:off x="3430080" y="5181480"/>
            <a:ext cx="1442520" cy="1465560"/>
            <a:chOff x="3430080" y="5181480"/>
            <a:chExt cx="1442520" cy="1465560"/>
          </a:xfrm>
        </p:grpSpPr>
        <p:sp>
          <p:nvSpPr>
            <p:cNvPr id="157" name="Text Box 21"/>
            <p:cNvSpPr/>
            <p:nvPr/>
          </p:nvSpPr>
          <p:spPr>
            <a:xfrm>
              <a:off x="3887280" y="518148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2"/>
            <p:cNvSpPr/>
            <p:nvPr/>
          </p:nvSpPr>
          <p:spPr>
            <a:xfrm>
              <a:off x="3862440" y="5884920"/>
              <a:ext cx="93492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3887280" y="594360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3430080" y="559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55"/>
          <p:cNvGrpSpPr/>
          <p:nvPr/>
        </p:nvGrpSpPr>
        <p:grpSpPr>
          <a:xfrm>
            <a:off x="2363400" y="3809880"/>
            <a:ext cx="722880" cy="703440"/>
            <a:chOff x="2363400" y="3809880"/>
            <a:chExt cx="722880" cy="703440"/>
          </a:xfrm>
        </p:grpSpPr>
        <p:sp>
          <p:nvSpPr>
            <p:cNvPr id="162" name="Text Box 26"/>
            <p:cNvSpPr/>
            <p:nvPr/>
          </p:nvSpPr>
          <p:spPr>
            <a:xfrm>
              <a:off x="2363400" y="3809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7"/>
            <p:cNvSpPr/>
            <p:nvPr/>
          </p:nvSpPr>
          <p:spPr>
            <a:xfrm>
              <a:off x="265104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57"/>
          <p:cNvGrpSpPr/>
          <p:nvPr/>
        </p:nvGrpSpPr>
        <p:grpSpPr>
          <a:xfrm>
            <a:off x="5416560" y="3505320"/>
            <a:ext cx="1078200" cy="1401840"/>
            <a:chOff x="5416560" y="3505320"/>
            <a:chExt cx="1078200" cy="1401840"/>
          </a:xfrm>
        </p:grpSpPr>
        <p:sp>
          <p:nvSpPr>
            <p:cNvPr id="165" name="Text Box 31"/>
            <p:cNvSpPr/>
            <p:nvPr/>
          </p:nvSpPr>
          <p:spPr>
            <a:xfrm>
              <a:off x="5423400" y="35053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2"/>
            <p:cNvSpPr/>
            <p:nvPr/>
          </p:nvSpPr>
          <p:spPr>
            <a:xfrm>
              <a:off x="5416560" y="4203720"/>
              <a:ext cx="576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429520" y="42037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6027480" y="38228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8"/>
          <p:cNvGrpSpPr/>
          <p:nvPr/>
        </p:nvGrpSpPr>
        <p:grpSpPr>
          <a:xfrm>
            <a:off x="6426000" y="3505320"/>
            <a:ext cx="813240" cy="1401840"/>
            <a:chOff x="6426000" y="3505320"/>
            <a:chExt cx="813240" cy="1401840"/>
          </a:xfrm>
        </p:grpSpPr>
        <p:sp>
          <p:nvSpPr>
            <p:cNvPr id="170" name="Text Box 37"/>
            <p:cNvSpPr/>
            <p:nvPr/>
          </p:nvSpPr>
          <p:spPr>
            <a:xfrm>
              <a:off x="6426000" y="3505320"/>
              <a:ext cx="73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>
              <a:off x="6483240" y="4173480"/>
              <a:ext cx="576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39"/>
            <p:cNvSpPr/>
            <p:nvPr/>
          </p:nvSpPr>
          <p:spPr>
            <a:xfrm>
              <a:off x="6508440" y="4203720"/>
              <a:ext cx="73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59"/>
          <p:cNvGrpSpPr/>
          <p:nvPr/>
        </p:nvGrpSpPr>
        <p:grpSpPr>
          <a:xfrm>
            <a:off x="7002000" y="3809880"/>
            <a:ext cx="1587960" cy="703440"/>
            <a:chOff x="7002000" y="3809880"/>
            <a:chExt cx="1587960" cy="703440"/>
          </a:xfrm>
        </p:grpSpPr>
        <p:sp>
          <p:nvSpPr>
            <p:cNvPr id="174" name="Text Box 29"/>
            <p:cNvSpPr/>
            <p:nvPr/>
          </p:nvSpPr>
          <p:spPr>
            <a:xfrm>
              <a:off x="7794360" y="3809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40"/>
            <p:cNvGrpSpPr/>
            <p:nvPr/>
          </p:nvGrpSpPr>
          <p:grpSpPr>
            <a:xfrm>
              <a:off x="7002000" y="3809880"/>
              <a:ext cx="882360" cy="703440"/>
              <a:chOff x="7002000" y="3809880"/>
              <a:chExt cx="882360" cy="703440"/>
            </a:xfrm>
          </p:grpSpPr>
          <p:sp>
            <p:nvSpPr>
              <p:cNvPr id="176" name="Text Box 41"/>
              <p:cNvSpPr/>
              <p:nvPr/>
            </p:nvSpPr>
            <p:spPr>
              <a:xfrm>
                <a:off x="7002000" y="3809880"/>
                <a:ext cx="467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7301160" y="3809880"/>
                <a:ext cx="58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r>
                  <a:rPr b="0" lang="ru-RU" sz="4000" spc="-1" strike="noStrike" baseline="30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815472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4"/>
          <p:cNvGrpSpPr/>
          <p:nvPr/>
        </p:nvGrpSpPr>
        <p:grpSpPr>
          <a:xfrm>
            <a:off x="4895280" y="5597640"/>
            <a:ext cx="2185560" cy="703440"/>
            <a:chOff x="4895280" y="5597640"/>
            <a:chExt cx="2185560" cy="703440"/>
          </a:xfrm>
        </p:grpSpPr>
        <p:sp>
          <p:nvSpPr>
            <p:cNvPr id="180" name="Text Box 45"/>
            <p:cNvSpPr/>
            <p:nvPr/>
          </p:nvSpPr>
          <p:spPr>
            <a:xfrm>
              <a:off x="4895280" y="559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6"/>
            <p:cNvSpPr/>
            <p:nvPr/>
          </p:nvSpPr>
          <p:spPr>
            <a:xfrm>
              <a:off x="5193000" y="5597640"/>
              <a:ext cx="1887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2640240" y="2421000"/>
            <a:ext cx="1421280" cy="703440"/>
            <a:chOff x="2640240" y="2421000"/>
            <a:chExt cx="1421280" cy="703440"/>
          </a:xfrm>
        </p:grpSpPr>
        <p:sp>
          <p:nvSpPr>
            <p:cNvPr id="183" name="Text Box 48"/>
            <p:cNvSpPr/>
            <p:nvPr/>
          </p:nvSpPr>
          <p:spPr>
            <a:xfrm>
              <a:off x="2640240" y="242100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49"/>
            <p:cNvSpPr/>
            <p:nvPr/>
          </p:nvSpPr>
          <p:spPr>
            <a:xfrm>
              <a:off x="3085200" y="2421000"/>
              <a:ext cx="97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6"/>
          <p:cNvGrpSpPr/>
          <p:nvPr/>
        </p:nvGrpSpPr>
        <p:grpSpPr>
          <a:xfrm>
            <a:off x="7722000" y="2405160"/>
            <a:ext cx="1421280" cy="703440"/>
            <a:chOff x="7722000" y="2405160"/>
            <a:chExt cx="1421280" cy="703440"/>
          </a:xfrm>
        </p:grpSpPr>
        <p:sp>
          <p:nvSpPr>
            <p:cNvPr id="186" name="Text Box 50"/>
            <p:cNvSpPr/>
            <p:nvPr/>
          </p:nvSpPr>
          <p:spPr>
            <a:xfrm>
              <a:off x="7722000" y="240516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1"/>
            <p:cNvSpPr/>
            <p:nvPr/>
          </p:nvSpPr>
          <p:spPr>
            <a:xfrm>
              <a:off x="8166960" y="2405160"/>
              <a:ext cx="97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63"/>
          <p:cNvSpPr/>
          <p:nvPr/>
        </p:nvSpPr>
        <p:spPr>
          <a:xfrm>
            <a:off x="7741800" y="620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6:58:49Z</dcterms:created>
  <dc:creator>УЧИТЕЛЬ</dc:creator>
  <dc:description/>
  <dc:language>en-US</dc:language>
  <cp:lastModifiedBy>Преподаватель</cp:lastModifiedBy>
  <dcterms:modified xsi:type="dcterms:W3CDTF">2018-08-09T09:34:49Z</dcterms:modified>
  <cp:revision>63</cp:revision>
  <dc:subject/>
  <dc:title>Заголовок слайда отсутствует</dc:title>
</cp:coreProperties>
</file>