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428C-A8B2-4F8C-9B2D-A27FB800A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A806-94BA-4934-A6FA-9AD5953ED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5709-F740-43B7-AF64-42CA387A3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5533-5977-47F1-BB5E-B8C137B61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358A-526B-419F-9787-A19DECA01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EC50-52B5-40DC-8191-A3716D18E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A571-C895-4D9A-9B54-91A59790F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622A-C9BE-4DB0-ACDC-586DDC9CA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14E6-E734-44AE-9BDF-20A78D3C0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2D56-9832-4255-81AB-88442618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9115-AC95-4D83-8CD5-D14A3D70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9F6C-3DC6-48BA-82B6-E98325698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7637E-A311-4076-9AC9-798D0A0FD8F6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920" y="549360"/>
            <a:ext cx="7321680" cy="46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  <a:ea typeface="Cambria Math"/>
              </a:rPr>
              <a:t>Индивидуальная дифференцированная работа с обучающимися-инвалидами по ликвидации пробелов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42920" y="4437000"/>
            <a:ext cx="583272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Гимазетдинова Г.М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Преподаватель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«Профессионально-реабилитационного лицея»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279080" y="765000"/>
            <a:ext cx="61722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результатов входного контроля даёт возможность преподавателю и мастеру п/о выбрать адекватную методику обучения, сформировать мотивацию учения, назначить дополнительные занятия для неуспевающих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хс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511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чины  неуспеваемости: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бое развитие интеллекта, особенности психического развития, отсутствие познавательных интересов и низкая мотивация на обучение, пробелы в знаниях, неразвитость навыков учебного труда, несформированность общеучебных навыков и умений, отрицательное влияние внеучебной среды (семьи, сверстников), недостатки воспитательного влияния педколлектива и группы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7086600" cy="583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чинами неуспешности обучающихся являются следующие: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бый уровень знаний за курс школы, отсутствие мотивации на учебу, неэффективность индивидуальной работы, несвоевременный контроль со стороны мастера п/о, кл. рук., администрации, несвоевременность выставления оценок в журнал преподавателями и их анализ , что не дает возможности своевременного контроля и принятия мер, иногда отсутствие контакта между мастером и преподавателем, несоблюдение единых требований к обучающимся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042920" y="549360"/>
            <a:ext cx="741672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пыте работы СПО сложилась определённая система работы  по ликвидации пробелов знаний обучающихся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включает в себя следующее: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пределение уровня знаний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хс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материалу основной школы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пределение и работа по формированию общеучебных навыков и умений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бота по ликвидации пробелов у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хс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занятиях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вторения с использованием материала основной школы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существление контроля за ликвидацией пробелов у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хс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силение профессиональной направленности на всех занятиях позволяет теснее связать материал общепрофессионального цикла с профессиональной подготовкой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хся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1042920" y="620640"/>
            <a:ext cx="705816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Рекомендации: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ть целенаправленную работу с обучающимися, мотивированными на учебу через индивидуальный подход на занятиях, внеаудиторную самостоятельную работу, консультации, работу с родителями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еобходимо создать характеристику неуспевающего обучающегося, выяснить причины, наметить пути создания успешности для этих обучающихся, работать в контакте со всеми участниками образовательного процесса (обучающийся, мастер п/о, преподаватель, родители)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Педагогам сформировать индивидуальный образовательный маршрут дл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хс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ликвидации пробелов в знаниях, умениях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МО, РС поставить на контроль работу с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ся группы риска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Психологам проанализировать и провести беседы с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мис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меющими пробелы в знаниях, разработать методические рекомендации педагогам и родителям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042920" y="549000"/>
            <a:ext cx="590544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bb4"/>
                </a:solidFill>
                <a:latin typeface="Times New Roman"/>
                <a:ea typeface="Times New Roman"/>
              </a:rPr>
              <a:t>  </a:t>
            </a:r>
            <a:r>
              <a:rPr b="1" lang="ru-RU" sz="4400" spc="-1" strike="noStrike">
                <a:solidFill>
                  <a:srgbClr val="002bb4"/>
                </a:solidFill>
                <a:latin typeface="Times New Roman"/>
                <a:ea typeface="Times New Roman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8" name="Picture 6" descr="ALARM"/>
          <p:cNvPicPr/>
          <p:nvPr/>
        </p:nvPicPr>
        <p:blipFill>
          <a:blip r:embed="rId1"/>
          <a:stretch/>
        </p:blipFill>
        <p:spPr>
          <a:xfrm>
            <a:off x="3995640" y="3860640"/>
            <a:ext cx="1584360" cy="15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75564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й подход – важный психолого-педагогический принцип, учитывающий индивидуальные особенности каждого обучающегося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971640" y="1052280"/>
            <a:ext cx="741672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ность принципа индивидуального подхода состоит в учете индивидуальных особенностей обучающихся в учебном процессе с целью активного управления ходом развития их умственных, физических, образовательных возможностей.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й подход предполагает всестороннее изучени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хс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разработку соответствующих мер педагогического воздействия с учетом выявленных особенностей. 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1"/>
          <p:cNvSpPr/>
          <p:nvPr/>
        </p:nvSpPr>
        <p:spPr>
          <a:xfrm>
            <a:off x="1403280" y="1197000"/>
            <a:ext cx="6553440" cy="29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2"/>
          <p:cNvSpPr/>
          <p:nvPr/>
        </p:nvSpPr>
        <p:spPr>
          <a:xfrm>
            <a:off x="1258920" y="907920"/>
            <a:ext cx="6481800" cy="96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дифференцированным обучением обычно понимают форму организации учебной деятельности для различных групп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хс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ля осуществления дифференцированного подхода нужна, прежде всего, дифференциация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хс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типогруп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826920" y="620640"/>
            <a:ext cx="7705800" cy="722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 первокурсниками,  поступившими в лицей, начинается с изучения реального уровня их общеобразовательной подготовки. Это позволяет выявить степень обученности и обучаемости первокурсников, развитие их познавательных интересов, сформированность мотивов учения. Анализ реального уровня общеобразовательной подготовки поступивших осуществляется в несколько этап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1187280" y="836640"/>
            <a:ext cx="640908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ходной контроль знаний;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межуточный контроль;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тоговый контрол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1"/>
          <p:cNvSpPr/>
          <p:nvPr/>
        </p:nvSpPr>
        <p:spPr>
          <a:xfrm>
            <a:off x="755640" y="765000"/>
            <a:ext cx="7632720" cy="66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й этап включает в себя подготовку к сбору информации о состоянии качества знаний по профилированным для профессионального лицея предметам и профориентационным интересам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хс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изучения уровня общеобразовательной подготовк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хс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ключает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беседование, проводимое до поступления с целью выявления профессиональных интересов абитуриентов, а также медико-физиологическая пригодность к профессии;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естирование по профилированным предметам с целью определения степени обученности, а также возможности обучаться по той или иной профессии;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зучение познавательных интересов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хс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утём анкетирования;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«входной контроль» по всем предметам общеобразовательного цик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971640" y="549000"/>
            <a:ext cx="59767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оступлении в лицей проводится  «нулевой срез» (входной контроль) для определения уровня знаний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хс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реального уровня их общеобразовательной подготовки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900000" y="549000"/>
            <a:ext cx="61200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ходной контроль проводится в форме срезовых контрольных работ по заданиям, составленным преподавателями и согласованными с учебной частью. После проведения входного контроля выявляются слабоуспевающие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ес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6T19:05:56Z</dcterms:created>
  <dc:creator>и</dc:creator>
  <dc:description/>
  <dc:language>en-US</dc:language>
  <cp:lastModifiedBy>Галина Михайловна</cp:lastModifiedBy>
  <dcterms:modified xsi:type="dcterms:W3CDTF">2018-08-09T08:51:12Z</dcterms:modified>
  <cp:revision>81</cp:revision>
  <dc:subject/>
  <dc:title>Использование результатов входного диагностического тестирования для коррекции знаний учащихся  НПО и СПО</dc:title>
</cp:coreProperties>
</file>