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60F-A3BD-42B2-84FA-5435A945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897-881C-423D-B6B2-9FDB252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F45-F56D-4ED2-BCF5-638292A4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BD6-9F7C-4DE2-8CC3-6E4FC6E0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4AB-6E69-4BE3-9188-0B42B038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E36-F596-4233-9228-1C43B020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77F-9BF0-46A7-A601-22BFE50E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E64-5B4F-43F1-847A-51EE899B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DA3-A9ED-4B30-8AD2-6E3B34F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B15-7F72-4E91-B33E-88067BC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7EC-D872-42E6-85E7-C47E36D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45E-2B40-4593-A23A-9EC006A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74F4-73B1-4383-80D3-0A96E416FA7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3216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Cambria Math"/>
              </a:rPr>
              <a:t>Индивидуальная дифференцированная работа с обучающимися-инвалидами по ликвидации пробел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437000"/>
            <a:ext cx="5832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имазетдинова Г.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подавател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Профессионально-реабилитационного лицея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79080" y="765000"/>
            <a:ext cx="61722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входного контроля даёт возможность преподавателю и мастеру п/о выбрать адекватную методику обучения, сформировать мотивацию учения, назначить дополнительные занятия для неуспевающи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51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ы  неуспеваемост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интеллекта, особенности психического развития, отсутствие познавательных интересов и низкая мотивация на обучение, пробелы в знаниях, неразвитость навыков учебного труда, несформированность общеучебных навыков и умений, отрицательное влияние внеучебной среды (семьи, сверстников), недостатки воспитательного влияния педколлектива и групп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86600" cy="58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ми неуспешности обучающихся являются следующи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й уровень знаний за курс школы, отсутствие мотивации на учебу, неэффективность индивидуальной работы, несвоевременный контроль со стороны мастера п/о, кл. рук., администрации, несвоевременность выставления оценок в журнал преподавателями и их анализ , что не дает возможности своевременного контроля и принятия мер, иногда отсутствие контакта между мастером и преподавателем, несоблюдение единых требований к обучающимс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42920" y="549360"/>
            <a:ext cx="7416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ыте работы СПО сложилась определённая система работы  по ликвидации пробелов знаний обучающихс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включает в себя следующе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уровня зна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материалу основной школ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и работа по формированию общеучебных навыков и умен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а по ликвидации пробелов 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занятиях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ения с использованием материала основной школ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ение контроля за ликвидацией пробелов 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иление профессиональной направленности на всех занятиях позволяет теснее связать материал общепрофессионального цикла с профессиональной подготовк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42920" y="620640"/>
            <a:ext cx="70581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екомендации: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целенаправленную работу с обучающимися, мотивированными на учебу через индивидуальный подход на занятиях, внеаудиторную самостоятельную работу, консультации, работу с родителям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бходимо создать характеристику неуспевающего обучающегося, выяснить причины, наметить пути создания успешности для этих обучающихся, работать в контакте со всеми участниками образовательного процесса (обучающийся, мастер п/о, преподаватель, родители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дагогам сформировать индивидуальный образовательный маршрут д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ликвидации пробелов в знаниях, умениях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, РС поставить на контроль работу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я группы риска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сихологам проанализировать и провести беседы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ми пробелы в знаниях, разработать методические рекомендации педагогам и родителя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42920" y="549000"/>
            <a:ext cx="5905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bb4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2bb4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" name="Picture 6" descr="ALARM"/>
          <p:cNvPicPr/>
          <p:nvPr/>
        </p:nvPicPr>
        <p:blipFill>
          <a:blip r:embed="rId1"/>
          <a:stretch/>
        </p:blipFill>
        <p:spPr>
          <a:xfrm>
            <a:off x="3995640" y="3860640"/>
            <a:ext cx="15843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– важный психолого-педагогический принцип, учитывающий индивидуальные особенности каждого обучающегося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71640" y="1052280"/>
            <a:ext cx="7416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принципа индивидуального подхода состоит в учете индивидуальных особенностей обучающихся в учебном процессе с целью активного управления ходом развития их умственных, физических, образовательных возможностей.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предполагает всестороннее изучен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работку соответствующих мер педагогического воздействия с учетом выявленных особенностей.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403280" y="1197000"/>
            <a:ext cx="6553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258920" y="907920"/>
            <a:ext cx="6481800" cy="9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ифференцированным обучением обычно понимают форму организации учебной деятельности для различных групп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осуществления дифференцированного подхода нужна, прежде всего, дифференциа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ипогруп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826920" y="620640"/>
            <a:ext cx="770580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рвокурсниками,  поступившими в лицей, начинается с изучения реального уровня их общеобразовательной подготовки. Это позволяет выявить степень обученности и обучаемости первокурсников, развитие их познавательных интересов, сформированность мотивов учения. Анализ реального уровня общеобразовательной подготовки поступивших осуществляется в несколько эта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187280" y="836640"/>
            <a:ext cx="64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 знаний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жуточный контроль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тоговый контро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755640" y="765000"/>
            <a:ext cx="7632720" cy="66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этап включает в себя подготовку к сбору информации о состоянии качества знаний по профилированным для профессионального лицея предметам и профориентационным интереса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изучения уровня общеобразовательной 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еседование, проводимое до поступления с целью выявления профессиональных интересов абитуриентов, а также медико-физиологическая пригодность к професс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ирование по профилированным предметам с целью определения степени обученности, а также возможности обучаться по той или иной професси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учение познавательных интерес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ём анкетиров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ходной контроль» по всем предметам общеобразовательного цик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640" y="549000"/>
            <a:ext cx="5976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уплении в лицей проводится  «нулевой срез» (входной контроль) для определения уровня знани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реального уровня их общеобразовательной подготовки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00000" y="549000"/>
            <a:ext cx="6120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 проводится в форме срезовых контрольных работ по заданиям, составленным преподавателями и согласованными с учебной частью. После проведения входного контроля выявляются слабоуспевающ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9:05:56Z</dcterms:created>
  <dc:creator>и</dc:creator>
  <dc:description/>
  <dc:language>en-US</dc:language>
  <cp:lastModifiedBy>Галина Михайловна</cp:lastModifiedBy>
  <dcterms:modified xsi:type="dcterms:W3CDTF">2018-08-09T08:51:12Z</dcterms:modified>
  <cp:revision>81</cp:revision>
  <dc:subject/>
  <dc:title>Использование результатов входного диагностического тестирования для коррекции знаний учащихся  НПО и СПО</dc:title>
</cp:coreProperties>
</file>