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804-B7FF-435D-931E-85636C47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DEE-A94E-49AE-8ADD-03C29290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A12-00F4-43CD-9C20-20772AB3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797-A879-4217-B754-AFBDC893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9C4-3B65-46FC-9472-81884325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2F8-FC90-4F74-BA16-05E7093F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3D3-BDA2-442A-9832-6AA644FB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09B-E49E-4BEF-814C-21E7E9F1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6D8-114C-4F2E-B01F-9A1D66CD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CEA-1759-42DA-90D8-36D6F902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CE0-C5C1-45CD-8D68-1DFDF96D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738-55EF-4B56-A038-9AC7A1AB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DF3E-C1D1-407A-8D98-B7905941544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657F-1BCC-433A-939D-528BB9302E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1836720"/>
            <a:ext cx="8786880" cy="330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7375e"/>
                </a:solidFill>
                <a:latin typeface="Arial"/>
                <a:ea typeface="Arial"/>
              </a:rPr>
              <a:t>Обобщение материала </a:t>
            </a:r>
            <a:br>
              <a:rPr sz="4800"/>
            </a:br>
            <a:r>
              <a:rPr b="1" lang="uk-UA" sz="4800" spc="-1" strike="noStrike">
                <a:solidFill>
                  <a:srgbClr val="17375e"/>
                </a:solidFill>
                <a:latin typeface="Arial"/>
                <a:ea typeface="Arial"/>
              </a:rPr>
              <a:t>по теме:</a:t>
            </a:r>
            <a:br>
              <a:rPr sz="4800"/>
            </a:br>
            <a:r>
              <a:rPr b="1" lang="uk-UA" sz="4800" spc="-1" strike="noStrike">
                <a:solidFill>
                  <a:srgbClr val="17375e"/>
                </a:solidFill>
                <a:latin typeface="Arial"/>
                <a:ea typeface="Arial"/>
              </a:rPr>
              <a:t>”Прямая и обратная пропорциональные зависимости. </a:t>
            </a:r>
            <a:br>
              <a:rPr sz="4800"/>
            </a:br>
            <a:r>
              <a:rPr b="1" lang="uk-UA" sz="4800" spc="-1" strike="noStrike">
                <a:solidFill>
                  <a:srgbClr val="17375e"/>
                </a:solidFill>
                <a:latin typeface="Arial"/>
                <a:ea typeface="Arial"/>
              </a:rPr>
              <a:t>Окружность и круг”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H:\Documents and Settings\Aida\Рабочий стол\МОИ шаблоны ЭКСПЕРИМЕНТы\matematika.JPG"/>
          <p:cNvPicPr/>
          <p:nvPr/>
        </p:nvPicPr>
        <p:blipFill>
          <a:blip r:embed="rId2"/>
          <a:stretch/>
        </p:blipFill>
        <p:spPr>
          <a:xfrm>
            <a:off x="208080" y="208080"/>
            <a:ext cx="1371600" cy="1296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текстуры и фоны, клипарты\новеньки картинки\ufficio016.gif"/>
          <p:cNvPicPr/>
          <p:nvPr/>
        </p:nvPicPr>
        <p:blipFill>
          <a:blip r:embed="rId3"/>
          <a:stretch/>
        </p:blipFill>
        <p:spPr>
          <a:xfrm>
            <a:off x="7215120" y="5357880"/>
            <a:ext cx="704880" cy="1236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:\Documents and Settings\Aida\Рабочий стол\ff962c65118d.png"/>
          <p:cNvPicPr/>
          <p:nvPr/>
        </p:nvPicPr>
        <p:blipFill>
          <a:blip r:embed="rId4"/>
          <a:stretch/>
        </p:blipFill>
        <p:spPr>
          <a:xfrm>
            <a:off x="1428840" y="214200"/>
            <a:ext cx="917640" cy="128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Documents and Settings\Aida\Рабочий стол\МОИ шаблоны ЭКСПЕРИМЕНТы\matematika.JPG"/>
          <p:cNvPicPr/>
          <p:nvPr/>
        </p:nvPicPr>
        <p:blipFill>
          <a:blip r:embed="rId5"/>
          <a:stretch/>
        </p:blipFill>
        <p:spPr>
          <a:xfrm>
            <a:off x="133200" y="208080"/>
            <a:ext cx="1371600" cy="129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H:\Documents and Settings\Aida\Рабочий стол\МОИ шаблоны ЭКСПЕРИМЕНТы\matematika.JPG"/>
          <p:cNvPicPr/>
          <p:nvPr/>
        </p:nvPicPr>
        <p:blipFill>
          <a:blip r:embed="rId6"/>
          <a:stretch/>
        </p:blipFill>
        <p:spPr>
          <a:xfrm>
            <a:off x="7639200" y="208080"/>
            <a:ext cx="1371600" cy="129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текстуры и фоны, клипарты\новеньки картинки\ufficio016.gif"/>
          <p:cNvPicPr/>
          <p:nvPr/>
        </p:nvPicPr>
        <p:blipFill>
          <a:blip r:embed="rId7"/>
          <a:stretch/>
        </p:blipFill>
        <p:spPr>
          <a:xfrm>
            <a:off x="357120" y="5429160"/>
            <a:ext cx="70488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1FAF-87DD-448B-A595-6AF7BCAB798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8472-CAC7-4EC9-8A23-08D329B531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мы повторили сегодня на урок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0443-9D32-4249-A95A-05C8E6142F6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A2FE-A68D-40FB-A0B7-73B083CBD5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28760" y="642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а.  Из свежих грибов получили 4,4кг сухих грибов. Сколько сухих грибов можно получить, если свежих взять в 3,2раза бо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85840" y="18572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зап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веж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ибы             -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хие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грибы      4,4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жих  взяли в 3,2 раза больше. Сухие грибы - 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Arial"/>
              </a:rPr>
              <a:t>?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28760" y="314316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: прямо - пропорциональная  зависим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вежих будет в 3,2 раза больше, то и сухих будет в 3,2 раза больше     4,4 ∙ 3,2=14,08(кг)-сухих грибов полу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14,08 кг –сухих гри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3"/>
          <p:cNvSpPr/>
          <p:nvPr/>
        </p:nvSpPr>
        <p:spPr>
          <a:xfrm>
            <a:off x="285840" y="1928880"/>
            <a:ext cx="85010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85840" y="3214800"/>
            <a:ext cx="8501040" cy="2571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E783-5D95-4A5C-A2EB-60F7E67E02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885F-1066-41CC-941F-81DE6394E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428760" y="642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б.  Из свежих помидор получили 2,4кг томатной пасты. Сколько томатной пасты можно получить, если свежих взять в 1,2раза бо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85840" y="18572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зап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веж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идоры       -      томатная паста 2,4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жих  взяли в 1,2 раза больше. Томатная паста- 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Arial"/>
              </a:rPr>
              <a:t>?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28760" y="314316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: прямо - пропорциональная  зависим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вежих будет в 1,2 раза больше, то и пасты будет в 1,2 раза больше     2,4 ∙ 1,2=2,88(кг)-томатной пасты полу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2,88 кг –томатной па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85840" y="1857240"/>
            <a:ext cx="8572320" cy="1214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85840" y="3214800"/>
            <a:ext cx="8643960" cy="2571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AC4C-D5B9-475D-90D4-8B1B2E8084E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AC3B-3313-48B0-974C-C71E05B20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428760" y="64296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в.  Автобус проезжает некоторое  расстояние за 1,6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какое время он проедет с той же скоростью расстояние в 2,5 раза больш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285840" y="185724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зап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сстояние(км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   за 1,6ч.    (Скорость не меняетс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ояние увеличилось в 2,5 раза.   Время-?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28760" y="314316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: прямо - пропорциональная  зависим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корость не меняется ,а расстояние увеличится в 2,5 раза, то и время увеличится в 2,5 раза 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6∙ 2,5=4(ч)-проедет новое рас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за 4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285840" y="1928880"/>
            <a:ext cx="857232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357120" y="3214800"/>
            <a:ext cx="8501040" cy="2571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5A9D-66F2-4583-AB0B-A2758D1D801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CD4A-D2C3-4581-8CA2-337AC4A0A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57120" y="35712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а.С помощью циркуля и линейки построить треугольник со сторонами 2см; 4см; 3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85840" y="1214280"/>
            <a:ext cx="335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    АВ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7"/>
          <p:cNvSpPr/>
          <p:nvPr/>
        </p:nvSpPr>
        <p:spPr>
          <a:xfrm>
            <a:off x="500040" y="1857240"/>
            <a:ext cx="1428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8"/>
          <p:cNvSpPr/>
          <p:nvPr/>
        </p:nvSpPr>
        <p:spPr>
          <a:xfrm>
            <a:off x="500040" y="2357280"/>
            <a:ext cx="3000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1"/>
          <p:cNvSpPr/>
          <p:nvPr/>
        </p:nvSpPr>
        <p:spPr>
          <a:xfrm>
            <a:off x="500040" y="2786040"/>
            <a:ext cx="2071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авнобедренный треугольник 15"/>
          <p:cNvSpPr/>
          <p:nvPr/>
        </p:nvSpPr>
        <p:spPr>
          <a:xfrm>
            <a:off x="2071800" y="3214800"/>
            <a:ext cx="142920" cy="214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285840" y="1214280"/>
            <a:ext cx="3786120" cy="2643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D20C-3707-4426-A273-314F0909D3A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DEB7-54A5-4232-AD3E-FA2693261F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357120" y="35712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б.С помощью циркуля и линейки построить треугольник со сторонами 3см; 4см; 4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85840" y="1214280"/>
            <a:ext cx="335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    АВ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7"/>
          <p:cNvSpPr/>
          <p:nvPr/>
        </p:nvSpPr>
        <p:spPr>
          <a:xfrm>
            <a:off x="428760" y="1857240"/>
            <a:ext cx="2071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8"/>
          <p:cNvSpPr/>
          <p:nvPr/>
        </p:nvSpPr>
        <p:spPr>
          <a:xfrm>
            <a:off x="428760" y="2357280"/>
            <a:ext cx="3000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1"/>
          <p:cNvSpPr/>
          <p:nvPr/>
        </p:nvSpPr>
        <p:spPr>
          <a:xfrm>
            <a:off x="428760" y="2786040"/>
            <a:ext cx="3071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внобедренный треугольник 15"/>
          <p:cNvSpPr/>
          <p:nvPr/>
        </p:nvSpPr>
        <p:spPr>
          <a:xfrm>
            <a:off x="2071800" y="3214800"/>
            <a:ext cx="142920" cy="2142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3"/>
          <p:cNvSpPr/>
          <p:nvPr/>
        </p:nvSpPr>
        <p:spPr>
          <a:xfrm>
            <a:off x="214200" y="1214280"/>
            <a:ext cx="3786480" cy="250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7C82-A0EB-4FD0-BF0F-51A22370C1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841B-DDD2-4344-B00D-748CB2546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28760" y="642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а.  На некоторую сумму денег можно купить 12 ручек. Сколько можно купить на эту же сумму денег карандашей , которые в 4 раза дешевле руч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42920" y="192888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ая зап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денег не меняется. Карандаши дешевле ручек в 4 раза. Сколько карандашей вместо 12 ручек можно куп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428760" y="321480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ратно- пропорциональная  зависим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арандаши в 4 раза дешевле, то за те же деньги можно купить в 4 раза больше карандашей, чем ру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∙ 4 =48(кар.) можно куп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48 карандаш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214200" y="1857240"/>
            <a:ext cx="8643960" cy="135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214200" y="3286080"/>
            <a:ext cx="857268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285840" y="4000680"/>
            <a:ext cx="8501040" cy="1857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9B60-F30C-40E1-9751-D7A8F354B2D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3189-9F99-433C-9C86-7CC003015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357120" y="50004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ычислить длину окружности, радиус которой 10,5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85840" y="16430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10,5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;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=3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длину окр.С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285840" y="278604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 С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315520" y="278604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643840" y="2752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1643040" y="35002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2∙3,14∙10,5=65,94 (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3429000" y="49291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65,94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285840" y="1571760"/>
            <a:ext cx="335736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85840" y="2714760"/>
            <a:ext cx="6072120" cy="2857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9B7B-8105-47F2-982D-1A83FA0771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CE68-82CC-4CCA-8BD4-97CBB0A0B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57120" y="50004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йти площадь круга, радиус которого 5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285840" y="16430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5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;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=3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площадь круга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? 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85840" y="278604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2210760" y="278604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2644560" y="27525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1643040" y="35002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3,14∙5²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1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∙5∙5=78,5 (см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3429000" y="49291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78,5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1"/>
          <p:cNvSpPr/>
          <p:nvPr/>
        </p:nvSpPr>
        <p:spPr>
          <a:xfrm>
            <a:off x="285840" y="1500120"/>
            <a:ext cx="41432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2"/>
          <p:cNvSpPr/>
          <p:nvPr/>
        </p:nvSpPr>
        <p:spPr>
          <a:xfrm>
            <a:off x="357120" y="2786040"/>
            <a:ext cx="6215040" cy="2786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09:43:56Z</dcterms:created>
  <dc:creator>Alek</dc:creator>
  <dc:description>http://aida.ucoz.ru</dc:description>
  <dc:language>en-US</dc:language>
  <cp:lastModifiedBy>Преподаватель</cp:lastModifiedBy>
  <dcterms:modified xsi:type="dcterms:W3CDTF">2018-08-09T10:02:06Z</dcterms:modified>
  <cp:revision>72</cp:revision>
  <dc:subject/>
  <dc:title>Применение нескольких способов разложения многочленов на множители</dc:title>
</cp:coreProperties>
</file>