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7BE-58E6-45AD-AFB9-1F3AE14B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648-F956-4F4D-9008-983FF9DD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BFD-A602-496C-8C21-8B51A4D0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5F2-1F88-485E-982C-AC2D3504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467-2657-4386-AF87-DA835FD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30C-3177-4393-8103-F4E2E976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071-3C15-4805-A8F1-96474D8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53A-18A6-4751-8567-44CE6F0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23C-4DB8-4483-B723-C45E7B4D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BDE-6F8A-4E4C-9CC5-9D846EC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9BF-81D2-45AF-BBDA-B70BCB4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3F7-0DD4-4111-995B-491B295C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C3B3-EE61-4296-8D7D-2C9E26B22D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2A0-7419-42B4-AF25-4DE4BBFB8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1836720"/>
            <a:ext cx="8786880" cy="330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Обобщение материала </a:t>
            </a:r>
            <a:br>
              <a:rPr sz="4800"/>
            </a:b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по теме:</a:t>
            </a:r>
            <a:br>
              <a:rPr sz="4800"/>
            </a:b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”Прямая и обратная пропорциональные зависимости. </a:t>
            </a:r>
            <a:br>
              <a:rPr sz="4800"/>
            </a:b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Окружность и круг”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H:\Documents and Settings\Aida\Рабочий стол\МОИ шаблоны ЭКСПЕРИМЕНТы\matematika.JPG"/>
          <p:cNvPicPr/>
          <p:nvPr/>
        </p:nvPicPr>
        <p:blipFill>
          <a:blip r:embed="rId2"/>
          <a:stretch/>
        </p:blipFill>
        <p:spPr>
          <a:xfrm>
            <a:off x="208080" y="20808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текстуры и фоны, клипарты\новеньки картинки\ufficio016.gif"/>
          <p:cNvPicPr/>
          <p:nvPr/>
        </p:nvPicPr>
        <p:blipFill>
          <a:blip r:embed="rId3"/>
          <a:stretch/>
        </p:blipFill>
        <p:spPr>
          <a:xfrm>
            <a:off x="7215120" y="5357880"/>
            <a:ext cx="704880" cy="123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:\Documents and Settings\Aida\Рабочий стол\ff962c65118d.png"/>
          <p:cNvPicPr/>
          <p:nvPr/>
        </p:nvPicPr>
        <p:blipFill>
          <a:blip r:embed="rId4"/>
          <a:stretch/>
        </p:blipFill>
        <p:spPr>
          <a:xfrm>
            <a:off x="1428840" y="214200"/>
            <a:ext cx="91764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Documents and Settings\Aida\Рабочий стол\МОИ шаблоны ЭКСПЕРИМЕНТы\matematika.JPG"/>
          <p:cNvPicPr/>
          <p:nvPr/>
        </p:nvPicPr>
        <p:blipFill>
          <a:blip r:embed="rId5"/>
          <a:stretch/>
        </p:blipFill>
        <p:spPr>
          <a:xfrm>
            <a:off x="133200" y="20808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H:\Documents and Settings\Aida\Рабочий стол\МОИ шаблоны ЭКСПЕРИМЕНТы\matematika.JPG"/>
          <p:cNvPicPr/>
          <p:nvPr/>
        </p:nvPicPr>
        <p:blipFill>
          <a:blip r:embed="rId6"/>
          <a:stretch/>
        </p:blipFill>
        <p:spPr>
          <a:xfrm>
            <a:off x="7639200" y="20808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текстуры и фоны, клипарты\новеньки картинки\ufficio016.gif"/>
          <p:cNvPicPr/>
          <p:nvPr/>
        </p:nvPicPr>
        <p:blipFill>
          <a:blip r:embed="rId7"/>
          <a:stretch/>
        </p:blipFill>
        <p:spPr>
          <a:xfrm>
            <a:off x="357120" y="5429160"/>
            <a:ext cx="7048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0A1F-26BB-4344-9138-91413B0A21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AF17-786F-4C34-B6D3-BDD3D4D35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повторили сегодня на уро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28F8-66B8-4E25-917C-9F5DC2E14F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BEBB-4343-45F0-BDD8-33602ACAE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760" y="642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а.  Из свежих грибов получили 4,4кг сухих грибов. Сколько сухих грибов можно получить, если свежих взять в 3,2раза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85840" y="18572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еж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бы             -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хие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рибы      4,4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их  взяли в 3,2 раза больше. Сухие грибы -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</a:rPr>
              <a:t>?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28760" y="314316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 прямо 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жих будет в 3,2 раза больше, то и сухих будет в 3,2 раза больше     4,4 ∙ 3,2=14,08(кг)-сухих грибов полу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14,08 кг –сух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285840" y="1928880"/>
            <a:ext cx="8501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85840" y="3214800"/>
            <a:ext cx="8501040" cy="257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A05-5551-4ACA-A75F-5E3B3D0EEA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13A6-87F6-466F-85E5-6AAA4CF2FE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28760" y="642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б.  Из свежих помидор получили 2,4кг томатной пасты. Сколько томатной пасты можно получить, если свежих взять в 1,2раза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85840" y="18572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еж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доры       -      томатная паста 2,4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их  взяли в 1,2 раза больше. Томатная паста-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</a:rPr>
              <a:t>?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28760" y="314316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 прямо 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жих будет в 1,2 раза больше, то и пасты будет в 1,2 раза больше     2,4 ∙ 1,2=2,88(кг)-томатной пасты полу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2,88 кг –томатной па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85840" y="1857240"/>
            <a:ext cx="8572320" cy="121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85840" y="3214800"/>
            <a:ext cx="8643960" cy="257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DB89-2525-4202-9868-FA9ABA609E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504D-C566-4423-A08B-023152E3E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28760" y="6429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в.  Автобус проезжает некоторое  расстояние за 1,6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акое время он проедет с той же скоростью расстояние в 2,5 раза больш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85840" y="18572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стояние(км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   за 1,6ч.    (Скорость не меняетс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увеличилось в 2,5 раза.   Время-?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28760" y="314316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 прямо 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корость не меняется ,а расстояние увеличится в 2,5 раза, то и время увеличится в 2,5 раза 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∙ 2,5=4(ч)-проедет новое рас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за 4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285840" y="1928880"/>
            <a:ext cx="85723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357120" y="3214800"/>
            <a:ext cx="8501040" cy="257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AAEC-ED62-4D59-96B6-6EE12745B3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882-666B-4E67-B025-114199512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57120" y="3571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а.С помощью циркуля и линейки построить треугольник со сторонами 2см; 4см; 3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85840" y="1214280"/>
            <a:ext cx="33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    АВ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7"/>
          <p:cNvSpPr/>
          <p:nvPr/>
        </p:nvSpPr>
        <p:spPr>
          <a:xfrm>
            <a:off x="500040" y="1857240"/>
            <a:ext cx="1428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"/>
          <p:cNvSpPr/>
          <p:nvPr/>
        </p:nvSpPr>
        <p:spPr>
          <a:xfrm>
            <a:off x="500040" y="2357280"/>
            <a:ext cx="3000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>
            <a:off x="500040" y="2786040"/>
            <a:ext cx="207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15"/>
          <p:cNvSpPr/>
          <p:nvPr/>
        </p:nvSpPr>
        <p:spPr>
          <a:xfrm>
            <a:off x="2071800" y="3214800"/>
            <a:ext cx="142920" cy="214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285840" y="1214280"/>
            <a:ext cx="3786120" cy="264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3CFB-6315-4394-8DB6-DE49527F8D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1214-97D7-4B77-A034-EF97AAE24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57120" y="3571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б.С помощью циркуля и линейки построить треугольник со сторонами 3см; 4см; 4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85840" y="1214280"/>
            <a:ext cx="33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    АВ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>
            <a:off x="428760" y="185724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8"/>
          <p:cNvSpPr/>
          <p:nvPr/>
        </p:nvSpPr>
        <p:spPr>
          <a:xfrm>
            <a:off x="428760" y="2357280"/>
            <a:ext cx="3000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1"/>
          <p:cNvSpPr/>
          <p:nvPr/>
        </p:nvSpPr>
        <p:spPr>
          <a:xfrm>
            <a:off x="428760" y="2786040"/>
            <a:ext cx="3071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15"/>
          <p:cNvSpPr/>
          <p:nvPr/>
        </p:nvSpPr>
        <p:spPr>
          <a:xfrm>
            <a:off x="2071800" y="3214800"/>
            <a:ext cx="142920" cy="214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214200" y="1214280"/>
            <a:ext cx="3786480" cy="250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5ADF-DCFF-485F-A47F-23540064BC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6AD0-94FA-44AB-8541-672239828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28760" y="642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а.  На некоторую сумму денег можно купить 12 ручек. Сколько можно купить на эту же сумму денег карандашей , которые в 4 раза дешевле ру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2920" y="192888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денег не меняется. Карандаши дешевле ручек в 4 раза. Сколько карандашей вместо 12 ручек можно куп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428760" y="321480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ратно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арандаши в 4 раза дешевле, то за те же деньги можно купить в 4 раза больше карандашей, чем ру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∙ 4 =48(кар.) можно куп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48 карандаш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14200" y="1857240"/>
            <a:ext cx="8643960" cy="135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214200" y="3286080"/>
            <a:ext cx="85726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285840" y="4000680"/>
            <a:ext cx="8501040" cy="185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C5F1-C819-49D2-A8D7-3F873F452A5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E4B0-ACF4-4131-9223-D4DC916EE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57120" y="50004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ычислить длину окружности, радиус которой 10,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85840" y="16430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10,5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;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=3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длину окр.С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85840" y="278604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С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315520" y="27860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43840" y="2752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1643040" y="3500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2∙3,14∙10,5=65,94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429000" y="49291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65,9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285840" y="1571760"/>
            <a:ext cx="335736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2714760"/>
            <a:ext cx="6072120" cy="2857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D0F-B872-45EE-BA20-4AE87DE8DE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6AD-3B13-4313-87C1-4748E0160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57120" y="5000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йти площадь круга, радиус которого 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85840" y="16430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5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;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=3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площадь круга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?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85840" y="278604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2210760" y="27860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2644560" y="27525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1643040" y="3500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,14∙5²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1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∙5∙5=78,5 (см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3429000" y="49291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78,5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285840" y="1500120"/>
            <a:ext cx="41432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357120" y="2786040"/>
            <a:ext cx="6215040" cy="2786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9:43:56Z</dcterms:created>
  <dc:creator>Alek</dc:creator>
  <dc:description>http://aida.ucoz.ru</dc:description>
  <dc:language>en-US</dc:language>
  <cp:lastModifiedBy>Преподаватель</cp:lastModifiedBy>
  <dcterms:modified xsi:type="dcterms:W3CDTF">2018-08-09T10:02:06Z</dcterms:modified>
  <cp:revision>72</cp:revision>
  <dc:subject/>
  <dc:title>Применение нескольких способов разложения многочленов на множители</dc:title>
</cp:coreProperties>
</file>