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4106-076F-41DD-A6C4-F287C54E8E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D0E4-5EE9-445A-AF75-B02FA1B4C51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B958-35FE-4267-9EA5-DB7D390E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C7D-6E1D-4CB3-8E8D-5BC500DD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5AC-1858-4E06-885E-04ECC201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FFA1-BAD4-4A8B-9C7F-FFF805EC7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B62A-75ED-4BB0-85D5-0B501244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E3E-3A5A-4F29-B409-A65A61F1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E988-04E5-4B4C-A9CC-CE475F0A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9FE6-0098-4ED1-8BAA-D844410C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D86-E21B-4A1C-A670-AAABFF35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423-7DCE-439C-A97C-71CA7DDA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DD8-1534-474A-BD27-14846171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438-243F-4DA7-81E5-FAA9314D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fac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C014-028A-45F3-ADE9-1883BB929E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un4child.ru/433-anglijjskie-sharady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учителя английского язык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МБОУ Староюрьевской СОШ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амойловой Надежды Александров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901800"/>
            <a:ext cx="7425000" cy="4170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bestteacher.68edu.ru/wp-content/uploads/2018/03/zagolovok-2018.jpg"/>
          <p:cNvPicPr/>
          <p:nvPr/>
        </p:nvPicPr>
        <p:blipFill>
          <a:blip r:embed="rId2"/>
          <a:srcRect l="0" t="0" r="75163" b="0"/>
          <a:stretch/>
        </p:blipFill>
        <p:spPr>
          <a:xfrm>
            <a:off x="3348000" y="189000"/>
            <a:ext cx="230364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beginning is the crow’s cal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end on the bottom of a pon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While the whole can be found in a muse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чало – крик воро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нец – на дне пру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 целое в муз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йдете без труд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first part is the first note of the sca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second part is on the elk’s hea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But’if you want to have the wh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You can find it as you w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Первое – но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Второе у лося на голов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А хочешь целое най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Тогда ищи его в пу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395280" y="404640"/>
            <a:ext cx="806436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beginning of the word means a dense fo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end is a poem for a gala occa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While the whole grows on a man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It grows though it is not a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чало слова – лес гу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нец – торжественное стихотво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 целое – на лице раст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Хотя и не раст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395280" y="620640"/>
            <a:ext cx="896472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the two letters which begin the alphab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the Past Tense of the verb "to send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antonym of present ..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Absent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what we say when we ag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the first syllable of the word "terribly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third is the antonym of "night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day before today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Yester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a preposi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a synonym of "receive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antonym of  "remember"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Forg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un4child.ru/433-anglijjskie-sharad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C:\Users\user\Documents\мастер-класс никифоровка\80e37d8d6b927eb53b5be5cfece72d2f.jpg"/>
          <p:cNvPicPr/>
          <p:nvPr/>
        </p:nvPicPr>
        <p:blipFill>
          <a:blip r:embed="rId1"/>
          <a:stretch/>
        </p:blipFill>
        <p:spPr>
          <a:xfrm>
            <a:off x="2916360" y="3500280"/>
            <a:ext cx="3240000" cy="318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788000" y="3068280"/>
            <a:ext cx="2448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боро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ÐÐ°ÑÑÐ¸Ð½ÐºÐ¸ Ð¿Ð¾ Ð·Ð°Ð¿ÑÐ¾ÑÑ Ð´Ð¾ÑÐ¾Ð³Ð°"/>
          <p:cNvPicPr/>
          <p:nvPr/>
        </p:nvPicPr>
        <p:blipFill>
          <a:blip r:embed="rId2"/>
          <a:stretch/>
        </p:blipFill>
        <p:spPr>
          <a:xfrm>
            <a:off x="4788000" y="620640"/>
            <a:ext cx="3995640" cy="282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user\Documents\мастер-класс никифоровка\7a2398505ef5t.jpg"/>
          <p:cNvPicPr/>
          <p:nvPr/>
        </p:nvPicPr>
        <p:blipFill>
          <a:blip r:embed="rId3"/>
          <a:srcRect l="1755" t="2376" r="1647" b="4883"/>
          <a:stretch/>
        </p:blipFill>
        <p:spPr>
          <a:xfrm>
            <a:off x="250920" y="620640"/>
            <a:ext cx="396072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408680" y="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а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799600" y="0"/>
            <a:ext cx="14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д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916360" y="189000"/>
            <a:ext cx="73436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олевы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2"/>
          <p:cNvSpPr/>
          <p:nvPr/>
        </p:nvSpPr>
        <p:spPr>
          <a:xfrm rot="1933200">
            <a:off x="3866760" y="803160"/>
            <a:ext cx="222120" cy="120348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19330800">
            <a:off x="5501880" y="769680"/>
            <a:ext cx="201600" cy="12254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84360" y="19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ролируе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96000" y="198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б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755640" y="2492280"/>
            <a:ext cx="4572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стники получают необходимые реп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5435640" y="2565360"/>
            <a:ext cx="34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стники получают обстоятельств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ÐÐ°ÑÑÐ¸Ð½ÐºÐ¸ Ð¿Ð¾ Ð·Ð°Ð¿ÑÐ¾ÑÑ ÑÐ¾Ð»ÐµÐ²ÑÐµ Ð¸Ð³ÑÑ Ð½Ð° ÑÑÐ¾ÐºÐ°Ñ Ð°Ð½Ð³Ð»Ð¸Ð¹ÑÐºÐ¾Ð³Ð¾ ÑÐ·ÑÐºÐ°"/>
          <p:cNvPicPr/>
          <p:nvPr/>
        </p:nvPicPr>
        <p:blipFill>
          <a:blip r:embed="rId1"/>
          <a:stretch/>
        </p:blipFill>
        <p:spPr>
          <a:xfrm>
            <a:off x="1116000" y="335772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50920" y="333360"/>
            <a:ext cx="921708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Подготовка к ролевой иг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ботка фраз и грамматических конструкций (с разными эмоциями, громкостью, темпом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огревающ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ÐÐ°ÑÑÐ¸Ð½ÐºÐ¸ Ð¿Ð¾ Ð·Ð°Ð¿ÑÐ¾ÑÑ Ð¿Ð°Ð½ÑÐ¾Ð¼Ð¸Ð¼Ð° Ð² ÑÐºÐ¾Ð»Ðµ"/>
          <p:cNvPicPr/>
          <p:nvPr/>
        </p:nvPicPr>
        <p:blipFill>
          <a:blip r:embed="rId1"/>
          <a:stretch/>
        </p:blipFill>
        <p:spPr>
          <a:xfrm>
            <a:off x="1476360" y="2637000"/>
            <a:ext cx="620244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684360" y="692280"/>
            <a:ext cx="76327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олев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ам предлагается ситу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из вас – директор цирка, который с гастролями приехал в Россию и покорил сердца зрителей невероятными номер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льные-журналисты, которые должны взять интервью для своих издательств. Продумать помимо языковых средств жесты и мими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0" y="765000"/>
            <a:ext cx="9144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Озвучивание мультипликационного фил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1.Ознакомиться с текстом (реплики персонаже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2.Посмотреть мультфиль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3.Проработать текст по эпизодам (определиться с интонацией, темпом и п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4.Озвуч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325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Мой фильм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14842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учитель, прежде чем начать образовывать ученика, возбудил бы интерес к знанию, 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Я. А. Ком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684360" y="357336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учение, лишенное всякого интереса и взятое только силой принуждения, убивает в ученике охоту к овладению знаниями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 Д.Уш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Мой 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ÐÐ°ÑÑÐ¸Ð½ÐºÐ¸ Ð¿Ð¾ Ð·Ð°Ð¿ÑÐ¾ÑÑ ÐºÐ½Ð¾Ð¿ÐºÐ°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2" descr=""/>
          <p:cNvPicPr/>
          <p:nvPr/>
        </p:nvPicPr>
        <p:blipFill>
          <a:blip r:embed="rId1"/>
          <a:stretch/>
        </p:blipFill>
        <p:spPr>
          <a:xfrm>
            <a:off x="811080" y="1384200"/>
            <a:ext cx="7967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9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известно - у кого большие способности, у того обычно есть интерес к знаниям. Но не все знают обратное правило: у кого больше интереса, у того быстрее развиваются способ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Л.Соловейчик, основатель издательского дома «Первое сентябр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нтер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зывает эмоцию, а всё,  с чем знакомится человек через эмоцию, запомин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Как же возбудить интере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 как его поддерживать постоян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755640" y="765000"/>
            <a:ext cx="75963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зображения какого-либо слова или предложения при помощи комбинации рисунков, букв, цифр и знаков (кодирование слов и фраз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user\Documents\мастер-класс никифоровка\rebus исследовать.jpg"/>
          <p:cNvPicPr/>
          <p:nvPr/>
        </p:nvPicPr>
        <p:blipFill>
          <a:blip r:embed="rId1"/>
          <a:stretch/>
        </p:blipFill>
        <p:spPr>
          <a:xfrm>
            <a:off x="250920" y="404640"/>
            <a:ext cx="8620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user\Documents\мастер-класс никифоровка\rebus_30.jpg"/>
          <p:cNvPicPr/>
          <p:nvPr/>
        </p:nvPicPr>
        <p:blipFill>
          <a:blip r:embed="rId1"/>
          <a:stretch/>
        </p:blipFill>
        <p:spPr>
          <a:xfrm>
            <a:off x="826920" y="549360"/>
            <a:ext cx="75250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ocuments\мастер-класс никифоровка\rebus_162.jpg"/>
          <p:cNvPicPr/>
          <p:nvPr/>
        </p:nvPicPr>
        <p:blipFill>
          <a:blip r:embed="rId1"/>
          <a:stretch/>
        </p:blipFill>
        <p:spPr>
          <a:xfrm>
            <a:off x="250920" y="1197000"/>
            <a:ext cx="86882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Шар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воего рода загадка, в которой нужно отгадать слово, состоящее из нескольких частей, причем каждая часть является самостоятельным словом, поэтому сначала нужно отгадать каждое отдельное слово, а затем их сложить и таким образом получить слово-отгад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5T04:23:58Z</dcterms:created>
  <dc:creator>user</dc:creator>
  <dc:description/>
  <dc:language>en-US</dc:language>
  <cp:lastModifiedBy>user</cp:lastModifiedBy>
  <dcterms:modified xsi:type="dcterms:W3CDTF">2018-04-16T02:19:52Z</dcterms:modified>
  <cp:revision>107</cp:revision>
  <dc:subject/>
  <dc:title>Слайд 1</dc:title>
</cp:coreProperties>
</file>