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6B451-F215-4632-BEA9-4925D30583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49CD-88BB-41F8-8B57-4B04A11D11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2D25-4E9D-4A73-81CA-E691A523F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662-81F8-4565-90E3-1AF06FD5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4EE-9F51-4547-9132-2D24B0A1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E9B7-8369-46A9-A0D4-29F5E54F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9DBE-24E4-466D-A362-CC848011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A9E-5F2E-493A-A26F-513AC564A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11CA-B69B-4DFF-8D19-86B26458B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F864-D26F-4A45-A127-BD488C0D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7EAD-1D2A-41F4-B328-08F3BCB4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3E9C-B386-46CD-8AEA-557E6CEE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923-11BD-4152-8D54-53FD0FE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417F-3C90-4E0C-B8D7-73F65C44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ac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CD81-E84B-4448-A40E-08265D4965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un4child.ru/433-anglijjskie-sharady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учителя английского язы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БОУ Староюрьевской СО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амойловой Надежды Александров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901800"/>
            <a:ext cx="7425000" cy="4170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bestteacher.68edu.ru/wp-content/uploads/2018/03/zagolovok-2018.jpg"/>
          <p:cNvPicPr/>
          <p:nvPr/>
        </p:nvPicPr>
        <p:blipFill>
          <a:blip r:embed="rId2"/>
          <a:srcRect l="0" t="0" r="75163" b="0"/>
          <a:stretch/>
        </p:blipFill>
        <p:spPr>
          <a:xfrm>
            <a:off x="3348000" y="189000"/>
            <a:ext cx="23036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is the crow’s c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on the bottom of a po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can be found in a muse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– крик воро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на дне пру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в муз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йдете без труд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first part is the first note of the sca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second part is on the elk’s hea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But’if you want to have the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You can find it as you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Первое – н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Второе у лося на голов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А хочешь целое най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Тогда ищи его в пу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395280" y="404640"/>
            <a:ext cx="80643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of the word means a dense fo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is a poem for a gala occa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grows on a man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It grows though it is not a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слова – лес гу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торжественное стихотво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– на лице раст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Хотя и не раст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395280" y="620640"/>
            <a:ext cx="8964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the two letters which begin the alphab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Past Tense of the verb "to send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present ..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Absent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what we say when we ag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first syllable of the word "terribly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third is the antonym of "night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day before toda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Yester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a preposi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a synonym of "receive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 "remember"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Forg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un4child.ru/433-anglijjskie-sharad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C:\Users\user\Documents\мастер-класс никифоровка\80e37d8d6b927eb53b5be5cfece72d2f.jpg"/>
          <p:cNvPicPr/>
          <p:nvPr/>
        </p:nvPicPr>
        <p:blipFill>
          <a:blip r:embed="rId1"/>
          <a:stretch/>
        </p:blipFill>
        <p:spPr>
          <a:xfrm>
            <a:off x="2916360" y="3500280"/>
            <a:ext cx="3240000" cy="318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788000" y="3068280"/>
            <a:ext cx="2448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бор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ÐÐ°ÑÑÐ¸Ð½ÐºÐ¸ Ð¿Ð¾ Ð·Ð°Ð¿ÑÐ¾ÑÑ Ð´Ð¾ÑÐ¾Ð³Ð°"/>
          <p:cNvPicPr/>
          <p:nvPr/>
        </p:nvPicPr>
        <p:blipFill>
          <a:blip r:embed="rId2"/>
          <a:stretch/>
        </p:blipFill>
        <p:spPr>
          <a:xfrm>
            <a:off x="4788000" y="620640"/>
            <a:ext cx="3995640" cy="282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user\Documents\мастер-класс никифоровка\7a2398505ef5t.jpg"/>
          <p:cNvPicPr/>
          <p:nvPr/>
        </p:nvPicPr>
        <p:blipFill>
          <a:blip r:embed="rId3"/>
          <a:srcRect l="1755" t="2376" r="1647" b="4883"/>
          <a:stretch/>
        </p:blipFill>
        <p:spPr>
          <a:xfrm>
            <a:off x="250920" y="62064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408680" y="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99600" y="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916360" y="189000"/>
            <a:ext cx="7343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2"/>
          <p:cNvSpPr/>
          <p:nvPr/>
        </p:nvSpPr>
        <p:spPr>
          <a:xfrm rot="1933200">
            <a:off x="3866760" y="803160"/>
            <a:ext cx="222120" cy="120348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19330800">
            <a:off x="5501880" y="769680"/>
            <a:ext cx="201600" cy="12254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84360" y="19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ируе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96000" y="19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б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755640" y="2492280"/>
            <a:ext cx="457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необходимые реп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435640" y="256536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обстоятельств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ÐÐ°ÑÑÐ¸Ð½ÐºÐ¸ Ð¿Ð¾ Ð·Ð°Ð¿ÑÐ¾ÑÑ ÑÐ¾Ð»ÐµÐ²ÑÐµ Ð¸Ð³ÑÑ Ð½Ð° ÑÑÐ¾ÐºÐ°Ñ Ð°Ð½Ð³Ð»Ð¸Ð¹ÑÐºÐ¾Ð³Ð¾ ÑÐ·ÑÐºÐ°"/>
          <p:cNvPicPr/>
          <p:nvPr/>
        </p:nvPicPr>
        <p:blipFill>
          <a:blip r:embed="rId1"/>
          <a:stretch/>
        </p:blipFill>
        <p:spPr>
          <a:xfrm>
            <a:off x="111600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50920" y="333360"/>
            <a:ext cx="92170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Подготовка к ролевой иг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ботка фраз и грамматических конструкций (с разными эмоциями, громкостью, темпом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огревающ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ÐÐ°ÑÑÐ¸Ð½ÐºÐ¸ Ð¿Ð¾ Ð·Ð°Ð¿ÑÐ¾ÑÑ Ð¿Ð°Ð½ÑÐ¾Ð¼Ð¸Ð¼Ð° Ð² ÑÐºÐ¾Ð»Ðµ"/>
          <p:cNvPicPr/>
          <p:nvPr/>
        </p:nvPicPr>
        <p:blipFill>
          <a:blip r:embed="rId1"/>
          <a:stretch/>
        </p:blipFill>
        <p:spPr>
          <a:xfrm>
            <a:off x="1476360" y="2637000"/>
            <a:ext cx="62024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84360" y="692280"/>
            <a:ext cx="7632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ам предлагается ситу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вас – директор цирка, который с гастролями приехал в Россию и покорил сердца зрителей невероятными номе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льные-журналисты, которые должны взять интервью для своих издательств. Продумать помимо языковых средств жесты и мими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76500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Озвучивание мультипликационного фи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1.Ознакомиться с текстом (реплики персонаж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2.Посмотреть мультфиль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3.Проработать текст по эпизодам (определиться с интонацией, темпом и п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4.Озв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325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Мой фильм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14842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учитель, прежде чем начать образовывать ученика, возбудил бы интерес к знанию, 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Я. А. Ком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684360" y="35733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учение, лишенное всякого интереса и взятое только силой принуждения, убивает в ученике охоту к овладению знаниями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 Д.Уш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ÐÐ°ÑÑÐ¸Ð½ÐºÐ¸ Ð¿Ð¾ Ð·Ð°Ð¿ÑÐ¾ÑÑ ÐºÐ½Ð¾Ð¿ÐºÐ°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1384200"/>
            <a:ext cx="7967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известно - у кого большие способности, у того обычно есть интерес к знаниям. Но не все знают обратное правило: у кого больше интереса, у того быстрее развиваются спосо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Л.Соловейчик, основатель издательского дома «Первое сентябр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нтер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ывает эмоцию, а всё,  с чем знакомится человек через эмоцию, запомин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же возбудить интере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 как его поддерживать постоян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55640" y="765000"/>
            <a:ext cx="75963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ображения какого-либо слова или предложения при помощи комбинации рисунков, букв, цифр и знаков (кодирование слов и фра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ocuments\мастер-класс никифоровка\rebus исследовать.jpg"/>
          <p:cNvPicPr/>
          <p:nvPr/>
        </p:nvPicPr>
        <p:blipFill>
          <a:blip r:embed="rId1"/>
          <a:stretch/>
        </p:blipFill>
        <p:spPr>
          <a:xfrm>
            <a:off x="250920" y="404640"/>
            <a:ext cx="8620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ocuments\мастер-класс никифоровка\rebus_30.jpg"/>
          <p:cNvPicPr/>
          <p:nvPr/>
        </p:nvPicPr>
        <p:blipFill>
          <a:blip r:embed="rId1"/>
          <a:stretch/>
        </p:blipFill>
        <p:spPr>
          <a:xfrm>
            <a:off x="826920" y="549360"/>
            <a:ext cx="75250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ocuments\мастер-класс никифоровка\rebus_162.jpg"/>
          <p:cNvPicPr/>
          <p:nvPr/>
        </p:nvPicPr>
        <p:blipFill>
          <a:blip r:embed="rId1"/>
          <a:stretch/>
        </p:blipFill>
        <p:spPr>
          <a:xfrm>
            <a:off x="250920" y="1197000"/>
            <a:ext cx="86882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Ша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воего рода загадка, в которой нужно отгадать слово, состоящее из нескольких частей, причем каждая часть является самостоятельным словом, поэтому сначала нужно отгадать каждое отдельное слово, а затем их сложить и таким образом получить слово-отгад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4:23:58Z</dcterms:created>
  <dc:creator>user</dc:creator>
  <dc:description/>
  <dc:language>en-US</dc:language>
  <cp:lastModifiedBy>user</cp:lastModifiedBy>
  <dcterms:modified xsi:type="dcterms:W3CDTF">2018-04-16T02:19:52Z</dcterms:modified>
  <cp:revision>107</cp:revision>
  <dc:subject/>
  <dc:title>Слайд 1</dc:title>
</cp:coreProperties>
</file>