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6760"/>
            <a:ext cx="2971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D697-38B2-4D3D-B5E0-CF659FDCCB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2320" cy="37288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7239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Номер слайда 3"/>
          <p:cNvSpPr/>
          <p:nvPr/>
        </p:nvSpPr>
        <p:spPr>
          <a:xfrm>
            <a:off x="3884760" y="9447120"/>
            <a:ext cx="297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1E552-2BC8-418F-9DF1-B929F9D0B61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E747-C58D-408D-A762-475388A17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AF96-DB7F-405B-A49D-985A41C34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384-137B-4133-9626-1BE0A156A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8EF-0108-4153-A7CE-379580F5D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EF8-906D-4E2E-9D6A-E321B42C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C08-9605-40D7-9485-193B633C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B9D-1662-434E-8AF5-220592DA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263-A92B-4B10-BB74-C7738C71C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0F62-BE6D-4FC4-93C8-3EF5C92A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5D5-D341-4CFA-B304-409A6230C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31AD-9DCB-40DA-8F28-D1FF640C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E7D9-FA60-4A2D-8807-18BD2BE0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ac09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CA5EF-13D1-4763-9D4B-36CAAA6A4F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un4child.ru/433-anglijjskie-sharady.html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4764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учителя английского язык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МБОУ Староюрьевской СОШ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Самойловой Надежды Александровн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1109520" y="901800"/>
            <a:ext cx="7425000" cy="4170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://bestteacher.68edu.ru/wp-content/uploads/2018/03/zagolovok-2018.jpg"/>
          <p:cNvPicPr/>
          <p:nvPr/>
        </p:nvPicPr>
        <p:blipFill>
          <a:blip r:embed="rId2"/>
          <a:srcRect l="0" t="0" r="75163" b="0"/>
          <a:stretch/>
        </p:blipFill>
        <p:spPr>
          <a:xfrm>
            <a:off x="3348000" y="189000"/>
            <a:ext cx="2303640" cy="15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53964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beginning is the crow’s call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end on the bottom of a pon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While the whole can be found in a muse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чало – крик вороны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нец – на дне пруд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 целое в музе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йдете без труда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324000" y="47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first part is the first note of the scale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second part is on the elk’s head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But’if you want to have the who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You can find it as you wal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Первое – но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Второе у лося на голов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А хочешь целое найти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Тогда ищи его в пу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3"/>
          <p:cNvSpPr/>
          <p:nvPr/>
        </p:nvSpPr>
        <p:spPr>
          <a:xfrm>
            <a:off x="395280" y="404640"/>
            <a:ext cx="8064360" cy="58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beginning of the word means a dense forest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The end is a poem for a gala occas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While the whole grows on a man’s fac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32523"/>
                </a:solidFill>
                <a:latin typeface="Calibri"/>
              </a:rPr>
              <a:t>It grows though it is not a pl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Начало слова – лес густо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Конец – торжественное стихотво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А целое – на лице расте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alibri"/>
              </a:rPr>
              <a:t>Хотя и не раст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3"/>
          <p:cNvSpPr/>
          <p:nvPr/>
        </p:nvSpPr>
        <p:spPr>
          <a:xfrm>
            <a:off x="395280" y="620640"/>
            <a:ext cx="896472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the two letters which begin the alphabe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the Past Tense of the verb "to send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antonym of present ..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Absent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what we say when we agre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the first syllable of the word "terribly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third is the antonym of "night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day before today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Yesterda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first is a preposi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second is a synonym of "receive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Calibri"/>
              </a:rPr>
              <a:t>My whole is the antonym of  "remember" .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</a:rPr>
              <a:t>(Forg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точник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fun4child.ru/433-anglijjskie-sharady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6" descr="C:\Users\user\Documents\мастер-класс никифоровка\80e37d8d6b927eb53b5be5cfece72d2f.jpg"/>
          <p:cNvPicPr/>
          <p:nvPr/>
        </p:nvPicPr>
        <p:blipFill>
          <a:blip r:embed="rId1"/>
          <a:stretch/>
        </p:blipFill>
        <p:spPr>
          <a:xfrm>
            <a:off x="2916360" y="3500280"/>
            <a:ext cx="3240000" cy="3187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788000" y="3068280"/>
            <a:ext cx="2448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32523"/>
                </a:solidFill>
                <a:latin typeface="Calibri"/>
              </a:rPr>
              <a:t>бород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ÐÐ°ÑÑÐ¸Ð½ÐºÐ¸ Ð¿Ð¾ Ð·Ð°Ð¿ÑÐ¾ÑÑ Ð´Ð¾ÑÐ¾Ð³Ð°"/>
          <p:cNvPicPr/>
          <p:nvPr/>
        </p:nvPicPr>
        <p:blipFill>
          <a:blip r:embed="rId2"/>
          <a:stretch/>
        </p:blipFill>
        <p:spPr>
          <a:xfrm>
            <a:off x="4788000" y="620640"/>
            <a:ext cx="3995640" cy="2820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Users\user\Documents\мастер-класс никифоровка\7a2398505ef5t.jpg"/>
          <p:cNvPicPr/>
          <p:nvPr/>
        </p:nvPicPr>
        <p:blipFill>
          <a:blip r:embed="rId3"/>
          <a:srcRect l="1755" t="2376" r="1647" b="4883"/>
          <a:stretch/>
        </p:blipFill>
        <p:spPr>
          <a:xfrm>
            <a:off x="250920" y="620640"/>
            <a:ext cx="3960720" cy="280836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408680" y="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карт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5799600" y="0"/>
            <a:ext cx="141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32523"/>
                </a:solidFill>
                <a:latin typeface="Calibri"/>
              </a:rPr>
              <a:t>доро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1"/>
          <p:cNvSpPr/>
          <p:nvPr/>
        </p:nvSpPr>
        <p:spPr>
          <a:xfrm>
            <a:off x="2916360" y="189000"/>
            <a:ext cx="73436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олевые 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2"/>
          <p:cNvSpPr/>
          <p:nvPr/>
        </p:nvSpPr>
        <p:spPr>
          <a:xfrm rot="1933200">
            <a:off x="3866760" y="803160"/>
            <a:ext cx="222120" cy="1203480"/>
          </a:xfrm>
          <a:prstGeom prst="downArrow">
            <a:avLst>
              <a:gd name="adj1" fmla="val 50000"/>
              <a:gd name="adj2" fmla="val 50043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3"/>
          <p:cNvSpPr/>
          <p:nvPr/>
        </p:nvSpPr>
        <p:spPr>
          <a:xfrm rot="19330800">
            <a:off x="5501880" y="769680"/>
            <a:ext cx="201600" cy="122544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684360" y="19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тролируе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5796000" y="198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обод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6"/>
          <p:cNvSpPr/>
          <p:nvPr/>
        </p:nvSpPr>
        <p:spPr>
          <a:xfrm>
            <a:off x="755640" y="2492280"/>
            <a:ext cx="4572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стники получают необходимые репл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7"/>
          <p:cNvSpPr/>
          <p:nvPr/>
        </p:nvSpPr>
        <p:spPr>
          <a:xfrm>
            <a:off x="5435640" y="2565360"/>
            <a:ext cx="34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участники получают обстоятельства общ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ÐÐ°ÑÑÐ¸Ð½ÐºÐ¸ Ð¿Ð¾ Ð·Ð°Ð¿ÑÐ¾ÑÑ ÑÐ¾Ð»ÐµÐ²ÑÐµ Ð¸Ð³ÑÑ Ð½Ð° ÑÑÐ¾ÐºÐ°Ñ Ð°Ð½Ð³Ð»Ð¸Ð¹ÑÐºÐ¾Ð³Ð¾ ÑÐ·ÑÐºÐ°"/>
          <p:cNvPicPr/>
          <p:nvPr/>
        </p:nvPicPr>
        <p:blipFill>
          <a:blip r:embed="rId1"/>
          <a:stretch/>
        </p:blipFill>
        <p:spPr>
          <a:xfrm>
            <a:off x="1116000" y="3357720"/>
            <a:ext cx="431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50920" y="333360"/>
            <a:ext cx="921708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32523"/>
                </a:solidFill>
                <a:latin typeface="Calibri"/>
              </a:rPr>
              <a:t>Подготовка к ролевой иг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ботка фраз и грамматических конструкций (с разными эмоциями, громкостью, темпом…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огревающие упраж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ÐÐ°ÑÑÐ¸Ð½ÐºÐ¸ Ð¿Ð¾ Ð·Ð°Ð¿ÑÐ¾ÑÑ Ð¿Ð°Ð½ÑÐ¾Ð¼Ð¸Ð¼Ð° Ð² ÑÐºÐ¾Ð»Ðµ"/>
          <p:cNvPicPr/>
          <p:nvPr/>
        </p:nvPicPr>
        <p:blipFill>
          <a:blip r:embed="rId1"/>
          <a:stretch/>
        </p:blipFill>
        <p:spPr>
          <a:xfrm>
            <a:off x="1476360" y="2637000"/>
            <a:ext cx="6202440" cy="39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684360" y="692280"/>
            <a:ext cx="763272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олев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астникам предлагается ситуац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дин из вас – директор цирка, который с гастролями приехал в Россию и покорил сердца зрителей невероятными номерам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тальные-журналисты, которые должны взять интервью для своих издательств. Продумать помимо языковых средств жесты и мимику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0" y="765000"/>
            <a:ext cx="91440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Озвучивание мультипликационного филь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1.Ознакомиться с текстом (реплики персонажей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2.Посмотреть мультфиль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3.Проработать текст по эпизодам (определиться с интонацией, темпом и пр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32523"/>
                </a:solidFill>
                <a:latin typeface="Calibri"/>
              </a:rPr>
              <a:t>4.Озвуч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63252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Мой фильм1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1"/>
          <p:cNvSpPr/>
          <p:nvPr/>
        </p:nvSpPr>
        <p:spPr>
          <a:xfrm>
            <a:off x="755640" y="1484280"/>
            <a:ext cx="784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учитель, прежде чем начать образовывать ученика, возбудил бы интерес к знанию, 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                                                 </a:t>
            </a:r>
            <a:r>
              <a:rPr b="0" lang="ru-RU" sz="3200" spc="-1" strike="noStrike">
                <a:solidFill>
                  <a:srgbClr val="953735"/>
                </a:solidFill>
                <a:latin typeface="Calibri"/>
              </a:rPr>
              <a:t>Я. А. Коме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"/>
          <p:cNvSpPr/>
          <p:nvPr/>
        </p:nvSpPr>
        <p:spPr>
          <a:xfrm>
            <a:off x="684360" y="3573360"/>
            <a:ext cx="770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…учение, лишенное всякого интереса и взятое только силой принуждения, убивает в ученике охоту к овладению знаниями…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               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. Д.Уш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Мой фильм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ÐÐ°ÑÑÐ¸Ð½ÐºÐ¸ Ð¿Ð¾ Ð·Ð°Ð¿ÑÐ¾ÑÑ ÐºÐ½Ð¾Ð¿ÐºÐ°"/>
          <p:cNvPicPr/>
          <p:nvPr/>
        </p:nvPicPr>
        <p:blipFill>
          <a:blip r:embed="rId2"/>
          <a:stretch/>
        </p:blipFill>
        <p:spPr>
          <a:xfrm>
            <a:off x="0" y="0"/>
            <a:ext cx="3333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Прямоугольник 2" descr=""/>
          <p:cNvPicPr/>
          <p:nvPr/>
        </p:nvPicPr>
        <p:blipFill>
          <a:blip r:embed="rId1"/>
          <a:stretch/>
        </p:blipFill>
        <p:spPr>
          <a:xfrm>
            <a:off x="811080" y="1384200"/>
            <a:ext cx="7967880" cy="27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5092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м известно - у кого большие способности, у того обычно есть интерес к знаниям. Но не все знают обратное правило: у кого больше интереса, у того быстрее развиваются способно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.Л.Соловейчик, основатель издательского дома «Первое сентябр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нтере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ызывает эмоцию, а всё,  с чем знакомится человек через эмоцию, запомина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Как же возбудить интерес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53735"/>
                </a:solidFill>
                <a:latin typeface="Calibri"/>
              </a:rPr>
              <a:t>И как его поддерживать постоянно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755640" y="765000"/>
            <a:ext cx="759636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32523"/>
                </a:solidFill>
                <a:latin typeface="Calibri"/>
              </a:rPr>
              <a:t>Ребу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изображения какого-либо слова или предложения при помощи комбинации рисунков, букв, цифр и знаков (кодирование слов и фраз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user\Documents\мастер-класс никифоровка\rebus исследовать.jpg"/>
          <p:cNvPicPr/>
          <p:nvPr/>
        </p:nvPicPr>
        <p:blipFill>
          <a:blip r:embed="rId1"/>
          <a:stretch/>
        </p:blipFill>
        <p:spPr>
          <a:xfrm>
            <a:off x="250920" y="404640"/>
            <a:ext cx="8620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user\Documents\мастер-класс никифоровка\rebus_30.jpg"/>
          <p:cNvPicPr/>
          <p:nvPr/>
        </p:nvPicPr>
        <p:blipFill>
          <a:blip r:embed="rId1"/>
          <a:stretch/>
        </p:blipFill>
        <p:spPr>
          <a:xfrm>
            <a:off x="826920" y="549360"/>
            <a:ext cx="752508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Users\user\Documents\мастер-класс никифоровка\rebus_162.jpg"/>
          <p:cNvPicPr/>
          <p:nvPr/>
        </p:nvPicPr>
        <p:blipFill>
          <a:blip r:embed="rId1"/>
          <a:stretch/>
        </p:blipFill>
        <p:spPr>
          <a:xfrm>
            <a:off x="250920" y="1197000"/>
            <a:ext cx="86882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32523"/>
                </a:solidFill>
                <a:latin typeface="Calibri"/>
              </a:rPr>
              <a:t>Шар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34272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своего рода загадка, в которой нужно отгадать слово, состоящее из нескольких частей, причем каждая часть является самостоятельным словом, поэтому сначала нужно отгадать каждое отдельное слово, а затем их сложить и таким образом получить слово-отгадк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15T04:23:58Z</dcterms:created>
  <dc:creator>user</dc:creator>
  <dc:description/>
  <dc:language>en-US</dc:language>
  <cp:lastModifiedBy>user</cp:lastModifiedBy>
  <dcterms:modified xsi:type="dcterms:W3CDTF">2018-04-16T02:19:52Z</dcterms:modified>
  <cp:revision>107</cp:revision>
  <dc:subject/>
  <dc:title>Слайд 1</dc:title>
</cp:coreProperties>
</file>