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4.jpeg" ContentType="image/jpeg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5567-70F3-4AA0-901B-C9F3BD137C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BA11-740D-46D6-96FE-8A83E56477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4246-AF63-430D-A946-4CFE3CABB85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7B5FF-0231-45A2-A28F-69C444FB9E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EA1-3D25-4180-9ABE-F34E7B1EC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F8BE-A25D-46C6-8003-7904B9FB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BBB6-9AD7-4B30-A373-5F24F246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37EF-B04B-4C8A-AAAD-C0187CDFA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F3D-282C-4855-A348-FE46DB8A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EAE0-1614-4354-8EA1-69FF804B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C19-AACF-4874-8207-9CA66D47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A9B7-2568-4DFA-A35A-F5999AA8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092-1EEB-40C0-AA3C-B6818020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EC2-7B7D-4214-919B-57389BC0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E7F6-1226-4258-BFF8-E168BD99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C600-D444-4347-9229-8F18EDE6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F351-358D-4719-8AE0-4587678EE6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684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249120"/>
            <a:ext cx="9668160" cy="29448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3"/>
          <a:stretch/>
        </p:blipFill>
        <p:spPr>
          <a:xfrm>
            <a:off x="420840" y="3492360"/>
            <a:ext cx="8485200" cy="2567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92f760b1-c9da-4f37-8804-7ac36a5fef2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4" descr=""/>
          <p:cNvPicPr/>
          <p:nvPr/>
        </p:nvPicPr>
        <p:blipFill>
          <a:blip r:embed="rId2"/>
          <a:stretch/>
        </p:blipFill>
        <p:spPr>
          <a:xfrm>
            <a:off x="6443640" y="-79200"/>
            <a:ext cx="2712960" cy="3139920"/>
          </a:xfrm>
          <a:prstGeom prst="rect">
            <a:avLst/>
          </a:prstGeom>
          <a:ln w="0">
            <a:noFill/>
          </a:ln>
        </p:spPr>
      </p:pic>
      <p:sp>
        <p:nvSpPr>
          <p:cNvPr id="88" name="Овал 5"/>
          <p:cNvSpPr/>
          <p:nvPr/>
        </p:nvSpPr>
        <p:spPr>
          <a:xfrm>
            <a:off x="3286080" y="0"/>
            <a:ext cx="3286080" cy="7142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6" descr=""/>
          <p:cNvPicPr/>
          <p:nvPr/>
        </p:nvPicPr>
        <p:blipFill>
          <a:blip r:embed="rId3"/>
          <a:stretch/>
        </p:blipFill>
        <p:spPr>
          <a:xfrm>
            <a:off x="3524400" y="-115920"/>
            <a:ext cx="3009600" cy="841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" descr=""/>
          <p:cNvPicPr/>
          <p:nvPr/>
        </p:nvPicPr>
        <p:blipFill>
          <a:blip r:embed="rId1"/>
          <a:stretch/>
        </p:blipFill>
        <p:spPr>
          <a:xfrm>
            <a:off x="0" y="-357120"/>
            <a:ext cx="9164520" cy="72151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2"/>
          <a:stretch/>
        </p:blipFill>
        <p:spPr>
          <a:xfrm>
            <a:off x="2114640" y="-189000"/>
            <a:ext cx="6400800" cy="21463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3"/>
          <a:stretch/>
        </p:blipFill>
        <p:spPr>
          <a:xfrm>
            <a:off x="103320" y="2286000"/>
            <a:ext cx="8937360" cy="4479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xn----dtbebg7bgeu5a3jl.xn--p1ai/wp-content/uploads/2016/08/2-1-768x707.png"/>
          <p:cNvPicPr/>
          <p:nvPr/>
        </p:nvPicPr>
        <p:blipFill>
          <a:blip r:embed="rId4"/>
          <a:stretch/>
        </p:blipFill>
        <p:spPr>
          <a:xfrm>
            <a:off x="0" y="0"/>
            <a:ext cx="2386080" cy="2197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4653000" y="0"/>
            <a:ext cx="4483080" cy="329724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1" descr=""/>
          <p:cNvPicPr/>
          <p:nvPr/>
        </p:nvPicPr>
        <p:blipFill>
          <a:blip r:embed="rId2"/>
          <a:stretch/>
        </p:blipFill>
        <p:spPr>
          <a:xfrm>
            <a:off x="0" y="-1440"/>
            <a:ext cx="4797360" cy="3709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"/>
          <p:cNvPicPr/>
          <p:nvPr/>
        </p:nvPicPr>
        <p:blipFill>
          <a:blip r:embed="rId3"/>
          <a:stretch/>
        </p:blipFill>
        <p:spPr>
          <a:xfrm>
            <a:off x="4788000" y="2637000"/>
            <a:ext cx="4336920" cy="4221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4"/>
          <a:stretch/>
        </p:blipFill>
        <p:spPr>
          <a:xfrm>
            <a:off x="-231840" y="3541680"/>
            <a:ext cx="5261040" cy="334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Прямоугольник 4" descr=""/>
          <p:cNvPicPr/>
          <p:nvPr/>
        </p:nvPicPr>
        <p:blipFill>
          <a:blip r:embed="rId2"/>
          <a:stretch/>
        </p:blipFill>
        <p:spPr>
          <a:xfrm>
            <a:off x="579600" y="414360"/>
            <a:ext cx="848520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162000" y="189000"/>
            <a:ext cx="8820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Ежедневно  мы  сталкиваемся  с  кучей противореч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к   примеру,  любовь  и  ненави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зло  и  добро,  жизнь  и  смер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а  также   реальный  мир  и  вымышленны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Нам бы хотелось  обратиться  к   последней  паре  слов,  что  значит  реальный  мир,  а что значит  нереальны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В  каком  жить  лучше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И  какой  предпочитаем   мы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4508280"/>
            <a:ext cx="8161200" cy="205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ир, в котором чувствуешь себя счастливым, а главное кому-то нужным. Вот в таком мире хотелось бы жить, но это лишь начало нашего воображения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5" descr=""/>
          <p:cNvPicPr/>
          <p:nvPr/>
        </p:nvPicPr>
        <p:blipFill>
          <a:blip r:embed="rId1"/>
          <a:stretch/>
        </p:blipFill>
        <p:spPr>
          <a:xfrm>
            <a:off x="1571760" y="285840"/>
            <a:ext cx="5929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4" descr=""/>
          <p:cNvPicPr/>
          <p:nvPr/>
        </p:nvPicPr>
        <p:blipFill>
          <a:blip r:embed="rId1"/>
          <a:stretch/>
        </p:blipFill>
        <p:spPr>
          <a:xfrm>
            <a:off x="357120" y="1370160"/>
            <a:ext cx="3357720" cy="3344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42560" y="4929120"/>
            <a:ext cx="9001080" cy="18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ания в обычном мире все одинаковые по форме, а в моем мире здания будут разной формы в зависимости от их назначения . Поликлиника будет круглой, школа в форме ракеты ,а дома квадра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2"/>
          <a:stretch/>
        </p:blipFill>
        <p:spPr>
          <a:xfrm>
            <a:off x="5705640" y="6040440"/>
            <a:ext cx="3249360" cy="76824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5" descr=""/>
          <p:cNvPicPr/>
          <p:nvPr/>
        </p:nvPicPr>
        <p:blipFill>
          <a:blip r:embed="rId3"/>
          <a:stretch/>
        </p:blipFill>
        <p:spPr>
          <a:xfrm>
            <a:off x="1414440" y="-60480"/>
            <a:ext cx="5668920" cy="114624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9" descr="dpcLUSgTqUk.jpg"/>
          <p:cNvPicPr/>
          <p:nvPr/>
        </p:nvPicPr>
        <p:blipFill>
          <a:blip r:embed="rId4"/>
          <a:stretch/>
        </p:blipFill>
        <p:spPr>
          <a:xfrm>
            <a:off x="4143240" y="1289160"/>
            <a:ext cx="5000760" cy="3425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43120" y="0"/>
            <a:ext cx="32860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ма будуще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4663"/>
          <p:cNvPicPr/>
          <p:nvPr/>
        </p:nvPicPr>
        <p:blipFill>
          <a:blip r:embed="rId1"/>
          <a:stretch/>
        </p:blipFill>
        <p:spPr>
          <a:xfrm>
            <a:off x="0" y="714240"/>
            <a:ext cx="3071880" cy="3170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i45"/>
          <p:cNvPicPr/>
          <p:nvPr/>
        </p:nvPicPr>
        <p:blipFill>
          <a:blip r:embed="rId2"/>
          <a:stretch/>
        </p:blipFill>
        <p:spPr>
          <a:xfrm>
            <a:off x="0" y="3929040"/>
            <a:ext cx="307188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4" descr=""/>
          <p:cNvPicPr/>
          <p:nvPr/>
        </p:nvPicPr>
        <p:blipFill>
          <a:blip r:embed="rId3"/>
          <a:stretch/>
        </p:blipFill>
        <p:spPr>
          <a:xfrm>
            <a:off x="-219240" y="-109440"/>
            <a:ext cx="2833920" cy="822240"/>
          </a:xfrm>
          <a:prstGeom prst="rect">
            <a:avLst/>
          </a:prstGeom>
          <a:ln w="0">
            <a:noFill/>
          </a:ln>
        </p:spPr>
      </p:pic>
      <p:sp>
        <p:nvSpPr>
          <p:cNvPr id="77" name="Текст 3"/>
          <p:cNvSpPr/>
          <p:nvPr/>
        </p:nvSpPr>
        <p:spPr>
          <a:xfrm>
            <a:off x="3143160" y="5683320"/>
            <a:ext cx="5857920" cy="952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Там было бы интересно жить. Каждый сладкоежка мечтает о таком ми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3143160" y="785880"/>
            <a:ext cx="585792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Я хотела бы жить в мире, который сделан весь из слад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" descr="http://pic1.dbw.cn/0/00/84/73/847394_938400.jpg"/>
          <p:cNvPicPr/>
          <p:nvPr/>
        </p:nvPicPr>
        <p:blipFill>
          <a:blip r:embed="rId4"/>
          <a:stretch/>
        </p:blipFill>
        <p:spPr>
          <a:xfrm>
            <a:off x="3143160" y="1643040"/>
            <a:ext cx="5857920" cy="39290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8" descr=""/>
          <p:cNvPicPr/>
          <p:nvPr/>
        </p:nvPicPr>
        <p:blipFill>
          <a:blip r:embed="rId5"/>
          <a:stretch/>
        </p:blipFill>
        <p:spPr>
          <a:xfrm>
            <a:off x="5937120" y="-115920"/>
            <a:ext cx="30308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d4O9llk43T0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" descr=""/>
          <p:cNvPicPr/>
          <p:nvPr/>
        </p:nvPicPr>
        <p:blipFill>
          <a:blip r:embed="rId2"/>
          <a:stretch/>
        </p:blipFill>
        <p:spPr>
          <a:xfrm>
            <a:off x="-195120" y="-115920"/>
            <a:ext cx="6877080" cy="120168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3"/>
          <a:stretch/>
        </p:blipFill>
        <p:spPr>
          <a:xfrm>
            <a:off x="6480000" y="-109440"/>
            <a:ext cx="2803680" cy="82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07:22:31Z</dcterms:created>
  <dc:creator>Тимур</dc:creator>
  <dc:description/>
  <dc:language>en-US</dc:language>
  <cp:lastModifiedBy>Преподаватель</cp:lastModifiedBy>
  <dcterms:modified xsi:type="dcterms:W3CDTF">2018-08-09T13:19:01Z</dcterms:modified>
  <cp:revision>55</cp:revision>
  <dc:subject/>
  <dc:title>Мир в котором я  хотел бы жить.</dc:title>
</cp:coreProperties>
</file>