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32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CCF-6E30-40A0-81AB-7BB6E35F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FDD-7682-4F34-B74B-31CC944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261-E658-440E-88C0-D173AB8A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F66-C2FB-4031-87BC-63C76023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544-27CF-4F83-A76A-855484B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8E2-7A4A-44FA-9A9C-0D9C0A22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F61-CB23-44FC-AEE0-2C1A093C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021-31A6-4BCB-93B4-4C1D10A6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439-F4C6-4A94-B746-4F2E1181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910-BC80-485E-BED3-D200EC1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F90-0D7B-4835-A367-D7C30A2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AA8-963F-43DC-87AA-DC8FB19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5E7C-5EB8-427F-98B9-18DDC304A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249120"/>
            <a:ext cx="9668160" cy="2944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3"/>
          <a:stretch/>
        </p:blipFill>
        <p:spPr>
          <a:xfrm>
            <a:off x="274680" y="4206960"/>
            <a:ext cx="8485200" cy="214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2960" y="-360"/>
            <a:ext cx="76960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 в  мире  не было  войн,  которые  приводят  к  разрушениям,  голоду    и  потере  близки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0a2c6f91f60398095a98b0f9dfec15db"/>
          <p:cNvPicPr/>
          <p:nvPr/>
        </p:nvPicPr>
        <p:blipFill>
          <a:blip r:embed="rId1"/>
          <a:srcRect l="0" t="8292" r="0" b="0"/>
          <a:stretch/>
        </p:blipFill>
        <p:spPr>
          <a:xfrm>
            <a:off x="2000160" y="2000160"/>
            <a:ext cx="4878360" cy="31654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THUVb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51260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49320"/>
            <a:ext cx="8705880" cy="1139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762200"/>
            <a:ext cx="80107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Заголовок 1"/>
          <p:cNvGrpSpPr/>
          <p:nvPr/>
        </p:nvGrpSpPr>
        <p:grpSpPr>
          <a:xfrm>
            <a:off x="-60480" y="-249120"/>
            <a:ext cx="9259920" cy="1249200"/>
            <a:chOff x="-60480" y="-249120"/>
            <a:chExt cx="9259920" cy="1249200"/>
          </a:xfrm>
        </p:grpSpPr>
        <p:pic>
          <p:nvPicPr>
            <p:cNvPr id="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249120"/>
              <a:ext cx="92599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-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b050"/>
                  </a:solidFill>
                  <a:latin typeface="Calibri"/>
                </a:rPr>
                <a:t>Мир в котором важна экология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Объект 4" descr=""/>
          <p:cNvPicPr/>
          <p:nvPr/>
        </p:nvPicPr>
        <p:blipFill>
          <a:blip r:embed="rId2"/>
          <a:srcRect l="0" t="2302" r="0" b="1021"/>
          <a:stretch/>
        </p:blipFill>
        <p:spPr>
          <a:xfrm>
            <a:off x="142920" y="928800"/>
            <a:ext cx="36432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9" name="Объект 3"/>
          <p:cNvGrpSpPr/>
          <p:nvPr/>
        </p:nvGrpSpPr>
        <p:grpSpPr>
          <a:xfrm>
            <a:off x="-165240" y="4127400"/>
            <a:ext cx="9150480" cy="2602080"/>
            <a:chOff x="-165240" y="4127400"/>
            <a:chExt cx="9150480" cy="2602080"/>
          </a:xfrm>
        </p:grpSpPr>
        <p:pic>
          <p:nvPicPr>
            <p:cNvPr id="50" name="Объект 3" descr=""/>
            <p:cNvPicPr/>
            <p:nvPr/>
          </p:nvPicPr>
          <p:blipFill>
            <a:blip r:embed="rId3"/>
            <a:stretch/>
          </p:blipFill>
          <p:spPr>
            <a:xfrm>
              <a:off x="-165240" y="4127400"/>
              <a:ext cx="915048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0" y="4214880"/>
              <a:ext cx="8929800" cy="24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70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Calibri"/>
                </a:rPr>
                <a:t>В садах и парках будут гулять животные . Дети со взрослыми могут кормить их с рук .В садах будет много речек , прудов , фонтанов и детских площадок </a:t>
              </a: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оугольник 2" descr=""/>
          <p:cNvPicPr/>
          <p:nvPr/>
        </p:nvPicPr>
        <p:blipFill>
          <a:blip r:embed="rId4"/>
          <a:stretch/>
        </p:blipFill>
        <p:spPr>
          <a:xfrm>
            <a:off x="55440" y="5499000"/>
            <a:ext cx="4078440" cy="10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sm_users_img-299079"/>
          <p:cNvPicPr/>
          <p:nvPr/>
        </p:nvPicPr>
        <p:blipFill>
          <a:blip r:embed="rId5"/>
          <a:stretch/>
        </p:blipFill>
        <p:spPr>
          <a:xfrm>
            <a:off x="5572080" y="928800"/>
            <a:ext cx="3571920" cy="3130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6"/>
          <a:stretch/>
        </p:blipFill>
        <p:spPr>
          <a:xfrm>
            <a:off x="5010120" y="5505480"/>
            <a:ext cx="3402000" cy="974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5" descr=""/>
          <p:cNvPicPr/>
          <p:nvPr/>
        </p:nvPicPr>
        <p:blipFill>
          <a:blip r:embed="rId1"/>
          <a:stretch/>
        </p:blipFill>
        <p:spPr>
          <a:xfrm>
            <a:off x="2914560" y="5675400"/>
            <a:ext cx="308448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5" descr=""/>
          <p:cNvPicPr/>
          <p:nvPr/>
        </p:nvPicPr>
        <p:blipFill>
          <a:blip r:embed="rId2"/>
          <a:stretch/>
        </p:blipFill>
        <p:spPr>
          <a:xfrm>
            <a:off x="0" y="142920"/>
            <a:ext cx="4143240" cy="3286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142920" y="3643200"/>
            <a:ext cx="38577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е не нравится ,то что ради небольшого количества бумаги вырубают цел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3"/>
          <a:stretch/>
        </p:blipFill>
        <p:spPr>
          <a:xfrm>
            <a:off x="4214880" y="142920"/>
            <a:ext cx="478620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57800" y="3714840"/>
            <a:ext cx="457200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е не нравится , что отходы люди выливают в реки и озё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не нравится то, что люди придумали машины которые работают на электричест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857840" y="2143080"/>
            <a:ext cx="407196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5059440" y="4962600"/>
            <a:ext cx="373680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eugeot-1"/>
          <p:cNvPicPr/>
          <p:nvPr/>
        </p:nvPicPr>
        <p:blipFill>
          <a:blip r:embed="rId3"/>
          <a:stretch/>
        </p:blipFill>
        <p:spPr>
          <a:xfrm>
            <a:off x="500040" y="207180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4"/>
          <a:stretch/>
        </p:blipFill>
        <p:spPr>
          <a:xfrm>
            <a:off x="328680" y="4962600"/>
            <a:ext cx="41940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092a64b8a31959a656ca589555e00f55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4" descr=""/>
          <p:cNvPicPr/>
          <p:nvPr/>
        </p:nvPicPr>
        <p:blipFill>
          <a:blip r:embed="rId2"/>
          <a:stretch/>
        </p:blipFill>
        <p:spPr>
          <a:xfrm>
            <a:off x="1481040" y="195120"/>
            <a:ext cx="4743720" cy="1914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554040" y="5553000"/>
            <a:ext cx="4737240" cy="10494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4"/>
          <a:stretch/>
        </p:blipFill>
        <p:spPr>
          <a:xfrm>
            <a:off x="6473880" y="6035760"/>
            <a:ext cx="2803320" cy="834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Все люди станут ум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i68.beon.ru/76/18/1721876/29/106767529/um_262d8.jpeg"/>
          <p:cNvPicPr/>
          <p:nvPr/>
        </p:nvPicPr>
        <p:blipFill>
          <a:blip r:embed="rId1"/>
          <a:stretch/>
        </p:blipFill>
        <p:spPr>
          <a:xfrm>
            <a:off x="1116000" y="14130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helpster.ru/pic/misc/pic/1323/1.jpg"/>
          <p:cNvPicPr/>
          <p:nvPr/>
        </p:nvPicPr>
        <p:blipFill>
          <a:blip r:embed="rId2"/>
          <a:srcRect l="6694" t="7717" r="4877" b="7717"/>
          <a:stretch/>
        </p:blipFill>
        <p:spPr>
          <a:xfrm>
            <a:off x="4572000" y="2000160"/>
            <a:ext cx="3714840" cy="32860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4" descr=""/>
          <p:cNvPicPr/>
          <p:nvPr/>
        </p:nvPicPr>
        <p:blipFill>
          <a:blip r:embed="rId3"/>
          <a:stretch/>
        </p:blipFill>
        <p:spPr>
          <a:xfrm>
            <a:off x="165240" y="5907240"/>
            <a:ext cx="4797360" cy="834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Образование станет более доступ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discoveric.ru/tmp/upload/record/1394/w_1394-3.jpg"/>
          <p:cNvPicPr/>
          <p:nvPr/>
        </p:nvPicPr>
        <p:blipFill>
          <a:blip r:embed="rId1"/>
          <a:srcRect l="0" t="7636" r="0" b="8357"/>
          <a:stretch/>
        </p:blipFill>
        <p:spPr>
          <a:xfrm>
            <a:off x="179280" y="2357280"/>
            <a:ext cx="4302360" cy="314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school1274.ru/wp-content/uploads/2013/02/Studenti.jpg"/>
          <p:cNvPicPr/>
          <p:nvPr/>
        </p:nvPicPr>
        <p:blipFill>
          <a:blip r:embed="rId2"/>
          <a:stretch/>
        </p:blipFill>
        <p:spPr>
          <a:xfrm>
            <a:off x="5111640" y="1773360"/>
            <a:ext cx="3514680" cy="25192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3"/>
          <a:stretch/>
        </p:blipFill>
        <p:spPr>
          <a:xfrm>
            <a:off x="4054320" y="5907240"/>
            <a:ext cx="4797720" cy="82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мечтаю,  чтобы  люди  были  добрей. Чтобы  в  отношениях  между  людьми,  прежде  всего,  было  уважение, доверие и  любовь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image024"/>
          <p:cNvPicPr/>
          <p:nvPr/>
        </p:nvPicPr>
        <p:blipFill>
          <a:blip r:embed="rId1"/>
          <a:stretch/>
        </p:blipFill>
        <p:spPr>
          <a:xfrm>
            <a:off x="1258920" y="2133720"/>
            <a:ext cx="6915240" cy="3743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4" descr=""/>
          <p:cNvPicPr/>
          <p:nvPr/>
        </p:nvPicPr>
        <p:blipFill>
          <a:blip r:embed="rId2"/>
          <a:stretch/>
        </p:blipFill>
        <p:spPr>
          <a:xfrm>
            <a:off x="196848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 мечтаю,  чтобы  ВСЕ  люди  жили  в  достатке,  чтобы  медицина  могла, бороться  с  любыми  болезн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ourse_image"/>
          <p:cNvPicPr/>
          <p:nvPr/>
        </p:nvPicPr>
        <p:blipFill>
          <a:blip r:embed="rId1"/>
          <a:stretch/>
        </p:blipFill>
        <p:spPr>
          <a:xfrm>
            <a:off x="1187280" y="1514520"/>
            <a:ext cx="6409080" cy="44830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938240" y="5888160"/>
            <a:ext cx="4797360" cy="83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07:22:31Z</dcterms:created>
  <dc:creator>Тимур</dc:creator>
  <dc:description/>
  <dc:language>en-US</dc:language>
  <cp:lastModifiedBy>Преподаватель</cp:lastModifiedBy>
  <dcterms:modified xsi:type="dcterms:W3CDTF">2018-08-09T14:31:36Z</dcterms:modified>
  <cp:revision>56</cp:revision>
  <dc:subject/>
  <dc:title>Мир в котором я  хотел бы жить.</dc:title>
</cp:coreProperties>
</file>