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32CE-FCF4-4C1B-AE9E-785AD2D18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F55-9BCB-4B58-B220-48D7915A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C015-1FC5-4E47-8D25-F8DDC892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12DB-B9F5-4D6A-B6A0-9A230650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9D9F-AF59-4F2E-9D38-CC125E685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425B-C65C-474A-BBB4-47F51648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CBF4-0AC6-4BA3-AFB9-4F66ABA8E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E7F5-7670-42B0-B7BA-DA09C840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0471-D167-453D-A364-07CAF307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FC6F-BAF6-44ED-9005-6F4FE06CB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39C3-2084-4C8D-9898-581BCAB2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60B8-8152-49C6-8458-3D986FFA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CA8E-3236-4813-ACF8-25B46B17A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9726-1F8B-48DE-A2A5-51D82565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4DF1-6B27-4642-A7C8-7FF028C52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445E-8302-4D21-9D9F-89D3649D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03F13-CD25-4141-B048-4E74A5565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0AADF-A698-46C4-B991-F08DD0B8F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B4D76-461C-4157-8922-7A513523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4B69F-8D8D-4C55-AAFE-CFE33D74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D87A-A1AB-4BDE-A27D-EDE657D5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483D34-3D79-430A-A27D-546D654A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CDB3-6749-4ADF-A0C0-37F4765C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65E67-17AB-4ECF-8CE9-8EDFAB036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289AC-2EF1-4342-A0C2-861E0EAA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66DE5-CA66-46AE-B544-F0B2D3F8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3ADE-0AD2-47E0-BAB9-1D53ACC4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2730B-249B-4287-8A11-2F96EC5B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CBF29-FCFD-4023-ACED-1BC7D58E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A16AC-C8DB-477D-8E56-A3812A65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3B3EA-66CD-4531-A8C3-0268C239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9CC4B-B1D3-4252-A550-914002737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55DE7-80D5-4B43-B7CB-C47FABBF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641-85EB-47C9-9475-FFAB98C61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4E15F-FD22-4AF2-99F5-3755E3DE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F6709-C21C-4209-891B-54CC585FB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E015E-5253-424E-8E30-3F5F7B12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CEDD7-648B-47BF-BF0B-38653DD0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A900F6-639E-40CE-B574-5B1AEA8F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B6C1F-5B37-42B8-A3F0-F84BCCAA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E6959-37AD-4DFA-B3A1-FEBB17E5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C8452-8A77-43AB-A2F5-2B7FED2E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A268E-9540-4BA7-AC89-2D341F1E0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7B029-0CC3-40E1-8D32-A5AD8718A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74C5-4B20-40AF-BE47-FA544DCB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15A9FB-4C48-425F-B422-A9B32FA3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1BDAA-0F1F-4E2F-AC18-B9E59ACA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03B5A-844B-4EB8-803F-129E60C7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24F7A-95FE-49CB-A75E-ACE0FC24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B6490C-F7CE-43D2-A21C-25ECA955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6DF62-E7AC-4687-8DEE-8651C6B5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5340F-1F89-4F74-8135-CD893DD0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CC654-E411-4AF5-9B39-9822ECA4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1302B-C668-4D64-A059-4A24B0F12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54ADF-ED35-415B-B38E-93CF44487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FA3-4BA1-42DC-B93A-72DB165A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9A842E-2687-4367-BF13-E7CB7BBC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2636E-42C7-4800-BFA2-AEBB93369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402B96-BE2D-494B-A0A2-DE7B35F6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42B071-1955-481E-8A82-8CA448F0B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113D9-C47B-4A07-89FB-6A9712E7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3A33A-3DCA-44BC-9D00-ADA3F145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35C3B-E415-4074-AD8D-036B6DD7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E7ABC-91D7-44D4-8DC2-2AA424A0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BF77F-522B-4714-B068-1232922D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3E164-C266-4C93-BCAC-8C0952D5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CAAD-9FE9-4D0A-A51C-B939D38D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666F2E-2CE2-499A-8DAA-DC03D1A9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9805AB-F175-4A97-830D-AF086E95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E6642-6142-47BB-8257-77396291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8379D-0815-4E14-BFAB-E15AF4B29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D90BFE-7602-4F50-A18C-3812573B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E7F2C7-7E53-445F-A6F5-83405D724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76E92-5F4C-434F-85E5-B31F961E2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AC6050-49F4-410A-AFB1-B3EA141B7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CFDFD-45C3-477F-A1CA-60B2BB01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88363-3F96-4EE5-867D-645C4234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AEE-D2ED-4C68-9597-133D4D0C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78059-40A4-4BC4-BEB4-FFC02CB7B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0EB87-B368-4D42-8044-4495FF0B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EE8ED-8366-44C0-A6E1-1C44918D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2758C-6A05-4F34-9487-50D4FED61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EA78C-96E7-4311-93B5-F9FDBCFFB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E8338-7048-4E0B-B261-A945D983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B1C53-B1CB-403E-9E78-4A94A71C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F7554-AA28-4C6D-9EBA-4E89FDDEB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34C2B-D9A0-4DBF-875D-C6185FF7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833DF-886C-4167-A9D4-214C451A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6401-1881-44D4-883B-FD533FC1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1420B-F9F6-4B25-8243-7DF1E1B5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0E4156-D60B-4A30-82C2-BDFBE9B0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B884D8-2576-499A-8436-A623D5D20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E9FEC-E53D-4ED4-A7B6-C17479E0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0F380-B996-4512-AF30-791384FB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B8E4F-7974-4802-8765-2F8A4E3F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8CB97-58AC-4C3B-A392-AECE43623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D31E-E294-48AE-8ACF-9DA4FA7953D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259E-FB18-47DD-9A9F-013243A24E0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F046-A37C-424B-9C90-3180602BA2C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F3A1-DB6C-4B9C-95F5-FAB5ED48B3A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2C5F-CE8E-4BA8-A3BA-C572C9F1E32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08F5-BA3D-4B6A-BBC8-0F41E311D8D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75E9-83DD-4A6F-BAC6-3B0D991D236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CDA1-D2DB-4B68-9695-0B9BA94F967A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D:\фоны  к  презентациям\дети  в  школе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556000" y="3933720"/>
            <a:ext cx="4464000" cy="144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Lucida Sans Unicode"/>
              </a:rPr>
              <a:t>Ерофеева С.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Lucida Sans Unicode"/>
              </a:rPr>
              <a:t>учитель-логопе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Прямоугольник 4" descr=""/>
          <p:cNvPicPr/>
          <p:nvPr/>
        </p:nvPicPr>
        <p:blipFill>
          <a:blip r:embed="rId2"/>
          <a:stretch/>
        </p:blipFill>
        <p:spPr>
          <a:xfrm>
            <a:off x="1773360" y="1158840"/>
            <a:ext cx="54561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Содержимое 5" descr=""/>
          <p:cNvPicPr/>
          <p:nvPr/>
        </p:nvPicPr>
        <p:blipFill>
          <a:blip r:embed="rId1"/>
          <a:stretch/>
        </p:blipFill>
        <p:spPr>
          <a:xfrm rot="21246000">
            <a:off x="388440" y="1327320"/>
            <a:ext cx="2689200" cy="2820960"/>
          </a:xfrm>
          <a:prstGeom prst="rect">
            <a:avLst/>
          </a:prstGeom>
          <a:ln w="0">
            <a:noFill/>
          </a:ln>
        </p:spPr>
      </p:pic>
      <p:pic>
        <p:nvPicPr>
          <p:cNvPr id="374" name="Заголовок 1" descr=""/>
          <p:cNvPicPr/>
          <p:nvPr/>
        </p:nvPicPr>
        <p:blipFill>
          <a:blip r:embed="rId2"/>
          <a:stretch/>
        </p:blipFill>
        <p:spPr>
          <a:xfrm>
            <a:off x="3925800" y="762120"/>
            <a:ext cx="4773600" cy="511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50560" y="1196640"/>
            <a:ext cx="7489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вукопроизношение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7-ми годам ребенок должен научиться правильно и четко произносить все звуки. Недопустимо наличие звуковых замен (С – Ш, З – Ж, С – Ц и т.д.). Такого рода дефекты отражаются на письм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нематический слух.</a:t>
            </a:r>
            <a:r>
              <a:rPr b="0" lang="ru-RU" sz="27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должен четко различать  на слух все звуки речи. Запись любого слова предполагает умение определить каждый звук, входящий в состав слова. Если какие–то звуки кажутся ребенку одинаковыми, то на письме он будет затрудняться  при выборе соответствующих букв.  (Чаще это звонкие и глухие согласные б-п, в-ф, к-г и др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9360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4" descr=""/>
          <p:cNvPicPr/>
          <p:nvPr/>
        </p:nvPicPr>
        <p:blipFill>
          <a:blip r:embed="rId2"/>
          <a:stretch/>
        </p:blipFill>
        <p:spPr>
          <a:xfrm>
            <a:off x="7448400" y="4151160"/>
            <a:ext cx="15195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866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916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25992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ловарный запас.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составлять не менее 2000 слов. В нем должны быть представлены основные части речи: существительные, глаголы, прилагательные, местоимения, наречия, предлоги, союзы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для проверки словаря: нахождение обобщающих слов для групп однородных предметов (заяц, белка, волк, - кто это?, ручка, тетрадь, портфель – что это?). Подбор слов близких по значению (синонимов), подбор слов противоположных по значению (антонимов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формированность грамматических систем.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л ли ребенок существующими в языке закономерностями словообразования и словоизменения. Грамматической системой словоизменения ребенок овладевает к 4-м годам , а системой словообразования к 7-ми (т.е. может изменять слово «назвать ласково», «один – много», посчитать количество предметов и др.). Важно чтобы ребенок умел пользоваться имеющими словами. При правильном построении предложений необходимо умение грамматически верно согласовывать слова в предложен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вуковой анализ слова.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изношении слов ребенок должен определять последовательность звуков в слове. Каждый звук имеет в слове свое место (например слово кошка- первый звук К, второй о и т.д.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 ребенка возникают затруднения в звуковом анализе слов, то написать правильно слова особенно под диктовку ему будет сложн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3640" y="475920"/>
            <a:ext cx="79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ение связной речью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вязной речью принято понимать развернутые состоящие их нескольких предложений высказывания, которые позволяют последовательно и четко излагать свои мысли. Хорошо развитая связная речь необходим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 принято подразделять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рвые передают реальные события (факты), вторые строятся при участии воображения. По форме рассказы могут бы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з – описание реальных растений, животных. Здесь нет действующих лиц, событий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з состоит из завязки действий, его развития, доходящей до высшей точки (кульминации) и завершается происшествием или развязкой. События здесь строго последовательн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Рисунок 3" descr=""/>
          <p:cNvPicPr/>
          <p:nvPr/>
        </p:nvPicPr>
        <p:blipFill>
          <a:blip r:embed="rId1"/>
          <a:stretch/>
        </p:blipFill>
        <p:spPr>
          <a:xfrm>
            <a:off x="6300720" y="4608360"/>
            <a:ext cx="2451240" cy="19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2T12:59:18Z</dcterms:created>
  <dc:creator>User</dc:creator>
  <dc:description/>
  <dc:language>en-US</dc:language>
  <cp:lastModifiedBy>User</cp:lastModifiedBy>
  <dcterms:modified xsi:type="dcterms:W3CDTF">2017-04-03T08:20:17Z</dcterms:modified>
  <cp:revision>20</cp:revision>
  <dc:subject/>
  <dc:title>Слайд 1</dc:title>
</cp:coreProperties>
</file>