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7.jpeg" ContentType="image/jpeg"/>
  <Override PartName="/ppt/media/image11.png" ContentType="image/png"/>
  <Override PartName="/ppt/media/image6.jpeg" ContentType="image/jpeg"/>
  <Override PartName="/ppt/media/image10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A8A0-3567-4541-9401-D3DD33A54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4853-0170-47BF-A7F2-639930D35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1028-AF49-49C1-BA2E-113E88125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4D04-1400-487F-87C8-0DFAA0BBE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DCD69-30A5-4E88-9F33-6990DC8C2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07B3E-57C2-4A0F-8207-6AE13B6AA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2731B-B3B8-4787-A132-2C6CFFE92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BBC65-2A97-4E82-8943-B28796A0E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C6161-8C57-4A1F-9476-63FCAB970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922CC-5D04-4B22-B9A7-FED9137F9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B3AB6-B313-49DE-A3C4-C010E6A83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2C6B-4007-4A23-9875-4219D9FE4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5A732-2D55-4D7B-AA64-C519DD5F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01909-DE1C-4A5C-A87F-14755C73E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EF6AB-A48B-4090-B589-33D3A7D40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B6EBE-71F2-473B-9483-11D3F37D4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7B8B1-0C4D-4416-A184-7D6AA667D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B19FE-6003-4E30-8DD9-2D731CAD4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44A5B-A925-4537-B090-A1CE29AB2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3C90F9-4DE4-4AC0-98E8-2ED0D34DF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D5D84-B317-4CEE-8448-C646F6E4A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DF4DF2-CE7F-4BA3-ADBA-60A184E6D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887A-92B6-444B-86CF-6A812E261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358D1-1594-4B86-889D-8DAE3C8D0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4520D-FF1C-452D-BF11-C7D66DC1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9D1A1-F55C-40BC-B4B1-6802CC0B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E8627-003E-49C0-BC70-0685CCD1C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AEAFF-16DB-4871-961C-308AF59DF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BE21F-F3F1-45C4-904D-7827C1EDD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ED6CE-4B09-4B5B-83C6-5DE1ECBF0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62214-EAB1-4EB5-9961-D70942F51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477EB-595E-4F85-A66F-586FA6EAA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9F16DC-B0FA-4B2D-955F-ED47A1153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F2DD-4E7D-4B9A-AE83-A2CA06D20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8023D3-C4C0-4A97-949F-7F391D118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D7BC4-7B9B-4443-BBFD-6C0ED2856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C394B-54D5-4D59-89A1-79234B3DC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82DCE-0AE5-4C42-B166-0E93C36B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3072B-1BB2-4BB8-A157-6A07D9993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09C8D-E7BC-48D4-B67E-C1FBFAB0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4F60CA-B90A-4C91-A5DE-F9A1B2827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D88A3-FCA2-4CCF-B681-9FAC35B70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577F0-5E8B-4F9C-A3D6-7B7EAB6BA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244534-6280-484C-84F7-512BBCA89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826A-50A2-425A-B69E-64F3A5479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FBD807-8940-4F6B-87A4-D1998408D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B8B8A9-3EDF-427F-A370-067933439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662C67-1DDD-4255-B252-0848FD228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E64AA4-F458-412F-90C7-31405A824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807F09-A868-459E-A5B1-7E6082906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89D630-43CE-4604-8A91-EB99E90D8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BF8BE8-F969-4143-9207-5C424123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F60E6-30E8-41B9-9EA0-DBD16296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172A4-0482-42F6-AFB0-ADC203758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8180A6-9C1E-477C-B9A2-09DFEF7A6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556C-1FC2-4F26-B89D-497F5F4F8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F7C7D3-3C91-4922-9689-E38E74A39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540BC1-86C4-418E-ABBE-ED5F24AE1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B253D7-04CC-460E-B936-4BFCCA6CB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9FBD76-22D2-4AB0-9CD6-58334E28A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6EFC88-53E5-440D-9E89-B150E1944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7CA030-F47C-4F44-B5A1-B5D5D8DC4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56DA62-1C35-4B6E-AA2F-ACC0F14A3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A6F319-C9BA-4C07-BCDD-8014B7DF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CA41B9-373D-45CC-A654-1F0883DF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628D4D-268D-4D8B-B704-424869867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CB0A2-EBFF-4706-876B-2D35F349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888698-809F-4583-BC77-405472E62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058172-7CC2-4FAF-941D-5670DA465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FA0959-2583-4E21-9869-C37D86EC7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7D965A-34C6-44F3-8018-B1403CE40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EC32BA-1E46-4EC4-A59E-9D8F73794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AB1250-699C-4D12-9C1E-9397C787E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B79E85-11A5-4468-82E6-94FB96AD7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E50BC1-1109-435E-B86F-F43962393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52BA76-7682-433C-B3E2-E44993FD7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C6AC94-51BE-4316-99E3-04B8FC652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78F4-5748-42B4-BD56-A9D392C33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85764D-FBF8-4965-9FEC-033494A4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693FD5-1E84-4F18-A249-AA244EE18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65CF04-C0DA-44F4-9499-7D0953E30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3B13E9-E22C-4EA1-A4F6-41D3B368D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F79787-2067-49A8-B15C-C0F39C478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B34E50-9007-4612-96D9-D5B4454F4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54AE0B-EA9A-466B-8C8D-1A880D6D0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F6475B-1F4D-4898-A41D-4ED0B3A86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7E78D9-9966-4589-9D87-97D716F52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9D56F7-7F69-4AAC-9712-93F5B7E7D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B1DA-69DE-48C3-9226-28EE89E8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DC7054-4DFA-4C5D-A653-975FF99BC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8C1564-E06B-4E2F-B405-32F62C6F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FE5D82-65AF-477F-9DE2-8C6E73A19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3B0DDC-B4AE-460A-B880-9D41BC601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0472E2-C9BB-4EDD-81EB-2144D380A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095311-D8C6-40B7-8410-BF0093D1C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899B46-4715-4AC6-B7C1-1C9567670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5b6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B79F4-DE1C-4A5A-9EF7-372F32677A3F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4aa400"/>
              </a:gs>
              <a:gs pos="50000">
                <a:srgbClr val="8df24d"/>
              </a:gs>
              <a:gs pos="100000">
                <a:srgbClr val="4aa400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5"/>
            <p:cNvSpPr/>
            <p:nvPr/>
          </p:nvSpPr>
          <p:spPr>
            <a:xfrm>
              <a:off x="1693440" y="4952880"/>
              <a:ext cx="7444440" cy="48744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b8e7a1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920"/>
              <a:ext cx="9092880" cy="78912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8"/>
            <p:cNvGrpSpPr/>
            <p:nvPr/>
          </p:nvGrpSpPr>
          <p:grpSpPr>
            <a:xfrm>
              <a:off x="8640" y="4998600"/>
              <a:ext cx="9129240" cy="1865880"/>
              <a:chOff x="8640" y="4998600"/>
              <a:chExt cx="9129240" cy="1865880"/>
            </a:xfrm>
          </p:grpSpPr>
          <p:pic>
            <p:nvPicPr>
              <p:cNvPr id="52" name="Полилиния 18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2924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19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5b6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A4B0E-EE27-4FFF-B38A-B6002B98CE89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3b51e"/>
              </a:gs>
              <a:gs pos="100000">
                <a:srgbClr val="a6eb81"/>
              </a:gs>
            </a:gsLst>
            <a:lin ang="16200000"/>
          </a:gradFill>
          <a:ln cap="rnd" w="3240">
            <a:solidFill>
              <a:srgbClr val="5c992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3b51e"/>
              </a:gs>
              <a:gs pos="100000">
                <a:srgbClr val="a6eb81"/>
              </a:gs>
            </a:gsLst>
            <a:lin ang="16200000"/>
          </a:gradFill>
          <a:ln cap="rnd" w="3240">
            <a:solidFill>
              <a:srgbClr val="5c992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6ecf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6ecff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FBF33-ADB0-4E1E-9B52-237444E3CA3C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6ecf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6ecff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C7757-1651-4C15-A489-91ECD6463B67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5b6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0FB4C-BE36-4973-AE41-9E9DFB3CE845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6ecf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6ecff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91FBA-7069-4B68-9A90-600F5C5CBFC1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e5b6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e5b6f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72A96-BEB2-4341-9371-AAD0615AA118}" type="slidenum">
              <a:rPr b="0" lang="ru-RU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b8e7a1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Прямоугольный треугольник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3b51e"/>
              </a:gs>
              <a:gs pos="100000">
                <a:srgbClr val="a6eb81"/>
              </a:gs>
            </a:gsLst>
            <a:lin ang="16200000"/>
          </a:gradFill>
          <a:ln cap="rnd" w="3240">
            <a:solidFill>
              <a:srgbClr val="5c992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63b51e"/>
              </a:gs>
              <a:gs pos="100000">
                <a:srgbClr val="a6eb81"/>
              </a:gs>
            </a:gsLst>
            <a:lin ang="16200000"/>
          </a:gradFill>
          <a:ln cap="rnd" w="3240">
            <a:solidFill>
              <a:srgbClr val="5c9929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6ecff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6ecff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7fd13b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ea157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14A19-67C0-47F6-8DF8-A4CC050C0984}" type="slidenum">
              <a:rPr b="0" lang="ru-RU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2" descr="D:\фоны  к  презентациям\дети  в  школе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2556000" y="3933720"/>
            <a:ext cx="4464000" cy="1440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70c0"/>
                </a:solidFill>
                <a:latin typeface="Lucida Sans Unicode"/>
              </a:rPr>
              <a:t>Ерофеева С.И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70c0"/>
                </a:solidFill>
                <a:latin typeface="Lucida Sans Unicode"/>
              </a:rPr>
              <a:t>учитель-логопед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Прямоугольник 4" descr=""/>
          <p:cNvPicPr/>
          <p:nvPr/>
        </p:nvPicPr>
        <p:blipFill>
          <a:blip r:embed="rId2"/>
          <a:stretch/>
        </p:blipFill>
        <p:spPr>
          <a:xfrm>
            <a:off x="1773360" y="1158840"/>
            <a:ext cx="545616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Содержимое 5" descr=""/>
          <p:cNvPicPr/>
          <p:nvPr/>
        </p:nvPicPr>
        <p:blipFill>
          <a:blip r:embed="rId1"/>
          <a:stretch/>
        </p:blipFill>
        <p:spPr>
          <a:xfrm rot="21246000">
            <a:off x="388440" y="1327320"/>
            <a:ext cx="2689200" cy="2820960"/>
          </a:xfrm>
          <a:prstGeom prst="rect">
            <a:avLst/>
          </a:prstGeom>
          <a:ln w="0">
            <a:noFill/>
          </a:ln>
        </p:spPr>
      </p:pic>
      <p:pic>
        <p:nvPicPr>
          <p:cNvPr id="374" name="Заголовок 1" descr=""/>
          <p:cNvPicPr/>
          <p:nvPr/>
        </p:nvPicPr>
        <p:blipFill>
          <a:blip r:embed="rId2"/>
          <a:stretch/>
        </p:blipFill>
        <p:spPr>
          <a:xfrm>
            <a:off x="3925800" y="762120"/>
            <a:ext cx="4773600" cy="5114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3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250560" y="1196640"/>
            <a:ext cx="74898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вукопроизношение.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7-ми годам ребенок должен научиться правильно и четко произносить все звуки. Недопустимо наличие звуковых замен (С – Ш, З – Ж, С – Ц и т.д.). Такого рода дефекты отражаются на письме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Фонематический слух.</a:t>
            </a:r>
            <a:r>
              <a:rPr b="0" lang="ru-RU" sz="27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бенок должен четко различать  на слух все звуки речи. Запись любого слова предполагает умение определить каждый звук, входящий в состав слова. Если какие–то звуки кажутся ребенку одинаковыми, то на письме он будет затрудняться  при выборе соответствующих букв.  (Чаще это звонкие и глухие согласные б-п, в-ф, к-г и др)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Заголовок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993600"/>
          </a:xfrm>
          <a:prstGeom prst="rect">
            <a:avLst/>
          </a:prstGeom>
          <a:ln w="0">
            <a:noFill/>
          </a:ln>
        </p:spPr>
      </p:pic>
      <p:pic>
        <p:nvPicPr>
          <p:cNvPr id="377" name="Рисунок 4" descr=""/>
          <p:cNvPicPr/>
          <p:nvPr/>
        </p:nvPicPr>
        <p:blipFill>
          <a:blip r:embed="rId2"/>
          <a:stretch/>
        </p:blipFill>
        <p:spPr>
          <a:xfrm>
            <a:off x="7448400" y="4151160"/>
            <a:ext cx="151956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" dur="20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8660"/>
                            </p:stCondLst>
                            <p:childTnLst>
                              <p:par>
                                <p:cTn id="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9160"/>
                            </p:stCondLst>
                            <p:childTnLst>
                              <p:par>
                                <p:cTn id="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0,31,-38)"/>
                                          </p:val>
                                        </p:tav>
                                        <p:tav tm="50000">
                                          <p:val>
                                            <p:strVal val="rgb(25,-127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80"/>
                                        <p:tgtEl>
                                          <p:spTgt spid="3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259920"/>
            <a:ext cx="83628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Словарный запас. 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ен составлять не менее 2000 слов. В нем должны быть представлены основные части речи: существительные, глаголы, прилагательные, местоимения, наречия, предлоги, союзы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ния для проверки словаря: нахождение обобщающих слов для групп однородных предметов (заяц, белка, волк, - кто это?, ручка, тетрадь, портфель – что это?). Подбор слов близких по значению (синонимов), подбор слов противоположных по значению (антонимов)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формированность грамматических систем.</a:t>
            </a:r>
            <a:r>
              <a:rPr b="0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ладел ли ребенок существующими в языке закономерностями словообразования и словоизменения. Грамматической системой словоизменения ребенок овладевает к 4-м годам , а системой словообразования к 7-ми (т.е. может изменять слово «назвать ласково», «один – много», посчитать количество предметов и др.). Важно чтобы ребенок умел пользоваться имеющими словами. При правильном построении предложений необходимо умение грамматически верно согласовывать слова в предложении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Звуковой анализ слова. 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роизношении слов ребенок должен определять последовательность звуков в слове. Каждый звук имеет в слове свое место (например слово кошка- первый звук К, второй о и т.д.)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у ребенка возникают затруднения в звуковом анализе слов, то написать правильно слова особенно под диктовку ему будет сложно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3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3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3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3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323640" y="475920"/>
            <a:ext cx="79930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ладение связной речью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связной речью принято понимать развернутые состоящие их нескольких предложений высказывания, которые позволяют последовательно и четко излагать свои мысли. Хорошо развитая связная речь необходима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казы принято подразделять на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ическ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орческ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ервые передают реальные события (факты), вторые строятся при участии воображения. По форме рассказы могут быть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тельным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южетным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тельны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сказ – описание реальных растений, животных. Здесь нет действующих лиц, событий.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южетны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сказ состоит из завязки действий, его развития, доходящей до высшей точки (кульминации) и завершается происшествием или развязкой. События здесь строго последовательны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7fd13b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Рисунок 3" descr=""/>
          <p:cNvPicPr/>
          <p:nvPr/>
        </p:nvPicPr>
        <p:blipFill>
          <a:blip r:embed="rId1"/>
          <a:stretch/>
        </p:blipFill>
        <p:spPr>
          <a:xfrm>
            <a:off x="6300720" y="4608360"/>
            <a:ext cx="2451240" cy="19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3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3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Рисунок 1" descr=""/>
          <p:cNvPicPr/>
          <p:nvPr/>
        </p:nvPicPr>
        <p:blipFill>
          <a:blip r:embed="rId1"/>
          <a:stretch/>
        </p:blipFill>
        <p:spPr>
          <a:xfrm>
            <a:off x="0" y="-17640"/>
            <a:ext cx="9167760" cy="68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02T12:59:18Z</dcterms:created>
  <dc:creator>User</dc:creator>
  <dc:description/>
  <dc:language>en-US</dc:language>
  <cp:lastModifiedBy>User</cp:lastModifiedBy>
  <dcterms:modified xsi:type="dcterms:W3CDTF">2017-04-03T08:20:17Z</dcterms:modified>
  <cp:revision>20</cp:revision>
  <dc:subject/>
  <dc:title>Слайд 1</dc:title>
</cp:coreProperties>
</file>