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118A-1AAB-4568-AB58-6319BAF4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D4B-5751-4D92-A281-F0BC2247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86C2-70FA-46C2-84D2-0EB6A50DB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0DC1-E5AF-4478-9245-09BE2F2E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B2FE-FB99-46D2-9549-8EA835B1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F32F-F7A3-4386-A099-D560B805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ADC8-236C-4087-AAC2-F725CE93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081E-F430-4784-BA7F-E13175C6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9171-D1E0-4397-924B-D2988656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92D5-1DB9-41C3-9FA2-1E18ADC3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FBBA-3BEF-411A-B4FD-3389CD4C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C433-10A1-493E-8EF5-08503ED7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C943-4526-4107-809B-E12D113D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8298-5B47-4A28-8879-40694433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0AFA-60D0-4B1A-B492-5682805E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8756-0B66-42A6-9E92-E73D22D0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2349-C375-43DA-93B3-50EE13F3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24AFB4-E2B6-4A21-898A-52EAD472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0E439-1774-40A5-ABC7-F5BFC48F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7EB8E-EC82-4EE5-B481-DA95E800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D2A54A-601B-4AB3-8230-B7767AB7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7A680-6558-4007-94D6-3A22BDE8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1031-5812-4588-B179-ED7849A4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A8AD6D-D008-42DE-9ED6-F85D62A7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44E98-90BB-4A47-9558-08A672BD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9FA79-92DA-477C-B0A6-695E4920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66B28-5068-4F67-81E8-2A5B4517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05DE6-D0B5-4080-8780-BE743A5E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B1FB4-2875-419D-813F-E84F0612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DCFC4-23A7-413F-857C-17085E0B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F5EF0-84D7-463C-B471-82B8AD4B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49AFF-01C6-4545-B593-AC1B09F6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F559C-961E-4C6A-9C97-9D26D373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CE8-4BB1-4B41-900E-0F7891FC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636E8-9E98-4C5F-82C0-C0DD0C9F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F77D6-79A7-4250-A3CA-4368C37A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9105A-4A11-4458-BFA8-0D72B6D9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B1D92-7397-404E-B6C7-96F1B4C1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3BF52-8294-4208-9EC1-3B57A3D5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B1FD9-A293-4881-B9A5-1B8B7113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DC4FB-0909-449D-BC57-C9681632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7576F-BC5F-4CEC-8C4B-B571F912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C1BBA-214D-4AFB-B9F0-B5160A1D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D3A2E7-AC70-4BBF-AF93-464100E3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743E-A9BE-4BDF-92AC-D07BE577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5349F8-6FF8-46E9-9B8F-B394E293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842371-A393-40D7-9B05-CA5E5F62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D2CA6-846A-4801-9251-D9A025A5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59D59-201E-4785-B536-A5C7E925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D778B0-F4ED-4970-8F59-652AA496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4A9BBB-5E86-470B-BB8A-AD89BC08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A8FF81-6DC5-4579-98E4-7C52A25B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880937-341A-4747-8A3F-CC82FF1C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84B66E-800A-4628-AC0B-4B9B58A2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C58500-4DAF-4AC5-8D01-13F3A261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F0A-6056-4146-BD79-119B6F83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F9C0F-CF89-4C0A-8AF1-751F97C5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560023-85F4-4436-A13D-16749528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21814C-BE0B-42D7-A4FE-CD3F24B7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042FE-6742-4529-8AF7-DDB32AA2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94FB95-F32F-40C4-AEB8-6C2B77D7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70189A-D1FC-4F57-9A75-F4A4EA8B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7DE7E2-B16A-4350-A615-F785440B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8086E3-E76C-4C57-9F1D-B9FA5C44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A704FC-165C-495B-ABBD-A18376EC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710547-188A-4A96-8EB2-E5BA56AF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CFA-2395-4263-B6E6-B567AFBF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2A0FAF-36DA-4FBC-A349-13C7EB41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5B6071-3299-4D82-827D-757D6496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BAB597-44C7-4D65-8615-DCD480FC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6D5CB7-D948-4228-B878-61542DDC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9D7B9E-2A38-4E5B-9D05-3B61E0EA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287AB9-CE0B-4D1E-BB08-3938450E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D1B75C-5FD6-47FF-A737-234512A2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D1893F-A910-4A9C-8657-93EAC887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F48529-ECB3-45AD-8D8D-3E7EDC51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481321-B525-45B0-9FB6-CB6430C7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A80C-4F20-4E14-9BDD-1B704340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93820-A675-4254-A42F-E99E4EC7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81E1A6-7713-41BD-924E-17EFA172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AF93E0-8018-46B2-BC7E-98B3F551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5A3008-527F-4E62-A201-C5E936AC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720187-E7A1-44A6-915D-92A35A9E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8614-F7A9-42FA-81F0-A3C9C697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E6EE-B17B-465E-8ECC-79136F9024D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4359-7C79-41FD-9751-82B65E597F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2CD2-4A0B-4597-97E0-6D448A4292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634C-126A-4753-9EE5-D2CEE35BA0C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B04A-8BE9-41C8-B8FD-BB36400C19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C2A1-3728-46E0-9897-18FA30BCDA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F62E-A911-401E-B94A-F4EE1B9871A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randars.ru/student/ekonomicheskaya-teoriya/rynok-truda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randars.ru/college/sociologiya/molodezh.html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285640" y="256500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Права и обязанности безработных. Экономические и социальные издержки безработицы. Государственное регулирование занято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ПАССИВНАЯ ФОРМ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052640"/>
            <a:ext cx="7467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еспечение социальной поддержки в виде пособий по безработице, материальной помощи и прочих социальных выпла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есплатное медицинское обслужив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2" descr="http://tehnikum.inet-s.ru/images/czn.PNG"/>
          <p:cNvPicPr/>
          <p:nvPr/>
        </p:nvPicPr>
        <p:blipFill>
          <a:blip r:embed="rId1"/>
          <a:stretch/>
        </p:blipFill>
        <p:spPr>
          <a:xfrm>
            <a:off x="1403280" y="2997360"/>
            <a:ext cx="6193080" cy="29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БИРЖА ТРУД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125000"/>
            <a:ext cx="38988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пециальное учреждение, осуществляющее посреднические функции на рынке рабочей силы. В большинстве стран биржи труда являются государственными и осуществляют свою деятельность под руководством министерства труда или аналогичного ему органа, вместе с тем на рынке труда наряду с государственными службами занятости функционирует большое число частных посреднических фирм, эффективность деятельности которых очень высока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2" descr="http://www.penza.ru/files/penza.ru/banner/zanyatost.jpg"/>
          <p:cNvPicPr/>
          <p:nvPr/>
        </p:nvPicPr>
        <p:blipFill>
          <a:blip r:embed="rId1"/>
          <a:stretch/>
        </p:blipFill>
        <p:spPr>
          <a:xfrm>
            <a:off x="4284720" y="1773360"/>
            <a:ext cx="4572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ОСНОВНЫЕ НАПРАВЛЕНИЯ ДЕЯТЕЛЬНОСТИ БИРЖ ТРУД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гистрация безработны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гистрация вакантных мес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удоустройство безработных и других лиц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ение конъюнктуры рынка труда и представление информации о не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стирование лиц, желающих получить работу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фессиональная ориентация и профессиональная переподготовка безработны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плата пособ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ГОСУДАРСТВЕННАЯ ПОЛИТИКА 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ЗАНЯТОСТИ НАСЕЛ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истема мер прямого государственного и косвенного воздействия на трудовую сферу (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рынок труд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для достижения поставленных цел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2" descr="http://money.gazeta.kz/preview/?s=21&amp;w=340&amp;fid=24122"/>
          <p:cNvPicPr/>
          <p:nvPr/>
        </p:nvPicPr>
        <p:blipFill>
          <a:blip r:embed="rId2"/>
          <a:stretch/>
        </p:blipFill>
        <p:spPr>
          <a:xfrm>
            <a:off x="2627280" y="3429000"/>
            <a:ext cx="2857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Овал 3"/>
          <p:cNvSpPr/>
          <p:nvPr/>
        </p:nvSpPr>
        <p:spPr>
          <a:xfrm>
            <a:off x="2771640" y="476280"/>
            <a:ext cx="3529080" cy="165744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многоуровневый процесс 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осударственной политики занятости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4"/>
          <p:cNvSpPr/>
          <p:nvPr/>
        </p:nvSpPr>
        <p:spPr>
          <a:xfrm>
            <a:off x="395280" y="2492280"/>
            <a:ext cx="259236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макро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кругленный прямоугольник 5"/>
          <p:cNvSpPr/>
          <p:nvPr/>
        </p:nvSpPr>
        <p:spPr>
          <a:xfrm>
            <a:off x="3132000" y="4149720"/>
            <a:ext cx="2880000" cy="17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региональный уров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кругленный прямоугольник 6"/>
          <p:cNvSpPr/>
          <p:nvPr/>
        </p:nvSpPr>
        <p:spPr>
          <a:xfrm>
            <a:off x="6372360" y="2421000"/>
            <a:ext cx="259236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мест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Прямая со стрелкой 9"/>
          <p:cNvCxnSpPr>
            <a:stCxn id="385" idx="4"/>
            <a:endCxn id="387" idx="0"/>
          </p:cNvCxnSpPr>
          <p:nvPr/>
        </p:nvCxnSpPr>
        <p:spPr>
          <a:xfrm>
            <a:off x="4535280" y="2133720"/>
            <a:ext cx="37080" cy="20167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0" name="Прямая со стрелкой 18"/>
          <p:cNvCxnSpPr>
            <a:stCxn id="385" idx="4"/>
            <a:endCxn id="386" idx="0"/>
          </p:cNvCxnSpPr>
          <p:nvPr/>
        </p:nvCxnSpPr>
        <p:spPr>
          <a:xfrm flipH="1">
            <a:off x="1692000" y="2133720"/>
            <a:ext cx="2844000" cy="358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1" name="Прямая со стрелкой 22"/>
          <p:cNvCxnSpPr>
            <a:stCxn id="385" idx="4"/>
            <a:endCxn id="388" idx="0"/>
          </p:cNvCxnSpPr>
          <p:nvPr/>
        </p:nvCxnSpPr>
        <p:spPr>
          <a:xfrm>
            <a:off x="4535640" y="2133720"/>
            <a:ext cx="3132720" cy="2880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МАКРОУРОВЕН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484280"/>
            <a:ext cx="74674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гласование целей и приоритетов политики занятости с экономической, социальной, демографической и миграционной полити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гласование системы целей и приоритетов политики занятости с финансово-кредитной, структурной, инвестиционной, внешнеэкономической полити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работка политики трудоустройства и социальной поддержки незанятого насе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РЕГИОНАЛЬНЫЙ УРОВЕН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341000"/>
            <a:ext cx="74674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азвитие системы подготовки и переподготовки населения (в первую очередь временно незанятого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вершенствование информационного обеспечения (включая компьютеризацию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беспечение приспособленными помещениями и подготовленными кадрами центров занятости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целевая поддержка рабочих мест для сдерживания высвобождения работающих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вышение эффективности регистрации, трудоустройства и социальной поддержки безработных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ддержка на рынке труда беженцев и вынужденных переселенцев, граждан с ограниченной трудоспособностью, длительно безработных, женщин, молодежи и подростков и других социально незащищенных групп населения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рганизация общественных и временных работ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МЕСТНЫЙ УРОВЕН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3683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местном уровне ведется вся практическая работа по трудоустройству, выплате пособий, обучен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2" descr="http://www.char.ru/books/2220825_Zanyatost_naseleniya_i_ee_regulirovanie_Grif_MO_RF.jpg"/>
          <p:cNvPicPr/>
          <p:nvPr/>
        </p:nvPicPr>
        <p:blipFill>
          <a:blip r:embed="rId1"/>
          <a:stretch/>
        </p:blipFill>
        <p:spPr>
          <a:xfrm>
            <a:off x="4716360" y="1484280"/>
            <a:ext cx="32004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ПРАВА БЕЗРАБОТНЫХ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907560"/>
            <a:ext cx="746748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1) выбор места работы путем прямого обращения к работодателю;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2) бесплатную консультацию и бесплатное получение информации в органах службы занятости для выбора сферы деятельности, трудоустройства, возможности профессионального обучения;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3) бесплатные профессиональную ориентацию, профессиональную подготовку, переподготовку и повышение квалификации по направлению органов службы занятости;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4) самостоятельный поиск работы и трудоустройство за пределами территории Российской Федерации;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5) обжалование решения, действий или бездействия органов службы занятости и их должностных лиц в вышестоящий орган службы занятости, а также в суд в порядке, установленном законодательством Российской Федерации;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6) социальную поддержку в виде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а)выплаты пособия по безработице, в том числе в период временной нетрудоспособности;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б) выплаты стипендии в период профессиональной подготовки, повышения квалификации, переподготовки по направлению службы занятости;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) предоставления возможности участия в общественных работах;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г) возмещения затрат в связи с добровольным переездом в другую местность для трудоустройства по предложению органов занятости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ОБЯЗАННОСТИ БЕЗРАБОТНЫХ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268280"/>
            <a:ext cx="746748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являться в органы службы занятости для перерегистрации не реже одного раза в месяц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частвовать по истечении трехмесячного периода безработицы в оплачиваемых работах или пройти обучение по направлению органов занятости (для лиц, указанных в законе)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являться на переговоры о трудоустройстве у работодателя в течение трех дней со дня направления органами службы занятост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являться в органы службы занятости для получения направления на учебу (работу)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ообщить в орган занятости о самостоятельном трудоустройстве, поступлении на обучение по очной форме, призыве на военную службу (сборы)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ыбрать один из двух предложенных органом занятости вариантов подходящей работы.  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СОЦИАЛЬНЫЕ ПОСЛЕДСТВИЯ БЕЗРАБОТИЦЫ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57200" y="1600200"/>
          <a:ext cx="7467480" cy="347976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трицатель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ложитель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 Обострение криминогенной ситу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 Усиление социальной напряжен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 Рост количества физических и душевных заболева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 Увеличение социальной дифференци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 Снижение трудовой актив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 Повышение социальной ценности рабочего мес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 Увеличение личного свободного време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 Возрастание свободы выбора места рабо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 Увеличение социальной значимости и ценности тру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ЭКОНОМИЧЕСКИЕ ПОСЛЕДСТВИЯ БЕЗРАБОТИЦЫ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57200" y="1600200"/>
          <a:ext cx="7467480" cy="402912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трицатель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ложитель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 Обесценивание последствий обуч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 Сокращение производ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 Затраты на помощь безработны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 Утрата квалифик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 Снижение жизненного уровн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. Недопроизводство национального дохо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. Снижение налоговых поступл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 Создание резерва рабочей силы для структурной перестройки экономи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 Конкуренция между работниками как стимул к развитию способностей к труд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 Перерыв в занятости для переобучения и повышения уровня образ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 Стимулирование роста интенсивности и производительности тру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Овал 1"/>
          <p:cNvSpPr/>
          <p:nvPr/>
        </p:nvSpPr>
        <p:spPr>
          <a:xfrm>
            <a:off x="2771640" y="2492280"/>
            <a:ext cx="3168720" cy="1513080"/>
          </a:xfrm>
          <a:prstGeom prst="ellipse">
            <a:avLst/>
          </a:prstGeom>
          <a:solidFill>
            <a:srgbClr val="9a3d01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Основные направления государственного регулирования рынка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кругленный прямоугольник 2"/>
          <p:cNvSpPr/>
          <p:nvPr/>
        </p:nvSpPr>
        <p:spPr>
          <a:xfrm>
            <a:off x="468360" y="476280"/>
            <a:ext cx="3311640" cy="187308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рограмма по стимулированию роста занятости и увеличению числа рабочих мест в государственном сект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кругленный прямоугольник 3"/>
          <p:cNvSpPr/>
          <p:nvPr/>
        </p:nvSpPr>
        <p:spPr>
          <a:xfrm>
            <a:off x="5003640" y="476280"/>
            <a:ext cx="3240360" cy="187308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рограммы, направленные на подготовку и переподготовку рабочей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кругленный прямоугольник 4"/>
          <p:cNvSpPr/>
          <p:nvPr/>
        </p:nvSpPr>
        <p:spPr>
          <a:xfrm>
            <a:off x="468360" y="4149720"/>
            <a:ext cx="3166920" cy="194328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равительство принимает программы по социальному страхованию безработицы, т. е. выделяет средства на пособия по безработ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кругленный прямоугольник 5"/>
          <p:cNvSpPr/>
          <p:nvPr/>
        </p:nvSpPr>
        <p:spPr>
          <a:xfrm>
            <a:off x="5148360" y="4076640"/>
            <a:ext cx="3024000" cy="20163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рограммы содействия найму рабочей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7"/>
          <p:cNvSpPr/>
          <p:nvPr/>
        </p:nvSpPr>
        <p:spPr>
          <a:xfrm flipH="1" flipV="1">
            <a:off x="3780000" y="1413000"/>
            <a:ext cx="576000" cy="10792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9"/>
          <p:cNvSpPr/>
          <p:nvPr/>
        </p:nvSpPr>
        <p:spPr>
          <a:xfrm flipV="1">
            <a:off x="4356000" y="1413000"/>
            <a:ext cx="647640" cy="10792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1"/>
          <p:cNvSpPr/>
          <p:nvPr/>
        </p:nvSpPr>
        <p:spPr>
          <a:xfrm flipH="1">
            <a:off x="3635280" y="4005360"/>
            <a:ext cx="720720" cy="11160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3"/>
          <p:cNvSpPr/>
          <p:nvPr/>
        </p:nvSpPr>
        <p:spPr>
          <a:xfrm>
            <a:off x="4356000" y="4005360"/>
            <a:ext cx="792360" cy="10792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8598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ЦЕЛИ ГОСУДАРСТВЕННОГО РЕГУЛИРОВАНИЯ РЫНКА ТРУДА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Содержимое 3" descr=""/>
          <p:cNvPicPr/>
          <p:nvPr/>
        </p:nvPicPr>
        <p:blipFill>
          <a:blip r:embed="rId1"/>
          <a:stretch/>
        </p:blipFill>
        <p:spPr>
          <a:xfrm>
            <a:off x="420840" y="1596960"/>
            <a:ext cx="75643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Содержимое 4" descr=""/>
          <p:cNvPicPr/>
          <p:nvPr/>
        </p:nvPicPr>
        <p:blipFill>
          <a:blip r:embed="rId1"/>
          <a:stretch/>
        </p:blipFill>
        <p:spPr>
          <a:xfrm>
            <a:off x="378000" y="457200"/>
            <a:ext cx="775476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АКТИВНАЯ ПОЛИТИ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981000"/>
            <a:ext cx="746748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стимулирование государством инвестиций в экономику, что выступает главным условием создания новых рабочих мест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организация переобучения и переквалификации структурно-безработных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развитие служб занятости, бирж труда, осуществляющих посреднические функции на рынке труда, предоставление информации о вакантных рабочих местах с целью снижения фрикционной и структурной безработицы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содействие мелкому и семейному предпринимательству, что рассматривается во многих странах важнейшим методом обеспечения занятости населения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государственное стимулирование (налоговыми и законодательными мерами) предоставления работодателями рабочих мест определенным группам населения — </a:t>
            </a:r>
            <a:r>
              <a:rPr b="0" lang="ru-RU" sz="15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молодежи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, инвалидам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содействие, в случае необходимости, перемене места жительства для получения работы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международное сотрудничество в решении проблем занятости; решение вопросов, связанных с международной трудовой миграцией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создание рабочих мест в государственном секторе — в сфере образования, медицинских услуг, коммунальном хозяйстве, строительстве общественных зданий и сооружений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организация общественных работ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28:01Z</dcterms:created>
  <dc:creator>ppsworld.ru</dc:creator>
  <dc:description/>
  <dc:language>en-US</dc:language>
  <cp:lastModifiedBy>User</cp:lastModifiedBy>
  <dcterms:modified xsi:type="dcterms:W3CDTF">2018-08-09T14:48:44Z</dcterms:modified>
  <cp:revision>10</cp:revision>
  <dc:subject/>
  <dc:title>Слайд 1</dc:title>
</cp:coreProperties>
</file>