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4C7A-74FD-4C21-87D6-33AD8B48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47D-F927-4F5D-901F-6A622983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E3AE-7D3A-46CC-AB96-A74F17B1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304A-FD09-4266-8D17-1758EA75A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7A11-F70B-4183-8430-A50A133B1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8120-8DD0-4AA4-9471-9413198FC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3AF6-6BAB-44FC-BEA5-75FA4737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06FA1-8411-4B44-837F-51D8F0E4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7484-03F8-4CF9-BFA6-2BDAE4BF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86FC-6733-42E2-9132-B867EA17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1F441-2083-405A-B6BE-DBA5094E8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DB7-8056-477E-BE73-A1C0120E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F6AC4-AE60-42F4-A57F-B39B5D22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9035-5EBE-49CD-BAC1-4B233418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F1EE-B168-40E5-82D2-7645E97B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D45A-1C14-450B-AB06-DEF6D767A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2F2C-3480-449A-8C73-B920599E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9301D-36BB-4018-A93A-003FAF238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2C2C0-7004-453B-9AFC-ECC6EC427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FA0C55-E8E4-474E-A034-F5AAD77F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BBD4E-87F2-497F-9FCF-D0A9E8F9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9EEC93-D486-4071-BE8A-60D932E1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EAB4-FF31-404F-8B96-C142C0B4A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1552B8-C1AF-4D86-84A2-D4D0D6E2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4253E-B352-44F2-B64D-A809C3E74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A10D0F-B20D-455B-853E-EE8C3FFC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F51229-CDBC-461E-85A5-C1E952F7B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D38227-1BD0-4AE0-95FF-7110FCA3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55F28A-69E8-4BB8-A2BA-F0E38E96E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880375-7B97-45D8-A6D8-B173D07B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14178D-79E3-41CE-8056-29C3C4398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8E5AA-688D-40CF-AFBC-F7238A681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4970D-4DF3-4350-8C79-E5C32B8B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3716-0660-49D5-BAB6-B133E68B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231C-9622-4BC3-8D7E-B39A5862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12612C-46C1-4F8C-9F62-2B598088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7C68F-E9C3-4803-BC1D-104D3BCB6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25208-D235-447B-AD9E-FB10993C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67DE5C-BE86-46D3-8B4F-18A70184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3BEB9-84C1-49BE-A569-3ACD55DA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14852-5B33-4348-A611-E9E36EEC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C2B10-9E07-467B-AF5F-784DF171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8BEEC-1A43-4398-91AB-259349E32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BC7FCC-2D83-488D-97FB-6357E4873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89BD-2394-49DF-8244-0DD1E384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EBA7B-4961-4674-BBE9-6EEC3EC2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B33CB-6271-4DA2-ACAF-0FE3A64E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A56F16-06E2-4970-99A3-08831EBA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A6668C-C8B5-4C94-80A7-9EC35A8BD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0E7F7-8E5C-463E-9C19-CC2B1845A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18F22-8CE5-40BB-92D8-195C07E1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01D6B4-9B62-47AB-88DF-E5C9B3BF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6ADB5C-2083-4252-B7E3-1CA8840C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B94A39-6691-4FFE-B2AE-32B7B15A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ECCAA8-32C9-44B9-9F15-9C6F15B5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B51C-BB37-4347-8A06-A4D279AE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0D9702-9581-4B97-B949-AD1F5AF6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8D6447-0649-4097-A95D-305FE640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2BB42E-EFB1-459E-B40C-EE00CEB2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A5AEE4-BE53-4FC7-942F-7DF646538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D4B8A8-068C-494E-8039-721E251D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130B54-978A-4421-90F2-433533FF0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F8B896-D60C-4C6C-8FB0-E15F7F4C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47C36D-7701-4C9B-B15E-1F39C39F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920D40-851F-452B-B9F2-387819C25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A4B151-2A4F-49DC-9FE6-50098E73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6F47-83A1-438E-83EB-778C830F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155BC-1026-4424-A661-43BA1AD6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18882-4F18-4D67-9EFD-905469DB3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5CC2E7-6BD4-47D6-9F3E-AEB6E0EC2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551F04-A247-442D-B8C5-900F4FAD2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A80951-A9C3-463B-B2AB-34CC444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80193F-7FF1-4C43-9401-C0348D7F1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A15FF76-86A3-4C3E-A920-DB81AE75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2AE0C1-1808-4F30-BC24-8AD242F15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2E97A9-2D24-4CE1-B49E-2FA083B8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E2FC5F-3978-45F8-AAA3-478064CE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0A2B-1B9B-4313-9841-A9F36471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8BDCF9-49C3-4C35-8E33-2BEB85CA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680B5-0E9D-479F-8405-DFFFDB3A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C23185-4356-429F-8E68-095EECC1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FCDE09-05A8-4642-BFA5-20A34405D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5DCD00-F2E4-491D-B0E5-7A399B4D1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DD30-93BB-49B1-A2E8-DDBAD65FE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C7A5-335E-4B34-89B1-CF99CC911D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A469-7221-48B6-8444-7050AAC7778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C564-1119-4A47-85C9-73BD9BC6EFD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81EB-C37E-467F-98A5-DBCD9EDF15C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48BD-26E3-4441-AFA2-EDA62E2A12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48C21-9360-4EC5-BB9F-59F310A0BEB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9306-FC41-4CF7-83E7-09431B3ACF2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randars.ru/student/ekonomicheskaya-teoriya/rynok-truda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randars.ru/college/sociologiya/molodezh.html" TargetMode="External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285640" y="256500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Права и обязанности безработных. Экономические и социальные издержки безработицы. Государственное регулирование занято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ПАССИВНАЯ ФОРМ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56840" y="1052640"/>
            <a:ext cx="74674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обеспечение социальной поддержки в виде пособий по безработице, материальной помощи и прочих социальных выпла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сплатное медицинское обслуживание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6" name="Picture 2" descr="http://tehnikum.inet-s.ru/images/czn.PNG"/>
          <p:cNvPicPr/>
          <p:nvPr/>
        </p:nvPicPr>
        <p:blipFill>
          <a:blip r:embed="rId1"/>
          <a:stretch/>
        </p:blipFill>
        <p:spPr>
          <a:xfrm>
            <a:off x="1403280" y="2997360"/>
            <a:ext cx="6193080" cy="29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БИРЖА ТРУ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125000"/>
            <a:ext cx="38988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Schoolbook"/>
              </a:rPr>
              <a:t>специальное учреждение, осуществляющее посреднические функции на рынке рабочей силы. В большинстве стран биржи труда являются государственными и осуществляют свою деятельность под руководством министерства труда или аналогичного ему органа, вместе с тем на рынке труда наряду с государственными службами занятости функционирует большое число частных посреднических фирм, эффективность деятельности которых очень высока.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9" name="Picture 2" descr="http://www.penza.ru/files/penza.ru/banner/zanyatost.jpg"/>
          <p:cNvPicPr/>
          <p:nvPr/>
        </p:nvPicPr>
        <p:blipFill>
          <a:blip r:embed="rId1"/>
          <a:stretch/>
        </p:blipFill>
        <p:spPr>
          <a:xfrm>
            <a:off x="4284720" y="1773360"/>
            <a:ext cx="4572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ОСНОВНЫЕ НАПРАВЛЕНИЯ ДЕЯТЕЛЬНОСТИ БИРЖ ТРУДА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гистрация безработн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регистрация вакантных мест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рудоустройство безработных и других лиц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изучение конъюнктуры рынка труда и представление информации о ней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тестирование лиц, желающих получить работ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фессиональная ориентация и профессиональная переподготовка безработны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плата пособи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ГОСУДАРСТВЕННАЯ ПОЛИТИКА </a:t>
            </a:r>
            <a:br>
              <a:rPr sz="3000"/>
            </a:b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ЗАНЯТОСТИ НАСЕЛЕН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истема мер прямого государственного и косвенного воздействия на трудовую сферу (</a:t>
            </a:r>
            <a:r>
              <a:rPr b="0" lang="ru-RU" sz="24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рынок труда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) для достижения поставленных целе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2" descr="http://money.gazeta.kz/preview/?s=21&amp;w=340&amp;fid=24122"/>
          <p:cNvPicPr/>
          <p:nvPr/>
        </p:nvPicPr>
        <p:blipFill>
          <a:blip r:embed="rId2"/>
          <a:stretch/>
        </p:blipFill>
        <p:spPr>
          <a:xfrm>
            <a:off x="2627280" y="3429000"/>
            <a:ext cx="2857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Овал 3"/>
          <p:cNvSpPr/>
          <p:nvPr/>
        </p:nvSpPr>
        <p:spPr>
          <a:xfrm>
            <a:off x="2771640" y="476280"/>
            <a:ext cx="3529080" cy="165744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многоуровневый процесс </a:t>
            </a: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государственной политики занятости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Скругленный прямоугольник 4"/>
          <p:cNvSpPr/>
          <p:nvPr/>
        </p:nvSpPr>
        <p:spPr>
          <a:xfrm>
            <a:off x="395280" y="2492280"/>
            <a:ext cx="2592360" cy="158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акро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Скругленный прямоугольник 5"/>
          <p:cNvSpPr/>
          <p:nvPr/>
        </p:nvSpPr>
        <p:spPr>
          <a:xfrm>
            <a:off x="3132000" y="4149720"/>
            <a:ext cx="2880000" cy="1727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региональный уров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Скругленный прямоугольник 6"/>
          <p:cNvSpPr/>
          <p:nvPr/>
        </p:nvSpPr>
        <p:spPr>
          <a:xfrm>
            <a:off x="6372360" y="2421000"/>
            <a:ext cx="2592360" cy="165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5400000"/>
          </a:gra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мест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9"/>
          <p:cNvCxnSpPr>
            <a:stCxn id="385" idx="4"/>
            <a:endCxn id="387" idx="0"/>
          </p:cNvCxnSpPr>
          <p:nvPr/>
        </p:nvCxnSpPr>
        <p:spPr>
          <a:xfrm>
            <a:off x="4535280" y="2133720"/>
            <a:ext cx="37080" cy="20167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0" name="Прямая со стрелкой 18"/>
          <p:cNvCxnSpPr>
            <a:stCxn id="385" idx="4"/>
            <a:endCxn id="386" idx="0"/>
          </p:cNvCxnSpPr>
          <p:nvPr/>
        </p:nvCxnSpPr>
        <p:spPr>
          <a:xfrm flipH="1">
            <a:off x="1692000" y="2133720"/>
            <a:ext cx="2844000" cy="35892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91" name="Прямая со стрелкой 22"/>
          <p:cNvCxnSpPr>
            <a:stCxn id="385" idx="4"/>
            <a:endCxn id="388" idx="0"/>
          </p:cNvCxnSpPr>
          <p:nvPr/>
        </p:nvCxnSpPr>
        <p:spPr>
          <a:xfrm>
            <a:off x="4535640" y="2133720"/>
            <a:ext cx="3132720" cy="288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МАКРОУРОВ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484280"/>
            <a:ext cx="7467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гласование целей и приоритетов политики занятости с экономической, социальной, демографической и миграционной полит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Согласование системы целей и приоритетов политики занятости с финансово-кредитной, структурной, инвестиционной, внешнеэкономической политикой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работка политики трудоустройства и социальной поддержки незанятого населени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РЕГИОНАЛЬНЫЙ УРОВ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341000"/>
            <a:ext cx="74674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развитие системы подготовки и переподготовки населения (в первую очередь временно незанятого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совершенствование информационного обеспечения (включая компьютеризацию)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беспечение приспособленными помещениями и подготовленными кадрами центров занятост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целевая поддержка рабочих мест для сдерживания высвобождения работающи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вышение эффективности регистрации, трудоустройства и социальной поддержки безработных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поддержка на рынке труда беженцев и вынужденных переселенцев, граждан с ограниченной трудоспособностью, длительно безработных, женщин, молодежи и подростков и других социально незащищенных групп населения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рганизация общественных и временных работ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МЕСТНЫЙ УРОВЕНЬ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6840" y="1600200"/>
            <a:ext cx="3683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На местном уровне ведется вся практическая работа по трудоустройству, выплате пособий, обучению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2" descr="http://www.char.ru/books/2220825_Zanyatost_naseleniya_i_ee_regulirovanie_Grif_MO_RF.jpg"/>
          <p:cNvPicPr/>
          <p:nvPr/>
        </p:nvPicPr>
        <p:blipFill>
          <a:blip r:embed="rId1"/>
          <a:stretch/>
        </p:blipFill>
        <p:spPr>
          <a:xfrm>
            <a:off x="4716360" y="1484280"/>
            <a:ext cx="320040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ПРАВА БЕЗРАБОТНЫ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907560"/>
            <a:ext cx="7467480" cy="55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1) выбор места работы путем прямого обращения к работодателю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2) бесплатную консультацию и бесплатное получение информации в органах службы занятости для выбора сферы деятельности, трудоустройства, возможности профессионального обучения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3) бесплатные профессиональную ориентацию, профессиональную подготовку, переподготовку и повышение квалификации по направлению органов службы занятости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4) самостоятельный поиск работы и трудоустройство за пределами территории Российской Федерации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5) обжалование решения, действий или бездействия органов службы занятости и их должностных лиц в вышестоящий орган службы занятости, а также в суд в порядке, установленном законодательством Российской Федерации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6) социальную поддержку в виде: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а)выплаты пособия по безработице, в том числе в период временной нетрудоспособности;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б) выплаты стипендии в период профессиональной подготовки, повышения квалификации, переподготовки по направлению службы занятости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в) предоставления возможности участия в общественных работах; 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Schoolbook"/>
              </a:rPr>
              <a:t>г) возмещения затрат в связи с добровольным переездом в другую местность для трудоустройства по предложению органов занятости.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ОБЯЗАННОСТИ БЕЗРАБОТНЫ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являться в органы службы занятости для перерегистрации не реже одного раза в месяц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участвовать по истечении трехмесячного периода безработицы в оплачиваемых работах или пройти обучение по направлению органов занятости (для лиц, указанных в законе)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являться на переговоры о трудоустройстве у работодателя в течение трех дней со дня направления органами службы занятости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являться в органы службы занятости для получения направления на учебу (работу)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ообщить в орган занятости о самостоятельном трудоустройстве, поступлении на обучение по очной форме, призыве на военную службу (сборы);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выбрать один из двух предложенных органом занятости вариантов подходящей работы.  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СОЦИАЛЬНЫЕ ПОСЛЕДСТВИЯ БЕЗРАБОТИЦЫ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457200" y="1600200"/>
          <a:ext cx="7467480" cy="347976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трица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11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Обострение криминогенной ситу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Усиление социальной напряжен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Рост количества физических и душевных заболева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Увеличение социальной дифференци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 Снижение трудовой активност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Повышение социальной ценности рабочего мес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Увеличение личного свободного времен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Возрастание свободы выбора места работ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Увеличение социальной значимости и ценности тру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ЭКОНОМИЧЕСКИЕ ПОСЛЕДСТВИЯ БЕЗРАБОТИЦЫ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457200" y="1600200"/>
          <a:ext cx="7467480" cy="4029120"/>
        </p:xfrm>
        <a:graphic>
          <a:graphicData uri="http://schemas.openxmlformats.org/drawingml/2006/table">
            <a:tbl>
              <a:tblPr/>
              <a:tblGrid>
                <a:gridCol w="3733920"/>
                <a:gridCol w="3733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Отрица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Положительны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9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Обесценивание последствий обуче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Сокращение производств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Затраты на помощь безработны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Утрата квалификаци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5. Снижение жизненного уровн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6. Недопроизводство национального дохо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7. Снижение налоговых поступлений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1. Создание резерва рабочей силы для структурной перестройки экономик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. Конкуренция между работниками как стимул к развитию способностей к труду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3. Перерыв в занятости для переобучения и повышения уровня образован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4. Стимулирование роста интенсивности и производительности труд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Овал 1"/>
          <p:cNvSpPr/>
          <p:nvPr/>
        </p:nvSpPr>
        <p:spPr>
          <a:xfrm>
            <a:off x="2771640" y="2492280"/>
            <a:ext cx="3168720" cy="1513080"/>
          </a:xfrm>
          <a:prstGeom prst="ellipse">
            <a:avLst/>
          </a:prstGeom>
          <a:solidFill>
            <a:srgbClr val="9a3d01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entury Schoolbook"/>
              </a:rPr>
              <a:t>Основные направления государственного регулирования рынк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Скругленный прямоугольник 2"/>
          <p:cNvSpPr/>
          <p:nvPr/>
        </p:nvSpPr>
        <p:spPr>
          <a:xfrm>
            <a:off x="468360" y="476280"/>
            <a:ext cx="3311640" cy="1873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ограмма по стимулированию роста занятости и увеличению числа рабочих мест в государственном секто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Скругленный прямоугольник 3"/>
          <p:cNvSpPr/>
          <p:nvPr/>
        </p:nvSpPr>
        <p:spPr>
          <a:xfrm>
            <a:off x="5003640" y="476280"/>
            <a:ext cx="3240360" cy="1873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ограммы, направленные на подготовку и переподготовку рабочей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Скругленный прямоугольник 4"/>
          <p:cNvSpPr/>
          <p:nvPr/>
        </p:nvSpPr>
        <p:spPr>
          <a:xfrm>
            <a:off x="468360" y="4149720"/>
            <a:ext cx="3166920" cy="19432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авительство принимает программы по социальному страхованию безработицы, т. е. выделяет средства на пособия по безработ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Скругленный прямоугольник 5"/>
          <p:cNvSpPr/>
          <p:nvPr/>
        </p:nvSpPr>
        <p:spPr>
          <a:xfrm>
            <a:off x="5148360" y="4076640"/>
            <a:ext cx="3024000" cy="2016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ограммы содействия найму рабочей си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7"/>
          <p:cNvSpPr/>
          <p:nvPr/>
        </p:nvSpPr>
        <p:spPr>
          <a:xfrm flipH="1" flipV="1">
            <a:off x="3780000" y="1413000"/>
            <a:ext cx="576000" cy="10792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9"/>
          <p:cNvSpPr/>
          <p:nvPr/>
        </p:nvSpPr>
        <p:spPr>
          <a:xfrm flipV="1">
            <a:off x="4356000" y="1413000"/>
            <a:ext cx="647640" cy="10792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11"/>
          <p:cNvSpPr/>
          <p:nvPr/>
        </p:nvSpPr>
        <p:spPr>
          <a:xfrm flipH="1">
            <a:off x="3635280" y="4005360"/>
            <a:ext cx="720720" cy="111600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ая соединительная линия 13"/>
          <p:cNvSpPr/>
          <p:nvPr/>
        </p:nvSpPr>
        <p:spPr>
          <a:xfrm>
            <a:off x="4356000" y="4005360"/>
            <a:ext cx="792360" cy="107928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85988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entury Schoolbook"/>
              </a:rPr>
              <a:t>ЦЕЛИ ГОСУДАРСТВЕННОГО РЕГУЛИРОВАНИЯ РЫНКА ТРУДА</a:t>
            </a:r>
            <a:endParaRPr b="0" lang="en-US" sz="2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Содержимое 3" descr=""/>
          <p:cNvPicPr/>
          <p:nvPr/>
        </p:nvPicPr>
        <p:blipFill>
          <a:blip r:embed="rId1"/>
          <a:stretch/>
        </p:blipFill>
        <p:spPr>
          <a:xfrm>
            <a:off x="420840" y="1596960"/>
            <a:ext cx="7564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Содержимое 4" descr=""/>
          <p:cNvPicPr/>
          <p:nvPr/>
        </p:nvPicPr>
        <p:blipFill>
          <a:blip r:embed="rId1"/>
          <a:stretch/>
        </p:blipFill>
        <p:spPr>
          <a:xfrm>
            <a:off x="378000" y="457200"/>
            <a:ext cx="775476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Century Schoolbook"/>
              </a:rPr>
              <a:t>АКТИВНАЯ ПОЛИТИК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6840" y="981000"/>
            <a:ext cx="7467480" cy="549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стимулирование государством инвестиций в экономику, что выступает главным условием создания новых рабочих мест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рганизация переобучения и переквалификации структурно-безработных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развитие служб занятости, бирж труда, осуществляющих посреднические функции на рынке труда, предоставление информации о вакантных рабочих местах с целью снижения фрикционной и структурной безработицы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содействие мелкому и семейному предпринимательству, что рассматривается во многих странах важнейшим методом обеспечения занятости населения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государственное стимулирование (налоговыми и законодательными мерами) предоставления работодателями рабочих мест определенным группам населения — </a:t>
            </a:r>
            <a:r>
              <a:rPr b="0" lang="ru-RU" sz="15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молодежи</a:t>
            </a: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, инвалидам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содействие, в случае необходимости, перемене места жительства для получения работы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международное сотрудничество в решении проблем занятости; решение вопросов, связанных с международной трудовой миграцие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создание рабочих мест в государственном секторе — в сфере образования, медицинских услуг, коммунальном хозяйстве, строительстве общественных зданий и сооружений;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entury Schoolbook"/>
              </a:rPr>
              <a:t>организация общественных работ.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User</cp:lastModifiedBy>
  <dcterms:modified xsi:type="dcterms:W3CDTF">2018-08-09T14:48:44Z</dcterms:modified>
  <cp:revision>10</cp:revision>
  <dc:subject/>
  <dc:title>Слайд 1</dc:title>
</cp:coreProperties>
</file>