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76F3-3449-409A-B3C9-FE5031D8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0A8-D159-4F32-B225-C868B503F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BC4-33E8-4A4A-9E13-641865C85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DDEF-A384-4C74-BE52-04FA66087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4F0-A2C9-47DA-AD2F-D91ACCFE2B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7CB-2016-4C5D-B083-611F15BF5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95E9-21F1-463E-8B6D-17E9DD5659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E5C-4744-423C-A94D-05F54E08FE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CA20-39FB-4C77-A41F-ACE6CA549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3D4F-3C21-4117-9A0F-E00699F9F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352-8E9B-421A-A25B-FAE0E8BFFC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31C-D0F5-4E4A-A863-20999AD8E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476-430F-4718-A454-6A56C656A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" y="3733560"/>
            <a:ext cx="521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ПРИЗНАКИ ДЕЛИМОСТИ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2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четы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125, необходимо и достаточно, чтобы делилось на 125  число, образованное  тре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609480" y="609480"/>
            <a:ext cx="3505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5 532 62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04920" y="685800"/>
            <a:ext cx="4190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5 532 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25</a:t>
            </a:r>
            <a:r>
              <a:rPr b="1" lang="ru-RU" sz="54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 125,  значит, 5 532 625 делится на 125  </a:t>
            </a:r>
            <a:r>
              <a:rPr b="1" lang="ru-RU" sz="54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51000"/>
            <a:ext cx="8839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7 (на 13)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7 (на 13), необходимо и достаточно, чтобы  алгебраическая  сумма чисел, образующих грани по три цифры в грани (начиная с цифры единиц), взятых со знаком «плюс»  для  нечетных  граней  и  со знаком «минус» для  четных граней  делилась на 7 (на 13)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838080" y="152280"/>
            <a:ext cx="403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254 390 81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304920" y="0"/>
            <a:ext cx="5715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254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390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1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0" y="1676520"/>
            <a:ext cx="8839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815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390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254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=67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228600" y="3048120"/>
            <a:ext cx="8915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679  делится  на  7  и  не делится  на  13,  значит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54 390 815 делится на 7  и не делится на 13</a:t>
            </a:r>
            <a:r>
              <a:rPr b="1" lang="ru-RU" sz="48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1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11, необходимо и достаточно, чтобы  алгебраическая  сумма его цифр, взятых со знаком «плюс», если цифры находятся на нечетных местах (начиная с цифры единиц), и взятых со знаком «минус», если цифры находятся на четных местах, делилась на 11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04920" y="60948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86 849 79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066680" y="533520"/>
            <a:ext cx="5715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4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304920" y="20574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 8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= </a:t>
            </a:r>
            <a:r>
              <a:rPr b="1" lang="ru-RU" sz="8000" spc="-1" strike="noStrike">
                <a:solidFill>
                  <a:srgbClr val="ffffff"/>
                </a:solidFill>
                <a:latin typeface="Cambria Math"/>
                <a:ea typeface="Cambria Math"/>
              </a:rPr>
              <a:t>-1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-152280" y="31240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mbria Mat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1  делится  на  11,  значит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6 849 796  делится на 11</a:t>
            </a:r>
            <a:r>
              <a:rPr b="1" lang="ru-RU" sz="48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2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2, необходимо и достаточно, чтобы последняя цифра числа делилась на 2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0880" y="8380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34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5, необходимо и достаточно, чтобы последняя цифра числа делилась на 5  (т.е. цифра единиц либо 0, либо 5)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7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76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0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10, необходимо и достаточно, чтобы  единиц  была 0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948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7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76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3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3, необходимо и достаточно, чтобы сумма его цифр делилась на 3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914400" y="914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990720" y="2438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+3+6+4+9=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990720" y="39625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делится на 3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  делится на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9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9, необходимо и достаточно, чтобы сумма его цифр делилась на 9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914400" y="914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27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90720" y="2438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+3+6+4+9+2+7+9=4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990720" y="39625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45  делится на 9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279  делится на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4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т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4, необходимо и достаточно, чтобы делилось на 4  число, образованное  дву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152280" y="22860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04920" y="380880"/>
            <a:ext cx="4190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</a:t>
            </a:r>
            <a:r>
              <a:rPr b="1" lang="ru-RU" sz="6600" spc="-1" strike="noStrike">
                <a:solidFill>
                  <a:srgbClr val="ff0000"/>
                </a:solidFill>
                <a:latin typeface="Microsoft Sans Serif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828800" y="13716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делится на 4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6  делится на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28600" y="35812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0" y="350532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</a:t>
            </a:r>
            <a:r>
              <a:rPr b="1" lang="ru-RU" sz="6600" spc="-1" strike="noStrike">
                <a:solidFill>
                  <a:srgbClr val="ff0000"/>
                </a:solidFill>
                <a:latin typeface="Microsoft Sans Serif"/>
              </a:rPr>
              <a:t>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609480" y="4648320"/>
            <a:ext cx="8153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не  делится на 4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7  не  делится на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8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четы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8, необходимо и достаточно, чтобы делилось на 8  число, образованное  тре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33520" y="1066680"/>
            <a:ext cx="518148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7 365 824 56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685800" y="1295280"/>
            <a:ext cx="518148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7 365 824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56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568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8,  значит, 7 365 824 568  делится на 8 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2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т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25, необходимо и достаточно, чтобы делилось на 25  число, образованное  дву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762120" y="9907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32 57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609480" y="9907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32 5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5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 25,  значит, 32 575 делится на 25 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18-07-28T15:07:55Z</dcterms:modified>
  <cp:revision>92</cp:revision>
  <dc:subject/>
  <dc:title>Name of presentation</dc:title>
</cp:coreProperties>
</file>