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DA88-F699-4492-8A7C-F79310090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2EE1-BF8F-42C5-A261-F3416147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41F9-23C1-49A0-ADC1-6B47D5B35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5B93-CBD4-40FC-A1FF-D7FF9DF0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E4E0-869E-4E62-8722-33F2D137D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9E67-7C26-4959-9D74-EACC05A6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6E8A-FFA6-4192-9D15-403D50552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6C4D-345D-4BBB-9952-2E9F1F56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84BC-74EE-4452-A07A-099DDF157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A377-0979-42C4-AA76-224DD7A8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9180D-6058-41C2-A7BA-80EF88AB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97C2-89DA-41A8-BBAB-E41D1A9AD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98707-5E96-460F-AEA2-9FF1EC22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2EE17-F116-445E-9C1F-532372D0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FCCD7-4A00-4829-BB67-12BA2883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4FFD3-8B6A-4F49-B3CA-8988121B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99A68-F125-45D1-9196-628C410C9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A6E976-77B6-4917-A6D4-079D75C56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7F5A0D-3872-41C1-B8A8-D9E68DFC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B91251-ADF9-49C4-BCFC-FBA7930C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729E38-059D-4203-9D96-22896259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0F33B1-F0EA-4E13-B144-DD51B66C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4864-8E2D-4296-9FF2-52EF75AD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959D60-5558-4C96-A4FE-A458328B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53B3CD-4414-4989-851E-7AB32475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9C5BC9-2F2B-4DBB-8015-1327DEB9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03F6E5-F6F6-4283-8B2F-581A0785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3E91F8-3F82-4AA8-A523-F52AD6EB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674061-5E7D-4E27-8210-48E9D63F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60592B-9DD6-400F-B947-967D814E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FD8FD-9B6C-4328-B7A6-14A79BDB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1E922-EC40-44A6-8B15-98A28F20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96AD4-A060-46D5-8BA3-00505036F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CE87-1950-46E5-A18C-568BBD04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687DF-BE04-4E07-B930-8B92EC45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20AC7-2B37-45CC-8C5A-B637A816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18AC3-8614-4BD2-9FFA-02889652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9939D-549C-4B0A-AAB2-3CC3DC02E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861A7-9FDB-4767-B593-826CC17F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584EA-8ABF-4CAE-AC82-94DD3699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C7A68-D62E-4E1C-81F2-503349A9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D64DB-449B-4CBE-A362-B9FAAAE16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D4590-FB73-4F90-A582-2618E99B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E16A24-2366-429A-911C-251CF85E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3E42-2009-48E7-AB8E-E05940D9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C45A88-3C13-43E4-ACF5-BBDD7580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BEF1B7-E83C-400A-8653-140228EE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755DC1-A954-439E-A998-F5A2964B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54B330-B839-4AA0-ADB2-40355273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4BBB33-D81C-434E-93E4-A36CF410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4833FD-6E90-47DC-AC07-94D91689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161045-B602-41D0-8A93-82385F76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3C7D6A-6EAD-4F22-B32E-DD9BB3B9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79F3A5-2C2C-4EE9-8B5B-3E9303179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51F40A-4768-42D9-AEA3-3246FD9E1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0B94-1458-4BF4-BCAF-DBFC780B5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27320B-8D7F-48FB-BFE4-F4D56E85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E9D5AA-84B4-4609-8462-C26424930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7396AB-A8E2-4536-8179-D9188ABB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5983BF-20E3-4331-A9B2-6BD802FB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B552B4-C469-4257-AF77-C38AEA49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4F8138-2FEE-4DD6-948A-1450279A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4D5056-DBFC-4ED6-B9C4-8B210BC2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5C0F2F-9B8F-4000-B294-3AD6DEB0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0AB145-5560-420A-BB29-4E88264F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E681EA-9B7E-440C-8584-2FAA7CC8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F95A-3AFB-49D4-B645-10E7C7F0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96E4C17-21CA-41EF-AA71-013F7F6D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7A4D0F-1701-4340-8ABC-CF4E3B9FA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30E53E-4561-44D5-95C0-6E429D7A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8A13D4-A516-4062-99D6-CF0D1E32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A987E8-6347-4F90-8DC9-76225115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25EAF1-451C-4E0E-B013-FDA749E7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76B395-07FC-4548-BD78-3426111ED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90F532-F258-4C91-9D3E-88034569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135031-2336-4BFC-82F5-E638CA4C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E94E6E-369D-4E4A-B1E0-D1AA4E79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66F2-6B4F-4413-BC28-C4688603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0F7C14-6264-4075-B95F-C3516A658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778342-D834-4045-B7B0-9F747FAD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9F39C2-4EE7-4434-BFB2-122844F6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441182-D337-4AB6-9F53-D0286C04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A1443E-6675-4B2F-ADB6-84E89515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2018-C7FD-4357-9678-B82F2292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C3640-BF2C-4A9D-AB91-CA722296D24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2D92-2551-4391-92BD-6199DE471B2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E4D7-B28D-4292-B50D-73FE8385B1D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03CC-C223-4F97-A540-A07EDFC9BFB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77AB-44F0-4F26-927B-6FF34A2A5E1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8C14A-DFCF-41D7-9DA3-92801DDC047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08E7-823C-4DDE-B29D-1C0C9E651B6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285640" y="2492280"/>
            <a:ext cx="617220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Виды безработицы. Уровень безработицы и занятости. Естественный уровень безработицы и занятост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СКРЫТАЯ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БЕЗРАБОТИЦ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23640" y="1196640"/>
            <a:ext cx="4103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езработица, к которой относятся работники, занятые на производстве, но в действительности являющиеся «лишним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2" name="Picture 2" descr="http://im.kommersant.ru/Issues.photo/DAILY/2012/159/KMO_088122_00027_1_t210.jpg"/>
          <p:cNvPicPr/>
          <p:nvPr/>
        </p:nvPicPr>
        <p:blipFill>
          <a:blip r:embed="rId1"/>
          <a:stretch/>
        </p:blipFill>
        <p:spPr>
          <a:xfrm>
            <a:off x="4427640" y="3429000"/>
            <a:ext cx="4105080" cy="2736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http://siol.sdn.si/sn/img/13/033/634954106744448233_rusija_place.jpg"/>
          <p:cNvPicPr/>
          <p:nvPr/>
        </p:nvPicPr>
        <p:blipFill>
          <a:blip r:embed="rId2"/>
          <a:stretch/>
        </p:blipFill>
        <p:spPr>
          <a:xfrm>
            <a:off x="4643280" y="260280"/>
            <a:ext cx="3749760" cy="2664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http://owoman.com.ua/wp-content/uploads/2014/12/486c6696a8130f107e387a614fb59241.jpg"/>
          <p:cNvPicPr/>
          <p:nvPr/>
        </p:nvPicPr>
        <p:blipFill>
          <a:blip r:embed="rId3"/>
          <a:stretch/>
        </p:blipFill>
        <p:spPr>
          <a:xfrm>
            <a:off x="1332000" y="3500280"/>
            <a:ext cx="2079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УРОВЕНЬ БЕЗРАБОТИЦЫ И ЗАНЯТОСТ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4797000"/>
            <a:ext cx="78598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Уровень занятости насел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ровень занятости населения – отношение численности занятого населения определенной возрастной группы к общей численности населения соответствующей возрастной группы, в процента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7" name="Picture 2" descr="http://5fan.ru/files/6/5fan_ru_31093_3a36ae3726030cbfe535e73c51147847.html_files/rId8.jpg"/>
          <p:cNvPicPr/>
          <p:nvPr/>
        </p:nvPicPr>
        <p:blipFill>
          <a:blip r:embed="rId1"/>
          <a:stretch/>
        </p:blipFill>
        <p:spPr>
          <a:xfrm>
            <a:off x="395280" y="1916280"/>
            <a:ext cx="8074080" cy="1081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http://uz.denemetr.com/tw_files2/urls_8/92/d-91065/7z-docs/1_html_me8906c9.gif"/>
          <p:cNvPicPr/>
          <p:nvPr/>
        </p:nvPicPr>
        <p:blipFill>
          <a:blip r:embed="rId2"/>
          <a:stretch/>
        </p:blipFill>
        <p:spPr>
          <a:xfrm>
            <a:off x="611280" y="3068640"/>
            <a:ext cx="77770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ЕСТЕСТВЕННЫЙ УРОВЕНЬ БЕЗРАБОТИЦЫ И ЗАНЯТОСТИ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484280"/>
            <a:ext cx="74674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Естественный уровень безработицы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natural rate of unemployment – u*) – это такой уровень, при котором обеспечена полная занятость (full-employment) рабочей силы, т.е. наиболее эффективное и рациональное ее использование. Это означает, что все люди, которые хотят работать, работу находят. Естественный уровень безработицы поэтому называют уровнем безработицы при полной занятости (full-employment rate of unemployment), а объем выпуска, соответствующий естественному уровню безработицы, называют естественным объемом выпуска (natural output). Так как полная занятость рабочей силы означает, что в экономике существует только фрикционная и структурная безработица, то естественный уровень безработицы может быть рассчитан как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умма уровней фрикционной и структурной безработицы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u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entury Schoolbook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= u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фрикц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+ u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структ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= (U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фрикц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+U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структ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)/L * 100%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БЕЗРАБОТИЦА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196640"/>
            <a:ext cx="78598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о социально-экономическое явление, при котором часть населения трудоспособного возраста не может найти работу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4" name="Picture 5" descr="http://www.tpp.volzhsky.ru/wp-content/uploads/2012/05/yarm.jpg"/>
          <p:cNvPicPr/>
          <p:nvPr/>
        </p:nvPicPr>
        <p:blipFill>
          <a:blip r:embed="rId1"/>
          <a:stretch/>
        </p:blipFill>
        <p:spPr>
          <a:xfrm>
            <a:off x="299880" y="2781360"/>
            <a:ext cx="4127760" cy="30956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" descr="http://1.citynews-riminitoday.stgy.it/~media/originale/16699865806758/lavoro-cerca-2.jpg"/>
          <p:cNvPicPr/>
          <p:nvPr/>
        </p:nvPicPr>
        <p:blipFill>
          <a:blip r:embed="rId2"/>
          <a:stretch/>
        </p:blipFill>
        <p:spPr>
          <a:xfrm>
            <a:off x="4427640" y="2781360"/>
            <a:ext cx="41274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Овал 4"/>
          <p:cNvSpPr/>
          <p:nvPr/>
        </p:nvSpPr>
        <p:spPr>
          <a:xfrm>
            <a:off x="3132000" y="404640"/>
            <a:ext cx="2880000" cy="100836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ричины 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кругленный прямоугольник 5"/>
          <p:cNvSpPr/>
          <p:nvPr/>
        </p:nvSpPr>
        <p:spPr>
          <a:xfrm>
            <a:off x="900000" y="1916280"/>
            <a:ext cx="2087640" cy="11523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Высокая заработная п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6"/>
          <p:cNvSpPr/>
          <p:nvPr/>
        </p:nvSpPr>
        <p:spPr>
          <a:xfrm>
            <a:off x="3564000" y="1916280"/>
            <a:ext cx="2016000" cy="11523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Низкий уровень с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кругленный прямоугольник 7"/>
          <p:cNvSpPr/>
          <p:nvPr/>
        </p:nvSpPr>
        <p:spPr>
          <a:xfrm>
            <a:off x="6012000" y="1916280"/>
            <a:ext cx="2016000" cy="11523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Недостаточная гибкость рынка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Прямая со стрелкой 9"/>
          <p:cNvCxnSpPr>
            <a:stCxn id="356" idx="4"/>
            <a:endCxn id="357" idx="0"/>
          </p:cNvCxnSpPr>
          <p:nvPr/>
        </p:nvCxnSpPr>
        <p:spPr>
          <a:xfrm flipH="1">
            <a:off x="1942920" y="1413000"/>
            <a:ext cx="2629440" cy="5040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1" name="Прямая со стрелкой 11"/>
          <p:cNvCxnSpPr>
            <a:stCxn id="356" idx="4"/>
          </p:cNvCxnSpPr>
          <p:nvPr/>
        </p:nvCxnSpPr>
        <p:spPr>
          <a:xfrm>
            <a:off x="4571640" y="1413000"/>
            <a:ext cx="1080" cy="5040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2" name="Прямая со стрелкой 13"/>
          <p:cNvCxnSpPr>
            <a:stCxn id="356" idx="4"/>
            <a:endCxn id="359" idx="0"/>
          </p:cNvCxnSpPr>
          <p:nvPr/>
        </p:nvCxnSpPr>
        <p:spPr>
          <a:xfrm>
            <a:off x="4572000" y="1413000"/>
            <a:ext cx="2448720" cy="5040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pic>
        <p:nvPicPr>
          <p:cNvPr id="363" name="Picture 2" descr="http://img1.vashgorod.ru/uploads/images/news/t5/f5702.jpg"/>
          <p:cNvPicPr/>
          <p:nvPr/>
        </p:nvPicPr>
        <p:blipFill>
          <a:blip r:embed="rId1"/>
          <a:stretch/>
        </p:blipFill>
        <p:spPr>
          <a:xfrm>
            <a:off x="2916360" y="3933720"/>
            <a:ext cx="3211560" cy="2087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http://econ.bg/pictures/43641-2__377.jpg"/>
          <p:cNvPicPr/>
          <p:nvPr/>
        </p:nvPicPr>
        <p:blipFill>
          <a:blip r:embed="rId2"/>
          <a:stretch/>
        </p:blipFill>
        <p:spPr>
          <a:xfrm>
            <a:off x="179280" y="3357720"/>
            <a:ext cx="2951280" cy="1565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http://img.rufox.ru/files/big2/187284.jpg"/>
          <p:cNvPicPr/>
          <p:nvPr/>
        </p:nvPicPr>
        <p:blipFill>
          <a:blip r:embed="rId3"/>
          <a:stretch/>
        </p:blipFill>
        <p:spPr>
          <a:xfrm>
            <a:off x="5940360" y="3645000"/>
            <a:ext cx="27385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Овал 1"/>
          <p:cNvSpPr/>
          <p:nvPr/>
        </p:nvSpPr>
        <p:spPr>
          <a:xfrm>
            <a:off x="3419640" y="2205000"/>
            <a:ext cx="2376360" cy="129528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Виды 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кругленный прямоугольник 2"/>
          <p:cNvSpPr/>
          <p:nvPr/>
        </p:nvSpPr>
        <p:spPr>
          <a:xfrm>
            <a:off x="755640" y="2133720"/>
            <a:ext cx="2376360" cy="1439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Фрик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Скругленный прямоугольник 3"/>
          <p:cNvSpPr/>
          <p:nvPr/>
        </p:nvSpPr>
        <p:spPr>
          <a:xfrm>
            <a:off x="1835280" y="260280"/>
            <a:ext cx="2305080" cy="151308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Структу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кругленный прямоугольник 4"/>
          <p:cNvSpPr/>
          <p:nvPr/>
        </p:nvSpPr>
        <p:spPr>
          <a:xfrm>
            <a:off x="5148360" y="260280"/>
            <a:ext cx="2303280" cy="151308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Цикл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кругленный прямоугольник 5"/>
          <p:cNvSpPr/>
          <p:nvPr/>
        </p:nvSpPr>
        <p:spPr>
          <a:xfrm>
            <a:off x="1835280" y="4365720"/>
            <a:ext cx="2376360" cy="1655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Скры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кругленный прямоугольник 6"/>
          <p:cNvSpPr/>
          <p:nvPr/>
        </p:nvSpPr>
        <p:spPr>
          <a:xfrm>
            <a:off x="4859280" y="4437000"/>
            <a:ext cx="2233800" cy="15843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Част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Скругленный прямоугольник 7"/>
          <p:cNvSpPr/>
          <p:nvPr/>
        </p:nvSpPr>
        <p:spPr>
          <a:xfrm>
            <a:off x="6227640" y="2133720"/>
            <a:ext cx="2305080" cy="1439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Сез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9"/>
          <p:cNvSpPr/>
          <p:nvPr/>
        </p:nvSpPr>
        <p:spPr>
          <a:xfrm flipH="1" flipV="1">
            <a:off x="2987640" y="1773000"/>
            <a:ext cx="1620720" cy="4316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11"/>
          <p:cNvSpPr/>
          <p:nvPr/>
        </p:nvSpPr>
        <p:spPr>
          <a:xfrm flipV="1">
            <a:off x="4608360" y="1773000"/>
            <a:ext cx="1692360" cy="4316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ая соединительная линия 13"/>
          <p:cNvSpPr/>
          <p:nvPr/>
        </p:nvSpPr>
        <p:spPr>
          <a:xfrm flipH="1">
            <a:off x="3131640" y="2852640"/>
            <a:ext cx="287640" cy="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ая соединительная линия 15"/>
          <p:cNvSpPr/>
          <p:nvPr/>
        </p:nvSpPr>
        <p:spPr>
          <a:xfrm>
            <a:off x="5796000" y="2852640"/>
            <a:ext cx="431640" cy="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ая соединительная линия 18"/>
          <p:cNvSpPr/>
          <p:nvPr/>
        </p:nvSpPr>
        <p:spPr>
          <a:xfrm flipH="1">
            <a:off x="3024360" y="3500280"/>
            <a:ext cx="1584000" cy="865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ая соединительная линия 20"/>
          <p:cNvSpPr/>
          <p:nvPr/>
        </p:nvSpPr>
        <p:spPr>
          <a:xfrm>
            <a:off x="4608360" y="3500280"/>
            <a:ext cx="1368720" cy="93672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ФРИКЦИОННАЯ БЕЗРАБОТИЦ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484280"/>
            <a:ext cx="39704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желание людей сменить сферу деятельности или место жительств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пробовать себя в новой должност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лучить более высокую зарплату на другом предприяти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сто отдохнуть от работы некоторое врем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http://baltijalv.lv/user/opts/fotoanons12530594cb50e6938a8bab76eb1b7572718057181524.jpg"/>
          <p:cNvPicPr/>
          <p:nvPr/>
        </p:nvPicPr>
        <p:blipFill>
          <a:blip r:embed="rId1"/>
          <a:stretch/>
        </p:blipFill>
        <p:spPr>
          <a:xfrm>
            <a:off x="4643280" y="476280"/>
            <a:ext cx="3984840" cy="26607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http://tv.business-tv.com.ua/graphics/news/image/5329.jpeg"/>
          <p:cNvPicPr/>
          <p:nvPr/>
        </p:nvPicPr>
        <p:blipFill>
          <a:blip r:embed="rId2"/>
          <a:stretch/>
        </p:blipFill>
        <p:spPr>
          <a:xfrm>
            <a:off x="3995640" y="3357720"/>
            <a:ext cx="4491000" cy="30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СТРУКТУРНАЯ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БЕЗРАБОТИЦ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23640" y="1484280"/>
            <a:ext cx="41036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учно-технический прогресс и социально-политическое развитие общества увеличивают потребность в одних профессиях и делают менее востребованными другие профессии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равномерное развитие отраслей в регионе приводит к изменению структуры вакансий, к которой не может быстро приспособиться структура безработных из-за недостаточной мобильности трудовых ресурсов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2" descr="http://srv4.lookmy.info/portal/4nAlbum/album/5161/_userfiles/230_1.jpg"/>
          <p:cNvPicPr/>
          <p:nvPr/>
        </p:nvPicPr>
        <p:blipFill>
          <a:blip r:embed="rId1"/>
          <a:stretch/>
        </p:blipFill>
        <p:spPr>
          <a:xfrm>
            <a:off x="4859280" y="260280"/>
            <a:ext cx="3805200" cy="29527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http://www.topic.lt/Fm_fi/images/picsw/102007/09/federaciya/federaciya_032.jpg"/>
          <p:cNvPicPr/>
          <p:nvPr/>
        </p:nvPicPr>
        <p:blipFill>
          <a:blip r:embed="rId2"/>
          <a:stretch/>
        </p:blipFill>
        <p:spPr>
          <a:xfrm>
            <a:off x="4427640" y="3357720"/>
            <a:ext cx="4032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ЦИКЛИЧЕСКАЯ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БЕЗРАБОТИЦ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23640" y="1483920"/>
            <a:ext cx="4103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звана экономическим спадом и связанным с ним сокращением спроса на тру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2" descr="http://www.companion.ua/data/filestorage/news/2013/06/bezrabot450-267_jpg_450x270_crop_q70.jpg"/>
          <p:cNvPicPr/>
          <p:nvPr/>
        </p:nvPicPr>
        <p:blipFill>
          <a:blip r:embed="rId1"/>
          <a:stretch/>
        </p:blipFill>
        <p:spPr>
          <a:xfrm>
            <a:off x="4500720" y="404640"/>
            <a:ext cx="4087800" cy="2737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http://www.nsbural.ru/Storage/Image/Document/Article/src/12417/b5.jpg"/>
          <p:cNvPicPr/>
          <p:nvPr/>
        </p:nvPicPr>
        <p:blipFill>
          <a:blip r:embed="rId2"/>
          <a:stretch/>
        </p:blipFill>
        <p:spPr>
          <a:xfrm>
            <a:off x="826920" y="3357720"/>
            <a:ext cx="3143520" cy="23619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http://rabota5.ru/photo/zarabotat-na-vvode-4400.jpg"/>
          <p:cNvPicPr/>
          <p:nvPr/>
        </p:nvPicPr>
        <p:blipFill>
          <a:blip r:embed="rId3"/>
          <a:stretch/>
        </p:blipFill>
        <p:spPr>
          <a:xfrm>
            <a:off x="4356000" y="3429000"/>
            <a:ext cx="386424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СЕЗОННАЯ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БЕЗРАБОТИЦ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23640" y="1483920"/>
            <a:ext cx="4103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рождается временным характером выполнения тех или иных видов деятельности и функционирования отраслей хозяйства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ельскохозяйственные работы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рыболовство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бор ягод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плав леса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хота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троительство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4" name="Picture 2" descr="http://s3.uploads.ru/2wZJ7.jpg"/>
          <p:cNvPicPr/>
          <p:nvPr/>
        </p:nvPicPr>
        <p:blipFill>
          <a:blip r:embed="rId1"/>
          <a:stretch/>
        </p:blipFill>
        <p:spPr>
          <a:xfrm>
            <a:off x="4067280" y="3284640"/>
            <a:ext cx="4105080" cy="3078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http://www.newsspain.ru/kartinki/food_08.jpg"/>
          <p:cNvPicPr/>
          <p:nvPr/>
        </p:nvPicPr>
        <p:blipFill>
          <a:blip r:embed="rId2"/>
          <a:stretch/>
        </p:blipFill>
        <p:spPr>
          <a:xfrm>
            <a:off x="4500720" y="333360"/>
            <a:ext cx="3809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ЧАСТИЧНАЯ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БЕЗРАБОТИЦ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23640" y="1484280"/>
            <a:ext cx="4103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езработица, которая возникает в результате снижения спроса на продукцию предприят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Picture 4" descr="http://normapereira.com.br/wp-content/uploads/2013/11/falencia.jpg"/>
          <p:cNvPicPr/>
          <p:nvPr/>
        </p:nvPicPr>
        <p:blipFill>
          <a:blip r:embed="rId1"/>
          <a:stretch/>
        </p:blipFill>
        <p:spPr>
          <a:xfrm>
            <a:off x="4500720" y="981000"/>
            <a:ext cx="4221000" cy="4824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http://novostey.com/i4/2010/01/15/c4ab4864bad88f61dc64d18c57701f39.nc4ab4864bad88f61dc64d18c57701f39.jpg"/>
          <p:cNvPicPr/>
          <p:nvPr/>
        </p:nvPicPr>
        <p:blipFill>
          <a:blip r:embed="rId2"/>
          <a:stretch/>
        </p:blipFill>
        <p:spPr>
          <a:xfrm>
            <a:off x="684360" y="3500280"/>
            <a:ext cx="30477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1:28:01Z</dcterms:created>
  <dc:creator>ppsworld.ru</dc:creator>
  <dc:description/>
  <dc:language>en-US</dc:language>
  <cp:lastModifiedBy>User</cp:lastModifiedBy>
  <dcterms:modified xsi:type="dcterms:W3CDTF">2018-08-09T15:19:02Z</dcterms:modified>
  <cp:revision>19</cp:revision>
  <dc:subject/>
  <dc:title>Слайд 1</dc:title>
</cp:coreProperties>
</file>