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D701-3F8A-464D-A86F-3B0A40846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35CC-AA2C-4C2D-A05B-8026CA4B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05FC-3EF3-4413-9EAA-B82E839C9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1386-38C2-4EC3-BA1A-80211975E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B790-0E55-4D91-9CE5-AC5ACCB30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3A424-F993-4D98-8E61-7A391D732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D3A0E-D39E-4549-9A07-428D2D19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76E5-1655-4BFF-B241-90C797ED2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6F46-0DAF-4912-B843-90CA5AC25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A5346-4673-485C-B1A2-0B6D6EA3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BEF3-2931-4476-84B8-0566A608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66B9-2E90-4A8B-8783-B3119D029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5506-08E9-4168-968A-CD21FBB7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77CAB-FDE1-40B0-B7AE-08A445BB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6CCC3-6F33-41A4-9AAF-4BCA5B36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60FA-61B0-42F1-8AAB-572EA3066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01C3D-2AE3-4DB5-8899-6FFB3D76A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EBAB71-D3A5-41F1-A1F3-64B50977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14ED9D-53C7-4C20-BCFA-6B628E9C9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3234A5-38F2-4179-A9CD-9C8039609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5BA521-9BE7-42F4-A2E9-22F5AD76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5115CB-9F69-4EC2-ADCF-56887BEA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E8CB-5CE6-4579-AA4C-3828D307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35284C-D2EF-4653-8D95-F277A22B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557A64-33C9-4A6D-A029-9C4397FA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4AC8E2-43A5-48EA-BC3F-9AA02E58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5A872C-9BF6-4077-8DA0-6A63F32D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ED9F72-52A3-4ECE-8167-AE21589A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A48E09-F622-493B-B9C4-6C207C90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3A01C0-0A3F-4A59-A344-72044ED12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38863-D994-4AC9-8CF8-13A9F65B2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34BA8-292B-41A3-B6FE-DCAC419F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0202A-0F8E-4B9B-9A7A-734B3421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AFB8-4856-4172-A66F-676D7E56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D517F-5866-46C2-B5D0-3890D9797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D2B16-2968-4282-BCB8-084D09649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7101E-1785-46B5-96CA-B678D329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1D43F-9DA9-4961-975F-F8D538C5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AB7A0-E2CC-4AF4-9268-259621B8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228CD-1279-4822-9F10-86F124DC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6FF02-8ACE-40C8-A34D-FE6F0C716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688F8-D120-4C6A-B1BB-F5CFB5565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E9A82-4183-4F22-9CE5-5F7088CCE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FE9197-F129-45E6-8D7B-78D43F3DE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6134-4D99-4979-B640-984FA5F8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2C04A0-02E9-4BD5-A643-58E419EC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D218FB-0B11-49A0-82A2-8C3A5F672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0C787F-A366-4A4A-B60A-74A833D3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274318-C19A-4428-92FC-48BE5845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7C1789-CC4C-459C-84B1-603A09D3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BFEDB9-684B-46B3-A808-C3545E90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88C288-BD34-4193-886C-14C93E27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E90220-5D77-4398-957D-7CA9717D4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43914C-8CFF-4C56-8FC7-CABDDBD4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287CCF-0D36-4832-9A57-584EF3092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4534-0CF1-458C-8094-664383F2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FED3D6-9ADE-4461-9CFC-00E655959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A5A252-E930-4156-9741-0361AE68C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EB8A52-0CBC-427B-84C9-CD8B24C93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A6E421-3652-41D6-8EA8-38A89C4E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2216FC-430F-4C60-AC0C-B20805094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90318A-C376-4C79-8C16-E72A5B76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4523050-551E-41DD-9320-EC652B5A2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303E40-1072-4DFC-A9DF-6750A6D5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E0691C9-42E1-47D1-86B7-6017CF39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E2B358-A125-4F26-90B6-9E9952FB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FC8B-78BC-4623-A3A1-DB292947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B97C12-FE9D-42F9-9079-CC4F2DFA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E94D36-081A-4681-85CB-5684690DB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1F5727B-0CD0-4BF6-B544-D135E111E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519D42-AB63-488E-945B-F2AAC5AB3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D32AE9-020F-45F6-9623-4276F19D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990618-F317-4B2A-B9E2-E13AEA061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7CA728-66F8-416B-B1FE-AB47F7F7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371312-C613-46A6-B640-099F075B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EA96FD-9DFA-4D6A-843E-6ADC1A14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0A8694-59CA-46D3-A689-16784644D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02AA-5CBB-42F5-86C5-E2926C83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72FAA4-3FE2-4101-A1E8-43C3300CF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D9D05F-9795-487E-8DA2-AF5538C2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41FB8A-6F93-4F1E-88F8-3491C825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DADF010-86B4-446C-A30A-64D582236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3FA34A-A8D0-44B2-B093-AC9113E0C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3254-B8EF-481C-A486-37A87F8E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0FE9-C02A-4C7B-BDF0-37D1FCD8D26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3A18-AF38-48FB-89E4-2760D1CA9B7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2683-914F-4C1A-901B-C2D13A9E1FA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6068-BD86-46D1-8684-224A0176557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BF6F1-F280-46CB-A962-445FBA86128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E45B-226E-4158-AE93-DC87EAA19C5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4FBC-D122-436F-9550-55FF784A5D0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285640" y="2492280"/>
            <a:ext cx="6172200" cy="38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entury Schoolbook"/>
              </a:rPr>
              <a:t>Виды безработицы. Уровень безработицы и занятости. Естественный уровень безработицы и занятости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СКРЫТАЯ</a:t>
            </a:r>
            <a:br>
              <a:rPr sz="2700"/>
            </a:b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БЕЗРАБОТИЦА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23640" y="1196640"/>
            <a:ext cx="41036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езработица, к которой относятся работники, занятые на производстве, но в действительности являющиеся «лишними»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2" name="Picture 2" descr="http://im.kommersant.ru/Issues.photo/DAILY/2012/159/KMO_088122_00027_1_t210.jpg"/>
          <p:cNvPicPr/>
          <p:nvPr/>
        </p:nvPicPr>
        <p:blipFill>
          <a:blip r:embed="rId1"/>
          <a:stretch/>
        </p:blipFill>
        <p:spPr>
          <a:xfrm>
            <a:off x="4427640" y="3429000"/>
            <a:ext cx="4105080" cy="2736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4" descr="http://siol.sdn.si/sn/img/13/033/634954106744448233_rusija_place.jpg"/>
          <p:cNvPicPr/>
          <p:nvPr/>
        </p:nvPicPr>
        <p:blipFill>
          <a:blip r:embed="rId2"/>
          <a:stretch/>
        </p:blipFill>
        <p:spPr>
          <a:xfrm>
            <a:off x="4643280" y="260280"/>
            <a:ext cx="3749760" cy="2664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6" descr="http://owoman.com.ua/wp-content/uploads/2014/12/486c6696a8130f107e387a614fb59241.jpg"/>
          <p:cNvPicPr/>
          <p:nvPr/>
        </p:nvPicPr>
        <p:blipFill>
          <a:blip r:embed="rId3"/>
          <a:stretch/>
        </p:blipFill>
        <p:spPr>
          <a:xfrm>
            <a:off x="1332000" y="3500280"/>
            <a:ext cx="2079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УРОВЕНЬ БЕЗРАБОТИЦЫ И ЗАНЯТОСТ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4797000"/>
            <a:ext cx="785988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Уровень занятости населен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Уровень занятости населения – отношение численности занятого населения определенной возрастной группы к общей численности населения соответствующей возрастной группы, в процентах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7" name="Picture 2" descr="http://5fan.ru/files/6/5fan_ru_31093_3a36ae3726030cbfe535e73c51147847.html_files/rId8.jpg"/>
          <p:cNvPicPr/>
          <p:nvPr/>
        </p:nvPicPr>
        <p:blipFill>
          <a:blip r:embed="rId1"/>
          <a:stretch/>
        </p:blipFill>
        <p:spPr>
          <a:xfrm>
            <a:off x="395280" y="1916280"/>
            <a:ext cx="8074080" cy="108108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http://uz.denemetr.com/tw_files2/urls_8/92/d-91065/7z-docs/1_html_me8906c9.gif"/>
          <p:cNvPicPr/>
          <p:nvPr/>
        </p:nvPicPr>
        <p:blipFill>
          <a:blip r:embed="rId2"/>
          <a:stretch/>
        </p:blipFill>
        <p:spPr>
          <a:xfrm>
            <a:off x="611280" y="3068640"/>
            <a:ext cx="777708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entury Schoolbook"/>
              </a:rPr>
              <a:t>ЕСТЕСТВЕННЫЙ УРОВЕНЬ БЕЗРАБОТИЦЫ И ЗАНЯТОСТИ</a:t>
            </a:r>
            <a:endParaRPr b="0" lang="en-US" sz="2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484280"/>
            <a:ext cx="746748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Естественный уровень безработицы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(natural rate of unemployment – u*) – это такой уровень, при котором обеспечена полная занятость (full-employment) рабочей силы, т.е. наиболее эффективное и рациональное ее использование. Это означает, что все люди, которые хотят работать, работу находят. Естественный уровень безработицы поэтому называют уровнем безработицы при полной занятости (full-employment rate of unemployment), а объем выпуска, соответствующий естественному уровню безработицы, называют естественным объемом выпуска (natural output). Так как полная занятость рабочей силы означает, что в экономике существует только фрикционная и структурная безработица, то естественный уровень безработицы может быть рассчитан как 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сумма уровней фрикционной и структурной безработицы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u</a:t>
            </a:r>
            <a:r>
              <a:rPr b="1" lang="ru-RU" sz="2000" spc="-1" strike="noStrike" baseline="30000">
                <a:solidFill>
                  <a:srgbClr val="000000"/>
                </a:solidFill>
                <a:latin typeface="Century Schoolbook"/>
              </a:rPr>
              <a:t>*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 = u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entury Schoolbook"/>
              </a:rPr>
              <a:t>фрикц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 + u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entury Schoolbook"/>
              </a:rPr>
              <a:t>структ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 = (U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entury Schoolbook"/>
              </a:rPr>
              <a:t>фрикц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 +U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Century Schoolbook"/>
              </a:rPr>
              <a:t>структ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)/L * 100%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entury Schoolbook"/>
              </a:rPr>
              <a:t>БЕЗРАБОТИЦА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6840" y="1196640"/>
            <a:ext cx="785988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это социально-экономическое явление, при котором часть населения трудоспособного возраста не может найти работу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4" name="Picture 5" descr="http://www.tpp.volzhsky.ru/wp-content/uploads/2012/05/yarm.jpg"/>
          <p:cNvPicPr/>
          <p:nvPr/>
        </p:nvPicPr>
        <p:blipFill>
          <a:blip r:embed="rId1"/>
          <a:stretch/>
        </p:blipFill>
        <p:spPr>
          <a:xfrm>
            <a:off x="299880" y="2781360"/>
            <a:ext cx="4127760" cy="309564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7" descr="http://1.citynews-riminitoday.stgy.it/~media/originale/16699865806758/lavoro-cerca-2.jpg"/>
          <p:cNvPicPr/>
          <p:nvPr/>
        </p:nvPicPr>
        <p:blipFill>
          <a:blip r:embed="rId2"/>
          <a:stretch/>
        </p:blipFill>
        <p:spPr>
          <a:xfrm>
            <a:off x="4427640" y="2781360"/>
            <a:ext cx="41274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Овал 4"/>
          <p:cNvSpPr/>
          <p:nvPr/>
        </p:nvSpPr>
        <p:spPr>
          <a:xfrm>
            <a:off x="3132000" y="404640"/>
            <a:ext cx="2880000" cy="100836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Причины безрабо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Скругленный прямоугольник 5"/>
          <p:cNvSpPr/>
          <p:nvPr/>
        </p:nvSpPr>
        <p:spPr>
          <a:xfrm>
            <a:off x="900000" y="1916280"/>
            <a:ext cx="2087640" cy="115236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Высокая заработная пла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Скругленный прямоугольник 6"/>
          <p:cNvSpPr/>
          <p:nvPr/>
        </p:nvSpPr>
        <p:spPr>
          <a:xfrm>
            <a:off x="3564000" y="1916280"/>
            <a:ext cx="2016000" cy="115236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Низкий уровень спро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Скругленный прямоугольник 7"/>
          <p:cNvSpPr/>
          <p:nvPr/>
        </p:nvSpPr>
        <p:spPr>
          <a:xfrm>
            <a:off x="6012000" y="1916280"/>
            <a:ext cx="2016000" cy="115236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Недостаточная гибкость рынка тр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0" name="Прямая со стрелкой 9"/>
          <p:cNvCxnSpPr>
            <a:stCxn id="356" idx="4"/>
            <a:endCxn id="357" idx="0"/>
          </p:cNvCxnSpPr>
          <p:nvPr/>
        </p:nvCxnSpPr>
        <p:spPr>
          <a:xfrm flipH="1">
            <a:off x="1942920" y="1413000"/>
            <a:ext cx="2629440" cy="5040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1" name="Прямая со стрелкой 11"/>
          <p:cNvCxnSpPr>
            <a:stCxn id="356" idx="4"/>
          </p:cNvCxnSpPr>
          <p:nvPr/>
        </p:nvCxnSpPr>
        <p:spPr>
          <a:xfrm>
            <a:off x="4571640" y="1413000"/>
            <a:ext cx="1080" cy="5040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cxnSp>
        <p:nvCxnSpPr>
          <p:cNvPr id="362" name="Прямая со стрелкой 13"/>
          <p:cNvCxnSpPr>
            <a:stCxn id="356" idx="4"/>
            <a:endCxn id="359" idx="0"/>
          </p:cNvCxnSpPr>
          <p:nvPr/>
        </p:nvCxnSpPr>
        <p:spPr>
          <a:xfrm>
            <a:off x="4572000" y="1413000"/>
            <a:ext cx="2448720" cy="504000"/>
          </a:xfrm>
          <a:prstGeom prst="straightConnector1">
            <a:avLst/>
          </a:prstGeom>
          <a:ln w="12600">
            <a:solidFill>
              <a:srgbClr val="ff6903"/>
            </a:solidFill>
            <a:miter/>
            <a:tailEnd len="med" type="arrow" w="med"/>
          </a:ln>
        </p:spPr>
      </p:cxnSp>
      <p:pic>
        <p:nvPicPr>
          <p:cNvPr id="363" name="Picture 2" descr="http://img1.vashgorod.ru/uploads/images/news/t5/f5702.jpg"/>
          <p:cNvPicPr/>
          <p:nvPr/>
        </p:nvPicPr>
        <p:blipFill>
          <a:blip r:embed="rId1"/>
          <a:stretch/>
        </p:blipFill>
        <p:spPr>
          <a:xfrm>
            <a:off x="2916360" y="3933720"/>
            <a:ext cx="3211560" cy="20876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http://econ.bg/pictures/43641-2__377.jpg"/>
          <p:cNvPicPr/>
          <p:nvPr/>
        </p:nvPicPr>
        <p:blipFill>
          <a:blip r:embed="rId2"/>
          <a:stretch/>
        </p:blipFill>
        <p:spPr>
          <a:xfrm>
            <a:off x="179280" y="3357720"/>
            <a:ext cx="2951280" cy="15652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6" descr="http://img.rufox.ru/files/big2/187284.jpg"/>
          <p:cNvPicPr/>
          <p:nvPr/>
        </p:nvPicPr>
        <p:blipFill>
          <a:blip r:embed="rId3"/>
          <a:stretch/>
        </p:blipFill>
        <p:spPr>
          <a:xfrm>
            <a:off x="5940360" y="3645000"/>
            <a:ext cx="273852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Овал 1"/>
          <p:cNvSpPr/>
          <p:nvPr/>
        </p:nvSpPr>
        <p:spPr>
          <a:xfrm>
            <a:off x="3419640" y="2205000"/>
            <a:ext cx="2376360" cy="1295280"/>
          </a:xfrm>
          <a:prstGeom prst="ellipse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Виды безрабо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Скругленный прямоугольник 2"/>
          <p:cNvSpPr/>
          <p:nvPr/>
        </p:nvSpPr>
        <p:spPr>
          <a:xfrm>
            <a:off x="755640" y="2133720"/>
            <a:ext cx="2376360" cy="14396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Фрик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Скругленный прямоугольник 3"/>
          <p:cNvSpPr/>
          <p:nvPr/>
        </p:nvSpPr>
        <p:spPr>
          <a:xfrm>
            <a:off x="1835280" y="260280"/>
            <a:ext cx="2305080" cy="151308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Структу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Скругленный прямоугольник 4"/>
          <p:cNvSpPr/>
          <p:nvPr/>
        </p:nvSpPr>
        <p:spPr>
          <a:xfrm>
            <a:off x="5148360" y="260280"/>
            <a:ext cx="2303280" cy="151308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Цикл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Скругленный прямоугольник 5"/>
          <p:cNvSpPr/>
          <p:nvPr/>
        </p:nvSpPr>
        <p:spPr>
          <a:xfrm>
            <a:off x="1835280" y="4365720"/>
            <a:ext cx="2376360" cy="16556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Скры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Скругленный прямоугольник 6"/>
          <p:cNvSpPr/>
          <p:nvPr/>
        </p:nvSpPr>
        <p:spPr>
          <a:xfrm>
            <a:off x="4859280" y="4437000"/>
            <a:ext cx="2233800" cy="158436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Частич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Скругленный прямоугольник 7"/>
          <p:cNvSpPr/>
          <p:nvPr/>
        </p:nvSpPr>
        <p:spPr>
          <a:xfrm>
            <a:off x="6227640" y="2133720"/>
            <a:ext cx="2305080" cy="14396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Schoolbook"/>
              </a:rPr>
              <a:t>Сез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Прямая соединительная линия 9"/>
          <p:cNvSpPr/>
          <p:nvPr/>
        </p:nvSpPr>
        <p:spPr>
          <a:xfrm flipH="1" flipV="1">
            <a:off x="2987640" y="1773000"/>
            <a:ext cx="1620720" cy="4316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Прямая соединительная линия 11"/>
          <p:cNvSpPr/>
          <p:nvPr/>
        </p:nvSpPr>
        <p:spPr>
          <a:xfrm flipV="1">
            <a:off x="4608360" y="1773000"/>
            <a:ext cx="1692360" cy="4316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ая соединительная линия 13"/>
          <p:cNvSpPr/>
          <p:nvPr/>
        </p:nvSpPr>
        <p:spPr>
          <a:xfrm flipH="1">
            <a:off x="3131640" y="2852640"/>
            <a:ext cx="287640" cy="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ая соединительная линия 15"/>
          <p:cNvSpPr/>
          <p:nvPr/>
        </p:nvSpPr>
        <p:spPr>
          <a:xfrm>
            <a:off x="5796000" y="2852640"/>
            <a:ext cx="431640" cy="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ая соединительная линия 18"/>
          <p:cNvSpPr/>
          <p:nvPr/>
        </p:nvSpPr>
        <p:spPr>
          <a:xfrm flipH="1">
            <a:off x="3024360" y="3500280"/>
            <a:ext cx="1584000" cy="86544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ая соединительная линия 20"/>
          <p:cNvSpPr/>
          <p:nvPr/>
        </p:nvSpPr>
        <p:spPr>
          <a:xfrm>
            <a:off x="4608360" y="3500280"/>
            <a:ext cx="1368720" cy="936720"/>
          </a:xfrm>
          <a:prstGeom prst="line">
            <a:avLst/>
          </a:prstGeom>
          <a:ln w="1260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ФРИКЦИОННАЯ БЕЗРАБОТИЦА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484280"/>
            <a:ext cx="39704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желание людей сменить сферу деятельности или место жительств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пробовать себя в новой должност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олучить более высокую зарплату на другом предприяти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просто отдохнуть от работы некоторое врем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1" name="Picture 2" descr="http://baltijalv.lv/user/opts/fotoanons12530594cb50e6938a8bab76eb1b7572718057181524.jpg"/>
          <p:cNvPicPr/>
          <p:nvPr/>
        </p:nvPicPr>
        <p:blipFill>
          <a:blip r:embed="rId1"/>
          <a:stretch/>
        </p:blipFill>
        <p:spPr>
          <a:xfrm>
            <a:off x="4643280" y="476280"/>
            <a:ext cx="3984840" cy="26607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http://tv.business-tv.com.ua/graphics/news/image/5329.jpeg"/>
          <p:cNvPicPr/>
          <p:nvPr/>
        </p:nvPicPr>
        <p:blipFill>
          <a:blip r:embed="rId2"/>
          <a:stretch/>
        </p:blipFill>
        <p:spPr>
          <a:xfrm>
            <a:off x="3995640" y="3357720"/>
            <a:ext cx="4491000" cy="30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СТРУКТУРНАЯ</a:t>
            </a:r>
            <a:br>
              <a:rPr sz="2700"/>
            </a:b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БЕЗРАБОТИЦА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23640" y="1484280"/>
            <a:ext cx="41036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аучно-технический прогресс и социально-политическое развитие общества увеличивают потребность в одних профессиях и делают менее востребованными другие профессии;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неравномерное развитие отраслей в регионе приводит к изменению структуры вакансий, к которой не может быстро приспособиться структура безработных из-за недостаточной мобильности трудовых ресурсов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5" name="Picture 2" descr="http://srv4.lookmy.info/portal/4nAlbum/album/5161/_userfiles/230_1.jpg"/>
          <p:cNvPicPr/>
          <p:nvPr/>
        </p:nvPicPr>
        <p:blipFill>
          <a:blip r:embed="rId1"/>
          <a:stretch/>
        </p:blipFill>
        <p:spPr>
          <a:xfrm>
            <a:off x="4859280" y="260280"/>
            <a:ext cx="3805200" cy="295272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http://www.topic.lt/Fm_fi/images/picsw/102007/09/federaciya/federaciya_032.jpg"/>
          <p:cNvPicPr/>
          <p:nvPr/>
        </p:nvPicPr>
        <p:blipFill>
          <a:blip r:embed="rId2"/>
          <a:stretch/>
        </p:blipFill>
        <p:spPr>
          <a:xfrm>
            <a:off x="4427640" y="3357720"/>
            <a:ext cx="40320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ЦИКЛИЧЕСКАЯ</a:t>
            </a:r>
            <a:br>
              <a:rPr sz="2700"/>
            </a:b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БЕЗРАБОТИЦА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23640" y="1483920"/>
            <a:ext cx="41036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Вызвана экономическим спадом и связанным с ним сокращением спроса на труд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9" name="Picture 2" descr="http://www.companion.ua/data/filestorage/news/2013/06/bezrabot450-267_jpg_450x270_crop_q70.jpg"/>
          <p:cNvPicPr/>
          <p:nvPr/>
        </p:nvPicPr>
        <p:blipFill>
          <a:blip r:embed="rId1"/>
          <a:stretch/>
        </p:blipFill>
        <p:spPr>
          <a:xfrm>
            <a:off x="4500720" y="404640"/>
            <a:ext cx="4087800" cy="273708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4" descr="http://www.nsbural.ru/Storage/Image/Document/Article/src/12417/b5.jpg"/>
          <p:cNvPicPr/>
          <p:nvPr/>
        </p:nvPicPr>
        <p:blipFill>
          <a:blip r:embed="rId2"/>
          <a:stretch/>
        </p:blipFill>
        <p:spPr>
          <a:xfrm>
            <a:off x="826920" y="3357720"/>
            <a:ext cx="3143520" cy="236196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http://rabota5.ru/photo/zarabotat-na-vvode-4400.jpg"/>
          <p:cNvPicPr/>
          <p:nvPr/>
        </p:nvPicPr>
        <p:blipFill>
          <a:blip r:embed="rId3"/>
          <a:stretch/>
        </p:blipFill>
        <p:spPr>
          <a:xfrm>
            <a:off x="4356000" y="3429000"/>
            <a:ext cx="386424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СЕЗОННАЯ</a:t>
            </a:r>
            <a:br>
              <a:rPr sz="2700"/>
            </a:b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БЕЗРАБОТИЦА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23640" y="1483920"/>
            <a:ext cx="4103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Порождается временным характером выполнения тех или иных видов деятельности и функционирования отраслей хозяйства: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сельскохозяйственные работы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рыболовство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сбор ягод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сплав леса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охота;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Schoolbook"/>
              </a:rPr>
              <a:t>строительство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4" name="Picture 2" descr="http://s3.uploads.ru/2wZJ7.jpg"/>
          <p:cNvPicPr/>
          <p:nvPr/>
        </p:nvPicPr>
        <p:blipFill>
          <a:blip r:embed="rId1"/>
          <a:stretch/>
        </p:blipFill>
        <p:spPr>
          <a:xfrm>
            <a:off x="4067280" y="3284640"/>
            <a:ext cx="4105080" cy="30780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4" descr="http://www.newsspain.ru/kartinki/food_08.jpg"/>
          <p:cNvPicPr/>
          <p:nvPr/>
        </p:nvPicPr>
        <p:blipFill>
          <a:blip r:embed="rId2"/>
          <a:stretch/>
        </p:blipFill>
        <p:spPr>
          <a:xfrm>
            <a:off x="4500720" y="333360"/>
            <a:ext cx="3809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898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ЧАСТИЧНАЯ</a:t>
            </a:r>
            <a:br>
              <a:rPr sz="2700"/>
            </a:br>
            <a:r>
              <a:rPr b="0" lang="ru-RU" sz="2700" spc="-1" strike="noStrike">
                <a:solidFill>
                  <a:srgbClr val="ff0000"/>
                </a:solidFill>
                <a:latin typeface="Century Schoolbook"/>
              </a:rPr>
              <a:t>БЕЗРАБОТИЦА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23640" y="1484280"/>
            <a:ext cx="41036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безработица, которая возникает в результате снижения спроса на продукцию предприятия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56320" indent="-256320">
              <a:spcBef>
                <a:spcPts val="601"/>
              </a:spcBef>
              <a:buClr>
                <a:srgbClr val="fe8637"/>
              </a:buClr>
              <a:buSzPct val="7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8" name="Picture 4" descr="http://normapereira.com.br/wp-content/uploads/2013/11/falencia.jpg"/>
          <p:cNvPicPr/>
          <p:nvPr/>
        </p:nvPicPr>
        <p:blipFill>
          <a:blip r:embed="rId1"/>
          <a:stretch/>
        </p:blipFill>
        <p:spPr>
          <a:xfrm>
            <a:off x="4500720" y="981000"/>
            <a:ext cx="4221000" cy="482436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6" descr="http://novostey.com/i4/2010/01/15/c4ab4864bad88f61dc64d18c57701f39.nc4ab4864bad88f61dc64d18c57701f39.jpg"/>
          <p:cNvPicPr/>
          <p:nvPr/>
        </p:nvPicPr>
        <p:blipFill>
          <a:blip r:embed="rId2"/>
          <a:stretch/>
        </p:blipFill>
        <p:spPr>
          <a:xfrm>
            <a:off x="684360" y="3500280"/>
            <a:ext cx="30477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2T11:28:01Z</dcterms:created>
  <dc:creator>ppsworld.ru</dc:creator>
  <dc:description/>
  <dc:language>en-US</dc:language>
  <cp:lastModifiedBy>User</cp:lastModifiedBy>
  <dcterms:modified xsi:type="dcterms:W3CDTF">2018-08-09T15:19:02Z</dcterms:modified>
  <cp:revision>19</cp:revision>
  <dc:subject/>
  <dc:title>Слайд 1</dc:title>
</cp:coreProperties>
</file>