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F1B8-584F-4B79-A063-656EC94E0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1D2F-9941-4786-94AD-7D0AC4545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074D-20C2-4B47-AC7E-D41B2616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A273-C6E6-459E-B425-DBB6800CF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0408-869E-42F9-9142-16FD062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F7B-84F8-4C7D-946E-649307DA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50CE-9B9C-4DCA-9EFC-EE3FDBDD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4F5D-C016-4C24-9539-EBEFECC8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41F6-C31F-48EF-B4F9-5A7172E53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5B84-0E9C-459F-BEC9-72E3DC1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44B0-0E78-40D0-A548-2E2353F9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2A47-BE33-4218-A0B9-F75D3A11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810E6-D0F2-486D-9D7B-0AEFB82AD5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2.bp.blogspot.com/-HQ7WtzVuuIQ/T82copGeV_I/AAAAAAAABho/6BQCIBLkI3A/s1600/jeop_wp1_1600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“The”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</a:t>
            </a: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no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14760" y="1500120"/>
          <a:ext cx="3500280" cy="5356440"/>
        </p:xfrm>
        <a:graphic>
          <a:graphicData uri="http://schemas.openxmlformats.org/drawingml/2006/table">
            <a:tbl>
              <a:tblPr/>
              <a:tblGrid>
                <a:gridCol w="350028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de-DE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Kingdom of 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falgar Squ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 Niagara F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Bai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…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P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3" name="TextBox 6"/>
          <p:cNvSpPr/>
          <p:nvPr/>
        </p:nvSpPr>
        <p:spPr>
          <a:xfrm>
            <a:off x="857160" y="342900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847920" y="342900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rt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9"/>
          <p:cNvCxnSpPr/>
          <p:nvPr/>
        </p:nvCxnSpPr>
        <p:spPr>
          <a:xfrm flipV="1">
            <a:off x="1927800" y="2142360"/>
            <a:ext cx="5720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>
            <a:off x="2000160" y="4500360"/>
            <a:ext cx="57240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/>
          <p:nvPr/>
        </p:nvCxnSpPr>
        <p:spPr>
          <a:xfrm flipH="1">
            <a:off x="6428520" y="4285800"/>
            <a:ext cx="4294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15"/>
          <p:cNvCxnSpPr/>
          <p:nvPr/>
        </p:nvCxnSpPr>
        <p:spPr>
          <a:xfrm flipH="1">
            <a:off x="6286320" y="4071600"/>
            <a:ext cx="429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7"/>
          <p:cNvCxnSpPr>
            <a:stCxn id="84" idx="1"/>
          </p:cNvCxnSpPr>
          <p:nvPr/>
        </p:nvCxnSpPr>
        <p:spPr>
          <a:xfrm flipH="1">
            <a:off x="6286320" y="3781800"/>
            <a:ext cx="5227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9"/>
          <p:cNvCxnSpPr/>
          <p:nvPr/>
        </p:nvCxnSpPr>
        <p:spPr>
          <a:xfrm flipH="1" flipV="1">
            <a:off x="6285960" y="2856960"/>
            <a:ext cx="500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Управляющая кнопка: домой 12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sentences with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Reflexive Pronou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hould do the 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sure I can do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computer turn             o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, you must do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the mirror? We’d like to look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, be careful! Don’t 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435640" y="164304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006960" y="2214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862880" y="27860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6723000" y="335772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793440" y="4500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5935680" y="50720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омой 9"/>
          <p:cNvSpPr/>
          <p:nvPr/>
        </p:nvSpPr>
        <p:spPr>
          <a:xfrm>
            <a:off x="8459640" y="6021360"/>
            <a:ext cx="540000" cy="6094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09480"/>
              <a:gd name="textAreaBottom" fmla="*/ 574560 h 609480"/>
            </a:gdLst>
            <a:ahLst/>
            <a:rect l="textAreaLeft" t="textAreaTop" r="textAreaRight" b="textAreaBottom"/>
            <a:pathLst>
              <a:path w="21600" h="24377">
                <a:moveTo>
                  <a:pt x="0" y="0"/>
                </a:moveTo>
                <a:lnTo>
                  <a:pt x="21600" y="0"/>
                </a:lnTo>
                <a:lnTo>
                  <a:pt x="21600" y="24377"/>
                </a:lnTo>
                <a:lnTo>
                  <a:pt x="0" y="24377"/>
                </a:lnTo>
                <a:close/>
              </a:path>
              <a:path fill="lightenLess" w="21600" h="243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77">
                <a:moveTo>
                  <a:pt x="21600" y="0"/>
                </a:moveTo>
                <a:lnTo>
                  <a:pt x="21600" y="24377"/>
                </a:lnTo>
                <a:lnTo>
                  <a:pt x="20200" y="22977"/>
                </a:lnTo>
                <a:lnTo>
                  <a:pt x="20200" y="1400"/>
                </a:lnTo>
                <a:close/>
              </a:path>
              <a:path fill="darkenLess" w="21600" h="24377">
                <a:moveTo>
                  <a:pt x="21600" y="24377"/>
                </a:moveTo>
                <a:lnTo>
                  <a:pt x="0" y="24377"/>
                </a:lnTo>
                <a:lnTo>
                  <a:pt x="1400" y="22977"/>
                </a:lnTo>
                <a:lnTo>
                  <a:pt x="20200" y="22977"/>
                </a:lnTo>
                <a:close/>
              </a:path>
              <a:path fill="lighten" w="21600" h="24377">
                <a:moveTo>
                  <a:pt x="0" y="243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77"/>
                </a:lnTo>
                <a:close/>
              </a:path>
              <a:path fill="darken" w="21600" h="24377">
                <a:moveTo>
                  <a:pt x="10800" y="5226"/>
                </a:moveTo>
                <a:lnTo>
                  <a:pt x="13376" y="7837"/>
                </a:lnTo>
                <a:lnTo>
                  <a:pt x="13376" y="6096"/>
                </a:lnTo>
                <a:lnTo>
                  <a:pt x="15152" y="6096"/>
                </a:lnTo>
                <a:lnTo>
                  <a:pt x="15152" y="9612"/>
                </a:lnTo>
                <a:lnTo>
                  <a:pt x="17763" y="12189"/>
                </a:lnTo>
                <a:lnTo>
                  <a:pt x="16109" y="12189"/>
                </a:lnTo>
                <a:lnTo>
                  <a:pt x="16109" y="19378"/>
                </a:lnTo>
                <a:lnTo>
                  <a:pt x="5491" y="19378"/>
                </a:lnTo>
                <a:lnTo>
                  <a:pt x="5491" y="12189"/>
                </a:lnTo>
                <a:lnTo>
                  <a:pt x="3837" y="12189"/>
                </a:lnTo>
                <a:close/>
              </a:path>
              <a:path fill="darkenLess" w="21600" h="24377">
                <a:moveTo>
                  <a:pt x="13376" y="7837"/>
                </a:moveTo>
                <a:lnTo>
                  <a:pt x="13376" y="6096"/>
                </a:lnTo>
                <a:lnTo>
                  <a:pt x="15152" y="6096"/>
                </a:lnTo>
                <a:lnTo>
                  <a:pt x="15152" y="9612"/>
                </a:lnTo>
                <a:close/>
              </a:path>
              <a:path fill="darkenLess" w="21600" h="24377">
                <a:moveTo>
                  <a:pt x="9877" y="15688"/>
                </a:moveTo>
                <a:lnTo>
                  <a:pt x="11723" y="15688"/>
                </a:lnTo>
                <a:lnTo>
                  <a:pt x="11723" y="19378"/>
                </a:lnTo>
                <a:lnTo>
                  <a:pt x="16109" y="19378"/>
                </a:lnTo>
                <a:lnTo>
                  <a:pt x="16109" y="12189"/>
                </a:lnTo>
                <a:lnTo>
                  <a:pt x="5491" y="12189"/>
                </a:lnTo>
                <a:lnTo>
                  <a:pt x="5491" y="19378"/>
                </a:lnTo>
                <a:lnTo>
                  <a:pt x="9877" y="193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st your understanding of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degrees of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4997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his book i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), but that book is (g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is classroom is (large) classroom in m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 My sister speaks English (bad) than I d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his film is (interesting) than previous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857160" y="207180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book is good, but that book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0" y="3286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classroom is the largest classroom in my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883080" y="43578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sister speaks English worse than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884160" y="5715000"/>
            <a:ext cx="78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film is more interesting than previou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омой 8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3837"/>
                </a:moveTo>
                <a:lnTo>
                  <a:pt x="14484" y="6448"/>
                </a:ln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lnTo>
                  <a:pt x="18871" y="10800"/>
                </a:lnTo>
                <a:lnTo>
                  <a:pt x="17217" y="10800"/>
                </a:lnTo>
                <a:lnTo>
                  <a:pt x="17217" y="17989"/>
                </a:lnTo>
                <a:lnTo>
                  <a:pt x="6599" y="17989"/>
                </a:lnTo>
                <a:lnTo>
                  <a:pt x="6599" y="10800"/>
                </a:lnTo>
                <a:lnTo>
                  <a:pt x="4945" y="10800"/>
                </a:lnTo>
                <a:close/>
              </a:path>
              <a:path fill="darkenLess" w="23816" h="21600">
                <a:moveTo>
                  <a:pt x="14484" y="6448"/>
                </a:move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close/>
              </a:path>
              <a:path fill="darkenLess" w="23816" h="21600">
                <a:moveTo>
                  <a:pt x="10986" y="14299"/>
                </a:moveTo>
                <a:lnTo>
                  <a:pt x="12831" y="14299"/>
                </a:lnTo>
                <a:lnTo>
                  <a:pt x="12831" y="17989"/>
                </a:lnTo>
                <a:lnTo>
                  <a:pt x="17217" y="17989"/>
                </a:lnTo>
                <a:lnTo>
                  <a:pt x="17217" y="10800"/>
                </a:lnTo>
                <a:lnTo>
                  <a:pt x="6599" y="10800"/>
                </a:lnTo>
                <a:lnTo>
                  <a:pt x="6599" y="17989"/>
                </a:lnTo>
                <a:lnTo>
                  <a:pt x="10986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ranslate from Russian into Engl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560" y="1143000"/>
            <a:ext cx="8715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заморозишь воду, она станет льд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гощайтесь и чувствуйте себя как до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 была очень неустойчивой и мы решили никуда не ход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ера она переборола свой страх и не расплакала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952200" y="1714680"/>
            <a:ext cx="525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you freeze water, it turns to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22960" y="2714760"/>
            <a:ext cx="64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p yourself and make yourself at h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214200" y="4143240"/>
            <a:ext cx="892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weather was very changeable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we decided to go no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0" y="5842080"/>
            <a:ext cx="885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terday she conquered her fear and didn’t burst into t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домой 7"/>
          <p:cNvSpPr/>
          <p:nvPr/>
        </p:nvSpPr>
        <p:spPr>
          <a:xfrm>
            <a:off x="8459640" y="6093000"/>
            <a:ext cx="540000" cy="53784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http://olmcc.com/wp-content/uploads/2014/02/Congratulations.png"/>
          <p:cNvPicPr/>
          <p:nvPr/>
        </p:nvPicPr>
        <p:blipFill>
          <a:blip r:embed="rId1"/>
          <a:stretch/>
        </p:blipFill>
        <p:spPr>
          <a:xfrm>
            <a:off x="285840" y="0"/>
            <a:ext cx="8447040" cy="306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img.xcitefun.net/users/2012/07/300301,xcitefun-well-done.jpg"/>
          <p:cNvPicPr/>
          <p:nvPr/>
        </p:nvPicPr>
        <p:blipFill>
          <a:blip r:embed="rId2"/>
          <a:stretch/>
        </p:blipFill>
        <p:spPr>
          <a:xfrm>
            <a:off x="2571840" y="3000240"/>
            <a:ext cx="3857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.ntv.ru/home/employee/kukeshev_480x3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Cooper Black"/>
              </a:rPr>
              <a:t>The Rule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have three categories of grammar exercises: Tenses, Articles and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xercise costs 100, 200 or 300 p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choose any exercise your team w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that will have more points than two  other teams, will have excellent ma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me team doesn’t know an answer or makes a mistake, two other teams can help and have 20 points for a correc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s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sentences using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Present Simple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e Past Si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nny / teach me / when I was sev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 / use the computer / every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/ do exercises / two days ag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She / go to the shopping / every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378080" y="207180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anny taught me when I was sev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590480" y="321480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 uses the computer every da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589040" y="4214880"/>
            <a:ext cx="48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id exercises two day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293840" y="550080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e goes to the shopping every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домой 7"/>
          <p:cNvSpPr/>
          <p:nvPr/>
        </p:nvSpPr>
        <p:spPr>
          <a:xfrm>
            <a:off x="8388360" y="6093000"/>
            <a:ext cx="611280" cy="53784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4547" h="21600">
                <a:moveTo>
                  <a:pt x="0" y="0"/>
                </a:moveTo>
                <a:lnTo>
                  <a:pt x="24547" y="0"/>
                </a:lnTo>
                <a:lnTo>
                  <a:pt x="24547" y="21600"/>
                </a:lnTo>
                <a:lnTo>
                  <a:pt x="0" y="21600"/>
                </a:lnTo>
                <a:close/>
              </a:path>
              <a:path fill="lightenLess" w="24547" h="21600">
                <a:moveTo>
                  <a:pt x="0" y="0"/>
                </a:moveTo>
                <a:lnTo>
                  <a:pt x="24547" y="0"/>
                </a:lnTo>
                <a:lnTo>
                  <a:pt x="23147" y="1400"/>
                </a:lnTo>
                <a:lnTo>
                  <a:pt x="1400" y="1400"/>
                </a:lnTo>
                <a:close/>
              </a:path>
              <a:path fill="darken" w="24547" h="21600">
                <a:moveTo>
                  <a:pt x="24547" y="0"/>
                </a:moveTo>
                <a:lnTo>
                  <a:pt x="24547" y="21600"/>
                </a:lnTo>
                <a:lnTo>
                  <a:pt x="23147" y="20200"/>
                </a:lnTo>
                <a:lnTo>
                  <a:pt x="23147" y="1400"/>
                </a:lnTo>
                <a:close/>
              </a:path>
              <a:path fill="darkenLess" w="24547" h="21600">
                <a:moveTo>
                  <a:pt x="24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7" y="20200"/>
                </a:lnTo>
                <a:close/>
              </a:path>
              <a:path fill="lighten" w="24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7" h="21600">
                <a:moveTo>
                  <a:pt x="12274" y="3837"/>
                </a:moveTo>
                <a:lnTo>
                  <a:pt x="14850" y="6448"/>
                </a:lnTo>
                <a:lnTo>
                  <a:pt x="14850" y="4707"/>
                </a:lnTo>
                <a:lnTo>
                  <a:pt x="16626" y="4707"/>
                </a:lnTo>
                <a:lnTo>
                  <a:pt x="16626" y="8224"/>
                </a:lnTo>
                <a:lnTo>
                  <a:pt x="19237" y="10800"/>
                </a:lnTo>
                <a:lnTo>
                  <a:pt x="17583" y="10800"/>
                </a:lnTo>
                <a:lnTo>
                  <a:pt x="17583" y="17989"/>
                </a:lnTo>
                <a:lnTo>
                  <a:pt x="6964" y="17989"/>
                </a:lnTo>
                <a:lnTo>
                  <a:pt x="6964" y="10800"/>
                </a:lnTo>
                <a:lnTo>
                  <a:pt x="5311" y="10800"/>
                </a:lnTo>
                <a:close/>
              </a:path>
              <a:path fill="darkenLess" w="24547" h="21600">
                <a:moveTo>
                  <a:pt x="14850" y="6448"/>
                </a:moveTo>
                <a:lnTo>
                  <a:pt x="14850" y="4707"/>
                </a:lnTo>
                <a:lnTo>
                  <a:pt x="16626" y="4707"/>
                </a:lnTo>
                <a:lnTo>
                  <a:pt x="16626" y="8224"/>
                </a:lnTo>
                <a:close/>
              </a:path>
              <a:path fill="darkenLess" w="24547" h="21600">
                <a:moveTo>
                  <a:pt x="11351" y="14299"/>
                </a:moveTo>
                <a:lnTo>
                  <a:pt x="13196" y="14299"/>
                </a:lnTo>
                <a:lnTo>
                  <a:pt x="13196" y="17989"/>
                </a:lnTo>
                <a:lnTo>
                  <a:pt x="17583" y="17989"/>
                </a:lnTo>
                <a:lnTo>
                  <a:pt x="17583" y="10800"/>
                </a:lnTo>
                <a:lnTo>
                  <a:pt x="6964" y="10800"/>
                </a:lnTo>
                <a:lnTo>
                  <a:pt x="6964" y="17989"/>
                </a:lnTo>
                <a:lnTo>
                  <a:pt x="1135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Complete the sentences using the 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Present Simple, the Present Continuous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Future Simp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You (to play) chess tomorr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at he (to read)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here you (to go) every morn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Look! Mary (to d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Управляющая кнопка: домой 3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198080" y="220500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you play ches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347480" y="3284640"/>
            <a:ext cx="42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he is reading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1276560" y="4437000"/>
            <a:ext cx="56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 do you go every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1417680" y="5661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! Mary is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rrect each sent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have you done your home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ittle Tom doesn’t never swim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t rains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We is already learning a lot of English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304280" y="2214720"/>
            <a:ext cx="59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did you do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359000" y="335772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ttle Tom has never swum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510560" y="450072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raining n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724680" y="571500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have already learnt a lot of English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омой 7"/>
          <p:cNvSpPr/>
          <p:nvPr/>
        </p:nvSpPr>
        <p:spPr>
          <a:xfrm>
            <a:off x="8388360" y="6165720"/>
            <a:ext cx="611280" cy="465120"/>
          </a:xfrm>
          <a:custGeom>
            <a:avLst/>
            <a:gdLst>
              <a:gd name="textAreaLeft" fmla="*/ 29880 w 611280"/>
              <a:gd name="textAreaRight" fmla="*/ 581400 w 611280"/>
              <a:gd name="textAreaTop" fmla="*/ 29880 h 465120"/>
              <a:gd name="textAreaBottom" fmla="*/ 435240 h 465120"/>
            </a:gdLst>
            <a:ahLst/>
            <a:rect l="textAreaLeft" t="textAreaTop" r="textAreaRight" b="textAreaBottom"/>
            <a:pathLst>
              <a:path w="28382" h="21600">
                <a:moveTo>
                  <a:pt x="0" y="0"/>
                </a:moveTo>
                <a:lnTo>
                  <a:pt x="28382" y="0"/>
                </a:lnTo>
                <a:lnTo>
                  <a:pt x="28382" y="21600"/>
                </a:lnTo>
                <a:lnTo>
                  <a:pt x="0" y="21600"/>
                </a:lnTo>
                <a:close/>
              </a:path>
              <a:path fill="lightenLess" w="28382" h="21600">
                <a:moveTo>
                  <a:pt x="0" y="0"/>
                </a:moveTo>
                <a:lnTo>
                  <a:pt x="28382" y="0"/>
                </a:lnTo>
                <a:lnTo>
                  <a:pt x="26982" y="1400"/>
                </a:lnTo>
                <a:lnTo>
                  <a:pt x="1400" y="1400"/>
                </a:lnTo>
                <a:close/>
              </a:path>
              <a:path fill="darken" w="28382" h="21600">
                <a:moveTo>
                  <a:pt x="28382" y="0"/>
                </a:moveTo>
                <a:lnTo>
                  <a:pt x="28382" y="21600"/>
                </a:lnTo>
                <a:lnTo>
                  <a:pt x="26982" y="20200"/>
                </a:lnTo>
                <a:lnTo>
                  <a:pt x="26982" y="1400"/>
                </a:lnTo>
                <a:close/>
              </a:path>
              <a:path fill="darkenLess" w="28382" h="21600">
                <a:moveTo>
                  <a:pt x="28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82" y="20200"/>
                </a:lnTo>
                <a:close/>
              </a:path>
              <a:path fill="lighten" w="28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82" h="21600">
                <a:moveTo>
                  <a:pt x="14191" y="3837"/>
                </a:moveTo>
                <a:lnTo>
                  <a:pt x="16767" y="6448"/>
                </a:lnTo>
                <a:lnTo>
                  <a:pt x="16767" y="4707"/>
                </a:lnTo>
                <a:lnTo>
                  <a:pt x="18543" y="4707"/>
                </a:lnTo>
                <a:lnTo>
                  <a:pt x="18543" y="8224"/>
                </a:lnTo>
                <a:lnTo>
                  <a:pt x="21154" y="10800"/>
                </a:lnTo>
                <a:lnTo>
                  <a:pt x="19500" y="10800"/>
                </a:lnTo>
                <a:lnTo>
                  <a:pt x="19500" y="17989"/>
                </a:lnTo>
                <a:lnTo>
                  <a:pt x="8882" y="17989"/>
                </a:lnTo>
                <a:lnTo>
                  <a:pt x="8882" y="10800"/>
                </a:lnTo>
                <a:lnTo>
                  <a:pt x="7228" y="10800"/>
                </a:lnTo>
                <a:close/>
              </a:path>
              <a:path fill="darkenLess" w="28382" h="21600">
                <a:moveTo>
                  <a:pt x="16767" y="6448"/>
                </a:moveTo>
                <a:lnTo>
                  <a:pt x="16767" y="4707"/>
                </a:lnTo>
                <a:lnTo>
                  <a:pt x="18543" y="4707"/>
                </a:lnTo>
                <a:lnTo>
                  <a:pt x="18543" y="8224"/>
                </a:lnTo>
                <a:close/>
              </a:path>
              <a:path fill="darkenLess" w="28382" h="21600">
                <a:moveTo>
                  <a:pt x="13269" y="14299"/>
                </a:moveTo>
                <a:lnTo>
                  <a:pt x="15114" y="14299"/>
                </a:lnTo>
                <a:lnTo>
                  <a:pt x="15114" y="17989"/>
                </a:lnTo>
                <a:lnTo>
                  <a:pt x="19500" y="17989"/>
                </a:lnTo>
                <a:lnTo>
                  <a:pt x="19500" y="10800"/>
                </a:lnTo>
                <a:lnTo>
                  <a:pt x="8882" y="10800"/>
                </a:lnTo>
                <a:lnTo>
                  <a:pt x="8882" y="17989"/>
                </a:lnTo>
                <a:lnTo>
                  <a:pt x="1326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www.larissatravel.ee/images/stories/bustours/vesna.jpg"/>
          <p:cNvPicPr/>
          <p:nvPr/>
        </p:nvPicPr>
        <p:blipFill>
          <a:blip r:embed="rId1"/>
          <a:stretch/>
        </p:blipFill>
        <p:spPr>
          <a:xfrm>
            <a:off x="1785960" y="3849840"/>
            <a:ext cx="5000760" cy="3008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rossita-travel.com/shared/files/201111/264_7513.jpg"/>
          <p:cNvPicPr/>
          <p:nvPr/>
        </p:nvPicPr>
        <p:blipFill>
          <a:blip r:embed="rId2"/>
          <a:stretch/>
        </p:blipFill>
        <p:spPr>
          <a:xfrm>
            <a:off x="4272120" y="0"/>
            <a:ext cx="487188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dekatop.com/wp-content/uploads/2013/05/desert_01.jpg"/>
          <p:cNvPicPr/>
          <p:nvPr/>
        </p:nvPicPr>
        <p:blipFill>
          <a:blip r:embed="rId3"/>
          <a:stretch/>
        </p:blipFill>
        <p:spPr>
          <a:xfrm>
            <a:off x="0" y="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142920" y="32860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239720" y="328608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ed States (the U.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7151400" y="4643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омой 10"/>
          <p:cNvSpPr/>
          <p:nvPr/>
        </p:nvSpPr>
        <p:spPr>
          <a:xfrm>
            <a:off x="8459640" y="6093000"/>
            <a:ext cx="540000" cy="53784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following sentences with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“The”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no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……South Pole is situated on the continent of Antarctic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…….Amazon is the second longest river in the worl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…..Kilimanjaro is the tallest mountain in Afric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…… Pacific Ocean is the largest ocean on the Eart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50012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60760" y="24289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860760" y="3500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омой 7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5:26:16Z</dcterms:created>
  <dc:creator>Анна Слептерёва</dc:creator>
  <dc:description/>
  <dc:language>en-US</dc:language>
  <cp:lastModifiedBy>Аня</cp:lastModifiedBy>
  <dcterms:modified xsi:type="dcterms:W3CDTF">2014-03-10T14:32:17Z</dcterms:modified>
  <cp:revision>39</cp:revision>
  <dc:subject/>
  <dc:title>Слайд 1</dc:title>
</cp:coreProperties>
</file>