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CB1D-154B-4385-8CBF-0F7D1D87A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D86-9A15-4254-9E41-7BB32FD9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902F-13F5-40DA-B4B6-1D49C4FCF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4A1E-9A26-4F92-A769-09BDA7B10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EE45-AE0F-4BBF-805C-D5E98804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B178-6A4D-4C67-943F-FF121371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A635-5C57-49E6-9BAD-08E3BBBC7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72B8-E320-4684-BF2E-0FDB8053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A639-D84F-4E06-ABFA-CDF40D40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F83B-E030-4FD7-81A1-440E68BB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2F0A-BBB8-4E39-A9CF-B9297B9A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300C-4EF4-44BC-9202-4BFAA7B40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3352-14A4-4712-A114-A880019003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2.bp.blogspot.com/-HQ7WtzVuuIQ/T82copGeV_I/AAAAAAAABho/6BQCIBLkI3A/s1600/jeop_wp1_1600.jpg"/>
          <p:cNvPicPr/>
          <p:nvPr/>
        </p:nvPicPr>
        <p:blipFill>
          <a:blip r:embed="rId1"/>
          <a:stretch/>
        </p:blipFill>
        <p:spPr>
          <a:xfrm>
            <a:off x="-2376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25804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Use </a:t>
            </a: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“The” </a:t>
            </a:r>
            <a:r>
              <a:rPr b="1" i="1" lang="en-US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</a:t>
            </a:r>
            <a:r>
              <a:rPr b="1" i="1" lang="en-US" sz="4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no artic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714760" y="1500120"/>
          <a:ext cx="3500280" cy="5356440"/>
        </p:xfrm>
        <a:graphic>
          <a:graphicData uri="http://schemas.openxmlformats.org/drawingml/2006/table">
            <a:tbl>
              <a:tblPr/>
              <a:tblGrid>
                <a:gridCol w="3500280"/>
              </a:tblGrid>
              <a:tr h="93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de-DE" sz="2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Kingdom of S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falgar Squa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.. Niagara Fa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ke Bai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…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in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 </a:t>
                      </a:r>
                      <a:r>
                        <a:rPr b="1" lang="de-DE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th P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83" name="TextBox 6"/>
          <p:cNvSpPr/>
          <p:nvPr/>
        </p:nvSpPr>
        <p:spPr>
          <a:xfrm>
            <a:off x="857160" y="3429000"/>
            <a:ext cx="135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6847920" y="3429000"/>
            <a:ext cx="225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rtic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Прямая со стрелкой 9"/>
          <p:cNvCxnSpPr/>
          <p:nvPr/>
        </p:nvCxnSpPr>
        <p:spPr>
          <a:xfrm flipV="1">
            <a:off x="1927800" y="2142360"/>
            <a:ext cx="57204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Прямая со стрелкой 11"/>
          <p:cNvCxnSpPr/>
          <p:nvPr/>
        </p:nvCxnSpPr>
        <p:spPr>
          <a:xfrm>
            <a:off x="2000160" y="4500360"/>
            <a:ext cx="572400" cy="178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7" name="Прямая со стрелкой 13"/>
          <p:cNvCxnSpPr/>
          <p:nvPr/>
        </p:nvCxnSpPr>
        <p:spPr>
          <a:xfrm flipH="1">
            <a:off x="6428520" y="4285800"/>
            <a:ext cx="429480" cy="1143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8" name="Прямая со стрелкой 15"/>
          <p:cNvCxnSpPr/>
          <p:nvPr/>
        </p:nvCxnSpPr>
        <p:spPr>
          <a:xfrm flipH="1">
            <a:off x="6286320" y="4071600"/>
            <a:ext cx="429120" cy="50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Прямая со стрелкой 17"/>
          <p:cNvCxnSpPr>
            <a:stCxn id="84" idx="1"/>
          </p:cNvCxnSpPr>
          <p:nvPr/>
        </p:nvCxnSpPr>
        <p:spPr>
          <a:xfrm flipH="1">
            <a:off x="6286320" y="3781800"/>
            <a:ext cx="52272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0" name="Прямая со стрелкой 19"/>
          <p:cNvCxnSpPr/>
          <p:nvPr/>
        </p:nvCxnSpPr>
        <p:spPr>
          <a:xfrm flipH="1" flipV="1">
            <a:off x="6285960" y="2856960"/>
            <a:ext cx="500760" cy="643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1" name="Управляющая кнопка: домой 12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sentences with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Reflexive Pronou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 should do the exercis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am sure I can do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ll the computer turn             off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ildren, you must do ever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re is the mirror? We’d like to look 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id, be careful! Don’t 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3"/>
          <p:cNvSpPr/>
          <p:nvPr/>
        </p:nvSpPr>
        <p:spPr>
          <a:xfrm>
            <a:off x="5435640" y="1643040"/>
            <a:ext cx="14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im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4"/>
          <p:cNvSpPr/>
          <p:nvPr/>
        </p:nvSpPr>
        <p:spPr>
          <a:xfrm>
            <a:off x="6006960" y="221472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5"/>
          <p:cNvSpPr/>
          <p:nvPr/>
        </p:nvSpPr>
        <p:spPr>
          <a:xfrm>
            <a:off x="4862880" y="278604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6"/>
          <p:cNvSpPr/>
          <p:nvPr/>
        </p:nvSpPr>
        <p:spPr>
          <a:xfrm>
            <a:off x="6723000" y="3357720"/>
            <a:ext cx="19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7"/>
          <p:cNvSpPr/>
          <p:nvPr/>
        </p:nvSpPr>
        <p:spPr>
          <a:xfrm>
            <a:off x="793440" y="4500720"/>
            <a:ext cx="172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ursel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8"/>
          <p:cNvSpPr/>
          <p:nvPr/>
        </p:nvSpPr>
        <p:spPr>
          <a:xfrm>
            <a:off x="5935680" y="5072040"/>
            <a:ext cx="16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rsel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Управляющая кнопка: домой 9"/>
          <p:cNvSpPr/>
          <p:nvPr/>
        </p:nvSpPr>
        <p:spPr>
          <a:xfrm>
            <a:off x="8459640" y="6021360"/>
            <a:ext cx="540000" cy="60948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609480"/>
              <a:gd name="textAreaBottom" fmla="*/ 574560 h 609480"/>
            </a:gdLst>
            <a:ahLst/>
            <a:rect l="textAreaLeft" t="textAreaTop" r="textAreaRight" b="textAreaBottom"/>
            <a:pathLst>
              <a:path w="21600" h="24377">
                <a:moveTo>
                  <a:pt x="0" y="0"/>
                </a:moveTo>
                <a:lnTo>
                  <a:pt x="21600" y="0"/>
                </a:lnTo>
                <a:lnTo>
                  <a:pt x="21600" y="24377"/>
                </a:lnTo>
                <a:lnTo>
                  <a:pt x="0" y="24377"/>
                </a:lnTo>
                <a:close/>
              </a:path>
              <a:path fill="lightenLess" w="21600" h="2437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377">
                <a:moveTo>
                  <a:pt x="21600" y="0"/>
                </a:moveTo>
                <a:lnTo>
                  <a:pt x="21600" y="24377"/>
                </a:lnTo>
                <a:lnTo>
                  <a:pt x="20200" y="22977"/>
                </a:lnTo>
                <a:lnTo>
                  <a:pt x="20200" y="1400"/>
                </a:lnTo>
                <a:close/>
              </a:path>
              <a:path fill="darkenLess" w="21600" h="24377">
                <a:moveTo>
                  <a:pt x="21600" y="24377"/>
                </a:moveTo>
                <a:lnTo>
                  <a:pt x="0" y="24377"/>
                </a:lnTo>
                <a:lnTo>
                  <a:pt x="1400" y="22977"/>
                </a:lnTo>
                <a:lnTo>
                  <a:pt x="20200" y="22977"/>
                </a:lnTo>
                <a:close/>
              </a:path>
              <a:path fill="lighten" w="21600" h="24377">
                <a:moveTo>
                  <a:pt x="0" y="24377"/>
                </a:moveTo>
                <a:lnTo>
                  <a:pt x="0" y="0"/>
                </a:lnTo>
                <a:lnTo>
                  <a:pt x="1400" y="1400"/>
                </a:lnTo>
                <a:lnTo>
                  <a:pt x="1400" y="22977"/>
                </a:lnTo>
                <a:close/>
              </a:path>
              <a:path fill="darken" w="21600" h="24377">
                <a:moveTo>
                  <a:pt x="10800" y="5226"/>
                </a:moveTo>
                <a:lnTo>
                  <a:pt x="13376" y="7837"/>
                </a:lnTo>
                <a:lnTo>
                  <a:pt x="13376" y="6096"/>
                </a:lnTo>
                <a:lnTo>
                  <a:pt x="15152" y="6096"/>
                </a:lnTo>
                <a:lnTo>
                  <a:pt x="15152" y="9612"/>
                </a:lnTo>
                <a:lnTo>
                  <a:pt x="17763" y="12189"/>
                </a:lnTo>
                <a:lnTo>
                  <a:pt x="16109" y="12189"/>
                </a:lnTo>
                <a:lnTo>
                  <a:pt x="16109" y="19378"/>
                </a:lnTo>
                <a:lnTo>
                  <a:pt x="5491" y="19378"/>
                </a:lnTo>
                <a:lnTo>
                  <a:pt x="5491" y="12189"/>
                </a:lnTo>
                <a:lnTo>
                  <a:pt x="3837" y="12189"/>
                </a:lnTo>
                <a:close/>
              </a:path>
              <a:path fill="darkenLess" w="21600" h="24377">
                <a:moveTo>
                  <a:pt x="13376" y="7837"/>
                </a:moveTo>
                <a:lnTo>
                  <a:pt x="13376" y="6096"/>
                </a:lnTo>
                <a:lnTo>
                  <a:pt x="15152" y="6096"/>
                </a:lnTo>
                <a:lnTo>
                  <a:pt x="15152" y="9612"/>
                </a:lnTo>
                <a:close/>
              </a:path>
              <a:path fill="darkenLess" w="21600" h="24377">
                <a:moveTo>
                  <a:pt x="9877" y="15688"/>
                </a:moveTo>
                <a:lnTo>
                  <a:pt x="11723" y="15688"/>
                </a:lnTo>
                <a:lnTo>
                  <a:pt x="11723" y="19378"/>
                </a:lnTo>
                <a:lnTo>
                  <a:pt x="16109" y="19378"/>
                </a:lnTo>
                <a:lnTo>
                  <a:pt x="16109" y="12189"/>
                </a:lnTo>
                <a:lnTo>
                  <a:pt x="5491" y="12189"/>
                </a:lnTo>
                <a:lnTo>
                  <a:pt x="5491" y="19378"/>
                </a:lnTo>
                <a:lnTo>
                  <a:pt x="9877" y="19378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est your understanding of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degrees of compari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3840" y="1499760"/>
            <a:ext cx="89298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This book i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), but that book is (goo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This classroom is (large) classroom in my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 My sister speaks English (bad) than I do.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This film is (interesting) than previous 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857160" y="2071800"/>
            <a:ext cx="742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book is good, but that book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5"/>
          <p:cNvSpPr/>
          <p:nvPr/>
        </p:nvSpPr>
        <p:spPr>
          <a:xfrm>
            <a:off x="0" y="32860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classroom is the largest classroom in my schoo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883080" y="4357800"/>
            <a:ext cx="697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y sister speaks English worse than I 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884160" y="5715000"/>
            <a:ext cx="78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is film is more interesting than previous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Управляющая кнопка: домой 8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11908" y="3837"/>
                </a:moveTo>
                <a:lnTo>
                  <a:pt x="14484" y="6448"/>
                </a:ln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lnTo>
                  <a:pt x="18871" y="10800"/>
                </a:lnTo>
                <a:lnTo>
                  <a:pt x="17217" y="10800"/>
                </a:lnTo>
                <a:lnTo>
                  <a:pt x="17217" y="17989"/>
                </a:lnTo>
                <a:lnTo>
                  <a:pt x="6599" y="17989"/>
                </a:lnTo>
                <a:lnTo>
                  <a:pt x="6599" y="10800"/>
                </a:lnTo>
                <a:lnTo>
                  <a:pt x="4945" y="10800"/>
                </a:lnTo>
                <a:close/>
              </a:path>
              <a:path fill="darkenLess" w="23816" h="21600">
                <a:moveTo>
                  <a:pt x="14484" y="6448"/>
                </a:moveTo>
                <a:lnTo>
                  <a:pt x="14484" y="4707"/>
                </a:lnTo>
                <a:lnTo>
                  <a:pt x="16260" y="4707"/>
                </a:lnTo>
                <a:lnTo>
                  <a:pt x="16260" y="8224"/>
                </a:lnTo>
                <a:close/>
              </a:path>
              <a:path fill="darkenLess" w="23816" h="21600">
                <a:moveTo>
                  <a:pt x="10986" y="14299"/>
                </a:moveTo>
                <a:lnTo>
                  <a:pt x="12831" y="14299"/>
                </a:lnTo>
                <a:lnTo>
                  <a:pt x="12831" y="17989"/>
                </a:lnTo>
                <a:lnTo>
                  <a:pt x="17217" y="17989"/>
                </a:lnTo>
                <a:lnTo>
                  <a:pt x="17217" y="10800"/>
                </a:lnTo>
                <a:lnTo>
                  <a:pt x="6599" y="10800"/>
                </a:lnTo>
                <a:lnTo>
                  <a:pt x="6599" y="17989"/>
                </a:lnTo>
                <a:lnTo>
                  <a:pt x="10986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ranslate from Russian into Englis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2560" y="1143000"/>
            <a:ext cx="87152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заморозишь воду, она станет льдо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Угощайтесь и чувствуйте себя как до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 была очень неустойчивой и мы решили никуда не ходить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чера она переборола свой страх и не расплакала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952200" y="1714680"/>
            <a:ext cx="525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f you freeze water, it turns to 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822960" y="2714760"/>
            <a:ext cx="648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lp yourself and make yourself at h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5"/>
          <p:cNvSpPr/>
          <p:nvPr/>
        </p:nvSpPr>
        <p:spPr>
          <a:xfrm>
            <a:off x="214200" y="4143240"/>
            <a:ext cx="8929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weather was very changeable</a:t>
            </a:r>
            <a:r>
              <a:rPr b="0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nd we decided to go no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6"/>
          <p:cNvSpPr/>
          <p:nvPr/>
        </p:nvSpPr>
        <p:spPr>
          <a:xfrm>
            <a:off x="0" y="5842080"/>
            <a:ext cx="88581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esterday she conquered her fear and didn’t burst into tea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Управляющая кнопка: домой 7"/>
          <p:cNvSpPr/>
          <p:nvPr/>
        </p:nvSpPr>
        <p:spPr>
          <a:xfrm>
            <a:off x="8459640" y="6093000"/>
            <a:ext cx="540000" cy="53784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8" descr="http://olmcc.com/wp-content/uploads/2014/02/Congratulations.png"/>
          <p:cNvPicPr/>
          <p:nvPr/>
        </p:nvPicPr>
        <p:blipFill>
          <a:blip r:embed="rId1"/>
          <a:stretch/>
        </p:blipFill>
        <p:spPr>
          <a:xfrm>
            <a:off x="285840" y="0"/>
            <a:ext cx="8447040" cy="30672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http://img.xcitefun.net/users/2012/07/300301,xcitefun-well-done.jpg"/>
          <p:cNvPicPr/>
          <p:nvPr/>
        </p:nvPicPr>
        <p:blipFill>
          <a:blip r:embed="rId2"/>
          <a:stretch/>
        </p:blipFill>
        <p:spPr>
          <a:xfrm>
            <a:off x="2571840" y="3000240"/>
            <a:ext cx="38574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img.ntv.ru/home/employee/kukeshev_480x36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Cooper Black"/>
              </a:rPr>
              <a:t>The Rule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will have three categories of grammar exercises: Tenses, Articles and Differen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xercise costs 100, 200 or 300 poi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may choose any exercise your team wish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am that will have more points than two  other teams, will have excellent mark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some team doesn’t know an answer or makes a mistake, two other teams can help and have 20 points for a correct answ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  <a:gridCol w="3048120"/>
              </a:tblGrid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ns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ticles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fferent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1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1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sentences using the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Present Simple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the Past Si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ranny / teach me / when I was seve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e / use the computer / every 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I / do exercises / two days ag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She / go to the shopping / every Frida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1378080" y="207180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ranny taught me when I was seve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5"/>
          <p:cNvSpPr/>
          <p:nvPr/>
        </p:nvSpPr>
        <p:spPr>
          <a:xfrm>
            <a:off x="1590480" y="3214800"/>
            <a:ext cx="546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 uses the computer every day</a:t>
            </a:r>
            <a:r>
              <a:rPr b="0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6"/>
          <p:cNvSpPr/>
          <p:nvPr/>
        </p:nvSpPr>
        <p:spPr>
          <a:xfrm>
            <a:off x="1589040" y="4214880"/>
            <a:ext cx="489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 did exercises two days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8"/>
          <p:cNvSpPr/>
          <p:nvPr/>
        </p:nvSpPr>
        <p:spPr>
          <a:xfrm>
            <a:off x="1293840" y="5500800"/>
            <a:ext cx="65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he goes to the shopping every Fri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домой 7"/>
          <p:cNvSpPr/>
          <p:nvPr/>
        </p:nvSpPr>
        <p:spPr>
          <a:xfrm>
            <a:off x="8388360" y="6093000"/>
            <a:ext cx="611280" cy="537840"/>
          </a:xfrm>
          <a:custGeom>
            <a:avLst/>
            <a:gdLst>
              <a:gd name="textAreaLeft" fmla="*/ 34560 w 611280"/>
              <a:gd name="textAreaRight" fmla="*/ 576720 w 61128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4547" h="21600">
                <a:moveTo>
                  <a:pt x="0" y="0"/>
                </a:moveTo>
                <a:lnTo>
                  <a:pt x="24547" y="0"/>
                </a:lnTo>
                <a:lnTo>
                  <a:pt x="24547" y="21600"/>
                </a:lnTo>
                <a:lnTo>
                  <a:pt x="0" y="21600"/>
                </a:lnTo>
                <a:close/>
              </a:path>
              <a:path fill="lightenLess" w="24547" h="21600">
                <a:moveTo>
                  <a:pt x="0" y="0"/>
                </a:moveTo>
                <a:lnTo>
                  <a:pt x="24547" y="0"/>
                </a:lnTo>
                <a:lnTo>
                  <a:pt x="23147" y="1400"/>
                </a:lnTo>
                <a:lnTo>
                  <a:pt x="1400" y="1400"/>
                </a:lnTo>
                <a:close/>
              </a:path>
              <a:path fill="darken" w="24547" h="21600">
                <a:moveTo>
                  <a:pt x="24547" y="0"/>
                </a:moveTo>
                <a:lnTo>
                  <a:pt x="24547" y="21600"/>
                </a:lnTo>
                <a:lnTo>
                  <a:pt x="23147" y="20200"/>
                </a:lnTo>
                <a:lnTo>
                  <a:pt x="23147" y="1400"/>
                </a:lnTo>
                <a:close/>
              </a:path>
              <a:path fill="darkenLess" w="24547" h="21600">
                <a:moveTo>
                  <a:pt x="245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147" y="20200"/>
                </a:lnTo>
                <a:close/>
              </a:path>
              <a:path fill="lighten" w="245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547" h="21600">
                <a:moveTo>
                  <a:pt x="12274" y="3837"/>
                </a:moveTo>
                <a:lnTo>
                  <a:pt x="14850" y="6448"/>
                </a:lnTo>
                <a:lnTo>
                  <a:pt x="14850" y="4707"/>
                </a:lnTo>
                <a:lnTo>
                  <a:pt x="16626" y="4707"/>
                </a:lnTo>
                <a:lnTo>
                  <a:pt x="16626" y="8224"/>
                </a:lnTo>
                <a:lnTo>
                  <a:pt x="19237" y="10800"/>
                </a:lnTo>
                <a:lnTo>
                  <a:pt x="17583" y="10800"/>
                </a:lnTo>
                <a:lnTo>
                  <a:pt x="17583" y="17989"/>
                </a:lnTo>
                <a:lnTo>
                  <a:pt x="6964" y="17989"/>
                </a:lnTo>
                <a:lnTo>
                  <a:pt x="6964" y="10800"/>
                </a:lnTo>
                <a:lnTo>
                  <a:pt x="5311" y="10800"/>
                </a:lnTo>
                <a:close/>
              </a:path>
              <a:path fill="darkenLess" w="24547" h="21600">
                <a:moveTo>
                  <a:pt x="14850" y="6448"/>
                </a:moveTo>
                <a:lnTo>
                  <a:pt x="14850" y="4707"/>
                </a:lnTo>
                <a:lnTo>
                  <a:pt x="16626" y="4707"/>
                </a:lnTo>
                <a:lnTo>
                  <a:pt x="16626" y="8224"/>
                </a:lnTo>
                <a:close/>
              </a:path>
              <a:path fill="darkenLess" w="24547" h="21600">
                <a:moveTo>
                  <a:pt x="11351" y="14299"/>
                </a:moveTo>
                <a:lnTo>
                  <a:pt x="13196" y="14299"/>
                </a:lnTo>
                <a:lnTo>
                  <a:pt x="13196" y="17989"/>
                </a:lnTo>
                <a:lnTo>
                  <a:pt x="17583" y="17989"/>
                </a:lnTo>
                <a:lnTo>
                  <a:pt x="17583" y="10800"/>
                </a:lnTo>
                <a:lnTo>
                  <a:pt x="6964" y="10800"/>
                </a:lnTo>
                <a:lnTo>
                  <a:pt x="6964" y="17989"/>
                </a:lnTo>
                <a:lnTo>
                  <a:pt x="1135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Complete the sentences using the 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Present Simple, the Present Continuous</a:t>
            </a:r>
            <a:r>
              <a:rPr b="1" i="1" lang="en-US" sz="36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 or </a:t>
            </a:r>
            <a:r>
              <a:rPr b="1" i="1" lang="en-US" sz="3600" spc="-1" strike="noStrike" u="sng">
                <a:solidFill>
                  <a:srgbClr val="17375e"/>
                </a:solidFill>
                <a:uFillTx/>
                <a:latin typeface="Times New Roman"/>
                <a:ea typeface="Times New Roman"/>
              </a:rPr>
              <a:t>Future Simpl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You (to play) chess tomorrow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What he (to read) 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Where you (to go) every morning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Look! Mary (to dance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Управляющая кнопка: домой 3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4"/>
          <p:cNvSpPr/>
          <p:nvPr/>
        </p:nvSpPr>
        <p:spPr>
          <a:xfrm>
            <a:off x="1198080" y="2205000"/>
            <a:ext cx="52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ill you play chess tomorr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5"/>
          <p:cNvSpPr/>
          <p:nvPr/>
        </p:nvSpPr>
        <p:spPr>
          <a:xfrm>
            <a:off x="1347480" y="3284640"/>
            <a:ext cx="423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at he is reading 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6"/>
          <p:cNvSpPr/>
          <p:nvPr/>
        </p:nvSpPr>
        <p:spPr>
          <a:xfrm>
            <a:off x="1276560" y="4437000"/>
            <a:ext cx="567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re do you go every morn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7"/>
          <p:cNvSpPr/>
          <p:nvPr/>
        </p:nvSpPr>
        <p:spPr>
          <a:xfrm>
            <a:off x="1417680" y="566100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ook! Mary is danc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rrect each sentenc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32968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have you done your homework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Little Tom doesn’t never swim the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It rains n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We is already learning a lot of English word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3"/>
          <p:cNvSpPr/>
          <p:nvPr/>
        </p:nvSpPr>
        <p:spPr>
          <a:xfrm>
            <a:off x="1304280" y="2214720"/>
            <a:ext cx="59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hen did you do your home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1359000" y="3357720"/>
            <a:ext cx="568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ttle Tom has never swum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5"/>
          <p:cNvSpPr/>
          <p:nvPr/>
        </p:nvSpPr>
        <p:spPr>
          <a:xfrm>
            <a:off x="1510560" y="4500720"/>
            <a:ext cx="292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t is raining now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6"/>
          <p:cNvSpPr/>
          <p:nvPr/>
        </p:nvSpPr>
        <p:spPr>
          <a:xfrm>
            <a:off x="724680" y="5715000"/>
            <a:ext cx="77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We have already learnt a lot of English wo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Управляющая кнопка: домой 7"/>
          <p:cNvSpPr/>
          <p:nvPr/>
        </p:nvSpPr>
        <p:spPr>
          <a:xfrm>
            <a:off x="8388360" y="6165720"/>
            <a:ext cx="611280" cy="465120"/>
          </a:xfrm>
          <a:custGeom>
            <a:avLst/>
            <a:gdLst>
              <a:gd name="textAreaLeft" fmla="*/ 29880 w 611280"/>
              <a:gd name="textAreaRight" fmla="*/ 581400 w 611280"/>
              <a:gd name="textAreaTop" fmla="*/ 29880 h 465120"/>
              <a:gd name="textAreaBottom" fmla="*/ 435240 h 465120"/>
            </a:gdLst>
            <a:ahLst/>
            <a:rect l="textAreaLeft" t="textAreaTop" r="textAreaRight" b="textAreaBottom"/>
            <a:pathLst>
              <a:path w="28382" h="21600">
                <a:moveTo>
                  <a:pt x="0" y="0"/>
                </a:moveTo>
                <a:lnTo>
                  <a:pt x="28382" y="0"/>
                </a:lnTo>
                <a:lnTo>
                  <a:pt x="28382" y="21600"/>
                </a:lnTo>
                <a:lnTo>
                  <a:pt x="0" y="21600"/>
                </a:lnTo>
                <a:close/>
              </a:path>
              <a:path fill="lightenLess" w="28382" h="21600">
                <a:moveTo>
                  <a:pt x="0" y="0"/>
                </a:moveTo>
                <a:lnTo>
                  <a:pt x="28382" y="0"/>
                </a:lnTo>
                <a:lnTo>
                  <a:pt x="26982" y="1400"/>
                </a:lnTo>
                <a:lnTo>
                  <a:pt x="1400" y="1400"/>
                </a:lnTo>
                <a:close/>
              </a:path>
              <a:path fill="darken" w="28382" h="21600">
                <a:moveTo>
                  <a:pt x="28382" y="0"/>
                </a:moveTo>
                <a:lnTo>
                  <a:pt x="28382" y="21600"/>
                </a:lnTo>
                <a:lnTo>
                  <a:pt x="26982" y="20200"/>
                </a:lnTo>
                <a:lnTo>
                  <a:pt x="26982" y="1400"/>
                </a:lnTo>
                <a:close/>
              </a:path>
              <a:path fill="darkenLess" w="28382" h="21600">
                <a:moveTo>
                  <a:pt x="283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82" y="20200"/>
                </a:lnTo>
                <a:close/>
              </a:path>
              <a:path fill="lighten" w="283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82" h="21600">
                <a:moveTo>
                  <a:pt x="14191" y="3837"/>
                </a:moveTo>
                <a:lnTo>
                  <a:pt x="16767" y="6448"/>
                </a:lnTo>
                <a:lnTo>
                  <a:pt x="16767" y="4707"/>
                </a:lnTo>
                <a:lnTo>
                  <a:pt x="18543" y="4707"/>
                </a:lnTo>
                <a:lnTo>
                  <a:pt x="18543" y="8224"/>
                </a:lnTo>
                <a:lnTo>
                  <a:pt x="21154" y="10800"/>
                </a:lnTo>
                <a:lnTo>
                  <a:pt x="19500" y="10800"/>
                </a:lnTo>
                <a:lnTo>
                  <a:pt x="19500" y="17989"/>
                </a:lnTo>
                <a:lnTo>
                  <a:pt x="8882" y="17989"/>
                </a:lnTo>
                <a:lnTo>
                  <a:pt x="8882" y="10800"/>
                </a:lnTo>
                <a:lnTo>
                  <a:pt x="7228" y="10800"/>
                </a:lnTo>
                <a:close/>
              </a:path>
              <a:path fill="darkenLess" w="28382" h="21600">
                <a:moveTo>
                  <a:pt x="16767" y="6448"/>
                </a:moveTo>
                <a:lnTo>
                  <a:pt x="16767" y="4707"/>
                </a:lnTo>
                <a:lnTo>
                  <a:pt x="18543" y="4707"/>
                </a:lnTo>
                <a:lnTo>
                  <a:pt x="18543" y="8224"/>
                </a:lnTo>
                <a:close/>
              </a:path>
              <a:path fill="darkenLess" w="28382" h="21600">
                <a:moveTo>
                  <a:pt x="13269" y="14299"/>
                </a:moveTo>
                <a:lnTo>
                  <a:pt x="15114" y="14299"/>
                </a:lnTo>
                <a:lnTo>
                  <a:pt x="15114" y="17989"/>
                </a:lnTo>
                <a:lnTo>
                  <a:pt x="19500" y="17989"/>
                </a:lnTo>
                <a:lnTo>
                  <a:pt x="19500" y="10800"/>
                </a:lnTo>
                <a:lnTo>
                  <a:pt x="8882" y="10800"/>
                </a:lnTo>
                <a:lnTo>
                  <a:pt x="8882" y="17989"/>
                </a:lnTo>
                <a:lnTo>
                  <a:pt x="1326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http://www.larissatravel.ee/images/stories/bustours/vesna.jpg"/>
          <p:cNvPicPr/>
          <p:nvPr/>
        </p:nvPicPr>
        <p:blipFill>
          <a:blip r:embed="rId1"/>
          <a:stretch/>
        </p:blipFill>
        <p:spPr>
          <a:xfrm>
            <a:off x="1785960" y="3849840"/>
            <a:ext cx="5000760" cy="30081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http://www.rossita-travel.com/shared/files/201111/264_7513.jpg"/>
          <p:cNvPicPr/>
          <p:nvPr/>
        </p:nvPicPr>
        <p:blipFill>
          <a:blip r:embed="rId2"/>
          <a:stretch/>
        </p:blipFill>
        <p:spPr>
          <a:xfrm>
            <a:off x="4272120" y="0"/>
            <a:ext cx="4871880" cy="321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http://dekatop.com/wp-content/uploads/2013/05/desert_01.jpg"/>
          <p:cNvPicPr/>
          <p:nvPr/>
        </p:nvPicPr>
        <p:blipFill>
          <a:blip r:embed="rId3"/>
          <a:stretch/>
        </p:blipFill>
        <p:spPr>
          <a:xfrm>
            <a:off x="0" y="0"/>
            <a:ext cx="4286160" cy="3214800"/>
          </a:xfrm>
          <a:prstGeom prst="rect">
            <a:avLst/>
          </a:prstGeom>
          <a:ln w="0">
            <a:noFill/>
          </a:ln>
        </p:spPr>
      </p:pic>
      <p:sp>
        <p:nvSpPr>
          <p:cNvPr id="71" name="TextBox 7"/>
          <p:cNvSpPr/>
          <p:nvPr/>
        </p:nvSpPr>
        <p:spPr>
          <a:xfrm>
            <a:off x="142920" y="32860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ahara Des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8"/>
          <p:cNvSpPr/>
          <p:nvPr/>
        </p:nvSpPr>
        <p:spPr>
          <a:xfrm>
            <a:off x="4239720" y="3286080"/>
            <a:ext cx="488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United States (the U.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9"/>
          <p:cNvSpPr/>
          <p:nvPr/>
        </p:nvSpPr>
        <p:spPr>
          <a:xfrm>
            <a:off x="7151400" y="4643280"/>
            <a:ext cx="119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домой 10"/>
          <p:cNvSpPr/>
          <p:nvPr/>
        </p:nvSpPr>
        <p:spPr>
          <a:xfrm>
            <a:off x="8459640" y="6093000"/>
            <a:ext cx="540000" cy="537840"/>
          </a:xfrm>
          <a:custGeom>
            <a:avLst/>
            <a:gdLst>
              <a:gd name="textAreaLeft" fmla="*/ 34560 w 540000"/>
              <a:gd name="textAreaRight" fmla="*/ 505440 w 540000"/>
              <a:gd name="textAreaTop" fmla="*/ 34560 h 537840"/>
              <a:gd name="textAreaBottom" fmla="*/ 503280 h 537840"/>
            </a:gdLst>
            <a:ahLst/>
            <a:rect l="textAreaLeft" t="textAreaTop" r="textAreaRight" b="textAreaBottom"/>
            <a:pathLst>
              <a:path w="21687" h="21600">
                <a:moveTo>
                  <a:pt x="0" y="0"/>
                </a:moveTo>
                <a:lnTo>
                  <a:pt x="21687" y="0"/>
                </a:lnTo>
                <a:lnTo>
                  <a:pt x="21687" y="21600"/>
                </a:lnTo>
                <a:lnTo>
                  <a:pt x="0" y="21600"/>
                </a:lnTo>
                <a:close/>
              </a:path>
              <a:path fill="lightenLess" w="21687" h="21600">
                <a:moveTo>
                  <a:pt x="0" y="0"/>
                </a:moveTo>
                <a:lnTo>
                  <a:pt x="21687" y="0"/>
                </a:lnTo>
                <a:lnTo>
                  <a:pt x="20287" y="1400"/>
                </a:lnTo>
                <a:lnTo>
                  <a:pt x="1400" y="1400"/>
                </a:lnTo>
                <a:close/>
              </a:path>
              <a:path fill="darken" w="21687" h="21600">
                <a:moveTo>
                  <a:pt x="21687" y="0"/>
                </a:moveTo>
                <a:lnTo>
                  <a:pt x="21687" y="21600"/>
                </a:lnTo>
                <a:lnTo>
                  <a:pt x="20287" y="20200"/>
                </a:lnTo>
                <a:lnTo>
                  <a:pt x="20287" y="1400"/>
                </a:lnTo>
                <a:close/>
              </a:path>
              <a:path fill="darkenLess" w="21687" h="21600">
                <a:moveTo>
                  <a:pt x="216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87" y="20200"/>
                </a:lnTo>
                <a:close/>
              </a:path>
              <a:path fill="lighten" w="216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87" h="21600">
                <a:moveTo>
                  <a:pt x="10843" y="3837"/>
                </a:moveTo>
                <a:lnTo>
                  <a:pt x="13420" y="6448"/>
                </a:ln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lnTo>
                  <a:pt x="17806" y="10800"/>
                </a:lnTo>
                <a:lnTo>
                  <a:pt x="16153" y="10800"/>
                </a:lnTo>
                <a:lnTo>
                  <a:pt x="16153" y="17989"/>
                </a:lnTo>
                <a:lnTo>
                  <a:pt x="5534" y="17989"/>
                </a:lnTo>
                <a:lnTo>
                  <a:pt x="5534" y="10800"/>
                </a:lnTo>
                <a:lnTo>
                  <a:pt x="3880" y="10800"/>
                </a:lnTo>
                <a:close/>
              </a:path>
              <a:path fill="darkenLess" w="21687" h="21600">
                <a:moveTo>
                  <a:pt x="13420" y="6448"/>
                </a:moveTo>
                <a:lnTo>
                  <a:pt x="13420" y="4707"/>
                </a:lnTo>
                <a:lnTo>
                  <a:pt x="15195" y="4707"/>
                </a:lnTo>
                <a:lnTo>
                  <a:pt x="15195" y="8224"/>
                </a:lnTo>
                <a:close/>
              </a:path>
              <a:path fill="darkenLess" w="21687" h="21600">
                <a:moveTo>
                  <a:pt x="9921" y="14299"/>
                </a:moveTo>
                <a:lnTo>
                  <a:pt x="11766" y="14299"/>
                </a:lnTo>
                <a:lnTo>
                  <a:pt x="11766" y="17989"/>
                </a:lnTo>
                <a:lnTo>
                  <a:pt x="16153" y="17989"/>
                </a:lnTo>
                <a:lnTo>
                  <a:pt x="16153" y="10800"/>
                </a:lnTo>
                <a:lnTo>
                  <a:pt x="5534" y="10800"/>
                </a:lnTo>
                <a:lnTo>
                  <a:pt x="5534" y="17989"/>
                </a:lnTo>
                <a:lnTo>
                  <a:pt x="9921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mplete the following sentences with 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“The” </a:t>
            </a:r>
            <a:r>
              <a:rPr b="1" i="1" lang="en-US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r</a:t>
            </a:r>
            <a:r>
              <a:rPr b="1" i="1" lang="en-US" sz="32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 no arti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599840"/>
            <a:ext cx="8472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……South Pole is situated on the continent of Antarctic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…….Amazon is the second longest river in the world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…..Kilimanjaro is the tallest mountain in Africa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…… Pacific Ocean is the largest ocean on the Earth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861480" y="1500120"/>
            <a:ext cx="91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860760" y="242892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6"/>
          <p:cNvSpPr/>
          <p:nvPr/>
        </p:nvSpPr>
        <p:spPr>
          <a:xfrm>
            <a:off x="860760" y="3500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Управляющая кнопка: домой 7"/>
          <p:cNvSpPr/>
          <p:nvPr/>
        </p:nvSpPr>
        <p:spPr>
          <a:xfrm>
            <a:off x="8388360" y="6021360"/>
            <a:ext cx="611280" cy="609480"/>
          </a:xfrm>
          <a:custGeom>
            <a:avLst/>
            <a:gdLst>
              <a:gd name="textAreaLeft" fmla="*/ 39240 w 611280"/>
              <a:gd name="textAreaRight" fmla="*/ 572040 w 6112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64" h="21600">
                <a:moveTo>
                  <a:pt x="0" y="0"/>
                </a:moveTo>
                <a:lnTo>
                  <a:pt x="21664" y="0"/>
                </a:lnTo>
                <a:lnTo>
                  <a:pt x="21664" y="21600"/>
                </a:lnTo>
                <a:lnTo>
                  <a:pt x="0" y="21600"/>
                </a:lnTo>
                <a:close/>
              </a:path>
              <a:path fill="lightenLess" w="21664" h="21600">
                <a:moveTo>
                  <a:pt x="0" y="0"/>
                </a:moveTo>
                <a:lnTo>
                  <a:pt x="21664" y="0"/>
                </a:lnTo>
                <a:lnTo>
                  <a:pt x="20264" y="1400"/>
                </a:lnTo>
                <a:lnTo>
                  <a:pt x="1400" y="1400"/>
                </a:lnTo>
                <a:close/>
              </a:path>
              <a:path fill="darken" w="21664" h="21600">
                <a:moveTo>
                  <a:pt x="21664" y="0"/>
                </a:moveTo>
                <a:lnTo>
                  <a:pt x="21664" y="21600"/>
                </a:lnTo>
                <a:lnTo>
                  <a:pt x="20264" y="20200"/>
                </a:lnTo>
                <a:lnTo>
                  <a:pt x="20264" y="1400"/>
                </a:lnTo>
                <a:close/>
              </a:path>
              <a:path fill="darkenLess" w="21664" h="21600">
                <a:moveTo>
                  <a:pt x="216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64" y="20200"/>
                </a:lnTo>
                <a:close/>
              </a:path>
              <a:path fill="lighten" w="216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64" h="21600">
                <a:moveTo>
                  <a:pt x="10832" y="3837"/>
                </a:moveTo>
                <a:lnTo>
                  <a:pt x="13408" y="6448"/>
                </a:ln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lnTo>
                  <a:pt x="17795" y="10800"/>
                </a:lnTo>
                <a:lnTo>
                  <a:pt x="16141" y="10800"/>
                </a:lnTo>
                <a:lnTo>
                  <a:pt x="16141" y="17989"/>
                </a:lnTo>
                <a:lnTo>
                  <a:pt x="5523" y="17989"/>
                </a:lnTo>
                <a:lnTo>
                  <a:pt x="5523" y="10800"/>
                </a:lnTo>
                <a:lnTo>
                  <a:pt x="3869" y="10800"/>
                </a:lnTo>
                <a:close/>
              </a:path>
              <a:path fill="darkenLess" w="21664" h="21600">
                <a:moveTo>
                  <a:pt x="13408" y="6448"/>
                </a:moveTo>
                <a:lnTo>
                  <a:pt x="13408" y="4707"/>
                </a:lnTo>
                <a:lnTo>
                  <a:pt x="15184" y="4707"/>
                </a:lnTo>
                <a:lnTo>
                  <a:pt x="15184" y="8224"/>
                </a:lnTo>
                <a:close/>
              </a:path>
              <a:path fill="darkenLess" w="21664" h="21600">
                <a:moveTo>
                  <a:pt x="9909" y="14299"/>
                </a:moveTo>
                <a:lnTo>
                  <a:pt x="11754" y="14299"/>
                </a:lnTo>
                <a:lnTo>
                  <a:pt x="11754" y="17989"/>
                </a:lnTo>
                <a:lnTo>
                  <a:pt x="16141" y="17989"/>
                </a:lnTo>
                <a:lnTo>
                  <a:pt x="16141" y="10800"/>
                </a:lnTo>
                <a:lnTo>
                  <a:pt x="5523" y="10800"/>
                </a:lnTo>
                <a:lnTo>
                  <a:pt x="5523" y="17989"/>
                </a:lnTo>
                <a:lnTo>
                  <a:pt x="9909" y="1798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0T05:26:16Z</dcterms:created>
  <dc:creator>Анна Слептерёва</dc:creator>
  <dc:description/>
  <dc:language>en-US</dc:language>
  <cp:lastModifiedBy>Аня</cp:lastModifiedBy>
  <dcterms:modified xsi:type="dcterms:W3CDTF">2014-03-10T14:32:17Z</dcterms:modified>
  <cp:revision>39</cp:revision>
  <dc:subject/>
  <dc:title>Слайд 1</dc:title>
</cp:coreProperties>
</file>