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18.gif" ContentType="image/gif"/>
  <Override PartName="/ppt/media/image40.jpeg" ContentType="image/jpeg"/>
  <Override PartName="/ppt/media/image13.jpeg" ContentType="image/jpeg"/>
  <Override PartName="/ppt/media/image46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DBD0-5A24-4BFC-8C87-D91DEDD0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65BB-55B1-46DC-8D1D-C95B2BD1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1437-E8C7-4662-A36E-4502A47F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C9B3-3B25-40C9-A3D6-85438C82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7BC2-0BB0-4C83-BFCE-79D44D5C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F11E-30D7-4442-B34E-47AC1D4B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3F97-C239-47C1-956D-51DE7EBF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0114-B21E-4A1C-A18F-06F2BDA9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F360-FB17-4ACB-AEE6-E963479B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60AF-86D4-4F96-89C1-E613A54E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40A7-B2EE-455E-931A-03B3F0BC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C1E0-14E1-4018-8144-72384622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930D-88A9-481A-89BD-C1F561977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Изображение 040"/>
          <p:cNvPicPr/>
          <p:nvPr/>
        </p:nvPicPr>
        <p:blipFill>
          <a:blip r:embed="rId2">
            <a:lum bright="-6000"/>
          </a:blip>
          <a:srcRect l="0" t="0" r="-39" b="0"/>
          <a:stretch/>
        </p:blipFill>
        <p:spPr>
          <a:xfrm>
            <a:off x="0" y="0"/>
            <a:ext cx="6046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5867280" y="333360"/>
            <a:ext cx="350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лександр Сергеевич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уш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6588000" y="4941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799 - 18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«Что за прелесть эти сказки! Каждая есть поэма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няня  и саша"/>
          <p:cNvPicPr/>
          <p:nvPr/>
        </p:nvPicPr>
        <p:blipFill>
          <a:blip r:embed="rId2"/>
          <a:stretch/>
        </p:blipFill>
        <p:spPr>
          <a:xfrm>
            <a:off x="1547640" y="1484280"/>
            <a:ext cx="597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1187280" y="1268280"/>
            <a:ext cx="6767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астоящим кладом была для Пушкина каждая сказка его доброй и самобытно талантливой няни Арины Родионовны. Многие ее сказки Пушкин использовал впоследствии как сюжеты собственных сказок ( в стихах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1876680" y="549360"/>
            <a:ext cx="525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азк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.С. Пушки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books_9"/>
          <p:cNvPicPr/>
          <p:nvPr/>
        </p:nvPicPr>
        <p:blipFill>
          <a:blip r:embed="rId2"/>
          <a:stretch/>
        </p:blipFill>
        <p:spPr>
          <a:xfrm>
            <a:off x="3419640" y="3573360"/>
            <a:ext cx="2447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42560" y="5358960"/>
            <a:ext cx="6913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aramond"/>
              </a:rPr>
              <a:t>«Сказка о мертвой царевне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Garamond"/>
              </a:rPr>
              <a:t>и семи богатыря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золотая рыбка"/>
          <p:cNvPicPr/>
          <p:nvPr/>
        </p:nvPicPr>
        <p:blipFill>
          <a:blip r:embed="rId2"/>
          <a:srcRect l="0" t="0" r="-24" b="102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Сказка о рыбаке и рыбк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рис"/>
          <p:cNvPicPr/>
          <p:nvPr/>
        </p:nvPicPr>
        <p:blipFill>
          <a:blip r:embed="rId2"/>
          <a:stretch/>
        </p:blipFill>
        <p:spPr>
          <a:xfrm>
            <a:off x="0" y="0"/>
            <a:ext cx="58323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24000" y="4770000"/>
            <a:ext cx="32403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азк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 цар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лтане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4711680"/>
            <a:ext cx="346716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казка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 золотом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петушк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рис"/>
          <p:cNvPicPr/>
          <p:nvPr/>
        </p:nvPicPr>
        <p:blipFill>
          <a:blip r:embed="rId2"/>
          <a:stretch/>
        </p:blipFill>
        <p:spPr>
          <a:xfrm>
            <a:off x="3513240" y="0"/>
            <a:ext cx="563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300360" y="3774960"/>
            <a:ext cx="313236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Сказ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 поп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его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ник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алд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рис"/>
          <p:cNvPicPr/>
          <p:nvPr/>
        </p:nvPicPr>
        <p:blipFill>
          <a:blip r:embed="rId2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1000080" y="260280"/>
            <a:ext cx="67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 начале 1834 г. в Петербурге появился француз барон Данте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Documents and Settings\Admin\Рабочий стол\Пушкин\dantes_h167.jpg"/>
          <p:cNvPicPr/>
          <p:nvPr/>
        </p:nvPicPr>
        <p:blipFill>
          <a:blip r:embed="rId2"/>
          <a:stretch/>
        </p:blipFill>
        <p:spPr>
          <a:xfrm>
            <a:off x="2643120" y="1571760"/>
            <a:ext cx="3402000" cy="3787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2717640" y="5500800"/>
            <a:ext cx="35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Ж. Дантес-Геккерн. 183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1258920" y="189000"/>
            <a:ext cx="691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8 февраля 1837 года, в 5-м часу вечера, на Черной речке в Петербурге состоялась роковая дуэль, на которой Пушкин был смертельно ран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Documents and Settings\Admin\Рабочий стол\Пушкин\Duel_of_Pushlin_and_dAnthes_Naumov1850.jpg"/>
          <p:cNvPicPr/>
          <p:nvPr/>
        </p:nvPicPr>
        <p:blipFill>
          <a:blip r:embed="rId2"/>
          <a:stretch/>
        </p:blipFill>
        <p:spPr>
          <a:xfrm>
            <a:off x="1332000" y="2771640"/>
            <a:ext cx="662472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6 июня 1799 г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 Москве в дворянской помещичьей семье Пушкиных родился мальчик, которому суждено было стать одним из величайших поэтов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pushkin_04.jpg"/>
          <p:cNvPicPr/>
          <p:nvPr/>
        </p:nvPicPr>
        <p:blipFill>
          <a:blip r:embed="rId2"/>
          <a:stretch/>
        </p:blipFill>
        <p:spPr>
          <a:xfrm>
            <a:off x="3203640" y="2924280"/>
            <a:ext cx="2471760" cy="32209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2919240" y="6093000"/>
            <a:ext cx="32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ушкин-ребенок. 1800-18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042920" y="189000"/>
            <a:ext cx="698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ожив 2 д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 страшных мучения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ушкин скончал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 1837 г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01400" y="6165720"/>
            <a:ext cx="48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гила Александра Сергеевича Пуш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Рисунок2"/>
          <p:cNvPicPr/>
          <p:nvPr/>
        </p:nvPicPr>
        <p:blipFill>
          <a:blip r:embed="rId2"/>
          <a:stretch/>
        </p:blipFill>
        <p:spPr>
          <a:xfrm>
            <a:off x="2484360" y="2205000"/>
            <a:ext cx="41292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1116000" y="333360"/>
            <a:ext cx="68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мерть поэта стала началом его бессмертной славы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untitled11"/>
          <p:cNvPicPr/>
          <p:nvPr/>
        </p:nvPicPr>
        <p:blipFill>
          <a:blip r:embed="rId2"/>
          <a:srcRect l="0" t="0" r="128" b="42"/>
          <a:stretch/>
        </p:blipFill>
        <p:spPr>
          <a:xfrm>
            <a:off x="3214800" y="1428840"/>
            <a:ext cx="2678040" cy="3671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C:\Documents and Settings\Admin\Рабочий стол\Пушкин\131px-PushkinCoin.jpg"/>
          <p:cNvPicPr/>
          <p:nvPr/>
        </p:nvPicPr>
        <p:blipFill>
          <a:blip r:embed="rId3"/>
          <a:stretch/>
        </p:blipFill>
        <p:spPr>
          <a:xfrm>
            <a:off x="6000840" y="3929040"/>
            <a:ext cx="1824120" cy="1838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C:\Documents and Settings\Admin\Рабочий стол\Пушкин\120px-Pushkin.jpg"/>
          <p:cNvPicPr/>
          <p:nvPr/>
        </p:nvPicPr>
        <p:blipFill>
          <a:blip r:embed="rId4"/>
          <a:stretch/>
        </p:blipFill>
        <p:spPr>
          <a:xfrm>
            <a:off x="1500120" y="3857760"/>
            <a:ext cx="143208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3"/>
          <p:cNvSpPr/>
          <p:nvPr/>
        </p:nvSpPr>
        <p:spPr>
          <a:xfrm>
            <a:off x="0" y="357120"/>
            <a:ext cx="457200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Люблю я Пуш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творен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И это вовсе не секр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Его поэм, стихотво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рекрасней не было и 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 мальства его чит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каз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их жар души,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ра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Добро цветёт в них, зл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чах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их русский дух, в них Русью пах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 Пушкина Руси спас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От имени всего наро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едь мы стихи его чит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ак он писал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без пере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E:\новое\новое\pushkin_04.jpg"/>
          <p:cNvPicPr/>
          <p:nvPr/>
        </p:nvPicPr>
        <p:blipFill>
          <a:blip r:embed="rId2"/>
          <a:stretch/>
        </p:blipFill>
        <p:spPr>
          <a:xfrm>
            <a:off x="5214960" y="285840"/>
            <a:ext cx="3562200" cy="4643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E:\новое\новое\pushkin_11.jpg"/>
          <p:cNvPicPr/>
          <p:nvPr/>
        </p:nvPicPr>
        <p:blipFill>
          <a:blip r:embed="rId3"/>
          <a:stretch/>
        </p:blipFill>
        <p:spPr>
          <a:xfrm>
            <a:off x="5214960" y="285840"/>
            <a:ext cx="3643200" cy="5202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E:\новое\новое\pushkin_21.jpg"/>
          <p:cNvPicPr/>
          <p:nvPr/>
        </p:nvPicPr>
        <p:blipFill>
          <a:blip r:embed="rId4"/>
          <a:stretch/>
        </p:blipFill>
        <p:spPr>
          <a:xfrm>
            <a:off x="5214960" y="285840"/>
            <a:ext cx="3643200" cy="5324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E:\новое\новое\pushkin_24.jpg"/>
          <p:cNvPicPr/>
          <p:nvPr/>
        </p:nvPicPr>
        <p:blipFill>
          <a:blip r:embed="rId5"/>
          <a:stretch/>
        </p:blipFill>
        <p:spPr>
          <a:xfrm>
            <a:off x="4971960" y="285840"/>
            <a:ext cx="3870360" cy="5286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C:\Documents and Settings\Admin\Рабочий стол\Пушкин\pushkin_06.jpg"/>
          <p:cNvPicPr/>
          <p:nvPr/>
        </p:nvPicPr>
        <p:blipFill>
          <a:blip r:embed="rId6"/>
          <a:stretch/>
        </p:blipFill>
        <p:spPr>
          <a:xfrm>
            <a:off x="4649760" y="285840"/>
            <a:ext cx="4262400" cy="5214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C:\Documents and Settings\Admin\Рабочий стол\Пушкин\683.jpg"/>
          <p:cNvPicPr/>
          <p:nvPr/>
        </p:nvPicPr>
        <p:blipFill>
          <a:blip r:embed="rId7"/>
          <a:stretch/>
        </p:blipFill>
        <p:spPr>
          <a:xfrm>
            <a:off x="4572000" y="285840"/>
            <a:ext cx="4341960" cy="535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Documents and Settings\Admin\Рабочий стол\пушкин1\image001.jpg"/>
          <p:cNvPicPr/>
          <p:nvPr/>
        </p:nvPicPr>
        <p:blipFill>
          <a:blip r:embed="rId8"/>
          <a:stretch/>
        </p:blipFill>
        <p:spPr>
          <a:xfrm>
            <a:off x="4500720" y="285840"/>
            <a:ext cx="443520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4360" y="765000"/>
            <a:ext cx="3335040" cy="4656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148360" y="765000"/>
            <a:ext cx="3135240" cy="46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71640" y="836640"/>
            <a:ext cx="3184560" cy="4761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003640" y="907920"/>
            <a:ext cx="30816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9280" y="482760"/>
            <a:ext cx="4903920" cy="3954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924360" y="3500280"/>
            <a:ext cx="48322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95280" y="592200"/>
            <a:ext cx="4681440" cy="3179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076720" y="1268280"/>
            <a:ext cx="355284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00000" y="549360"/>
            <a:ext cx="3600720" cy="4968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067280" y="692280"/>
            <a:ext cx="4608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9640" y="690480"/>
            <a:ext cx="4537080" cy="3081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859280" y="2413080"/>
            <a:ext cx="396072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250920" y="260280"/>
            <a:ext cx="849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тец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ергей Львович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ебогатый помещик, человек образованный, хорошо знал литератур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был знаком со многими русскими писателями и сам немного пис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Изображение 013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203640" y="2781360"/>
            <a:ext cx="2771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547640" y="260280"/>
            <a:ext cx="61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ать,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дежда Осиповн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приходилась внучкой арапу Петр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впоследствии русскому генералу Ганнибал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pushkina_n_o.jpg"/>
          <p:cNvPicPr/>
          <p:nvPr/>
        </p:nvPicPr>
        <p:blipFill>
          <a:blip r:embed="rId2"/>
          <a:stretch/>
        </p:blipFill>
        <p:spPr>
          <a:xfrm>
            <a:off x="3059280" y="2492280"/>
            <a:ext cx="3146400" cy="3527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3278520" y="5950080"/>
            <a:ext cx="29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.О. Пушкина. 180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1403280" y="333360"/>
            <a:ext cx="64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адедуш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Абрам Петрович Ганниб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"Арап Петра Великого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7" descr="gannibal_a_p.jpg"/>
          <p:cNvPicPr/>
          <p:nvPr/>
        </p:nvPicPr>
        <p:blipFill>
          <a:blip r:embed="rId2"/>
          <a:stretch/>
        </p:blipFill>
        <p:spPr>
          <a:xfrm>
            <a:off x="3132000" y="1989000"/>
            <a:ext cx="29926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971640" y="333360"/>
            <a:ext cx="756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етей в семье Пушкиных было трое. Старшая -Ольга,  второй  - Александр и младший – Лёвуш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юбимец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C:\Documents and Settings\Admin\Рабочий стол\Пушкин\pavlischeva_o_s.jpg"/>
          <p:cNvPicPr/>
          <p:nvPr/>
        </p:nvPicPr>
        <p:blipFill>
          <a:blip r:embed="rId2"/>
          <a:stretch/>
        </p:blipFill>
        <p:spPr>
          <a:xfrm>
            <a:off x="1835280" y="2421000"/>
            <a:ext cx="1985760" cy="22780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2271240" y="479736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ль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:\Documents and Settings\Admin\Рабочий стол\Пушкин\pushkin_l_s.jpg"/>
          <p:cNvPicPr/>
          <p:nvPr/>
        </p:nvPicPr>
        <p:blipFill>
          <a:blip r:embed="rId3"/>
          <a:stretch/>
        </p:blipFill>
        <p:spPr>
          <a:xfrm>
            <a:off x="5364000" y="2421000"/>
            <a:ext cx="1944720" cy="2303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6157800" y="479736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C:\Documents and Settings\Admin\Рабочий стол\Пушкин\pushkin_11.jpg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3635280" y="3284640"/>
            <a:ext cx="1920960" cy="27432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0"/>
          <p:cNvSpPr/>
          <p:nvPr/>
        </p:nvSpPr>
        <p:spPr>
          <a:xfrm>
            <a:off x="3926880" y="609300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лексан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1187280" y="333360"/>
            <a:ext cx="7129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Любовь к родному языку маленькому Пушкину привили бабушка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Мария Алексеевна Ганнибал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 превосходно говорившая и писавшая по-русски,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яня Арина Родионовн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29545092_23255253_1208780965_2"/>
          <p:cNvPicPr/>
          <p:nvPr/>
        </p:nvPicPr>
        <p:blipFill>
          <a:blip r:embed="rId2"/>
          <a:stretch/>
        </p:blipFill>
        <p:spPr>
          <a:xfrm>
            <a:off x="4859280" y="3357720"/>
            <a:ext cx="2244960" cy="2950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gannibal_m_a"/>
          <p:cNvPicPr/>
          <p:nvPr/>
        </p:nvPicPr>
        <p:blipFill>
          <a:blip r:embed="rId3"/>
          <a:stretch/>
        </p:blipFill>
        <p:spPr>
          <a:xfrm>
            <a:off x="2124000" y="3357720"/>
            <a:ext cx="25210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258920" y="333360"/>
            <a:ext cx="68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 мае 1829 г. он посватался в Москве к юной красавице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аталии Николаевне Гончаровой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Рисунок1"/>
          <p:cNvPicPr/>
          <p:nvPr/>
        </p:nvPicPr>
        <p:blipFill>
          <a:blip r:embed="rId2"/>
          <a:stretch/>
        </p:blipFill>
        <p:spPr>
          <a:xfrm>
            <a:off x="3059280" y="2060640"/>
            <a:ext cx="313848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756000" y="260280"/>
            <a:ext cx="75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У А.С.Пушкина и Натальи Гончар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было четверо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E:\новое\новое\pushkin_a_a.jpg"/>
          <p:cNvPicPr/>
          <p:nvPr/>
        </p:nvPicPr>
        <p:blipFill>
          <a:blip r:embed="rId2"/>
          <a:stretch/>
        </p:blipFill>
        <p:spPr>
          <a:xfrm>
            <a:off x="2916360" y="3933720"/>
            <a:ext cx="1647720" cy="230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E:\новое\новое\pushkin_g_a.jpg"/>
          <p:cNvPicPr/>
          <p:nvPr/>
        </p:nvPicPr>
        <p:blipFill>
          <a:blip r:embed="rId3"/>
          <a:stretch/>
        </p:blipFill>
        <p:spPr>
          <a:xfrm>
            <a:off x="4859280" y="3933720"/>
            <a:ext cx="1584360" cy="2303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E:\новое\новое\pushkina_m_a.jpg"/>
          <p:cNvPicPr/>
          <p:nvPr/>
        </p:nvPicPr>
        <p:blipFill>
          <a:blip r:embed="rId4"/>
          <a:stretch/>
        </p:blipFill>
        <p:spPr>
          <a:xfrm>
            <a:off x="2916360" y="1413000"/>
            <a:ext cx="1577880" cy="2328840"/>
          </a:xfrm>
          <a:prstGeom prst="rect">
            <a:avLst/>
          </a:prstGeom>
          <a:ln w="0">
            <a:noFill/>
          </a:ln>
        </p:spPr>
      </p:pic>
      <p:sp>
        <p:nvSpPr>
          <p:cNvPr id="70" name="TextBox 7"/>
          <p:cNvSpPr/>
          <p:nvPr/>
        </p:nvSpPr>
        <p:spPr>
          <a:xfrm>
            <a:off x="611280" y="278136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Старшая доч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Ма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(1832-1919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8"/>
          <p:cNvSpPr/>
          <p:nvPr/>
        </p:nvSpPr>
        <p:spPr>
          <a:xfrm>
            <a:off x="611280" y="522936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Старший сын, Александр (1833-1914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6588000" y="530064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Младший сын, Григор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(1835-1913г.)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E:\новое\новое\pushkina_n_a.jpg"/>
          <p:cNvPicPr/>
          <p:nvPr/>
        </p:nvPicPr>
        <p:blipFill>
          <a:blip r:embed="rId5">
            <a:lum contrast="30000"/>
          </a:blip>
          <a:stretch/>
        </p:blipFill>
        <p:spPr>
          <a:xfrm>
            <a:off x="4716360" y="1413000"/>
            <a:ext cx="1695600" cy="23749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2"/>
          <p:cNvSpPr/>
          <p:nvPr/>
        </p:nvSpPr>
        <p:spPr>
          <a:xfrm>
            <a:off x="6443640" y="263700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Младшая дочь, Наталья (1836-1913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9:24:22Z</dcterms:created>
  <dc:creator>Admin</dc:creator>
  <dc:description>rusedu.ru</dc:description>
  <dc:language>en-US</dc:language>
  <cp:lastModifiedBy>User</cp:lastModifiedBy>
  <dcterms:modified xsi:type="dcterms:W3CDTF">2011-06-08T14:43:48Z</dcterms:modified>
  <cp:revision>13</cp:revision>
  <dc:subject/>
  <dc:title>Сказки Пушки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e000000000001024140</vt:lpwstr>
  </property>
</Properties>
</file>