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A85-3ED6-4423-82B9-4A4EAF98D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B14E-6A17-4F7B-AD43-5ED8E769CE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F0E-A28A-4FBB-ADB4-1EC49A15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FD9-9698-4AE4-B4E2-5B29C6D3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E96-B702-4FC1-8F8E-F6CDF876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13F-4F79-46EA-8264-6997175B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335-0C19-4657-AD48-D073D6E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864-CDA1-482A-98EB-BD3372E7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CCA-B900-4E96-8A76-F2B9F0B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EC1-D399-4F53-9A2C-128351D3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ADB-104A-400A-8B26-F9C748C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BC2-70BE-462B-A3B1-62DF26E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254-45E2-4C69-9329-C86035C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9B1-5710-4560-BEEC-C32CC8B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7B7-D15B-4EE6-B7C8-69836D78F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549360"/>
            <a:ext cx="8673840" cy="5162400"/>
          </a:xfrm>
          <a:prstGeom prst="rect">
            <a:avLst/>
          </a:prstGeom>
          <a:solidFill>
            <a:srgbClr val="ffccff"/>
          </a:solidFill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98989"/>
                </a:solidFill>
                <a:latin typeface="comic"/>
              </a:rPr>
              <a:t>                                        </a:t>
            </a:r>
            <a:r>
              <a:rPr b="1" lang="en-US" sz="6000" spc="-1" strike="noStrike">
                <a:solidFill>
                  <a:srgbClr val="0d0d0d"/>
                </a:solidFill>
                <a:latin typeface="comic"/>
              </a:rPr>
              <a:t>A</a:t>
            </a:r>
            <a:r>
              <a:rPr b="1" lang="ru-RU" sz="6000" spc="-1" strike="noStrike">
                <a:solidFill>
                  <a:srgbClr val="0d0d0d"/>
                </a:solidFill>
                <a:latin typeface="Calibri"/>
              </a:rPr>
              <a:t>dverbs of man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d0d0d"/>
                </a:solidFill>
                <a:latin typeface="Calibri"/>
              </a:rPr>
              <a:t>Наречия образа действ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280" y="1916280"/>
            <a:ext cx="7777080" cy="4176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Как правило, наречия образа действия образуются от прилагательных путём добавления суффикса </a:t>
            </a: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–ly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d0d0d"/>
                </a:solidFill>
                <a:latin typeface="Calibri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ic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beautiful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bad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happi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quick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areful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proper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slow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heavi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,  terrib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y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Выноска со стрелкой вправо 3"/>
          <p:cNvSpPr/>
          <p:nvPr/>
        </p:nvSpPr>
        <p:spPr>
          <a:xfrm>
            <a:off x="900000" y="3143160"/>
            <a:ext cx="2232000" cy="1000080"/>
          </a:xfrm>
          <a:prstGeom prst="rightArrowCallout">
            <a:avLst>
              <a:gd name="adj1" fmla="val 27086"/>
              <a:gd name="adj2" fmla="val 25000"/>
              <a:gd name="adj3" fmla="val 45174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люс 4"/>
          <p:cNvSpPr/>
          <p:nvPr/>
        </p:nvSpPr>
        <p:spPr>
          <a:xfrm>
            <a:off x="3132000" y="3286080"/>
            <a:ext cx="868680" cy="785880"/>
          </a:xfrm>
          <a:custGeom>
            <a:avLst/>
            <a:gdLst>
              <a:gd name="textAreaLeft" fmla="*/ 114840 w 868680"/>
              <a:gd name="textAreaRight" fmla="*/ 753840 w 868680"/>
              <a:gd name="textAreaTop" fmla="*/ 300600 h 785880"/>
              <a:gd name="textAreaBottom" fmla="*/ 485280 h 785880"/>
            </a:gdLst>
            <a:ahLst/>
            <a:rect l="textAreaLeft" t="textAreaTop" r="textAreaRight" b="textAreaBottom"/>
            <a:pathLst>
              <a:path w="868362" h="785813">
                <a:moveTo>
                  <a:pt x="115101" y="300495"/>
                </a:moveTo>
                <a:lnTo>
                  <a:pt x="341769" y="300495"/>
                </a:lnTo>
                <a:lnTo>
                  <a:pt x="341769" y="104159"/>
                </a:lnTo>
                <a:lnTo>
                  <a:pt x="526593" y="104159"/>
                </a:lnTo>
                <a:lnTo>
                  <a:pt x="526593" y="300495"/>
                </a:lnTo>
                <a:lnTo>
                  <a:pt x="753261" y="300495"/>
                </a:lnTo>
                <a:lnTo>
                  <a:pt x="753261" y="485318"/>
                </a:lnTo>
                <a:lnTo>
                  <a:pt x="526593" y="485318"/>
                </a:lnTo>
                <a:lnTo>
                  <a:pt x="526593" y="681654"/>
                </a:lnTo>
                <a:lnTo>
                  <a:pt x="341769" y="681654"/>
                </a:lnTo>
                <a:lnTo>
                  <a:pt x="341769" y="485318"/>
                </a:lnTo>
                <a:lnTo>
                  <a:pt x="115101" y="48531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 со стрелкой вправо 5"/>
          <p:cNvSpPr/>
          <p:nvPr/>
        </p:nvSpPr>
        <p:spPr>
          <a:xfrm>
            <a:off x="4067280" y="3214800"/>
            <a:ext cx="1490400" cy="928440"/>
          </a:xfrm>
          <a:prstGeom prst="right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авно 7"/>
          <p:cNvSpPr/>
          <p:nvPr/>
        </p:nvSpPr>
        <p:spPr>
          <a:xfrm>
            <a:off x="5651640" y="3357720"/>
            <a:ext cx="914400" cy="642960"/>
          </a:xfrm>
          <a:custGeom>
            <a:avLst/>
            <a:gdLst>
              <a:gd name="textAreaLeft" fmla="*/ 120960 w 914400"/>
              <a:gd name="textAreaRight" fmla="*/ 793440 w 914400"/>
              <a:gd name="textAreaTop" fmla="*/ 132480 h 642960"/>
              <a:gd name="textAreaBottom" fmla="*/ 510480 h 642960"/>
            </a:gdLst>
            <a:ahLst/>
            <a:rect l="textAreaLeft" t="textAreaTop" r="textAreaRight" b="textAreaBottom"/>
            <a:pathLst>
              <a:path w="914400" h="642937">
                <a:moveTo>
                  <a:pt x="121204" y="132445"/>
                </a:moveTo>
                <a:lnTo>
                  <a:pt x="793196" y="132445"/>
                </a:lnTo>
                <a:lnTo>
                  <a:pt x="793196" y="283664"/>
                </a:lnTo>
                <a:lnTo>
                  <a:pt x="121204" y="283664"/>
                </a:lnTo>
                <a:close/>
                <a:moveTo>
                  <a:pt x="121204" y="359273"/>
                </a:moveTo>
                <a:lnTo>
                  <a:pt x="793196" y="359273"/>
                </a:lnTo>
                <a:lnTo>
                  <a:pt x="793196" y="510492"/>
                </a:lnTo>
                <a:lnTo>
                  <a:pt x="121204" y="510492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6786720" y="3214800"/>
            <a:ext cx="1368360" cy="92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d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9"/>
          <p:cNvSpPr/>
          <p:nvPr/>
        </p:nvSpPr>
        <p:spPr>
          <a:xfrm rot="21099000">
            <a:off x="1243080" y="252360"/>
            <a:ext cx="6912000" cy="1254240"/>
          </a:xfrm>
          <a:prstGeom prst="horizontalScroll">
            <a:avLst>
              <a:gd name="adj" fmla="val 1534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704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entury"/>
              </a:rPr>
              <a:t>Adverb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речия,  которые  по  форме  не  отличаются  от  прилагательны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Блок-схема: знак завершения 4"/>
          <p:cNvSpPr/>
          <p:nvPr/>
        </p:nvSpPr>
        <p:spPr>
          <a:xfrm>
            <a:off x="755640" y="1989000"/>
            <a:ext cx="2232000" cy="64800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ad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знак завершения 5"/>
          <p:cNvSpPr/>
          <p:nvPr/>
        </p:nvSpPr>
        <p:spPr>
          <a:xfrm>
            <a:off x="5940360" y="1989000"/>
            <a:ext cx="2303640" cy="648000"/>
          </a:xfrm>
          <a:prstGeom prst="flowChartTermina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ad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826920" y="3068640"/>
            <a:ext cx="1873440" cy="252108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7"/>
          <p:cNvSpPr/>
          <p:nvPr/>
        </p:nvSpPr>
        <p:spPr>
          <a:xfrm>
            <a:off x="1692360" y="2637000"/>
            <a:ext cx="215640" cy="360360"/>
          </a:xfrm>
          <a:prstGeom prst="down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8"/>
          <p:cNvSpPr/>
          <p:nvPr/>
        </p:nvSpPr>
        <p:spPr>
          <a:xfrm>
            <a:off x="6227640" y="3068640"/>
            <a:ext cx="1871640" cy="25923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9"/>
          <p:cNvSpPr/>
          <p:nvPr/>
        </p:nvSpPr>
        <p:spPr>
          <a:xfrm flipH="1">
            <a:off x="6875640" y="2637000"/>
            <a:ext cx="217440" cy="36036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знак завершения 10"/>
          <p:cNvSpPr/>
          <p:nvPr/>
        </p:nvSpPr>
        <p:spPr>
          <a:xfrm>
            <a:off x="2843280" y="328464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право 11"/>
          <p:cNvSpPr/>
          <p:nvPr/>
        </p:nvSpPr>
        <p:spPr>
          <a:xfrm>
            <a:off x="2124000" y="335772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знак завершения 12"/>
          <p:cNvSpPr/>
          <p:nvPr/>
        </p:nvSpPr>
        <p:spPr>
          <a:xfrm>
            <a:off x="4572000" y="3284640"/>
            <a:ext cx="141912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ы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3"/>
          <p:cNvSpPr/>
          <p:nvPr/>
        </p:nvSpPr>
        <p:spPr>
          <a:xfrm rot="10800000">
            <a:off x="6084720" y="335772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знак завершения 14"/>
          <p:cNvSpPr/>
          <p:nvPr/>
        </p:nvSpPr>
        <p:spPr>
          <a:xfrm>
            <a:off x="2843280" y="378936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с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знак завершения 15"/>
          <p:cNvSpPr/>
          <p:nvPr/>
        </p:nvSpPr>
        <p:spPr>
          <a:xfrm>
            <a:off x="4572000" y="3789360"/>
            <a:ext cx="141912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право 16"/>
          <p:cNvSpPr/>
          <p:nvPr/>
        </p:nvSpPr>
        <p:spPr>
          <a:xfrm>
            <a:off x="2124000" y="3789360"/>
            <a:ext cx="617760" cy="287280"/>
          </a:xfrm>
          <a:prstGeom prst="rightArrow">
            <a:avLst>
              <a:gd name="adj1" fmla="val 50000"/>
              <a:gd name="adj2" fmla="val 50026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право 18"/>
          <p:cNvSpPr/>
          <p:nvPr/>
        </p:nvSpPr>
        <p:spPr>
          <a:xfrm rot="10800000">
            <a:off x="6011640" y="386028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знак завершения 17"/>
          <p:cNvSpPr/>
          <p:nvPr/>
        </p:nvSpPr>
        <p:spPr>
          <a:xfrm>
            <a:off x="2843280" y="4292640"/>
            <a:ext cx="144144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по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знак завершения 19"/>
          <p:cNvSpPr/>
          <p:nvPr/>
        </p:nvSpPr>
        <p:spPr>
          <a:xfrm>
            <a:off x="4572000" y="4292640"/>
            <a:ext cx="1440000" cy="43164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п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20"/>
          <p:cNvSpPr/>
          <p:nvPr/>
        </p:nvSpPr>
        <p:spPr>
          <a:xfrm rot="1185000">
            <a:off x="2153880" y="4245120"/>
            <a:ext cx="619200" cy="28872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501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22"/>
          <p:cNvSpPr/>
          <p:nvPr/>
        </p:nvSpPr>
        <p:spPr>
          <a:xfrm rot="9975000">
            <a:off x="6036840" y="4362120"/>
            <a:ext cx="619200" cy="28728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228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знак завершения 23"/>
          <p:cNvSpPr/>
          <p:nvPr/>
        </p:nvSpPr>
        <p:spPr>
          <a:xfrm>
            <a:off x="2843280" y="4797360"/>
            <a:ext cx="144144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з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знак завершения 24"/>
          <p:cNvSpPr/>
          <p:nvPr/>
        </p:nvSpPr>
        <p:spPr>
          <a:xfrm>
            <a:off x="4572000" y="4797360"/>
            <a:ext cx="151272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зд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25"/>
          <p:cNvSpPr/>
          <p:nvPr/>
        </p:nvSpPr>
        <p:spPr>
          <a:xfrm rot="1318800">
            <a:off x="2152800" y="474012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88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26"/>
          <p:cNvSpPr/>
          <p:nvPr/>
        </p:nvSpPr>
        <p:spPr>
          <a:xfrm rot="9976200">
            <a:off x="6105600" y="4780800"/>
            <a:ext cx="619200" cy="289080"/>
          </a:xfrm>
          <a:prstGeom prst="right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222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знак завершения 29"/>
          <p:cNvSpPr/>
          <p:nvPr/>
        </p:nvSpPr>
        <p:spPr>
          <a:xfrm>
            <a:off x="2843280" y="5300640"/>
            <a:ext cx="144144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знак завершения 31"/>
          <p:cNvSpPr/>
          <p:nvPr/>
        </p:nvSpPr>
        <p:spPr>
          <a:xfrm>
            <a:off x="4572000" y="5300640"/>
            <a:ext cx="1440000" cy="43200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32"/>
          <p:cNvSpPr/>
          <p:nvPr/>
        </p:nvSpPr>
        <p:spPr>
          <a:xfrm rot="1617600">
            <a:off x="2152440" y="5227560"/>
            <a:ext cx="618840" cy="289080"/>
          </a:xfrm>
          <a:prstGeom prst="rightArrow">
            <a:avLst>
              <a:gd name="adj1" fmla="val 50000"/>
              <a:gd name="adj2" fmla="val 4995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58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33"/>
          <p:cNvSpPr/>
          <p:nvPr/>
        </p:nvSpPr>
        <p:spPr>
          <a:xfrm rot="10008000">
            <a:off x="6040440" y="5253840"/>
            <a:ext cx="636480" cy="274680"/>
          </a:xfrm>
          <a:prstGeom prst="rightArrow">
            <a:avLst>
              <a:gd name="adj1" fmla="val 50000"/>
              <a:gd name="adj2" fmla="val 4998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6192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239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ечиями образа действия являются именн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,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har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a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hardl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atel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ют другой смысл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700280"/>
            <a:ext cx="8642160" cy="3889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 jumps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is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igh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educ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he  works 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e  can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hardly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e came  home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They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ave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met 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lately</a:t>
            </a:r>
            <a:r>
              <a:rPr b="1" i="1" lang="en-US" sz="24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Блок-схема: знак завершения 3"/>
          <p:cNvSpPr/>
          <p:nvPr/>
        </p:nvSpPr>
        <p:spPr>
          <a:xfrm>
            <a:off x="395280" y="2349360"/>
            <a:ext cx="180036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знак завершения 4"/>
          <p:cNvSpPr/>
          <p:nvPr/>
        </p:nvSpPr>
        <p:spPr>
          <a:xfrm>
            <a:off x="4932360" y="2276640"/>
            <a:ext cx="1800360" cy="5029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igh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27640" y="1700280"/>
          <a:ext cx="215640" cy="388944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38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sp>
        <p:nvSpPr>
          <p:cNvPr id="91" name="Блок-схема: знак завершения 6"/>
          <p:cNvSpPr/>
          <p:nvPr/>
        </p:nvSpPr>
        <p:spPr>
          <a:xfrm>
            <a:off x="468360" y="3284640"/>
            <a:ext cx="18716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знак завершения 7"/>
          <p:cNvSpPr/>
          <p:nvPr/>
        </p:nvSpPr>
        <p:spPr>
          <a:xfrm>
            <a:off x="4932360" y="3284640"/>
            <a:ext cx="17780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hard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знак завершения 8"/>
          <p:cNvSpPr/>
          <p:nvPr/>
        </p:nvSpPr>
        <p:spPr>
          <a:xfrm>
            <a:off x="468360" y="4221000"/>
            <a:ext cx="187164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знак завершения 9"/>
          <p:cNvSpPr/>
          <p:nvPr/>
        </p:nvSpPr>
        <p:spPr>
          <a:xfrm>
            <a:off x="5003640" y="4149720"/>
            <a:ext cx="185112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late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знак завершения 10"/>
          <p:cNvSpPr/>
          <p:nvPr/>
        </p:nvSpPr>
        <p:spPr>
          <a:xfrm>
            <a:off x="6948360" y="3284640"/>
            <a:ext cx="180036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ед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знак завершения 11"/>
          <p:cNvSpPr/>
          <p:nvPr/>
        </p:nvSpPr>
        <p:spPr>
          <a:xfrm>
            <a:off x="6948360" y="2276640"/>
            <a:ext cx="1800360" cy="5029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знак завершения 12"/>
          <p:cNvSpPr/>
          <p:nvPr/>
        </p:nvSpPr>
        <p:spPr>
          <a:xfrm>
            <a:off x="7020000" y="4221000"/>
            <a:ext cx="180000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д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знак завершения 13"/>
          <p:cNvSpPr/>
          <p:nvPr/>
        </p:nvSpPr>
        <p:spPr>
          <a:xfrm>
            <a:off x="2627280" y="2349360"/>
            <a:ext cx="163512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с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знак завершения 14"/>
          <p:cNvSpPr/>
          <p:nvPr/>
        </p:nvSpPr>
        <p:spPr>
          <a:xfrm>
            <a:off x="2556000" y="3284640"/>
            <a:ext cx="1655640" cy="50472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знак завершения 15"/>
          <p:cNvSpPr/>
          <p:nvPr/>
        </p:nvSpPr>
        <p:spPr>
          <a:xfrm>
            <a:off x="2556000" y="4221000"/>
            <a:ext cx="1655640" cy="505080"/>
          </a:xfrm>
          <a:prstGeom prst="flowChartTerminator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з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7632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28160" rIns="128160" tIns="84960" bIns="84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Горизонтальный свиток 3"/>
          <p:cNvSpPr/>
          <p:nvPr/>
        </p:nvSpPr>
        <p:spPr>
          <a:xfrm rot="20668200">
            <a:off x="923400" y="1836360"/>
            <a:ext cx="7632720" cy="3530520"/>
          </a:xfrm>
          <a:prstGeom prst="horizontalScroll">
            <a:avLst>
              <a:gd name="adj" fmla="val 25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13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Calibri"/>
              </a:rPr>
              <a:t>Thank  you  for  your  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20:25:48Z</dcterms:created>
  <dc:creator>Odry</dc:creator>
  <dc:description/>
  <dc:language>en-US</dc:language>
  <cp:lastModifiedBy>Преподаватель</cp:lastModifiedBy>
  <dcterms:modified xsi:type="dcterms:W3CDTF">2018-08-10T07:10:00Z</dcterms:modified>
  <cp:revision>67</cp:revision>
  <dc:subject/>
  <dc:title>Adverbs </dc:title>
</cp:coreProperties>
</file>