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923-1639-49DE-B155-D62722BE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F7D-220E-48B2-831B-BA033AE3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70A-57D7-4A1C-ADC7-6C108C4C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676-8968-4999-9FD5-1FEE6249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0D9-B38C-4096-9F10-EB574318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EBE-0F6D-4337-9C97-F8B2BE8E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28E-6666-42E0-8112-A05F087C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4A7-8AF8-4534-AAC2-2FF27B7E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467-C6C3-4930-A4F8-AC999252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063-7665-42E2-AA62-9671D5F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4A5-E7F6-461E-8ED1-AFC0DB4C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6B9-AF0C-4B89-B566-78E6D3A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EFF-0A10-4A6C-A388-3A43FF534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7;&#1086;&#1083;&#1085;&#1077;&#1095;&#1085;&#1072;&#1103; &#1089;&#1080;&#1089;&#1090;&#1077;&#1084;&#1072;" TargetMode="External"/><Relationship Id="rId2" Type="http://schemas.openxmlformats.org/officeDocument/2006/relationships/hyperlink" Target="259,4,&#1055;&#1083;&#1072;&#1085;&#1077;&#1090;&#1099;" TargetMode="External"/><Relationship Id="rId3" Type="http://schemas.openxmlformats.org/officeDocument/2006/relationships/hyperlink" Target="260,5,&#1055;&#1077;&#1088;&#1074;&#1099;&#1077; &#1075;&#1086;&#1089;&#1090;&#1080; &#1082;&#1086;&#1089;&#1084;&#1086;&#1089;&#1072; " TargetMode="External"/><Relationship Id="rId4" Type="http://schemas.openxmlformats.org/officeDocument/2006/relationships/hyperlink" Target="261,6,&#1055;&#1077;&#1088;&#1074;&#1099;&#1081; &#1095;&#1077;&#1083;&#1086;&#1074;&#1077;&#1082; &#1074; &#1082;&#1086;&#1089;&#1084;&#1086;&#1089;&#1077;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36840" y="4036680"/>
            <a:ext cx="484812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Подготовил воспитатель </a:t>
            </a:r>
            <a:br>
              <a:rPr sz="2800"/>
            </a:br>
            <a:r>
              <a:rPr b="0" lang="ru-RU" sz="28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МБДОУ №74</a:t>
            </a:r>
            <a:br>
              <a:rPr sz="2800"/>
            </a:br>
            <a:r>
              <a:rPr b="0" lang="ru-RU" sz="28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Попова Лилия Владимировн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81120" y="6427800"/>
            <a:ext cx="62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486080"/>
            <a:ext cx="701352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12 апреля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«День космонавтики»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1400" y="1095480"/>
            <a:ext cx="6092640" cy="4157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81200" y="5450040"/>
            <a:ext cx="46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корабль «Восток-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38800" y="344520"/>
            <a:ext cx="2782800" cy="5880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38800" y="6224760"/>
            <a:ext cx="27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скаф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695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07a3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1c981c"/>
                </a:solidFill>
                <a:latin typeface="Arial"/>
              </a:rPr>
              <a:t>д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766d4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e41908"/>
                </a:solidFill>
                <a:latin typeface="Arial"/>
              </a:rPr>
              <a:t>ж</a:t>
            </a:r>
            <a:r>
              <a:rPr b="0" lang="ru-RU" sz="4400" spc="-1" strike="noStrike">
                <a:solidFill>
                  <a:srgbClr val="ef9437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4400" spc="-1" strike="noStrike">
                <a:solidFill>
                  <a:srgbClr val="1d41d5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36be52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360" y="9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1"/>
              </a:rPr>
              <a:t>Солнеч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/>
              </a:rPr>
              <a:t>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3"/>
              </a:rPr>
              <a:t>Первые гости косм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4"/>
              </a:rPr>
              <a:t>Первые люди в космо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16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07a3"/>
                </a:solidFill>
                <a:latin typeface="Times New Roman"/>
                <a:ea typeface="Times New Roman"/>
              </a:rPr>
              <a:t>Солн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400" y="814320"/>
            <a:ext cx="90662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нечная система – это огромное место с большим количеством пустого прос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ства между планетами. Но есть также астероиды, кометы, каменные и лед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ые объекты, карликовые плане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которые еще предстоит исслед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39720" y="1959120"/>
            <a:ext cx="6032520" cy="407016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1908"/>
                </a:solidFill>
                <a:latin typeface="Arial"/>
              </a:rPr>
              <a:t>План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6160" y="9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лнечной системе на данный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всего 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ет и од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езда,которой является 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84640" y="957240"/>
            <a:ext cx="4691160" cy="465156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6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Первые гости космо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280" y="803160"/>
            <a:ext cx="902628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ка и Стрелка — советские собаки-космонавты, совершив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полёт на корабле «Спутник-5» 19 августа 1960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5430960" cy="4091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88160" y="3170520"/>
            <a:ext cx="31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ка и Стре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полетом в кос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41400" y="6435720"/>
            <a:ext cx="492120" cy="3938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3840"/>
              <a:gd name="textAreaBottom" fmla="*/ 369360 h 393840"/>
            </a:gdLst>
            <a:ahLst/>
            <a:rect l="textAreaLeft" t="textAreaTop" r="textAreaRight" b="textAreaBottom"/>
            <a:pathLst>
              <a:path w="26985" h="21600">
                <a:moveTo>
                  <a:pt x="0" y="0"/>
                </a:moveTo>
                <a:lnTo>
                  <a:pt x="26985" y="0"/>
                </a:lnTo>
                <a:lnTo>
                  <a:pt x="26985" y="21600"/>
                </a:lnTo>
                <a:lnTo>
                  <a:pt x="0" y="21600"/>
                </a:lnTo>
                <a:close/>
              </a:path>
              <a:path fill="lightenLess" w="26985" h="21600">
                <a:moveTo>
                  <a:pt x="0" y="0"/>
                </a:moveTo>
                <a:lnTo>
                  <a:pt x="26985" y="0"/>
                </a:lnTo>
                <a:lnTo>
                  <a:pt x="25635" y="1350"/>
                </a:lnTo>
                <a:lnTo>
                  <a:pt x="1350" y="1350"/>
                </a:lnTo>
                <a:close/>
              </a:path>
              <a:path fill="darken" w="26985" h="21600">
                <a:moveTo>
                  <a:pt x="26985" y="0"/>
                </a:moveTo>
                <a:lnTo>
                  <a:pt x="26985" y="21600"/>
                </a:lnTo>
                <a:lnTo>
                  <a:pt x="25635" y="20250"/>
                </a:lnTo>
                <a:lnTo>
                  <a:pt x="25635" y="1350"/>
                </a:lnTo>
                <a:close/>
              </a:path>
              <a:path fill="darkenLess" w="26985" h="21600">
                <a:moveTo>
                  <a:pt x="2698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35" y="20250"/>
                </a:lnTo>
                <a:close/>
              </a:path>
              <a:path fill="lighten" w="2698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85" h="21600">
                <a:moveTo>
                  <a:pt x="6449" y="10800"/>
                </a:moveTo>
                <a:lnTo>
                  <a:pt x="20536" y="3756"/>
                </a:lnTo>
                <a:lnTo>
                  <a:pt x="20536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1047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6be52"/>
                </a:solidFill>
                <a:latin typeface="Times New Roman"/>
                <a:ea typeface="Times New Roman"/>
              </a:rPr>
              <a:t>Первые люди в космо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89520" y="1281240"/>
            <a:ext cx="2965680" cy="503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520" y="800280"/>
            <a:ext cx="5742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КСЕЕВИЧ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апреля 1961 года Юрий Гагарин ста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м человеком в мировой истории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ившим полёт в космическо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ранство. Ракета-носитель «Восток» с кораблём «Восток-1», на борту которого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лся Гагарин, была запущена с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одро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йконур. После 108 мину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ё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гарин успешно приземлился 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товской области, неподалёку о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нгельса. Начиная с 12 апреля 1962 года, день полёта Гагарина в космос бы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влен праздник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ём космонав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720720"/>
            <a:ext cx="491004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А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советский человек в космосе,                          второй человек в мире, совершивший                                   орбитальный космический полёт, самый            молодой космонавт в истории. Герой                      Советского Союза (9 августа 1961 года).              Дублёр Юрия Гагарина; доктор военных               наук, доц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преле 1961 года был дублёром Юрия                 Гагарина при подготовке к первому в мире полёту в космос. В августе 1961 г.                                 совершил суточный орбитальный полёт на космическом корабле «Восток-2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08600" y="290520"/>
            <a:ext cx="4114800" cy="57704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1680" y="-15840"/>
            <a:ext cx="9196200" cy="68994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360" y="-158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08560" y="-15840"/>
            <a:ext cx="30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ДИСЛА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Андрей</dc:creator>
  <dc:description/>
  <dc:language>en-US</dc:language>
  <cp:lastModifiedBy/>
  <dcterms:modified xsi:type="dcterms:W3CDTF">2018-04-19T18:24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34</vt:lpwstr>
  </property>
</Properties>
</file>