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9DE9-A9B0-46EE-BECC-EF80243D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120A-94CC-4715-AB67-9BCD8D65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98D-B48E-4EA0-8165-D5E53878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57F5-8C69-485A-AC32-A51E476F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6F1-BD84-4A2A-AB62-4FB26DA1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F9D-262D-4B00-B8A6-C7B4AC1C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AF77-1007-49EE-9C6C-BA1E7143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FD6-B993-416B-AF3A-F57659F9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F26-E3F1-4FED-8203-61EBB382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381-72B2-481B-9FD8-0FBA3AA5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6EF-3B28-4EE4-BD41-E676DADC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D56-BF72-4A05-B596-1F78E840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0979-6EEF-49EA-AF6C-84FAE6412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3,&#1057;&#1086;&#1083;&#1085;&#1077;&#1095;&#1085;&#1072;&#1103; &#1089;&#1080;&#1089;&#1090;&#1077;&#1084;&#1072;" TargetMode="External"/><Relationship Id="rId2" Type="http://schemas.openxmlformats.org/officeDocument/2006/relationships/hyperlink" Target="259,4,&#1055;&#1083;&#1072;&#1085;&#1077;&#1090;&#1099;" TargetMode="External"/><Relationship Id="rId3" Type="http://schemas.openxmlformats.org/officeDocument/2006/relationships/hyperlink" Target="260,5,&#1055;&#1077;&#1088;&#1074;&#1099;&#1077; &#1075;&#1086;&#1089;&#1090;&#1080; &#1082;&#1086;&#1089;&#1084;&#1086;&#1089;&#1072; " TargetMode="External"/><Relationship Id="rId4" Type="http://schemas.openxmlformats.org/officeDocument/2006/relationships/hyperlink" Target="261,6,&#1055;&#1077;&#1088;&#1074;&#1099;&#1081; &#1095;&#1077;&#1083;&#1086;&#1074;&#1077;&#1082; &#1074; &#1082;&#1086;&#1089;&#1084;&#1086;&#1089;&#1077;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36840" y="4036680"/>
            <a:ext cx="484812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f9437"/>
                </a:solidFill>
                <a:latin typeface="Times New Roman"/>
                <a:ea typeface="Times New Roman"/>
              </a:rPr>
              <a:t>Подготовил воспитатель </a:t>
            </a:r>
            <a:br>
              <a:rPr sz="2800"/>
            </a:br>
            <a:r>
              <a:rPr b="0" lang="ru-RU" sz="2800" spc="-1" strike="noStrike">
                <a:solidFill>
                  <a:srgbClr val="ef9437"/>
                </a:solidFill>
                <a:latin typeface="Times New Roman"/>
                <a:ea typeface="Times New Roman"/>
              </a:rPr>
              <a:t>МБДОУ №74</a:t>
            </a:r>
            <a:br>
              <a:rPr sz="2800"/>
            </a:br>
            <a:r>
              <a:rPr b="0" lang="ru-RU" sz="2800" spc="-1" strike="noStrike">
                <a:solidFill>
                  <a:srgbClr val="ef9437"/>
                </a:solidFill>
                <a:latin typeface="Times New Roman"/>
                <a:ea typeface="Times New Roman"/>
              </a:rPr>
              <a:t>Попова Лилия Владимировна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81120" y="6427800"/>
            <a:ext cx="6270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f9437"/>
                </a:solidFill>
                <a:latin typeface="Times New Roman"/>
                <a:ea typeface="Times New Roman"/>
              </a:rPr>
              <a:t>201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486080"/>
            <a:ext cx="701352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Black"/>
              </a:rPr>
              <a:t>12 апреля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Black"/>
              </a:rPr>
              <a:t>«День космонавтики»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1400" y="1095480"/>
            <a:ext cx="6092640" cy="4157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81200" y="5450040"/>
            <a:ext cx="46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мический корабль «Восток-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238800" y="344520"/>
            <a:ext cx="2782800" cy="5880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238800" y="6224760"/>
            <a:ext cx="27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мический скафан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1038240" y="6423120"/>
            <a:ext cx="501480" cy="392040"/>
          </a:xfrm>
          <a:custGeom>
            <a:avLst/>
            <a:gdLst>
              <a:gd name="textAreaLeft" fmla="*/ 24480 w 501480"/>
              <a:gd name="textAreaRight" fmla="*/ 477000 w 50148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624" h="21600">
                <a:moveTo>
                  <a:pt x="0" y="0"/>
                </a:moveTo>
                <a:lnTo>
                  <a:pt x="27624" y="0"/>
                </a:lnTo>
                <a:lnTo>
                  <a:pt x="27624" y="21600"/>
                </a:lnTo>
                <a:lnTo>
                  <a:pt x="0" y="21600"/>
                </a:lnTo>
                <a:close/>
              </a:path>
              <a:path fill="lightenLess" w="27624" h="21600">
                <a:moveTo>
                  <a:pt x="0" y="0"/>
                </a:moveTo>
                <a:lnTo>
                  <a:pt x="27624" y="0"/>
                </a:lnTo>
                <a:lnTo>
                  <a:pt x="26274" y="1350"/>
                </a:lnTo>
                <a:lnTo>
                  <a:pt x="1350" y="1350"/>
                </a:lnTo>
                <a:close/>
              </a:path>
              <a:path fill="darken" w="27624" h="21600">
                <a:moveTo>
                  <a:pt x="27624" y="0"/>
                </a:moveTo>
                <a:lnTo>
                  <a:pt x="27624" y="21600"/>
                </a:lnTo>
                <a:lnTo>
                  <a:pt x="26274" y="20250"/>
                </a:lnTo>
                <a:lnTo>
                  <a:pt x="26274" y="1350"/>
                </a:lnTo>
                <a:close/>
              </a:path>
              <a:path fill="darkenLess" w="27624" h="21600">
                <a:moveTo>
                  <a:pt x="276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274" y="20250"/>
                </a:lnTo>
                <a:close/>
              </a:path>
              <a:path fill="lighten" w="276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624" h="21600">
                <a:moveTo>
                  <a:pt x="6768" y="3756"/>
                </a:moveTo>
                <a:lnTo>
                  <a:pt x="20856" y="10800"/>
                </a:lnTo>
                <a:lnTo>
                  <a:pt x="676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423120"/>
            <a:ext cx="504720" cy="3920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803" h="21600">
                <a:moveTo>
                  <a:pt x="0" y="0"/>
                </a:moveTo>
                <a:lnTo>
                  <a:pt x="27803" y="0"/>
                </a:lnTo>
                <a:lnTo>
                  <a:pt x="27803" y="21600"/>
                </a:lnTo>
                <a:lnTo>
                  <a:pt x="0" y="21600"/>
                </a:lnTo>
                <a:close/>
              </a:path>
              <a:path fill="lightenLess" w="27803" h="21600">
                <a:moveTo>
                  <a:pt x="0" y="0"/>
                </a:moveTo>
                <a:lnTo>
                  <a:pt x="27803" y="0"/>
                </a:lnTo>
                <a:lnTo>
                  <a:pt x="26453" y="1350"/>
                </a:lnTo>
                <a:lnTo>
                  <a:pt x="1350" y="1350"/>
                </a:lnTo>
                <a:close/>
              </a:path>
              <a:path fill="darken" w="27803" h="21600">
                <a:moveTo>
                  <a:pt x="27803" y="0"/>
                </a:moveTo>
                <a:lnTo>
                  <a:pt x="27803" y="21600"/>
                </a:lnTo>
                <a:lnTo>
                  <a:pt x="26453" y="20250"/>
                </a:lnTo>
                <a:lnTo>
                  <a:pt x="26453" y="1350"/>
                </a:lnTo>
                <a:close/>
              </a:path>
              <a:path fill="darkenLess" w="27803" h="21600">
                <a:moveTo>
                  <a:pt x="278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53" y="20250"/>
                </a:lnTo>
                <a:close/>
              </a:path>
              <a:path fill="lighten" w="278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803" h="21600">
                <a:moveTo>
                  <a:pt x="13901" y="3800"/>
                </a:moveTo>
                <a:lnTo>
                  <a:pt x="16491" y="6425"/>
                </a:ln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lnTo>
                  <a:pt x="20901" y="10800"/>
                </a:lnTo>
                <a:lnTo>
                  <a:pt x="19239" y="10800"/>
                </a:lnTo>
                <a:lnTo>
                  <a:pt x="19239" y="18028"/>
                </a:lnTo>
                <a:lnTo>
                  <a:pt x="8564" y="18028"/>
                </a:lnTo>
                <a:lnTo>
                  <a:pt x="8564" y="10800"/>
                </a:lnTo>
                <a:lnTo>
                  <a:pt x="6901" y="10800"/>
                </a:lnTo>
                <a:close/>
              </a:path>
              <a:path fill="darkenLess" w="27803" h="21600">
                <a:moveTo>
                  <a:pt x="16491" y="6425"/>
                </a:move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close/>
              </a:path>
              <a:path fill="darkenLess" w="27803" h="21600">
                <a:moveTo>
                  <a:pt x="12974" y="14318"/>
                </a:moveTo>
                <a:lnTo>
                  <a:pt x="14829" y="14318"/>
                </a:lnTo>
                <a:lnTo>
                  <a:pt x="14829" y="18028"/>
                </a:lnTo>
                <a:lnTo>
                  <a:pt x="19239" y="18028"/>
                </a:lnTo>
                <a:lnTo>
                  <a:pt x="19239" y="10800"/>
                </a:lnTo>
                <a:lnTo>
                  <a:pt x="8564" y="10800"/>
                </a:lnTo>
                <a:lnTo>
                  <a:pt x="8564" y="18028"/>
                </a:lnTo>
                <a:lnTo>
                  <a:pt x="12974" y="18028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400" y="6423120"/>
            <a:ext cx="492120" cy="392040"/>
          </a:xfrm>
          <a:custGeom>
            <a:avLst/>
            <a:gdLst>
              <a:gd name="textAreaLeft" fmla="*/ 24480 w 492120"/>
              <a:gd name="textAreaRight" fmla="*/ 467640 w 4921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109" h="21600">
                <a:moveTo>
                  <a:pt x="0" y="0"/>
                </a:moveTo>
                <a:lnTo>
                  <a:pt x="27109" y="0"/>
                </a:lnTo>
                <a:lnTo>
                  <a:pt x="27109" y="21600"/>
                </a:lnTo>
                <a:lnTo>
                  <a:pt x="0" y="21600"/>
                </a:lnTo>
                <a:close/>
              </a:path>
              <a:path fill="lightenLess" w="27109" h="21600">
                <a:moveTo>
                  <a:pt x="0" y="0"/>
                </a:moveTo>
                <a:lnTo>
                  <a:pt x="27109" y="0"/>
                </a:lnTo>
                <a:lnTo>
                  <a:pt x="25759" y="1350"/>
                </a:lnTo>
                <a:lnTo>
                  <a:pt x="1350" y="1350"/>
                </a:lnTo>
                <a:close/>
              </a:path>
              <a:path fill="darken" w="27109" h="21600">
                <a:moveTo>
                  <a:pt x="27109" y="0"/>
                </a:moveTo>
                <a:lnTo>
                  <a:pt x="27109" y="21600"/>
                </a:lnTo>
                <a:lnTo>
                  <a:pt x="25759" y="20250"/>
                </a:lnTo>
                <a:lnTo>
                  <a:pt x="25759" y="1350"/>
                </a:lnTo>
                <a:close/>
              </a:path>
              <a:path fill="darkenLess" w="27109" h="21600">
                <a:moveTo>
                  <a:pt x="2710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759" y="20250"/>
                </a:lnTo>
                <a:close/>
              </a:path>
              <a:path fill="lighten" w="2710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09" h="21600">
                <a:moveTo>
                  <a:pt x="6511" y="10800"/>
                </a:moveTo>
                <a:lnTo>
                  <a:pt x="20598" y="3756"/>
                </a:lnTo>
                <a:lnTo>
                  <a:pt x="2059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6956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92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07a3"/>
                </a:solidFill>
                <a:latin typeface="Arial"/>
              </a:rPr>
              <a:t>С</a:t>
            </a:r>
            <a:r>
              <a:rPr b="0" lang="ru-RU" sz="4400" spc="-1" strike="noStrike">
                <a:solidFill>
                  <a:srgbClr val="c0504d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1c981c"/>
                </a:solidFill>
                <a:latin typeface="Arial"/>
              </a:rPr>
              <a:t>д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е</a:t>
            </a:r>
            <a:r>
              <a:rPr b="0" lang="ru-RU" sz="4400" spc="-1" strike="noStrike">
                <a:solidFill>
                  <a:srgbClr val="0766d4"/>
                </a:solidFill>
                <a:latin typeface="Arial"/>
              </a:rPr>
              <a:t>р</a:t>
            </a:r>
            <a:r>
              <a:rPr b="0" lang="ru-RU" sz="4400" spc="-1" strike="noStrike">
                <a:solidFill>
                  <a:srgbClr val="e41908"/>
                </a:solidFill>
                <a:latin typeface="Arial"/>
              </a:rPr>
              <a:t>ж</a:t>
            </a:r>
            <a:r>
              <a:rPr b="0" lang="ru-RU" sz="4400" spc="-1" strike="noStrike">
                <a:solidFill>
                  <a:srgbClr val="ef9437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4400" spc="-1" strike="noStrike">
                <a:solidFill>
                  <a:srgbClr val="1d41d5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36be52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360" y="9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1"/>
              </a:rPr>
              <a:t>Солнечн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2"/>
              </a:rPr>
              <a:t>План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3"/>
              </a:rPr>
              <a:t>Первые гости косм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4"/>
              </a:rPr>
              <a:t>Первые люди в космо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-16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407a3"/>
                </a:solidFill>
                <a:latin typeface="Times New Roman"/>
                <a:ea typeface="Times New Roman"/>
              </a:rPr>
              <a:t>Солнеч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400" y="814320"/>
            <a:ext cx="906624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лнечная система – это огромное место с большим количеством пустого прос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ства между планетами. Но есть также астероиды, кометы, каменные и лед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ые объекты, карликовые планет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которые еще предстоит исслед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39720" y="1959120"/>
            <a:ext cx="6032520" cy="407016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41400" y="6423120"/>
            <a:ext cx="492120" cy="392040"/>
          </a:xfrm>
          <a:custGeom>
            <a:avLst/>
            <a:gdLst>
              <a:gd name="textAreaLeft" fmla="*/ 24480 w 492120"/>
              <a:gd name="textAreaRight" fmla="*/ 467640 w 4921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109" h="21600">
                <a:moveTo>
                  <a:pt x="0" y="0"/>
                </a:moveTo>
                <a:lnTo>
                  <a:pt x="27109" y="0"/>
                </a:lnTo>
                <a:lnTo>
                  <a:pt x="27109" y="21600"/>
                </a:lnTo>
                <a:lnTo>
                  <a:pt x="0" y="21600"/>
                </a:lnTo>
                <a:close/>
              </a:path>
              <a:path fill="lightenLess" w="27109" h="21600">
                <a:moveTo>
                  <a:pt x="0" y="0"/>
                </a:moveTo>
                <a:lnTo>
                  <a:pt x="27109" y="0"/>
                </a:lnTo>
                <a:lnTo>
                  <a:pt x="25759" y="1350"/>
                </a:lnTo>
                <a:lnTo>
                  <a:pt x="1350" y="1350"/>
                </a:lnTo>
                <a:close/>
              </a:path>
              <a:path fill="darken" w="27109" h="21600">
                <a:moveTo>
                  <a:pt x="27109" y="0"/>
                </a:moveTo>
                <a:lnTo>
                  <a:pt x="27109" y="21600"/>
                </a:lnTo>
                <a:lnTo>
                  <a:pt x="25759" y="20250"/>
                </a:lnTo>
                <a:lnTo>
                  <a:pt x="25759" y="1350"/>
                </a:lnTo>
                <a:close/>
              </a:path>
              <a:path fill="darkenLess" w="27109" h="21600">
                <a:moveTo>
                  <a:pt x="2710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759" y="20250"/>
                </a:lnTo>
                <a:close/>
              </a:path>
              <a:path fill="lighten" w="2710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09" h="21600">
                <a:moveTo>
                  <a:pt x="6511" y="10800"/>
                </a:moveTo>
                <a:lnTo>
                  <a:pt x="20598" y="3756"/>
                </a:lnTo>
                <a:lnTo>
                  <a:pt x="2059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423120"/>
            <a:ext cx="504720" cy="3920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803" h="21600">
                <a:moveTo>
                  <a:pt x="0" y="0"/>
                </a:moveTo>
                <a:lnTo>
                  <a:pt x="27803" y="0"/>
                </a:lnTo>
                <a:lnTo>
                  <a:pt x="27803" y="21600"/>
                </a:lnTo>
                <a:lnTo>
                  <a:pt x="0" y="21600"/>
                </a:lnTo>
                <a:close/>
              </a:path>
              <a:path fill="lightenLess" w="27803" h="21600">
                <a:moveTo>
                  <a:pt x="0" y="0"/>
                </a:moveTo>
                <a:lnTo>
                  <a:pt x="27803" y="0"/>
                </a:lnTo>
                <a:lnTo>
                  <a:pt x="26453" y="1350"/>
                </a:lnTo>
                <a:lnTo>
                  <a:pt x="1350" y="1350"/>
                </a:lnTo>
                <a:close/>
              </a:path>
              <a:path fill="darken" w="27803" h="21600">
                <a:moveTo>
                  <a:pt x="27803" y="0"/>
                </a:moveTo>
                <a:lnTo>
                  <a:pt x="27803" y="21600"/>
                </a:lnTo>
                <a:lnTo>
                  <a:pt x="26453" y="20250"/>
                </a:lnTo>
                <a:lnTo>
                  <a:pt x="26453" y="1350"/>
                </a:lnTo>
                <a:close/>
              </a:path>
              <a:path fill="darkenLess" w="27803" h="21600">
                <a:moveTo>
                  <a:pt x="278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53" y="20250"/>
                </a:lnTo>
                <a:close/>
              </a:path>
              <a:path fill="lighten" w="278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803" h="21600">
                <a:moveTo>
                  <a:pt x="13901" y="3800"/>
                </a:moveTo>
                <a:lnTo>
                  <a:pt x="16491" y="6425"/>
                </a:ln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lnTo>
                  <a:pt x="20901" y="10800"/>
                </a:lnTo>
                <a:lnTo>
                  <a:pt x="19239" y="10800"/>
                </a:lnTo>
                <a:lnTo>
                  <a:pt x="19239" y="18028"/>
                </a:lnTo>
                <a:lnTo>
                  <a:pt x="8564" y="18028"/>
                </a:lnTo>
                <a:lnTo>
                  <a:pt x="8564" y="10800"/>
                </a:lnTo>
                <a:lnTo>
                  <a:pt x="6901" y="10800"/>
                </a:lnTo>
                <a:close/>
              </a:path>
              <a:path fill="darkenLess" w="27803" h="21600">
                <a:moveTo>
                  <a:pt x="16491" y="6425"/>
                </a:move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close/>
              </a:path>
              <a:path fill="darkenLess" w="27803" h="21600">
                <a:moveTo>
                  <a:pt x="12974" y="14318"/>
                </a:moveTo>
                <a:lnTo>
                  <a:pt x="14829" y="14318"/>
                </a:lnTo>
                <a:lnTo>
                  <a:pt x="14829" y="18028"/>
                </a:lnTo>
                <a:lnTo>
                  <a:pt x="19239" y="18028"/>
                </a:lnTo>
                <a:lnTo>
                  <a:pt x="19239" y="10800"/>
                </a:lnTo>
                <a:lnTo>
                  <a:pt x="8564" y="10800"/>
                </a:lnTo>
                <a:lnTo>
                  <a:pt x="8564" y="18028"/>
                </a:lnTo>
                <a:lnTo>
                  <a:pt x="12974" y="18028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1038240" y="6423120"/>
            <a:ext cx="501480" cy="392040"/>
          </a:xfrm>
          <a:custGeom>
            <a:avLst/>
            <a:gdLst>
              <a:gd name="textAreaLeft" fmla="*/ 24480 w 501480"/>
              <a:gd name="textAreaRight" fmla="*/ 477000 w 50148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624" h="21600">
                <a:moveTo>
                  <a:pt x="0" y="0"/>
                </a:moveTo>
                <a:lnTo>
                  <a:pt x="27624" y="0"/>
                </a:lnTo>
                <a:lnTo>
                  <a:pt x="27624" y="21600"/>
                </a:lnTo>
                <a:lnTo>
                  <a:pt x="0" y="21600"/>
                </a:lnTo>
                <a:close/>
              </a:path>
              <a:path fill="lightenLess" w="27624" h="21600">
                <a:moveTo>
                  <a:pt x="0" y="0"/>
                </a:moveTo>
                <a:lnTo>
                  <a:pt x="27624" y="0"/>
                </a:lnTo>
                <a:lnTo>
                  <a:pt x="26274" y="1350"/>
                </a:lnTo>
                <a:lnTo>
                  <a:pt x="1350" y="1350"/>
                </a:lnTo>
                <a:close/>
              </a:path>
              <a:path fill="darken" w="27624" h="21600">
                <a:moveTo>
                  <a:pt x="27624" y="0"/>
                </a:moveTo>
                <a:lnTo>
                  <a:pt x="27624" y="21600"/>
                </a:lnTo>
                <a:lnTo>
                  <a:pt x="26274" y="20250"/>
                </a:lnTo>
                <a:lnTo>
                  <a:pt x="26274" y="1350"/>
                </a:lnTo>
                <a:close/>
              </a:path>
              <a:path fill="darkenLess" w="27624" h="21600">
                <a:moveTo>
                  <a:pt x="276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274" y="20250"/>
                </a:lnTo>
                <a:close/>
              </a:path>
              <a:path fill="lighten" w="276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624" h="21600">
                <a:moveTo>
                  <a:pt x="6768" y="3756"/>
                </a:moveTo>
                <a:lnTo>
                  <a:pt x="20856" y="10800"/>
                </a:lnTo>
                <a:lnTo>
                  <a:pt x="676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41908"/>
                </a:solidFill>
                <a:latin typeface="Arial"/>
              </a:rPr>
              <a:t>План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6160" y="957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олнечной системе на данный моме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ует всего 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ет и од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езда,которой является сол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84640" y="957240"/>
            <a:ext cx="4691160" cy="465156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41400" y="6423120"/>
            <a:ext cx="492120" cy="392040"/>
          </a:xfrm>
          <a:custGeom>
            <a:avLst/>
            <a:gdLst>
              <a:gd name="textAreaLeft" fmla="*/ 24480 w 492120"/>
              <a:gd name="textAreaRight" fmla="*/ 467640 w 4921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109" h="21600">
                <a:moveTo>
                  <a:pt x="0" y="0"/>
                </a:moveTo>
                <a:lnTo>
                  <a:pt x="27109" y="0"/>
                </a:lnTo>
                <a:lnTo>
                  <a:pt x="27109" y="21600"/>
                </a:lnTo>
                <a:lnTo>
                  <a:pt x="0" y="21600"/>
                </a:lnTo>
                <a:close/>
              </a:path>
              <a:path fill="lightenLess" w="27109" h="21600">
                <a:moveTo>
                  <a:pt x="0" y="0"/>
                </a:moveTo>
                <a:lnTo>
                  <a:pt x="27109" y="0"/>
                </a:lnTo>
                <a:lnTo>
                  <a:pt x="25759" y="1350"/>
                </a:lnTo>
                <a:lnTo>
                  <a:pt x="1350" y="1350"/>
                </a:lnTo>
                <a:close/>
              </a:path>
              <a:path fill="darken" w="27109" h="21600">
                <a:moveTo>
                  <a:pt x="27109" y="0"/>
                </a:moveTo>
                <a:lnTo>
                  <a:pt x="27109" y="21600"/>
                </a:lnTo>
                <a:lnTo>
                  <a:pt x="25759" y="20250"/>
                </a:lnTo>
                <a:lnTo>
                  <a:pt x="25759" y="1350"/>
                </a:lnTo>
                <a:close/>
              </a:path>
              <a:path fill="darkenLess" w="27109" h="21600">
                <a:moveTo>
                  <a:pt x="2710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759" y="20250"/>
                </a:lnTo>
                <a:close/>
              </a:path>
              <a:path fill="lighten" w="2710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09" h="21600">
                <a:moveTo>
                  <a:pt x="6511" y="10800"/>
                </a:moveTo>
                <a:lnTo>
                  <a:pt x="20598" y="3756"/>
                </a:lnTo>
                <a:lnTo>
                  <a:pt x="2059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423120"/>
            <a:ext cx="504720" cy="3920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803" h="21600">
                <a:moveTo>
                  <a:pt x="0" y="0"/>
                </a:moveTo>
                <a:lnTo>
                  <a:pt x="27803" y="0"/>
                </a:lnTo>
                <a:lnTo>
                  <a:pt x="27803" y="21600"/>
                </a:lnTo>
                <a:lnTo>
                  <a:pt x="0" y="21600"/>
                </a:lnTo>
                <a:close/>
              </a:path>
              <a:path fill="lightenLess" w="27803" h="21600">
                <a:moveTo>
                  <a:pt x="0" y="0"/>
                </a:moveTo>
                <a:lnTo>
                  <a:pt x="27803" y="0"/>
                </a:lnTo>
                <a:lnTo>
                  <a:pt x="26453" y="1350"/>
                </a:lnTo>
                <a:lnTo>
                  <a:pt x="1350" y="1350"/>
                </a:lnTo>
                <a:close/>
              </a:path>
              <a:path fill="darken" w="27803" h="21600">
                <a:moveTo>
                  <a:pt x="27803" y="0"/>
                </a:moveTo>
                <a:lnTo>
                  <a:pt x="27803" y="21600"/>
                </a:lnTo>
                <a:lnTo>
                  <a:pt x="26453" y="20250"/>
                </a:lnTo>
                <a:lnTo>
                  <a:pt x="26453" y="1350"/>
                </a:lnTo>
                <a:close/>
              </a:path>
              <a:path fill="darkenLess" w="27803" h="21600">
                <a:moveTo>
                  <a:pt x="278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53" y="20250"/>
                </a:lnTo>
                <a:close/>
              </a:path>
              <a:path fill="lighten" w="278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803" h="21600">
                <a:moveTo>
                  <a:pt x="13901" y="3800"/>
                </a:moveTo>
                <a:lnTo>
                  <a:pt x="16491" y="6425"/>
                </a:ln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lnTo>
                  <a:pt x="20901" y="10800"/>
                </a:lnTo>
                <a:lnTo>
                  <a:pt x="19239" y="10800"/>
                </a:lnTo>
                <a:lnTo>
                  <a:pt x="19239" y="18028"/>
                </a:lnTo>
                <a:lnTo>
                  <a:pt x="8564" y="18028"/>
                </a:lnTo>
                <a:lnTo>
                  <a:pt x="8564" y="10800"/>
                </a:lnTo>
                <a:lnTo>
                  <a:pt x="6901" y="10800"/>
                </a:lnTo>
                <a:close/>
              </a:path>
              <a:path fill="darkenLess" w="27803" h="21600">
                <a:moveTo>
                  <a:pt x="16491" y="6425"/>
                </a:move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close/>
              </a:path>
              <a:path fill="darkenLess" w="27803" h="21600">
                <a:moveTo>
                  <a:pt x="12974" y="14318"/>
                </a:moveTo>
                <a:lnTo>
                  <a:pt x="14829" y="14318"/>
                </a:lnTo>
                <a:lnTo>
                  <a:pt x="14829" y="18028"/>
                </a:lnTo>
                <a:lnTo>
                  <a:pt x="19239" y="18028"/>
                </a:lnTo>
                <a:lnTo>
                  <a:pt x="19239" y="10800"/>
                </a:lnTo>
                <a:lnTo>
                  <a:pt x="8564" y="10800"/>
                </a:lnTo>
                <a:lnTo>
                  <a:pt x="8564" y="18028"/>
                </a:lnTo>
                <a:lnTo>
                  <a:pt x="12974" y="18028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1038240" y="6423120"/>
            <a:ext cx="501480" cy="392040"/>
          </a:xfrm>
          <a:custGeom>
            <a:avLst/>
            <a:gdLst>
              <a:gd name="textAreaLeft" fmla="*/ 24480 w 501480"/>
              <a:gd name="textAreaRight" fmla="*/ 477000 w 50148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624" h="21600">
                <a:moveTo>
                  <a:pt x="0" y="0"/>
                </a:moveTo>
                <a:lnTo>
                  <a:pt x="27624" y="0"/>
                </a:lnTo>
                <a:lnTo>
                  <a:pt x="27624" y="21600"/>
                </a:lnTo>
                <a:lnTo>
                  <a:pt x="0" y="21600"/>
                </a:lnTo>
                <a:close/>
              </a:path>
              <a:path fill="lightenLess" w="27624" h="21600">
                <a:moveTo>
                  <a:pt x="0" y="0"/>
                </a:moveTo>
                <a:lnTo>
                  <a:pt x="27624" y="0"/>
                </a:lnTo>
                <a:lnTo>
                  <a:pt x="26274" y="1350"/>
                </a:lnTo>
                <a:lnTo>
                  <a:pt x="1350" y="1350"/>
                </a:lnTo>
                <a:close/>
              </a:path>
              <a:path fill="darken" w="27624" h="21600">
                <a:moveTo>
                  <a:pt x="27624" y="0"/>
                </a:moveTo>
                <a:lnTo>
                  <a:pt x="27624" y="21600"/>
                </a:lnTo>
                <a:lnTo>
                  <a:pt x="26274" y="20250"/>
                </a:lnTo>
                <a:lnTo>
                  <a:pt x="26274" y="1350"/>
                </a:lnTo>
                <a:close/>
              </a:path>
              <a:path fill="darkenLess" w="27624" h="21600">
                <a:moveTo>
                  <a:pt x="276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274" y="20250"/>
                </a:lnTo>
                <a:close/>
              </a:path>
              <a:path fill="lighten" w="276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624" h="21600">
                <a:moveTo>
                  <a:pt x="6768" y="3756"/>
                </a:moveTo>
                <a:lnTo>
                  <a:pt x="20856" y="10800"/>
                </a:lnTo>
                <a:lnTo>
                  <a:pt x="676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6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f9437"/>
                </a:solidFill>
                <a:latin typeface="Times New Roman"/>
                <a:ea typeface="Times New Roman"/>
              </a:rPr>
              <a:t>Первые гости космо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280" y="803160"/>
            <a:ext cx="902628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ка и Стрелка — советские собаки-космонавты, совершивш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мический полёт на корабле «Спутник-5» 19 августа 1960 го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785960"/>
            <a:ext cx="5430960" cy="4091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888160" y="3170520"/>
            <a:ext cx="31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лка и Стрел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д полетом в косм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41400" y="6435720"/>
            <a:ext cx="492120" cy="393840"/>
          </a:xfrm>
          <a:custGeom>
            <a:avLst/>
            <a:gdLst>
              <a:gd name="textAreaLeft" fmla="*/ 24480 w 492120"/>
              <a:gd name="textAreaRight" fmla="*/ 467640 w 492120"/>
              <a:gd name="textAreaTop" fmla="*/ 24480 h 393840"/>
              <a:gd name="textAreaBottom" fmla="*/ 369360 h 393840"/>
            </a:gdLst>
            <a:ahLst/>
            <a:rect l="textAreaLeft" t="textAreaTop" r="textAreaRight" b="textAreaBottom"/>
            <a:pathLst>
              <a:path w="26985" h="21600">
                <a:moveTo>
                  <a:pt x="0" y="0"/>
                </a:moveTo>
                <a:lnTo>
                  <a:pt x="26985" y="0"/>
                </a:lnTo>
                <a:lnTo>
                  <a:pt x="26985" y="21600"/>
                </a:lnTo>
                <a:lnTo>
                  <a:pt x="0" y="21600"/>
                </a:lnTo>
                <a:close/>
              </a:path>
              <a:path fill="lightenLess" w="26985" h="21600">
                <a:moveTo>
                  <a:pt x="0" y="0"/>
                </a:moveTo>
                <a:lnTo>
                  <a:pt x="26985" y="0"/>
                </a:lnTo>
                <a:lnTo>
                  <a:pt x="25635" y="1350"/>
                </a:lnTo>
                <a:lnTo>
                  <a:pt x="1350" y="1350"/>
                </a:lnTo>
                <a:close/>
              </a:path>
              <a:path fill="darken" w="26985" h="21600">
                <a:moveTo>
                  <a:pt x="26985" y="0"/>
                </a:moveTo>
                <a:lnTo>
                  <a:pt x="26985" y="21600"/>
                </a:lnTo>
                <a:lnTo>
                  <a:pt x="25635" y="20250"/>
                </a:lnTo>
                <a:lnTo>
                  <a:pt x="25635" y="1350"/>
                </a:lnTo>
                <a:close/>
              </a:path>
              <a:path fill="darkenLess" w="26985" h="21600">
                <a:moveTo>
                  <a:pt x="2698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35" y="20250"/>
                </a:lnTo>
                <a:close/>
              </a:path>
              <a:path fill="lighten" w="2698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985" h="21600">
                <a:moveTo>
                  <a:pt x="6449" y="10800"/>
                </a:moveTo>
                <a:lnTo>
                  <a:pt x="20536" y="3756"/>
                </a:lnTo>
                <a:lnTo>
                  <a:pt x="20536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423120"/>
            <a:ext cx="504720" cy="3920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803" h="21600">
                <a:moveTo>
                  <a:pt x="0" y="0"/>
                </a:moveTo>
                <a:lnTo>
                  <a:pt x="27803" y="0"/>
                </a:lnTo>
                <a:lnTo>
                  <a:pt x="27803" y="21600"/>
                </a:lnTo>
                <a:lnTo>
                  <a:pt x="0" y="21600"/>
                </a:lnTo>
                <a:close/>
              </a:path>
              <a:path fill="lightenLess" w="27803" h="21600">
                <a:moveTo>
                  <a:pt x="0" y="0"/>
                </a:moveTo>
                <a:lnTo>
                  <a:pt x="27803" y="0"/>
                </a:lnTo>
                <a:lnTo>
                  <a:pt x="26453" y="1350"/>
                </a:lnTo>
                <a:lnTo>
                  <a:pt x="1350" y="1350"/>
                </a:lnTo>
                <a:close/>
              </a:path>
              <a:path fill="darken" w="27803" h="21600">
                <a:moveTo>
                  <a:pt x="27803" y="0"/>
                </a:moveTo>
                <a:lnTo>
                  <a:pt x="27803" y="21600"/>
                </a:lnTo>
                <a:lnTo>
                  <a:pt x="26453" y="20250"/>
                </a:lnTo>
                <a:lnTo>
                  <a:pt x="26453" y="1350"/>
                </a:lnTo>
                <a:close/>
              </a:path>
              <a:path fill="darkenLess" w="27803" h="21600">
                <a:moveTo>
                  <a:pt x="278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53" y="20250"/>
                </a:lnTo>
                <a:close/>
              </a:path>
              <a:path fill="lighten" w="278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803" h="21600">
                <a:moveTo>
                  <a:pt x="13901" y="3800"/>
                </a:moveTo>
                <a:lnTo>
                  <a:pt x="16491" y="6425"/>
                </a:ln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lnTo>
                  <a:pt x="20901" y="10800"/>
                </a:lnTo>
                <a:lnTo>
                  <a:pt x="19239" y="10800"/>
                </a:lnTo>
                <a:lnTo>
                  <a:pt x="19239" y="18028"/>
                </a:lnTo>
                <a:lnTo>
                  <a:pt x="8564" y="18028"/>
                </a:lnTo>
                <a:lnTo>
                  <a:pt x="8564" y="10800"/>
                </a:lnTo>
                <a:lnTo>
                  <a:pt x="6901" y="10800"/>
                </a:lnTo>
                <a:close/>
              </a:path>
              <a:path fill="darkenLess" w="27803" h="21600">
                <a:moveTo>
                  <a:pt x="16491" y="6425"/>
                </a:move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close/>
              </a:path>
              <a:path fill="darkenLess" w="27803" h="21600">
                <a:moveTo>
                  <a:pt x="12974" y="14318"/>
                </a:moveTo>
                <a:lnTo>
                  <a:pt x="14829" y="14318"/>
                </a:lnTo>
                <a:lnTo>
                  <a:pt x="14829" y="18028"/>
                </a:lnTo>
                <a:lnTo>
                  <a:pt x="19239" y="18028"/>
                </a:lnTo>
                <a:lnTo>
                  <a:pt x="19239" y="10800"/>
                </a:lnTo>
                <a:lnTo>
                  <a:pt x="8564" y="10800"/>
                </a:lnTo>
                <a:lnTo>
                  <a:pt x="8564" y="18028"/>
                </a:lnTo>
                <a:lnTo>
                  <a:pt x="12974" y="18028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1038240" y="6423120"/>
            <a:ext cx="501480" cy="392040"/>
          </a:xfrm>
          <a:custGeom>
            <a:avLst/>
            <a:gdLst>
              <a:gd name="textAreaLeft" fmla="*/ 24480 w 501480"/>
              <a:gd name="textAreaRight" fmla="*/ 477000 w 50148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624" h="21600">
                <a:moveTo>
                  <a:pt x="0" y="0"/>
                </a:moveTo>
                <a:lnTo>
                  <a:pt x="27624" y="0"/>
                </a:lnTo>
                <a:lnTo>
                  <a:pt x="27624" y="21600"/>
                </a:lnTo>
                <a:lnTo>
                  <a:pt x="0" y="21600"/>
                </a:lnTo>
                <a:close/>
              </a:path>
              <a:path fill="lightenLess" w="27624" h="21600">
                <a:moveTo>
                  <a:pt x="0" y="0"/>
                </a:moveTo>
                <a:lnTo>
                  <a:pt x="27624" y="0"/>
                </a:lnTo>
                <a:lnTo>
                  <a:pt x="26274" y="1350"/>
                </a:lnTo>
                <a:lnTo>
                  <a:pt x="1350" y="1350"/>
                </a:lnTo>
                <a:close/>
              </a:path>
              <a:path fill="darken" w="27624" h="21600">
                <a:moveTo>
                  <a:pt x="27624" y="0"/>
                </a:moveTo>
                <a:lnTo>
                  <a:pt x="27624" y="21600"/>
                </a:lnTo>
                <a:lnTo>
                  <a:pt x="26274" y="20250"/>
                </a:lnTo>
                <a:lnTo>
                  <a:pt x="26274" y="1350"/>
                </a:lnTo>
                <a:close/>
              </a:path>
              <a:path fill="darkenLess" w="27624" h="21600">
                <a:moveTo>
                  <a:pt x="276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274" y="20250"/>
                </a:lnTo>
                <a:close/>
              </a:path>
              <a:path fill="lighten" w="276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624" h="21600">
                <a:moveTo>
                  <a:pt x="6768" y="3756"/>
                </a:moveTo>
                <a:lnTo>
                  <a:pt x="20856" y="10800"/>
                </a:lnTo>
                <a:lnTo>
                  <a:pt x="676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1047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6be52"/>
                </a:solidFill>
                <a:latin typeface="Times New Roman"/>
                <a:ea typeface="Times New Roman"/>
              </a:rPr>
              <a:t>Первые люди в космо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89520" y="1281240"/>
            <a:ext cx="2965680" cy="5037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7520" y="800280"/>
            <a:ext cx="574200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ЕКСЕЕВИЧ ГАГ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апреля 1961 года Юрий Гагарин ста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м человеком в мировой истории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ршившим полёт в космическое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ранство. Ракета-носитель «Восток» с кораблём «Восток-1», на борту которого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ходился Гагарин, была запущена с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модром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йконур. После 108 минут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ё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гарин успешно приземлился в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ратовской области, неподалёку от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нгельса. Начиная с 12 апреля 1962 года, день полёта Гагарина в космос бы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явлен празднико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ём космонав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41400" y="6423120"/>
            <a:ext cx="492120" cy="392040"/>
          </a:xfrm>
          <a:custGeom>
            <a:avLst/>
            <a:gdLst>
              <a:gd name="textAreaLeft" fmla="*/ 24480 w 492120"/>
              <a:gd name="textAreaRight" fmla="*/ 467640 w 4921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109" h="21600">
                <a:moveTo>
                  <a:pt x="0" y="0"/>
                </a:moveTo>
                <a:lnTo>
                  <a:pt x="27109" y="0"/>
                </a:lnTo>
                <a:lnTo>
                  <a:pt x="27109" y="21600"/>
                </a:lnTo>
                <a:lnTo>
                  <a:pt x="0" y="21600"/>
                </a:lnTo>
                <a:close/>
              </a:path>
              <a:path fill="lightenLess" w="27109" h="21600">
                <a:moveTo>
                  <a:pt x="0" y="0"/>
                </a:moveTo>
                <a:lnTo>
                  <a:pt x="27109" y="0"/>
                </a:lnTo>
                <a:lnTo>
                  <a:pt x="25759" y="1350"/>
                </a:lnTo>
                <a:lnTo>
                  <a:pt x="1350" y="1350"/>
                </a:lnTo>
                <a:close/>
              </a:path>
              <a:path fill="darken" w="27109" h="21600">
                <a:moveTo>
                  <a:pt x="27109" y="0"/>
                </a:moveTo>
                <a:lnTo>
                  <a:pt x="27109" y="21600"/>
                </a:lnTo>
                <a:lnTo>
                  <a:pt x="25759" y="20250"/>
                </a:lnTo>
                <a:lnTo>
                  <a:pt x="25759" y="1350"/>
                </a:lnTo>
                <a:close/>
              </a:path>
              <a:path fill="darkenLess" w="27109" h="21600">
                <a:moveTo>
                  <a:pt x="2710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759" y="20250"/>
                </a:lnTo>
                <a:close/>
              </a:path>
              <a:path fill="lighten" w="2710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09" h="21600">
                <a:moveTo>
                  <a:pt x="6511" y="10800"/>
                </a:moveTo>
                <a:lnTo>
                  <a:pt x="20598" y="3756"/>
                </a:lnTo>
                <a:lnTo>
                  <a:pt x="2059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6423120"/>
            <a:ext cx="504720" cy="3920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803" h="21600">
                <a:moveTo>
                  <a:pt x="0" y="0"/>
                </a:moveTo>
                <a:lnTo>
                  <a:pt x="27803" y="0"/>
                </a:lnTo>
                <a:lnTo>
                  <a:pt x="27803" y="21600"/>
                </a:lnTo>
                <a:lnTo>
                  <a:pt x="0" y="21600"/>
                </a:lnTo>
                <a:close/>
              </a:path>
              <a:path fill="lightenLess" w="27803" h="21600">
                <a:moveTo>
                  <a:pt x="0" y="0"/>
                </a:moveTo>
                <a:lnTo>
                  <a:pt x="27803" y="0"/>
                </a:lnTo>
                <a:lnTo>
                  <a:pt x="26453" y="1350"/>
                </a:lnTo>
                <a:lnTo>
                  <a:pt x="1350" y="1350"/>
                </a:lnTo>
                <a:close/>
              </a:path>
              <a:path fill="darken" w="27803" h="21600">
                <a:moveTo>
                  <a:pt x="27803" y="0"/>
                </a:moveTo>
                <a:lnTo>
                  <a:pt x="27803" y="21600"/>
                </a:lnTo>
                <a:lnTo>
                  <a:pt x="26453" y="20250"/>
                </a:lnTo>
                <a:lnTo>
                  <a:pt x="26453" y="1350"/>
                </a:lnTo>
                <a:close/>
              </a:path>
              <a:path fill="darkenLess" w="27803" h="21600">
                <a:moveTo>
                  <a:pt x="278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53" y="20250"/>
                </a:lnTo>
                <a:close/>
              </a:path>
              <a:path fill="lighten" w="278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803" h="21600">
                <a:moveTo>
                  <a:pt x="13901" y="3800"/>
                </a:moveTo>
                <a:lnTo>
                  <a:pt x="16491" y="6425"/>
                </a:ln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lnTo>
                  <a:pt x="20901" y="10800"/>
                </a:lnTo>
                <a:lnTo>
                  <a:pt x="19239" y="10800"/>
                </a:lnTo>
                <a:lnTo>
                  <a:pt x="19239" y="18028"/>
                </a:lnTo>
                <a:lnTo>
                  <a:pt x="8564" y="18028"/>
                </a:lnTo>
                <a:lnTo>
                  <a:pt x="8564" y="10800"/>
                </a:lnTo>
                <a:lnTo>
                  <a:pt x="6901" y="10800"/>
                </a:lnTo>
                <a:close/>
              </a:path>
              <a:path fill="darkenLess" w="27803" h="21600">
                <a:moveTo>
                  <a:pt x="16491" y="6425"/>
                </a:move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close/>
              </a:path>
              <a:path fill="darkenLess" w="27803" h="21600">
                <a:moveTo>
                  <a:pt x="12974" y="14318"/>
                </a:moveTo>
                <a:lnTo>
                  <a:pt x="14829" y="14318"/>
                </a:lnTo>
                <a:lnTo>
                  <a:pt x="14829" y="18028"/>
                </a:lnTo>
                <a:lnTo>
                  <a:pt x="19239" y="18028"/>
                </a:lnTo>
                <a:lnTo>
                  <a:pt x="19239" y="10800"/>
                </a:lnTo>
                <a:lnTo>
                  <a:pt x="8564" y="10800"/>
                </a:lnTo>
                <a:lnTo>
                  <a:pt x="8564" y="18028"/>
                </a:lnTo>
                <a:lnTo>
                  <a:pt x="12974" y="18028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1038240" y="6423120"/>
            <a:ext cx="501480" cy="392040"/>
          </a:xfrm>
          <a:custGeom>
            <a:avLst/>
            <a:gdLst>
              <a:gd name="textAreaLeft" fmla="*/ 24480 w 501480"/>
              <a:gd name="textAreaRight" fmla="*/ 477000 w 50148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624" h="21600">
                <a:moveTo>
                  <a:pt x="0" y="0"/>
                </a:moveTo>
                <a:lnTo>
                  <a:pt x="27624" y="0"/>
                </a:lnTo>
                <a:lnTo>
                  <a:pt x="27624" y="21600"/>
                </a:lnTo>
                <a:lnTo>
                  <a:pt x="0" y="21600"/>
                </a:lnTo>
                <a:close/>
              </a:path>
              <a:path fill="lightenLess" w="27624" h="21600">
                <a:moveTo>
                  <a:pt x="0" y="0"/>
                </a:moveTo>
                <a:lnTo>
                  <a:pt x="27624" y="0"/>
                </a:lnTo>
                <a:lnTo>
                  <a:pt x="26274" y="1350"/>
                </a:lnTo>
                <a:lnTo>
                  <a:pt x="1350" y="1350"/>
                </a:lnTo>
                <a:close/>
              </a:path>
              <a:path fill="darken" w="27624" h="21600">
                <a:moveTo>
                  <a:pt x="27624" y="0"/>
                </a:moveTo>
                <a:lnTo>
                  <a:pt x="27624" y="21600"/>
                </a:lnTo>
                <a:lnTo>
                  <a:pt x="26274" y="20250"/>
                </a:lnTo>
                <a:lnTo>
                  <a:pt x="26274" y="1350"/>
                </a:lnTo>
                <a:close/>
              </a:path>
              <a:path fill="darkenLess" w="27624" h="21600">
                <a:moveTo>
                  <a:pt x="276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274" y="20250"/>
                </a:lnTo>
                <a:close/>
              </a:path>
              <a:path fill="lighten" w="276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624" h="21600">
                <a:moveTo>
                  <a:pt x="6768" y="3756"/>
                </a:moveTo>
                <a:lnTo>
                  <a:pt x="20856" y="10800"/>
                </a:lnTo>
                <a:lnTo>
                  <a:pt x="676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720720"/>
            <a:ext cx="491004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М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ПАН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й советский человек в космосе,                          второй человек в мире, совершивший                                   орбитальный космический полёт, самый            молодой космонавт в истории. Герой                      Советского Союза (9 августа 1961 года).              Дублёр Юрия Гагарина; доктор военных               наук, доц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апреле 1961 года был дублёром Юрия                 Гагарина при подготовке к первому в мире полёту в космос. В августе 1961 г.                                 совершил суточный орбитальный полёт на космическом корабле «Восток-2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908600" y="290520"/>
            <a:ext cx="4114800" cy="577044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41400" y="6423120"/>
            <a:ext cx="492120" cy="392040"/>
          </a:xfrm>
          <a:custGeom>
            <a:avLst/>
            <a:gdLst>
              <a:gd name="textAreaLeft" fmla="*/ 24480 w 492120"/>
              <a:gd name="textAreaRight" fmla="*/ 467640 w 4921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109" h="21600">
                <a:moveTo>
                  <a:pt x="0" y="0"/>
                </a:moveTo>
                <a:lnTo>
                  <a:pt x="27109" y="0"/>
                </a:lnTo>
                <a:lnTo>
                  <a:pt x="27109" y="21600"/>
                </a:lnTo>
                <a:lnTo>
                  <a:pt x="0" y="21600"/>
                </a:lnTo>
                <a:close/>
              </a:path>
              <a:path fill="lightenLess" w="27109" h="21600">
                <a:moveTo>
                  <a:pt x="0" y="0"/>
                </a:moveTo>
                <a:lnTo>
                  <a:pt x="27109" y="0"/>
                </a:lnTo>
                <a:lnTo>
                  <a:pt x="25759" y="1350"/>
                </a:lnTo>
                <a:lnTo>
                  <a:pt x="1350" y="1350"/>
                </a:lnTo>
                <a:close/>
              </a:path>
              <a:path fill="darken" w="27109" h="21600">
                <a:moveTo>
                  <a:pt x="27109" y="0"/>
                </a:moveTo>
                <a:lnTo>
                  <a:pt x="27109" y="21600"/>
                </a:lnTo>
                <a:lnTo>
                  <a:pt x="25759" y="20250"/>
                </a:lnTo>
                <a:lnTo>
                  <a:pt x="25759" y="1350"/>
                </a:lnTo>
                <a:close/>
              </a:path>
              <a:path fill="darkenLess" w="27109" h="21600">
                <a:moveTo>
                  <a:pt x="2710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759" y="20250"/>
                </a:lnTo>
                <a:close/>
              </a:path>
              <a:path fill="lighten" w="2710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09" h="21600">
                <a:moveTo>
                  <a:pt x="6511" y="10800"/>
                </a:moveTo>
                <a:lnTo>
                  <a:pt x="20598" y="3756"/>
                </a:lnTo>
                <a:lnTo>
                  <a:pt x="2059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6423120"/>
            <a:ext cx="504720" cy="3920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803" h="21600">
                <a:moveTo>
                  <a:pt x="0" y="0"/>
                </a:moveTo>
                <a:lnTo>
                  <a:pt x="27803" y="0"/>
                </a:lnTo>
                <a:lnTo>
                  <a:pt x="27803" y="21600"/>
                </a:lnTo>
                <a:lnTo>
                  <a:pt x="0" y="21600"/>
                </a:lnTo>
                <a:close/>
              </a:path>
              <a:path fill="lightenLess" w="27803" h="21600">
                <a:moveTo>
                  <a:pt x="0" y="0"/>
                </a:moveTo>
                <a:lnTo>
                  <a:pt x="27803" y="0"/>
                </a:lnTo>
                <a:lnTo>
                  <a:pt x="26453" y="1350"/>
                </a:lnTo>
                <a:lnTo>
                  <a:pt x="1350" y="1350"/>
                </a:lnTo>
                <a:close/>
              </a:path>
              <a:path fill="darken" w="27803" h="21600">
                <a:moveTo>
                  <a:pt x="27803" y="0"/>
                </a:moveTo>
                <a:lnTo>
                  <a:pt x="27803" y="21600"/>
                </a:lnTo>
                <a:lnTo>
                  <a:pt x="26453" y="20250"/>
                </a:lnTo>
                <a:lnTo>
                  <a:pt x="26453" y="1350"/>
                </a:lnTo>
                <a:close/>
              </a:path>
              <a:path fill="darkenLess" w="27803" h="21600">
                <a:moveTo>
                  <a:pt x="278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53" y="20250"/>
                </a:lnTo>
                <a:close/>
              </a:path>
              <a:path fill="lighten" w="278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803" h="21600">
                <a:moveTo>
                  <a:pt x="13901" y="3800"/>
                </a:moveTo>
                <a:lnTo>
                  <a:pt x="16491" y="6425"/>
                </a:ln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lnTo>
                  <a:pt x="20901" y="10800"/>
                </a:lnTo>
                <a:lnTo>
                  <a:pt x="19239" y="10800"/>
                </a:lnTo>
                <a:lnTo>
                  <a:pt x="19239" y="18028"/>
                </a:lnTo>
                <a:lnTo>
                  <a:pt x="8564" y="18028"/>
                </a:lnTo>
                <a:lnTo>
                  <a:pt x="8564" y="10800"/>
                </a:lnTo>
                <a:lnTo>
                  <a:pt x="6901" y="10800"/>
                </a:lnTo>
                <a:close/>
              </a:path>
              <a:path fill="darkenLess" w="27803" h="21600">
                <a:moveTo>
                  <a:pt x="16491" y="6425"/>
                </a:move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close/>
              </a:path>
              <a:path fill="darkenLess" w="27803" h="21600">
                <a:moveTo>
                  <a:pt x="12974" y="14318"/>
                </a:moveTo>
                <a:lnTo>
                  <a:pt x="14829" y="14318"/>
                </a:lnTo>
                <a:lnTo>
                  <a:pt x="14829" y="18028"/>
                </a:lnTo>
                <a:lnTo>
                  <a:pt x="19239" y="18028"/>
                </a:lnTo>
                <a:lnTo>
                  <a:pt x="19239" y="10800"/>
                </a:lnTo>
                <a:lnTo>
                  <a:pt x="8564" y="10800"/>
                </a:lnTo>
                <a:lnTo>
                  <a:pt x="8564" y="18028"/>
                </a:lnTo>
                <a:lnTo>
                  <a:pt x="12974" y="18028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1038240" y="6423120"/>
            <a:ext cx="501480" cy="392040"/>
          </a:xfrm>
          <a:custGeom>
            <a:avLst/>
            <a:gdLst>
              <a:gd name="textAreaLeft" fmla="*/ 24480 w 501480"/>
              <a:gd name="textAreaRight" fmla="*/ 477000 w 50148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624" h="21600">
                <a:moveTo>
                  <a:pt x="0" y="0"/>
                </a:moveTo>
                <a:lnTo>
                  <a:pt x="27624" y="0"/>
                </a:lnTo>
                <a:lnTo>
                  <a:pt x="27624" y="21600"/>
                </a:lnTo>
                <a:lnTo>
                  <a:pt x="0" y="21600"/>
                </a:lnTo>
                <a:close/>
              </a:path>
              <a:path fill="lightenLess" w="27624" h="21600">
                <a:moveTo>
                  <a:pt x="0" y="0"/>
                </a:moveTo>
                <a:lnTo>
                  <a:pt x="27624" y="0"/>
                </a:lnTo>
                <a:lnTo>
                  <a:pt x="26274" y="1350"/>
                </a:lnTo>
                <a:lnTo>
                  <a:pt x="1350" y="1350"/>
                </a:lnTo>
                <a:close/>
              </a:path>
              <a:path fill="darken" w="27624" h="21600">
                <a:moveTo>
                  <a:pt x="27624" y="0"/>
                </a:moveTo>
                <a:lnTo>
                  <a:pt x="27624" y="21600"/>
                </a:lnTo>
                <a:lnTo>
                  <a:pt x="26274" y="20250"/>
                </a:lnTo>
                <a:lnTo>
                  <a:pt x="26274" y="1350"/>
                </a:lnTo>
                <a:close/>
              </a:path>
              <a:path fill="darkenLess" w="27624" h="21600">
                <a:moveTo>
                  <a:pt x="276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274" y="20250"/>
                </a:lnTo>
                <a:close/>
              </a:path>
              <a:path fill="lighten" w="276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624" h="21600">
                <a:moveTo>
                  <a:pt x="6768" y="3756"/>
                </a:moveTo>
                <a:lnTo>
                  <a:pt x="20856" y="10800"/>
                </a:lnTo>
                <a:lnTo>
                  <a:pt x="676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1680" y="-15840"/>
            <a:ext cx="9196200" cy="689940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400" y="6423120"/>
            <a:ext cx="492120" cy="392040"/>
          </a:xfrm>
          <a:custGeom>
            <a:avLst/>
            <a:gdLst>
              <a:gd name="textAreaLeft" fmla="*/ 24480 w 492120"/>
              <a:gd name="textAreaRight" fmla="*/ 467640 w 4921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109" h="21600">
                <a:moveTo>
                  <a:pt x="0" y="0"/>
                </a:moveTo>
                <a:lnTo>
                  <a:pt x="27109" y="0"/>
                </a:lnTo>
                <a:lnTo>
                  <a:pt x="27109" y="21600"/>
                </a:lnTo>
                <a:lnTo>
                  <a:pt x="0" y="21600"/>
                </a:lnTo>
                <a:close/>
              </a:path>
              <a:path fill="lightenLess" w="27109" h="21600">
                <a:moveTo>
                  <a:pt x="0" y="0"/>
                </a:moveTo>
                <a:lnTo>
                  <a:pt x="27109" y="0"/>
                </a:lnTo>
                <a:lnTo>
                  <a:pt x="25759" y="1350"/>
                </a:lnTo>
                <a:lnTo>
                  <a:pt x="1350" y="1350"/>
                </a:lnTo>
                <a:close/>
              </a:path>
              <a:path fill="darken" w="27109" h="21600">
                <a:moveTo>
                  <a:pt x="27109" y="0"/>
                </a:moveTo>
                <a:lnTo>
                  <a:pt x="27109" y="21600"/>
                </a:lnTo>
                <a:lnTo>
                  <a:pt x="25759" y="20250"/>
                </a:lnTo>
                <a:lnTo>
                  <a:pt x="25759" y="1350"/>
                </a:lnTo>
                <a:close/>
              </a:path>
              <a:path fill="darkenLess" w="27109" h="21600">
                <a:moveTo>
                  <a:pt x="2710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759" y="20250"/>
                </a:lnTo>
                <a:close/>
              </a:path>
              <a:path fill="lighten" w="2710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09" h="21600">
                <a:moveTo>
                  <a:pt x="6511" y="10800"/>
                </a:moveTo>
                <a:lnTo>
                  <a:pt x="20598" y="3756"/>
                </a:lnTo>
                <a:lnTo>
                  <a:pt x="2059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6423120"/>
            <a:ext cx="504720" cy="3920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803" h="21600">
                <a:moveTo>
                  <a:pt x="0" y="0"/>
                </a:moveTo>
                <a:lnTo>
                  <a:pt x="27803" y="0"/>
                </a:lnTo>
                <a:lnTo>
                  <a:pt x="27803" y="21600"/>
                </a:lnTo>
                <a:lnTo>
                  <a:pt x="0" y="21600"/>
                </a:lnTo>
                <a:close/>
              </a:path>
              <a:path fill="lightenLess" w="27803" h="21600">
                <a:moveTo>
                  <a:pt x="0" y="0"/>
                </a:moveTo>
                <a:lnTo>
                  <a:pt x="27803" y="0"/>
                </a:lnTo>
                <a:lnTo>
                  <a:pt x="26453" y="1350"/>
                </a:lnTo>
                <a:lnTo>
                  <a:pt x="1350" y="1350"/>
                </a:lnTo>
                <a:close/>
              </a:path>
              <a:path fill="darken" w="27803" h="21600">
                <a:moveTo>
                  <a:pt x="27803" y="0"/>
                </a:moveTo>
                <a:lnTo>
                  <a:pt x="27803" y="21600"/>
                </a:lnTo>
                <a:lnTo>
                  <a:pt x="26453" y="20250"/>
                </a:lnTo>
                <a:lnTo>
                  <a:pt x="26453" y="1350"/>
                </a:lnTo>
                <a:close/>
              </a:path>
              <a:path fill="darkenLess" w="27803" h="21600">
                <a:moveTo>
                  <a:pt x="278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53" y="20250"/>
                </a:lnTo>
                <a:close/>
              </a:path>
              <a:path fill="lighten" w="278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803" h="21600">
                <a:moveTo>
                  <a:pt x="13901" y="3800"/>
                </a:moveTo>
                <a:lnTo>
                  <a:pt x="16491" y="6425"/>
                </a:ln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lnTo>
                  <a:pt x="20901" y="10800"/>
                </a:lnTo>
                <a:lnTo>
                  <a:pt x="19239" y="10800"/>
                </a:lnTo>
                <a:lnTo>
                  <a:pt x="19239" y="18028"/>
                </a:lnTo>
                <a:lnTo>
                  <a:pt x="8564" y="18028"/>
                </a:lnTo>
                <a:lnTo>
                  <a:pt x="8564" y="10800"/>
                </a:lnTo>
                <a:lnTo>
                  <a:pt x="6901" y="10800"/>
                </a:lnTo>
                <a:close/>
              </a:path>
              <a:path fill="darkenLess" w="27803" h="21600">
                <a:moveTo>
                  <a:pt x="16491" y="6425"/>
                </a:move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close/>
              </a:path>
              <a:path fill="darkenLess" w="27803" h="21600">
                <a:moveTo>
                  <a:pt x="12974" y="14318"/>
                </a:moveTo>
                <a:lnTo>
                  <a:pt x="14829" y="14318"/>
                </a:lnTo>
                <a:lnTo>
                  <a:pt x="14829" y="18028"/>
                </a:lnTo>
                <a:lnTo>
                  <a:pt x="19239" y="18028"/>
                </a:lnTo>
                <a:lnTo>
                  <a:pt x="19239" y="10800"/>
                </a:lnTo>
                <a:lnTo>
                  <a:pt x="8564" y="10800"/>
                </a:lnTo>
                <a:lnTo>
                  <a:pt x="8564" y="18028"/>
                </a:lnTo>
                <a:lnTo>
                  <a:pt x="12974" y="18028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1038240" y="6423120"/>
            <a:ext cx="501480" cy="392040"/>
          </a:xfrm>
          <a:custGeom>
            <a:avLst/>
            <a:gdLst>
              <a:gd name="textAreaLeft" fmla="*/ 24480 w 501480"/>
              <a:gd name="textAreaRight" fmla="*/ 477000 w 50148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624" h="21600">
                <a:moveTo>
                  <a:pt x="0" y="0"/>
                </a:moveTo>
                <a:lnTo>
                  <a:pt x="27624" y="0"/>
                </a:lnTo>
                <a:lnTo>
                  <a:pt x="27624" y="21600"/>
                </a:lnTo>
                <a:lnTo>
                  <a:pt x="0" y="21600"/>
                </a:lnTo>
                <a:close/>
              </a:path>
              <a:path fill="lightenLess" w="27624" h="21600">
                <a:moveTo>
                  <a:pt x="0" y="0"/>
                </a:moveTo>
                <a:lnTo>
                  <a:pt x="27624" y="0"/>
                </a:lnTo>
                <a:lnTo>
                  <a:pt x="26274" y="1350"/>
                </a:lnTo>
                <a:lnTo>
                  <a:pt x="1350" y="1350"/>
                </a:lnTo>
                <a:close/>
              </a:path>
              <a:path fill="darken" w="27624" h="21600">
                <a:moveTo>
                  <a:pt x="27624" y="0"/>
                </a:moveTo>
                <a:lnTo>
                  <a:pt x="27624" y="21600"/>
                </a:lnTo>
                <a:lnTo>
                  <a:pt x="26274" y="20250"/>
                </a:lnTo>
                <a:lnTo>
                  <a:pt x="26274" y="1350"/>
                </a:lnTo>
                <a:close/>
              </a:path>
              <a:path fill="darkenLess" w="27624" h="21600">
                <a:moveTo>
                  <a:pt x="276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274" y="20250"/>
                </a:lnTo>
                <a:close/>
              </a:path>
              <a:path fill="lighten" w="276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624" h="21600">
                <a:moveTo>
                  <a:pt x="6768" y="3756"/>
                </a:moveTo>
                <a:lnTo>
                  <a:pt x="20856" y="10800"/>
                </a:lnTo>
                <a:lnTo>
                  <a:pt x="676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360" y="-15840"/>
            <a:ext cx="9178920" cy="6886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08560" y="-15840"/>
            <a:ext cx="308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ЛАДИСЛА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41400" y="6423120"/>
            <a:ext cx="492120" cy="392040"/>
          </a:xfrm>
          <a:custGeom>
            <a:avLst/>
            <a:gdLst>
              <a:gd name="textAreaLeft" fmla="*/ 24480 w 492120"/>
              <a:gd name="textAreaRight" fmla="*/ 467640 w 4921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109" h="21600">
                <a:moveTo>
                  <a:pt x="0" y="0"/>
                </a:moveTo>
                <a:lnTo>
                  <a:pt x="27109" y="0"/>
                </a:lnTo>
                <a:lnTo>
                  <a:pt x="27109" y="21600"/>
                </a:lnTo>
                <a:lnTo>
                  <a:pt x="0" y="21600"/>
                </a:lnTo>
                <a:close/>
              </a:path>
              <a:path fill="lightenLess" w="27109" h="21600">
                <a:moveTo>
                  <a:pt x="0" y="0"/>
                </a:moveTo>
                <a:lnTo>
                  <a:pt x="27109" y="0"/>
                </a:lnTo>
                <a:lnTo>
                  <a:pt x="25759" y="1350"/>
                </a:lnTo>
                <a:lnTo>
                  <a:pt x="1350" y="1350"/>
                </a:lnTo>
                <a:close/>
              </a:path>
              <a:path fill="darken" w="27109" h="21600">
                <a:moveTo>
                  <a:pt x="27109" y="0"/>
                </a:moveTo>
                <a:lnTo>
                  <a:pt x="27109" y="21600"/>
                </a:lnTo>
                <a:lnTo>
                  <a:pt x="25759" y="20250"/>
                </a:lnTo>
                <a:lnTo>
                  <a:pt x="25759" y="1350"/>
                </a:lnTo>
                <a:close/>
              </a:path>
              <a:path fill="darkenLess" w="27109" h="21600">
                <a:moveTo>
                  <a:pt x="2710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759" y="20250"/>
                </a:lnTo>
                <a:close/>
              </a:path>
              <a:path fill="lighten" w="2710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09" h="21600">
                <a:moveTo>
                  <a:pt x="6511" y="10800"/>
                </a:moveTo>
                <a:lnTo>
                  <a:pt x="20598" y="3756"/>
                </a:lnTo>
                <a:lnTo>
                  <a:pt x="2059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423120"/>
            <a:ext cx="504720" cy="3920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803" h="21600">
                <a:moveTo>
                  <a:pt x="0" y="0"/>
                </a:moveTo>
                <a:lnTo>
                  <a:pt x="27803" y="0"/>
                </a:lnTo>
                <a:lnTo>
                  <a:pt x="27803" y="21600"/>
                </a:lnTo>
                <a:lnTo>
                  <a:pt x="0" y="21600"/>
                </a:lnTo>
                <a:close/>
              </a:path>
              <a:path fill="lightenLess" w="27803" h="21600">
                <a:moveTo>
                  <a:pt x="0" y="0"/>
                </a:moveTo>
                <a:lnTo>
                  <a:pt x="27803" y="0"/>
                </a:lnTo>
                <a:lnTo>
                  <a:pt x="26453" y="1350"/>
                </a:lnTo>
                <a:lnTo>
                  <a:pt x="1350" y="1350"/>
                </a:lnTo>
                <a:close/>
              </a:path>
              <a:path fill="darken" w="27803" h="21600">
                <a:moveTo>
                  <a:pt x="27803" y="0"/>
                </a:moveTo>
                <a:lnTo>
                  <a:pt x="27803" y="21600"/>
                </a:lnTo>
                <a:lnTo>
                  <a:pt x="26453" y="20250"/>
                </a:lnTo>
                <a:lnTo>
                  <a:pt x="26453" y="1350"/>
                </a:lnTo>
                <a:close/>
              </a:path>
              <a:path fill="darkenLess" w="27803" h="21600">
                <a:moveTo>
                  <a:pt x="278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53" y="20250"/>
                </a:lnTo>
                <a:close/>
              </a:path>
              <a:path fill="lighten" w="278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803" h="21600">
                <a:moveTo>
                  <a:pt x="13901" y="3800"/>
                </a:moveTo>
                <a:lnTo>
                  <a:pt x="16491" y="6425"/>
                </a:ln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lnTo>
                  <a:pt x="20901" y="10800"/>
                </a:lnTo>
                <a:lnTo>
                  <a:pt x="19239" y="10800"/>
                </a:lnTo>
                <a:lnTo>
                  <a:pt x="19239" y="18028"/>
                </a:lnTo>
                <a:lnTo>
                  <a:pt x="8564" y="18028"/>
                </a:lnTo>
                <a:lnTo>
                  <a:pt x="8564" y="10800"/>
                </a:lnTo>
                <a:lnTo>
                  <a:pt x="6901" y="10800"/>
                </a:lnTo>
                <a:close/>
              </a:path>
              <a:path fill="darkenLess" w="27803" h="21600">
                <a:moveTo>
                  <a:pt x="16491" y="6425"/>
                </a:moveTo>
                <a:lnTo>
                  <a:pt x="16491" y="4675"/>
                </a:lnTo>
                <a:lnTo>
                  <a:pt x="18276" y="4675"/>
                </a:lnTo>
                <a:lnTo>
                  <a:pt x="18276" y="8210"/>
                </a:lnTo>
                <a:close/>
              </a:path>
              <a:path fill="darkenLess" w="27803" h="21600">
                <a:moveTo>
                  <a:pt x="12974" y="14318"/>
                </a:moveTo>
                <a:lnTo>
                  <a:pt x="14829" y="14318"/>
                </a:lnTo>
                <a:lnTo>
                  <a:pt x="14829" y="18028"/>
                </a:lnTo>
                <a:lnTo>
                  <a:pt x="19239" y="18028"/>
                </a:lnTo>
                <a:lnTo>
                  <a:pt x="19239" y="10800"/>
                </a:lnTo>
                <a:lnTo>
                  <a:pt x="8564" y="10800"/>
                </a:lnTo>
                <a:lnTo>
                  <a:pt x="8564" y="18028"/>
                </a:lnTo>
                <a:lnTo>
                  <a:pt x="12974" y="18028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1038240" y="6423120"/>
            <a:ext cx="501480" cy="392040"/>
          </a:xfrm>
          <a:custGeom>
            <a:avLst/>
            <a:gdLst>
              <a:gd name="textAreaLeft" fmla="*/ 24480 w 501480"/>
              <a:gd name="textAreaRight" fmla="*/ 477000 w 501480"/>
              <a:gd name="textAreaTop" fmla="*/ 24480 h 392040"/>
              <a:gd name="textAreaBottom" fmla="*/ 367560 h 392040"/>
            </a:gdLst>
            <a:ahLst/>
            <a:rect l="textAreaLeft" t="textAreaTop" r="textAreaRight" b="textAreaBottom"/>
            <a:pathLst>
              <a:path w="27624" h="21600">
                <a:moveTo>
                  <a:pt x="0" y="0"/>
                </a:moveTo>
                <a:lnTo>
                  <a:pt x="27624" y="0"/>
                </a:lnTo>
                <a:lnTo>
                  <a:pt x="27624" y="21600"/>
                </a:lnTo>
                <a:lnTo>
                  <a:pt x="0" y="21600"/>
                </a:lnTo>
                <a:close/>
              </a:path>
              <a:path fill="lightenLess" w="27624" h="21600">
                <a:moveTo>
                  <a:pt x="0" y="0"/>
                </a:moveTo>
                <a:lnTo>
                  <a:pt x="27624" y="0"/>
                </a:lnTo>
                <a:lnTo>
                  <a:pt x="26274" y="1350"/>
                </a:lnTo>
                <a:lnTo>
                  <a:pt x="1350" y="1350"/>
                </a:lnTo>
                <a:close/>
              </a:path>
              <a:path fill="darken" w="27624" h="21600">
                <a:moveTo>
                  <a:pt x="27624" y="0"/>
                </a:moveTo>
                <a:lnTo>
                  <a:pt x="27624" y="21600"/>
                </a:lnTo>
                <a:lnTo>
                  <a:pt x="26274" y="20250"/>
                </a:lnTo>
                <a:lnTo>
                  <a:pt x="26274" y="1350"/>
                </a:lnTo>
                <a:close/>
              </a:path>
              <a:path fill="darkenLess" w="27624" h="21600">
                <a:moveTo>
                  <a:pt x="276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274" y="20250"/>
                </a:lnTo>
                <a:close/>
              </a:path>
              <a:path fill="lighten" w="276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624" h="21600">
                <a:moveTo>
                  <a:pt x="6768" y="3756"/>
                </a:moveTo>
                <a:lnTo>
                  <a:pt x="20856" y="10800"/>
                </a:lnTo>
                <a:lnTo>
                  <a:pt x="6768" y="17844"/>
                </a:lnTo>
                <a:close/>
              </a:path>
            </a:pathLst>
          </a:custGeom>
          <a:solidFill>
            <a:srgbClr val="7db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06:11:31Z</dcterms:created>
  <dc:creator>Андрей</dc:creator>
  <dc:description/>
  <dc:language>en-US</dc:language>
  <cp:lastModifiedBy/>
  <dcterms:modified xsi:type="dcterms:W3CDTF">2018-04-19T18:24:5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5234</vt:lpwstr>
  </property>
</Properties>
</file>