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283-77E0-47B4-B1CD-A84C7062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F67-E0FF-4B82-AC17-3DD5BB6C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306-58E6-45D6-8A4B-B6C1A8BA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14D-B4DE-46F8-A65D-43D5C1E5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43EE-6A94-485F-954D-CC4E60D4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302-9C23-442C-9D32-2D94AB14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657-7B07-4A70-915C-41F0A7BC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215-C49A-4C4D-B426-076BBDD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713-0D3C-4997-9F37-9F4EA7F1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78D-07A4-4A54-8B62-EEA56BD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11E-4995-4314-B2A2-33EB0BC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7A0-C276-425F-8784-A7F2A4D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59D3-3A26-4737-9761-164ABFD10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5:16:51Z</dcterms:created>
  <dc:creator>Рустемка</dc:creator>
  <dc:description/>
  <dc:language>en-US</dc:language>
  <cp:lastModifiedBy>user</cp:lastModifiedBy>
  <dcterms:modified xsi:type="dcterms:W3CDTF">2016-11-24T06:33:24Z</dcterms:modified>
  <cp:revision>8</cp:revision>
  <dc:subject/>
  <dc:title>Слайд 1</dc:title>
</cp:coreProperties>
</file>