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033-AEA5-42E5-8F41-6A84CA04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4B7-C72E-44ED-A9E2-A8D28B3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8FE-80FB-484E-99C6-D2D601C2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C49-8CE0-4490-A111-6E491B65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5C1-3430-4B1F-A023-D851488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499-CD97-4B1E-A64A-AE17A9C8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CAD-16D0-4344-985F-B1DE134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8CF-DC08-4C60-8792-6E74A252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9C9-ACAC-4064-B6FC-1A51CA4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CE3-9480-408C-A914-F7A656E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F70-8F20-4D82-A261-23C6462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649-2869-4833-A05E-0C70D1C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C0AD-4F90-4228-9091-A5BF468DB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5:16:51Z</dcterms:created>
  <dc:creator>Рустемка</dc:creator>
  <dc:description/>
  <dc:language>en-US</dc:language>
  <cp:lastModifiedBy>user</cp:lastModifiedBy>
  <dcterms:modified xsi:type="dcterms:W3CDTF">2016-11-24T06:33:24Z</dcterms:modified>
  <cp:revision>8</cp:revision>
  <dc:subject/>
  <dc:title>Слайд 1</dc:title>
</cp:coreProperties>
</file>