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5B8E-50DE-4182-8F5F-294272EACD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6800-EEB1-484D-9007-83518037AA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A278-4534-43B7-B839-FC7DE73280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A44B-6839-4644-A27C-5CCF887B0E7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E38-4D38-4431-9B23-A8884EE67B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DD9C-B160-458A-80A5-6E0B5FB60E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A213-A514-4914-A842-88E4B8DCD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6B31-993B-4875-B5A0-B96193B6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2E5E-8FB5-42AE-82E4-C7875903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01D8-B012-4640-B9A0-93CE44CED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AD7BB-B0D3-45F2-8AB4-759DEEF6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F9A7-257B-4E5E-8D79-DBEDFDCB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C06C-B6FC-4BAD-B06B-732BE594D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8B57-BB70-4CEF-9819-715F2F2B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FD00-FEAF-4D96-AFA7-810E8B5E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A030-95ED-4152-8044-69AA3D28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C6548-0E1E-4670-9EF3-F4D3798A0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A0A-7967-43C0-B678-4B73FCB5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4E5E7-89C4-469D-A007-3A6B2BF4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E69E7-C1E2-4E71-AB5E-762C6401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AC5F4-CF2B-48FC-96E2-21AC40B0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0B042-E44B-408F-A9EA-DD8C6A39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D0B3-EC9A-448B-9EA2-22ADEC8E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1DFA7-D11C-451D-AC86-A71155237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04246-FA8A-4231-A871-8CBA698E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DBC18-2CEA-4780-843C-B97277013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A3C09-D702-4B1B-B3F1-03DD87059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A5209-4CD8-4DAC-A3A1-D1A2391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208A-C8B4-4609-81CC-0054BEB9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59C3B-DB4C-4322-910E-596F63E6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21D24-426D-44D3-8587-B8B809CD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1EDFA-0B6D-4C0E-B30F-75EF909E2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81CA-1F6F-48C8-BAC5-260B74B54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7209FE-5C39-4353-9F51-09C6BA8A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239B9-E5F1-4373-998A-80A5DEE6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A3C30-B192-45B7-A345-20CC16DFD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303D5C-1D97-4E98-BF88-382EEDC5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EE613-9ED0-41CF-B846-457B412CE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CD4E7-68E8-42D3-9560-60496B2C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906D-0146-4F57-BD1D-710BDF9A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88BE-34A0-40CF-BCC9-31849423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E120-4A16-4200-BA27-1A98272A0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61BD7-7517-4FF2-BB5D-115A91CCC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A099F-BB01-494C-9582-3D4FCDE0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F1EE-4A50-4CA5-9635-D4901EFD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B58FA9-0490-4194-9396-FF804CB0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5392CD-D80A-4666-BCFE-BB9A694CE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0252C-83F6-4596-96AC-007CEA103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19FB3A-4BB6-42D1-A933-437859053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224CE-0656-48B9-9367-3CC6C671A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3450-A310-4977-83D1-3046B94E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96677A-4585-4242-8BE1-34D19A4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7D2EB-F4C6-4FA3-B710-A1901FBC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C84C5-C4C3-4459-92AE-FB5A25E07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2EB27-B0D6-414C-9009-90A09809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C0C29-8357-4C92-A0BD-2813E123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9A66F0-BCE1-424A-963E-5E1F193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57E2F5-9C8B-4EA3-A7AF-83CA4B261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32744-F408-451A-9E3E-78895F589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BA4AB-2DA7-4AFF-8203-CB4411636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A5710-F3F8-4EB2-84F3-E2A925092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68AD-61EF-4C7E-8E5D-82119AAF0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265B-0EEF-4CA6-8A94-8E7CD1C1B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6543-8A30-4EBD-BDEA-422D9685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B9A7-C589-4CE1-BBCB-4F8F1996B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CE3F-41F2-41EA-9256-0C54381B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030D-BF9A-4271-9599-16430CCA980C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6D23-226F-4371-B280-DA3AB9583313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ACD11-6C9A-4336-8131-42EA2EEDE544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97F0-13E0-4E9E-B37E-62FBA78FDFBC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7D130-4B1A-45B4-8902-C08E921D58B7}" type="slidenum">
              <a:rPr b="0" lang="ru-RU" sz="1000" spc="-1" strike="noStrike">
                <a:solidFill>
                  <a:srgbClr val="a7a399"/>
                </a:solidFill>
                <a:latin typeface="Comic Sans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3280" y="529920"/>
            <a:ext cx="8183520" cy="5032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ум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друж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вниматель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старательные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Мы - отлично учимся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Verdana"/>
              </a:rPr>
              <a:t>Все у нас получится!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320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Спасибо</a:t>
            </a:r>
            <a:br>
              <a:rPr sz="8800"/>
            </a:b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 за </a:t>
            </a:r>
            <a:br>
              <a:rPr sz="8800"/>
            </a:b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урок!</a:t>
            </a: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Verdana"/>
              </a:rPr>
              <a:t>Способы сравнения площади фигур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дно на глаз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ожение одной фигуры на другу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яется количество квадратов в каждой фигур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1533600" y="1600200"/>
          <a:ext cx="6076800" cy="15238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6240"/>
                <a:gridCol w="608040"/>
                <a:gridCol w="608040"/>
                <a:gridCol w="608040"/>
                <a:gridCol w="608040"/>
                <a:gridCol w="606240"/>
                <a:gridCol w="608040"/>
                <a:gridCol w="608040"/>
              </a:tblGrid>
              <a:tr h="739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836720" y="3733920"/>
          <a:ext cx="5469120" cy="1752480"/>
        </p:xfrm>
        <a:graphic>
          <a:graphicData uri="http://schemas.openxmlformats.org/drawingml/2006/table">
            <a:tbl>
              <a:tblPr/>
              <a:tblGrid>
                <a:gridCol w="608040"/>
                <a:gridCol w="608040"/>
                <a:gridCol w="606240"/>
                <a:gridCol w="608040"/>
                <a:gridCol w="608040"/>
                <a:gridCol w="608040"/>
                <a:gridCol w="608040"/>
                <a:gridCol w="606600"/>
                <a:gridCol w="608040"/>
              </a:tblGrid>
              <a:tr h="850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  <a:tr h="9018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0066"/>
                    </a:solidFill>
                  </a:tcPr>
                </a:tc>
              </a:tr>
            </a:tbl>
          </a:graphicData>
        </a:graphic>
      </p:graphicFrame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21800" y="837720"/>
            <a:ext cx="7202520" cy="381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ff8d3e"/>
                </a:solidFill>
                <a:latin typeface="Verdana"/>
              </a:rPr>
              <a:t>ПРОВЕРЬ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4"/>
          <p:cNvSpPr/>
          <p:nvPr/>
        </p:nvSpPr>
        <p:spPr>
          <a:xfrm>
            <a:off x="1409760" y="1107000"/>
            <a:ext cx="666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Тема урока: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omic Sans MS"/>
              </a:rPr>
              <a:t>«Квадратный сантиметр».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4"/>
          <p:cNvSpPr/>
          <p:nvPr/>
        </p:nvSpPr>
        <p:spPr>
          <a:xfrm>
            <a:off x="533520" y="328680"/>
            <a:ext cx="784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Задачи урока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Познакомить с единицей измерения площади – квадратный сантиметр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Учить находить площадь фигуры, используя новую единицу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Совершенствовать вычислительные навыки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5"/>
          <p:cNvSpPr/>
          <p:nvPr/>
        </p:nvSpPr>
        <p:spPr>
          <a:xfrm>
            <a:off x="3890880" y="476280"/>
            <a:ext cx="1224000" cy="1224000"/>
          </a:xfrm>
          <a:prstGeom prst="rect">
            <a:avLst/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5114880" y="476280"/>
            <a:ext cx="217440" cy="1224000"/>
          </a:xfrm>
          <a:custGeom>
            <a:avLst/>
            <a:gdLst>
              <a:gd name="textAreaLeft" fmla="*/ 0 w 217440"/>
              <a:gd name="textAreaRight" fmla="*/ 7848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5475240" y="90792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8"/>
          <p:cNvSpPr/>
          <p:nvPr/>
        </p:nvSpPr>
        <p:spPr>
          <a:xfrm>
            <a:off x="1600200" y="907920"/>
            <a:ext cx="12240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9"/>
          <p:cNvSpPr/>
          <p:nvPr/>
        </p:nvSpPr>
        <p:spPr>
          <a:xfrm rot="5400000">
            <a:off x="2104920" y="402840"/>
            <a:ext cx="214560" cy="1224000"/>
          </a:xfrm>
          <a:custGeom>
            <a:avLst/>
            <a:gdLst>
              <a:gd name="textAreaLeft" fmla="*/ 0 w 214560"/>
              <a:gd name="textAreaRight" fmla="*/ 77400 w 2145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143000" y="1122480"/>
            <a:ext cx="14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Text Box 11"/>
          <p:cNvSpPr/>
          <p:nvPr/>
        </p:nvSpPr>
        <p:spPr>
          <a:xfrm>
            <a:off x="900000" y="2060640"/>
            <a:ext cx="712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вадрат, сторона которого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 см, -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это единица площади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.е. квадратный сантиметр</a:t>
            </a: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Text Box 14"/>
          <p:cNvSpPr/>
          <p:nvPr/>
        </p:nvSpPr>
        <p:spPr>
          <a:xfrm>
            <a:off x="3419640" y="3357720"/>
            <a:ext cx="4608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8000"/>
                </a:solidFill>
                <a:latin typeface="Comic Sans MS"/>
              </a:rPr>
              <a:t>КВАДРАТНЫЙ САНТИМЕТР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Text Box 15"/>
          <p:cNvSpPr/>
          <p:nvPr/>
        </p:nvSpPr>
        <p:spPr>
          <a:xfrm>
            <a:off x="3419640" y="4581360"/>
            <a:ext cx="248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8000"/>
                </a:solidFill>
                <a:latin typeface="Comic Sans MS"/>
              </a:rPr>
              <a:t>см</a:t>
            </a:r>
            <a:r>
              <a:rPr b="0" i="1" lang="ru-RU" sz="28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Group 33"/>
          <p:cNvGrpSpPr/>
          <p:nvPr/>
        </p:nvGrpSpPr>
        <p:grpSpPr>
          <a:xfrm>
            <a:off x="1704960" y="1052640"/>
            <a:ext cx="2448000" cy="3671640"/>
            <a:chOff x="1704960" y="1052640"/>
            <a:chExt cx="2448000" cy="3671640"/>
          </a:xfrm>
        </p:grpSpPr>
        <p:sp>
          <p:nvSpPr>
            <p:cNvPr id="246" name="Rectangle 27"/>
            <p:cNvSpPr/>
            <p:nvPr/>
          </p:nvSpPr>
          <p:spPr>
            <a:xfrm>
              <a:off x="1704960" y="105264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7" name="Rectangle 28"/>
            <p:cNvSpPr/>
            <p:nvPr/>
          </p:nvSpPr>
          <p:spPr>
            <a:xfrm>
              <a:off x="2928960" y="105264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Rectangle 29"/>
            <p:cNvSpPr/>
            <p:nvPr/>
          </p:nvSpPr>
          <p:spPr>
            <a:xfrm>
              <a:off x="1704960" y="2276640"/>
              <a:ext cx="1224000" cy="12236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Rectangle 30"/>
            <p:cNvSpPr/>
            <p:nvPr/>
          </p:nvSpPr>
          <p:spPr>
            <a:xfrm>
              <a:off x="2928960" y="2276640"/>
              <a:ext cx="1224000" cy="122364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0" name="Rectangle 31"/>
            <p:cNvSpPr/>
            <p:nvPr/>
          </p:nvSpPr>
          <p:spPr>
            <a:xfrm>
              <a:off x="1704960" y="350028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1" name="Rectangle 32"/>
            <p:cNvSpPr/>
            <p:nvPr/>
          </p:nvSpPr>
          <p:spPr>
            <a:xfrm>
              <a:off x="2928960" y="3500280"/>
              <a:ext cx="1224000" cy="1224000"/>
            </a:xfrm>
            <a:prstGeom prst="rect">
              <a:avLst/>
            </a:prstGeom>
            <a:solidFill>
              <a:srgbClr val="cc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2" name="AutoShape 36"/>
          <p:cNvSpPr/>
          <p:nvPr/>
        </p:nvSpPr>
        <p:spPr>
          <a:xfrm>
            <a:off x="4152960" y="1052640"/>
            <a:ext cx="217440" cy="1224000"/>
          </a:xfrm>
          <a:custGeom>
            <a:avLst/>
            <a:gdLst>
              <a:gd name="textAreaLeft" fmla="*/ 0 w 217440"/>
              <a:gd name="textAreaRight" fmla="*/ 78480 w 2174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37"/>
          <p:cNvSpPr/>
          <p:nvPr/>
        </p:nvSpPr>
        <p:spPr>
          <a:xfrm>
            <a:off x="4427640" y="1484280"/>
            <a:ext cx="68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AutoShape 38"/>
          <p:cNvSpPr/>
          <p:nvPr/>
        </p:nvSpPr>
        <p:spPr>
          <a:xfrm flipV="1" rot="16200000">
            <a:off x="3433680" y="330840"/>
            <a:ext cx="214200" cy="1224000"/>
          </a:xfrm>
          <a:custGeom>
            <a:avLst/>
            <a:gdLst>
              <a:gd name="textAreaLeft" fmla="*/ 0 w 214200"/>
              <a:gd name="textAreaRight" fmla="*/ 77400 w 2142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39"/>
          <p:cNvSpPr/>
          <p:nvPr/>
        </p:nvSpPr>
        <p:spPr>
          <a:xfrm>
            <a:off x="3276720" y="506520"/>
            <a:ext cx="68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40"/>
          <p:cNvSpPr/>
          <p:nvPr/>
        </p:nvSpPr>
        <p:spPr>
          <a:xfrm>
            <a:off x="5651640" y="185112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S = </a:t>
            </a:r>
            <a:r>
              <a:rPr b="0" lang="uk-UA" sz="3200" spc="-1" strike="noStrike">
                <a:solidFill>
                  <a:srgbClr val="008000"/>
                </a:solidFill>
                <a:latin typeface="Comic Sans MS"/>
              </a:rPr>
              <a:t>6 см</a:t>
            </a:r>
            <a:r>
              <a:rPr b="0" lang="uk-UA" sz="3200" spc="-1" strike="noStrike" baseline="30000">
                <a:solidFill>
                  <a:srgbClr val="008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1"/>
          <p:cNvSpPr/>
          <p:nvPr/>
        </p:nvSpPr>
        <p:spPr>
          <a:xfrm>
            <a:off x="2514600" y="326880"/>
            <a:ext cx="36576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ак измерить площадь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ет задачи проще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оглядите-ка сюда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от длина, вот шир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Чтобы площадь нам узнать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ужно их перемнож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1"/>
          <p:cNvSpPr/>
          <p:nvPr/>
        </p:nvSpPr>
        <p:spPr>
          <a:xfrm>
            <a:off x="1219320" y="194040"/>
            <a:ext cx="541008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годня на уроке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ы искали и творили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нания новые открыли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учились их применять,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еперь задания легко вам выполнять!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5T16:06:24Z</dcterms:created>
  <dc:creator>admin</dc:creator>
  <dc:description/>
  <dc:language>en-US</dc:language>
  <cp:lastModifiedBy>Валентина Терентьевна</cp:lastModifiedBy>
  <dcterms:modified xsi:type="dcterms:W3CDTF">2014-02-18T12:12:14Z</dcterms:modified>
  <cp:revision>3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