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3F30-FFC3-466B-9275-58A2DC62FF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52B8-4CC2-41D9-8B39-E65068217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0B30-D3CB-4C09-A88E-B265406218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3F79-004F-499E-A83D-AF6D78FFA2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866B3-F596-449F-8CD4-43735A6CE0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52CCF-18DC-45F8-BBD1-F6316B3BBD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E3A-BBC5-42A0-9B04-9752396D3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1817-9226-474E-9AB9-CFF21E71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94D2-90FA-4CA0-987A-8A8D42EE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E497-AB83-448B-BA47-8860E8207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0206-20A4-43D4-BBAC-E15E9278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1B5B-4A67-4886-A729-4C4E3536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7891F-9493-4977-9E92-6047EDF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C82BD-8B48-4AF2-88F7-E92C48DF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F2DD4-BB4A-414D-AB44-C0451B65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FEC4-69B0-4E6E-A351-B91F71C0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33B5-0D52-4AA7-9594-1658C4FE4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B646-6ADC-41EB-B027-765DD25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3366-7F2A-4DC2-9DD6-D199D08F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4AEC-2D52-4EFE-93D5-EEB24311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8C143-F885-46C4-8021-6C5482928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E77C-F0D5-46A1-8D03-9457DDE76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C047-572A-4C2E-A932-5676568B7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FEFD0-0AA7-4D41-B7AA-3619AE49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C9987-7EFB-4012-BD2A-9149CD49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D4955-4CCF-4C54-ACBF-4FA50154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73CA3-9868-4466-8A25-F272597D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9E841-4DCE-4F0F-9BA2-EEC404F5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8279-1E73-43AF-A27C-B2616B3E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127D-AA0C-4FDA-88F1-F36BC97E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BDF44-9E15-4DE6-B1F3-EF07E3B8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840BF-DE82-4FB4-9ABB-20911F3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F22C-D6C1-438C-AD44-A9C5E46B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E11C9-54FB-412F-B4A9-C1DE1EA0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4B084-1966-41C2-A61B-5783AB252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446AA7-9D54-4F58-8F32-62E100101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B7209-5F0F-4203-AD7C-271D5970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4C606-2C0D-48A7-A621-98487A6E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357C7-C852-492E-A1FC-532063C3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61CF-FF0B-45CE-99CA-CCF03827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E2797-28C8-4B5F-81DB-6CC7176F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9CA77-0275-43CF-8958-E2CF6D50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0010E-1834-4463-9C23-63E690621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BF40A-4560-46EB-8868-32E095D0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A003D-AA28-43AC-9609-2105E22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4E0AA-5E59-404F-9E52-A4A8404A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D393A-A08A-47BF-9271-FBD69CB1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DB8F4-A180-463F-A609-94D6046AD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41DAB-018A-4D85-BE6D-904D41100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5556C-04FB-4B61-B8E5-C304B93D3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151A-772D-4C12-95A9-72EBDB06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0829F-5E03-4198-85C2-D0D5467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055AB-CDF2-400F-94D9-BBDD31F0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3E2B-808C-4E52-B145-581948915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6EB17-7096-4B18-966D-53F1D2A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5DD1-1CB4-4C7D-944A-BE706402B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C9A33-6394-4CAA-81D4-8BD8075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49CC-8F6B-455D-B411-3E40B484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D12D88-A0B1-4AE7-A38D-5313E0E2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B05A2-B0E0-4847-BD61-765E0C0D5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6BA8A-C423-4EE3-A761-221855127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DF72-5646-48C0-899C-2A42F130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889C4-4731-42E5-BB86-BD050A1D5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BE8D-DA94-43A1-9B64-D186E307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ADA8-DDF6-44CE-AADE-CC9F4F35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19B-5186-4961-8352-EFABCEC3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F8B5-4721-4819-B89A-81F993F5909F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90AE-A1FD-4727-8DEC-9ED819E40F1F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C298-E0ED-400F-B3A3-EA28069E4405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87EE-F5E6-4212-A668-6C835F43A7F3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C565-D45D-4644-8B85-FD06077AD193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ум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друж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вниматель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старатель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отлично учимся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Все у нас получится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320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Спасибо</a:t>
            </a:r>
            <a:br>
              <a:rPr sz="8800"/>
            </a:b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 за </a:t>
            </a:r>
            <a:br>
              <a:rPr sz="8800"/>
            </a:b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урок!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пособы сравнения площади фиг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дно на гла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ожение одной фигуры на другу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ется количество квадратов в каждой фигур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533600" y="1600200"/>
          <a:ext cx="6076800" cy="15238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6240"/>
                <a:gridCol w="608040"/>
                <a:gridCol w="608040"/>
                <a:gridCol w="608040"/>
                <a:gridCol w="608040"/>
                <a:gridCol w="606240"/>
                <a:gridCol w="608040"/>
                <a:gridCol w="608040"/>
              </a:tblGrid>
              <a:tr h="73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836720" y="3733920"/>
          <a:ext cx="5469120" cy="17524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6240"/>
                <a:gridCol w="608040"/>
                <a:gridCol w="608040"/>
                <a:gridCol w="608040"/>
                <a:gridCol w="608040"/>
                <a:gridCol w="606600"/>
                <a:gridCol w="608040"/>
              </a:tblGrid>
              <a:tr h="85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90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1800" y="837720"/>
            <a:ext cx="7202520" cy="3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РОВЕРЬ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409760" y="1107000"/>
            <a:ext cx="666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Тема урока: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«Квадратный сантиметр»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286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дачи урок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знакомить с единицей измерения площади – квадратный сантимет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ить находить площадь фигуры, используя новую единиц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вершенствовать вычислительные навы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890880" y="476280"/>
            <a:ext cx="1224000" cy="1224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114880" y="476280"/>
            <a:ext cx="217440" cy="1224000"/>
          </a:xfrm>
          <a:custGeom>
            <a:avLst/>
            <a:gdLst>
              <a:gd name="textAreaLeft" fmla="*/ 0 w 217440"/>
              <a:gd name="textAreaRight" fmla="*/ 7848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475240" y="9079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600200" y="9079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9"/>
          <p:cNvSpPr/>
          <p:nvPr/>
        </p:nvSpPr>
        <p:spPr>
          <a:xfrm rot="5400000">
            <a:off x="2104920" y="402840"/>
            <a:ext cx="214560" cy="1224000"/>
          </a:xfrm>
          <a:custGeom>
            <a:avLst/>
            <a:gdLst>
              <a:gd name="textAreaLeft" fmla="*/ 0 w 214560"/>
              <a:gd name="textAreaRight" fmla="*/ 77400 w 214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143000" y="112248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900000" y="206064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вадрат, сторона котор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м, 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единица площад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.е. квадратный сантиметр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419640" y="3357720"/>
            <a:ext cx="46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КВАДРАТНЫЙ САНТИМЕ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419640" y="4581360"/>
            <a:ext cx="248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Comic Sans MS"/>
              </a:rPr>
              <a:t>см</a:t>
            </a:r>
            <a:r>
              <a:rPr b="0" i="1" lang="ru-RU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3"/>
          <p:cNvGrpSpPr/>
          <p:nvPr/>
        </p:nvGrpSpPr>
        <p:grpSpPr>
          <a:xfrm>
            <a:off x="1704960" y="1052640"/>
            <a:ext cx="2448000" cy="3671640"/>
            <a:chOff x="1704960" y="1052640"/>
            <a:chExt cx="2448000" cy="3671640"/>
          </a:xfrm>
        </p:grpSpPr>
        <p:sp>
          <p:nvSpPr>
            <p:cNvPr id="246" name="Rectangle 27"/>
            <p:cNvSpPr/>
            <p:nvPr/>
          </p:nvSpPr>
          <p:spPr>
            <a:xfrm>
              <a:off x="1704960" y="105264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2928960" y="105264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1704960" y="2276640"/>
              <a:ext cx="1224000" cy="12236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2928960" y="2276640"/>
              <a:ext cx="1224000" cy="12236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1704960" y="350028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2928960" y="350028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" name="AutoShape 36"/>
          <p:cNvSpPr/>
          <p:nvPr/>
        </p:nvSpPr>
        <p:spPr>
          <a:xfrm>
            <a:off x="4152960" y="1052640"/>
            <a:ext cx="217440" cy="1224000"/>
          </a:xfrm>
          <a:custGeom>
            <a:avLst/>
            <a:gdLst>
              <a:gd name="textAreaLeft" fmla="*/ 0 w 217440"/>
              <a:gd name="textAreaRight" fmla="*/ 7848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4427640" y="1484280"/>
            <a:ext cx="68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38"/>
          <p:cNvSpPr/>
          <p:nvPr/>
        </p:nvSpPr>
        <p:spPr>
          <a:xfrm flipV="1" rot="16200000">
            <a:off x="3433680" y="330840"/>
            <a:ext cx="214200" cy="1224000"/>
          </a:xfrm>
          <a:custGeom>
            <a:avLst/>
            <a:gdLst>
              <a:gd name="textAreaLeft" fmla="*/ 0 w 214200"/>
              <a:gd name="textAreaRight" fmla="*/ 77400 w 214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3276720" y="506520"/>
            <a:ext cx="68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5651640" y="18511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S = </a:t>
            </a:r>
            <a:r>
              <a:rPr b="0" lang="uk-UA" sz="3200" spc="-1" strike="noStrike">
                <a:solidFill>
                  <a:srgbClr val="008000"/>
                </a:solidFill>
                <a:latin typeface="Comic Sans MS"/>
              </a:rPr>
              <a:t>6 см</a:t>
            </a:r>
            <a:r>
              <a:rPr b="0" lang="uk-UA" sz="32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514600" y="3268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измерить площад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т задачи прощ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глядите-ка сюд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т длина, вот шир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тобы площадь нам узн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ужно их перемнож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1219320" y="194040"/>
            <a:ext cx="5410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ы искали и творили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нания новые открыли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учились их приме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перь задания легко вам выполня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6:06:24Z</dcterms:created>
  <dc:creator>admin</dc:creator>
  <dc:description/>
  <dc:language>en-US</dc:language>
  <cp:lastModifiedBy>Валентина Терентьевна</cp:lastModifiedBy>
  <dcterms:modified xsi:type="dcterms:W3CDTF">2014-02-18T12:12:1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