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2E0-6915-4D9D-AC16-06D59F1F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43F-AC0A-40B7-8A94-755079B1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FA1-0030-4ADD-80D2-22F7050E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A03-F570-47EE-88E6-B0BD306B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3181-1309-4A07-BEB6-CE5C6D7B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8EA6-0E24-4FC0-B18F-AB58F5F6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1516-F98B-4408-8553-2CAE2B5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47FC-E315-422D-923B-82464F46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C7A6-2102-48BB-9B10-B1E15216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45A2-081D-4C28-B46E-97C9F88B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AA8F-08F9-421B-97C7-9D5ABA7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35F-3BB7-4327-A938-D7C3E790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4346-5CD8-4BD1-87EF-E694F09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EB68-EBFC-4C26-9590-036388D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9810-9E65-463C-A4EE-E2A21443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85E8-C4E7-42CF-9F0E-D6F62514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312-56EF-4D54-999A-81103A2D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364-F35A-4E08-8442-8B004EF5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1EB-49F4-4D48-8D4A-DE4E8C4C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F5D-7028-455A-A2DB-3438F634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521-7B54-4598-8643-B44422A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0C2-A82B-4228-93C6-D6EA986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90A-9674-4C9B-8CDC-8982BA0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302-0539-4B78-A436-6C29A1C6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6827-C81A-4CA9-8CD1-489DB80820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5C06-5D9A-486A-B760-E52455C410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100ppt.ru/matematika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Письменное умножение и деле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3640" y="1125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Цели и задачи изучения 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множение многозна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значное  чи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 двузначные и трехзначные 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значное  чи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вузначные и трехзначные 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62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При выполнении вычислений для случая с переходом через разряд возникает необходимость фиксировать промежуточные результаты в том или ином виде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26*3=(400+20+6)*3=1200+60+18=127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26*3=1200+60+18=12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более сложных случаев сложение промежуточных результатов выполняется «в столбик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347•8=9000•8+300•8+40 * 8+7•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4724280"/>
            <a:ext cx="590400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никает необходимость познакомить детей с алгоритмом письменного умножения, или с умножением «в столби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знакомстве учащихся с записью умножения «в столбик» полезно обратить их внимание на т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умножении, так же как при сложении, второе число (множитель) записывается под первым так, чтобы его разряды были под соответствующими разрядами первого множ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54738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8930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ясняя детям механизм умножения «в столбик», следует подчеркнуть, ч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умножение, так же как и сложение, начинаем с единиц низшего (первого) разря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записывая полученный результат, следим за тем, чтобы каждый разряд числа, полученного в значении произведения, записывался под соответствующим ему разря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приступая к умножению чисел 426*3, важно преж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выполнить правильную запись «в столбик». (Второй множитель содержит 3 единицы, значит, цифру 3 нужно записать под разрядом единиц первого множител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Умножение на однозначное число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41 х 2 = (300 + 40 + 1) х 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300 х 2 +40 х 2 + 1 х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600 + 80 + 2 = 68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900000" y="4797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4292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619280" y="47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403280" y="472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187280" y="472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обходимость письменных вычислений должна быть продиктована тем, что устно посчитать труд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18 х 3 = ( 500 + 10 + 8) х 3 = (8 + 10 + 500 ) х 3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00 + 30 + 24  =15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1 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5 5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4360" y="549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Умножение на однознач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75564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826920" y="4437000"/>
            <a:ext cx="129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2315 х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31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9 4 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одробным  пояснением учащихся и анализом полученного результата: что означает цифра 4?-д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получ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4дес.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д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дес х 3 = 3 д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11280" y="56664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Умножение на однознач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82692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826920" y="321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родолже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множение постепенно усложняется- увеличиваем первый множител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84 х3,  2924 х 4,  28751 х 3,   534867 х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лее:   408 х 7,   5006 х 7,  40010 х 5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00048 х 7 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наконец: 740 х 9, 6700 х 8, 408000 х 5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60000 х 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же: 9 х 136, 4 х 2836, 7 х 123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 опора на свойство: </a:t>
            </a: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a x d = d x 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11280" y="292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61128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61128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адайся! Как, не вычисляя значений произведений, выбрать из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ел, записанных справа, правильные ответы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07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79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29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648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78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×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145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05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434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6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2734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4"/>
          <p:cNvCxnSpPr/>
          <p:nvPr/>
        </p:nvCxnSpPr>
        <p:spPr>
          <a:xfrm>
            <a:off x="2071800" y="2000160"/>
            <a:ext cx="1643760" cy="2286720"/>
          </a:xfrm>
          <a:prstGeom prst="straightConnector1">
            <a:avLst/>
          </a:prstGeom>
          <a:ln w="57240">
            <a:solidFill>
              <a:srgbClr val="850aff"/>
            </a:solidFill>
            <a:miter/>
            <a:tailEnd len="med" type="arrow" w="med"/>
          </a:ln>
        </p:spPr>
      </p:cxnSp>
      <p:cxnSp>
        <p:nvCxnSpPr>
          <p:cNvPr id="221" name="Прямая со стрелкой 6"/>
          <p:cNvCxnSpPr/>
          <p:nvPr/>
        </p:nvCxnSpPr>
        <p:spPr>
          <a:xfrm>
            <a:off x="1999800" y="2642760"/>
            <a:ext cx="1715400" cy="857880"/>
          </a:xfrm>
          <a:prstGeom prst="straightConnector1">
            <a:avLst/>
          </a:prstGeom>
          <a:ln w="5724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222" name="Прямая со стрелкой 8"/>
          <p:cNvCxnSpPr/>
          <p:nvPr/>
        </p:nvCxnSpPr>
        <p:spPr>
          <a:xfrm flipV="1">
            <a:off x="2071440" y="3071520"/>
            <a:ext cx="1500840" cy="7200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23" name="Прямая со стрелкой 10"/>
          <p:cNvCxnSpPr/>
          <p:nvPr/>
        </p:nvCxnSpPr>
        <p:spPr>
          <a:xfrm flipV="1">
            <a:off x="2071800" y="2571480"/>
            <a:ext cx="1429200" cy="10720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24" name="Прямая со стрелкой 12"/>
          <p:cNvCxnSpPr/>
          <p:nvPr/>
        </p:nvCxnSpPr>
        <p:spPr>
          <a:xfrm flipV="1">
            <a:off x="1928880" y="1999800"/>
            <a:ext cx="1643760" cy="2215440"/>
          </a:xfrm>
          <a:prstGeom prst="straightConnector1">
            <a:avLst/>
          </a:prstGeom>
          <a:ln w="5724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родолже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правилом умножения на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 качестве подготовите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 числа в виде произве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 = 7 Х 10;      700 = 7 Х 100;          7000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 устно - объясни 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 х 20 = …     41 х 200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чи решение: 342 х 60 = 342 х (6 х 10)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ерейдете к записи в  «столбик»?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2300 х 6 = 423сот. Х 6 =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2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38 сот.  Или 253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116000" y="537372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H="1">
            <a:off x="1115640" y="537372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971640" y="580536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Умножение на разрядные числ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чимс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ать на 10, 100, 1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 тем на 40, 400, 4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14 х 60  = 14 х (6 х 10 )= (14 х 6) х 10=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 84 х 10 = 84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16 х ( 5 х 2 ) = 1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6 х 5) х 2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6 х 2) х 5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Вывод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чтобы умножить число на произведе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можно   -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20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Цели и задачи изучения темы;</a:t>
            </a: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накомить с алгоритмом письменного умножения и деления многозначны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накомить со свойствами умножения и деления числа на произведение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 : (x) mn 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ть навыки табличного умножения и 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ть и углубить знания о действиях умножения и деления, их свойствах,  взаимосвязях между результатом   и компонентами 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4716360" y="3213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Увеличение и уменьшение число в 10, 100, 1000 раз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применении имеющихся у детей знаний о поместном течении цифр при записи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уется  наблюдение детей за изменением 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значения циф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перемещении ее в записи числа, которое происходит, если приписать к числу или отбросить один, два, три ну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, приписав справа нуль к числу 5 дети отмечают, что теперь цифра 5 стоит на втором  месте читая справа налево, и обозначает десятки, а 5 десятков больше, чем 5 единиц, в 1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Увеличение и уменьшение число в 10, 100, 1000 ра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Аналогично сравнивают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7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9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т. п.  делают 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если припишем к числу нуль справа, то оно увеличится в 1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же подводят детей к выводу об увеличении числа в 100 и 100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атривая уменьшение числа в 100, 1000 раз, берут числа, оканчивающиеся нулями, и, получив из них отбрасыванием одного, двух, трех нулей новые числа, производят сравнение и делают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42788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Типичные ошиб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ают правила: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 x (b x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 x ( b +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х 12 = 15 х (10 + 2) = 15 х 2 х 10= 30 х 10 = 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 х 7 х 10 = 27 х 7 + 27 х 10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Предупреждение ошибо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- решать с подробным пояснением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х 50 =  6 х (5 х 10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х 15 =  6 х ( 10 + 5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Задание  -  сравни: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6 х 10 х 4    *     36 х 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5 х 6 + 45 х 10    *     45 х 6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 х 4 + 21 х 3    *     21 х 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 х 5 х 10    *     17 х 5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 х 3 х 10    *     16 х 3 + 16 х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 х 9 + 18 10    *     18 х 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354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братить внима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аздо важнее, чтобы дети осознанно усвоили последовательность операций, входящих в алгоритм. Для этой цели полезно предлагать так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55640" y="258084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ясни, как выполнено умножение «в столбик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851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3 0 2 1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×              7                                                   5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6959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1510 7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64372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5857920" y="385776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564000" y="501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230760" y="4334040"/>
            <a:ext cx="816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266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ь пропущенные цифры, чтобы запись была вер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266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5 0 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266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_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266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♦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3132000" y="544500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285080" y="5445000"/>
            <a:ext cx="4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умножение на двузначное число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сознанного усвоения операций, входящих в алгоритм умножения на двузначное число, полезно предложить детям сравнить и проанализировать следующие зап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720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множения на трехзначное числ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умножения на трехзначное число целесообразно рас­сматривать в сравнении с алгоритмом умножения на двузначное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но также использовать анализ выполненных действий. Для этой цели предлагаются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ясни, как вычислено значение произведения слева и с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51130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Догадайся! Почему второе неполное произведение записано, начиная с разряда сотен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5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умай! Как удобнее записать вычисления «в столбик»? Найди значения произвед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*9375    640*7     6380*26   80*14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7*39300  1936*1001  470*6040  740*32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Используя запись умножения «в столбик», найди значения выражений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5614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Алгоритм письменного деления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урса математики вам известно, что письменное деление рассматривается как действие деления с остат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этому сознательное овладение алгоритмом письменного деления во многом зависит от ум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ходить остаток при делении одного числа на друго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нова этого умения - осознание взаимосвязи между делимым, делителем, неполным частным и остатком, которая находит выражение в равенст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елимое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делитель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еполное част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ост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Содержание и последовательность</a:t>
            </a:r>
            <a:br>
              <a:rPr sz="2200"/>
            </a:b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 изучения темы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ие на однозначное чис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 на однозна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ие на числа, оканчивающиеся «0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 на числа, оканчивающиеся «0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ие на двузначные и трехзначные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на двузначные и трехзначные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835280" y="1484280"/>
            <a:ext cx="287280" cy="914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971640" y="1773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900000" y="1773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00000" y="213372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4292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1908000" y="2852640"/>
            <a:ext cx="287640" cy="9144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971640" y="3141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900000" y="3141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82692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826920" y="35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2050920" y="4365720"/>
            <a:ext cx="287640" cy="9144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971640" y="450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900000" y="450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826920" y="450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755640" y="44370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755640" y="49417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1187280" y="32749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1187280" y="4581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мим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ления с остатко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как одной из основных операций письменного деления, для успешного овладения алгоритмом ученики должны усвои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рядный и десятичный состав числа, взаимосвязь умножения и 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оритм построен на основе правил деления суммы на число, деления числа на произведение и приемов нахождения результатов деления с остат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9280" y="5194440"/>
            <a:ext cx="85694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1348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исьменное деление на однозначное число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Прием письменного деления включает такие опера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мену делимого суммой удобных слагаем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чаще называют выделением </a:t>
            </a:r>
            <a:r>
              <a:rPr b="0" i="1" lang="ru-RU" sz="2000" spc="-1" strike="noStrike">
                <a:solidFill>
                  <a:srgbClr val="ff9900"/>
                </a:solidFill>
                <a:latin typeface="Times New Roman"/>
              </a:rPr>
              <a:t>неполных делимых)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ление на делитель каждого слагаем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еполного делимого)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ожение полученных част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лучения цифр частного использую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ем подбора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сегда получается сразу подобрать оптимальную цифру част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ую подобранную цифру частного проверяют, умножая ее на делитель находят разницу между неполным делимым и полученным произвед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остаток меньше делимого, то цифра частного выбрана верно, ее можно записывать в частное и продолжать процесс со вторым неполным делимым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Письменное деление может быть с остатком и без оста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Times New Roman"/>
              </a:rPr>
              <a:t>Письменное деление всегда начинают с высших разрядов, 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отличие от письменного умн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диционно используют поэтапный подход к формированию письменного алгоритма деления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й этап: рассматриваются случаи вида 794 : 2; 984 : 4 —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ое неполное делимое однознач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й этап: рассматриваются случаи ви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7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6 —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ое неполное делимое двузнач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й этап: рассматриваются случаи 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улями в частн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 конце или в середин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-й этап: рассматри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ление чисел, оканчивающихся ну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Образу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е неполное делим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лю сотни: 7 сот.  : 2, = 3 сот.  в  частном будет 3 сот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зна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к. сот. раздел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сот. Х  2 = 6с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зна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к. сот. осталось раздел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сот. – 6 сот. = 1 со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Провери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авильно ли подобрана цифра частн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авним остаток с делителем: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, цифру сотен нашли 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Образу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е  неполное делим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3816360" cy="19875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5364000" y="620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5651640" y="62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508720" y="62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02520" y="363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214200" y="6000840"/>
            <a:ext cx="83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100ppt.ru/matematika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готовые презентации по ма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 «прикидки» цифр частного поможет ребенку при выполнении деления вида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Методические замечания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 каждом из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изучается умножение и деление величин на чи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Выделяются частные случа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ба множителя разрядные чис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Нули в середине записи второго множителя (20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Различные сочетания названных случа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астные случаи деления с нулями на конце и в средине час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исьменное умножение опирается на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ь числа в десятичной системе счис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у умножения однозначны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сложения и умн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у сложения однознач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яя знание разрядного состава числа и свойство умножения суммы на число, они могут умножать любое многозначное число на однозначное с помощью устных вычис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Times New Roman"/>
              </a:rPr>
              <a:t>Умножение многозначных чисел:</a:t>
            </a:r>
            <a:br>
              <a:rPr sz="2600"/>
            </a:br>
            <a:r>
              <a:rPr b="1" lang="ru-RU" sz="2600" spc="-1" strike="noStrike">
                <a:solidFill>
                  <a:srgbClr val="330066"/>
                </a:solidFill>
                <a:latin typeface="Times New Roman"/>
              </a:rPr>
              <a:t> на однозначное  число;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одготовительн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ни умножение сложением или наобор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 х 4 =          15  + 15 + 15 + 15 + 15 =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x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ы ли равенства:   18 х 5 = 18 + 18 + 18 + 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3 х 3 = 23 + 23 + 23 +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 + 12 + 12 +11 = 12 х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до изменить левую часть равенства, чтобы оно стало вер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аются простые задачи на умножение с буквенными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родолже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х 7,    7 х 1,   0 х3,    8 х 0 , 0 х 1, 42 х 1, 0 х 0 ,  0 х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му равно произведение, если один из множителей равен единице? Нул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йти неизвестный множитель, если известны произведение и другой множ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284720" y="4437000"/>
          <a:ext cx="4038480" cy="2233800"/>
        </p:xfrm>
        <a:graphic>
          <a:graphicData uri="http://schemas.openxmlformats.org/drawingml/2006/table">
            <a:tbl>
              <a:tblPr/>
              <a:tblGrid>
                <a:gridCol w="1619280"/>
                <a:gridCol w="612720"/>
                <a:gridCol w="576360"/>
                <a:gridCol w="647640"/>
                <a:gridCol w="58248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родолже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 выражение :  сумму чисел  30 и 20 умнож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. Найди значение этого выражения разными 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ь верно ли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4 + 5 + 2 + 9 ) х 3  = 4 х 3 + 5 х 3 + 2 х 3 + 9 х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жно умножить сумму на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задачи по выражению:  12 х 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. 2100 х 3  = (2000 х 3 + 100 х 3)= 6т.3с. -6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7 х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61128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539640" y="4437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урса математики вам известно, что письменное умножение опирается на: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ись числа в десятичной системе счис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у умножения однозначны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ы сложения и умн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у сложения однознач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младшие школьники знакомятся с алгоритмом письменного умножения после изучения всех названных понятий. Применяя знание разрядного состава числа и свойство умножения суммы на число, они могут умножать любое многозначное число на однозначное с помощью устных вычис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1:13:44Z</dcterms:created>
  <dc:creator>User</dc:creator>
  <dc:description/>
  <dc:language>en-US</dc:language>
  <cp:lastModifiedBy>Павел</cp:lastModifiedBy>
  <dcterms:modified xsi:type="dcterms:W3CDTF">2016-07-21T05:02:37Z</dcterms:modified>
  <cp:revision>17</cp:revision>
  <dc:subject/>
  <dc:title>Письменное умножение и де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