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1128-EAD0-4CAA-95E2-C5A79CE7A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D56-5F08-4E4F-9C04-2ADE52983C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F9-446D-4EC2-B99D-C96167B1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9E1-D1BA-49B4-8B92-A5DFFBE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6C2-696E-4D1D-95EE-28A1C71C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2CF-71DE-43BB-8EE5-61374D6D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CAF-D6C5-4A2B-B0D5-925F450A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6B0-69BC-4C10-9968-D2233A0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032-EEB3-4D54-B620-53DF9E6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B23-79D1-4CDF-BD2D-B53B5FA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C7F-853C-4AF8-A0A4-8D3FB58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E62-E929-44E9-9181-D2D03DDC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0B0-830D-45DB-ABFA-5A7C2B3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4B3-1E26-46D6-8C67-C4B0900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39BD-52EC-44DD-BBC1-C0B7E7CC5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pa.ru/" TargetMode="External"/><Relationship Id="rId3" Type="http://schemas.openxmlformats.org/officeDocument/2006/relationships/hyperlink" Target="http://www.mirkrestikom.ru/" TargetMode="External"/><Relationship Id="rId4" Type="http://schemas.openxmlformats.org/officeDocument/2006/relationships/hyperlink" Target="http://vishivashka.ru/vyshivka_biserom/almaznaya.php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106200" y="-14400"/>
            <a:ext cx="923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838480" y="3645000"/>
            <a:ext cx="330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7 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чанова Любов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Бакуше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Александров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3387600" y="1643040"/>
            <a:ext cx="3953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2916360" y="6165720"/>
            <a:ext cx="395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 2018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763640" y="189000"/>
            <a:ext cx="72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ОЕ ОБЩЕ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СКАЯ СРЕДНЯЯ ОБЩЕОБРАЗОВАТЕЛЬНАЯ ШК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10" descr=""/>
          <p:cNvPicPr/>
          <p:nvPr/>
        </p:nvPicPr>
        <p:blipFill>
          <a:blip r:embed="rId3"/>
          <a:stretch/>
        </p:blipFill>
        <p:spPr>
          <a:xfrm>
            <a:off x="1695600" y="2120760"/>
            <a:ext cx="72723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з чего состоит наб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я\Desktop\彩虹-璃锦砖-59220678.jpg"/>
          <p:cNvPicPr/>
          <p:nvPr/>
        </p:nvPicPr>
        <p:blipFill>
          <a:blip r:embed="rId3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я\Desktop\ЛЮБА\DSCN9373.JPG"/>
          <p:cNvPicPr/>
          <p:nvPr/>
        </p:nvPicPr>
        <p:blipFill>
          <a:blip r:embed="rId4"/>
          <a:stretch/>
        </p:blipFill>
        <p:spPr>
          <a:xfrm>
            <a:off x="4859280" y="341460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я\Desktop\ЛЮБА\DSCN9372.JPG"/>
          <p:cNvPicPr/>
          <p:nvPr/>
        </p:nvPicPr>
        <p:blipFill>
          <a:blip r:embed="rId5"/>
          <a:stretch/>
        </p:blipFill>
        <p:spPr>
          <a:xfrm>
            <a:off x="1692360" y="1628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равила безопас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92000" y="1600200"/>
            <a:ext cx="71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мозаикой необходимо, чтобы на рабочей поверхности не было ничего лиш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инструменты нужно аккуратно, с осторож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работу внимательно, не отвлек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аботы убрать своё рабочее место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80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7640" y="1600200"/>
            <a:ext cx="6985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в место и все необходимые для работы материалы, следует максимально осторожно освободить небольшой кусочек схемы от клейкой лен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0" y="1260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я\Desktop\ЛЮБА\DSCN9377.JPG"/>
          <p:cNvPicPr/>
          <p:nvPr/>
        </p:nvPicPr>
        <p:blipFill>
          <a:blip r:embed="rId3"/>
          <a:stretch/>
        </p:blipFill>
        <p:spPr>
          <a:xfrm>
            <a:off x="5364000" y="3573360"/>
            <a:ext cx="3654720" cy="273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я\Desktop\ЛЮБА\DSCN9375.JPG"/>
          <p:cNvPicPr/>
          <p:nvPr/>
        </p:nvPicPr>
        <p:blipFill>
          <a:blip r:embed="rId4"/>
          <a:stretch/>
        </p:blipFill>
        <p:spPr>
          <a:xfrm>
            <a:off x="1569960" y="3613320"/>
            <a:ext cx="3648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692000" y="1268280"/>
            <a:ext cx="7273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мы переходим непосредственно к выкладыванию камней. Для этого с помощью пинцета, я беру, пронумерованный в соответствии с цветом схемы камень и осторожно укладываем его в нужную клеточку на схе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я\Desktop\ЛЮБА\DSCN9383.JPG"/>
          <p:cNvPicPr/>
          <p:nvPr/>
        </p:nvPicPr>
        <p:blipFill>
          <a:blip r:embed="rId3"/>
          <a:stretch/>
        </p:blipFill>
        <p:spPr>
          <a:xfrm>
            <a:off x="4859280" y="3716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7960" y="18216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я\Desktop\ЛЮБА\DSCN9382.JPG"/>
          <p:cNvPicPr/>
          <p:nvPr/>
        </p:nvPicPr>
        <p:blipFill>
          <a:blip r:embed="rId3"/>
          <a:stretch/>
        </p:blipFill>
        <p:spPr>
          <a:xfrm>
            <a:off x="1908000" y="1341360"/>
            <a:ext cx="6731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96880" y="27432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вершение работы над проек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вся алмазная мозаика будет собрана, еще раз подравниваем края металлической линейкой , для получения однородной фактуры полот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абота была с рамкой, и мне осталось только дождаться  8 марта, чтобы подарить маме свой неповторимый шедев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181080" y="-14400"/>
            <a:ext cx="9158400" cy="680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63280" y="549360"/>
            <a:ext cx="3164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Расход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набор: 900руб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ериод изготовл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нед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тои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товой работы, сделанной своими руками:  2500-3000 руб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95640" cy="453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я\Desktop\彩虹-璃锦砖-59220678.jpg"/>
          <p:cNvPicPr/>
          <p:nvPr/>
        </p:nvPicPr>
        <p:blipFill>
          <a:blip r:embed="rId3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907920"/>
            <a:ext cx="7200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роектом была полезной и увлекательной. Ис­пользованы навыки и умения, полученные в 5 и 6 классе при изучении видов изобразительного искусства и на уроках технологии, они закрепляют полученный опыт работы над изделием, прививают художественный вкус, способствуют общему развитию, доставляют много положи­тельных эмо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изделие служит в качестве полезной вещи в моей практической деятельности. Приобретённая опре­деленная подготовка является моим активом в конструкторской деятельности, а также из­делия ручной работы всегда привлекают людей с художествен­ным вку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07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764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исок литературы и интернет ресурс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47440" y="1341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гинтон Майкл. “Пять возрастов стекла”. Журнал Architecture d'aujourd'h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усарчук Д.М. «300 ответов любителю художественных работ» Москва.198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сов Игорь, статьи из журнала "Художественный совет" 3(49)2006 и 4(50)2006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чинова О.В. «Декоративно-прикладное творчество» Ростов на Дану «Феникс» 200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ьяццари Сюзи «Цвет в интерьере вашего дома», издательство «Кристина- Новый век».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aipa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mirkrestikom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vishivashka.ru/vyshivka_biserom/almaznaya.ph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C:\Users\я\Desktop\彩虹-璃锦砖-59220678.jpg"/>
          <p:cNvPicPr/>
          <p:nvPr/>
        </p:nvPicPr>
        <p:blipFill>
          <a:blip r:embed="rId5"/>
          <a:stretch/>
        </p:blipFill>
        <p:spPr>
          <a:xfrm>
            <a:off x="-87480" y="84240"/>
            <a:ext cx="14925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39600" y="-33480"/>
            <a:ext cx="92314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3"/>
          <a:stretch/>
        </p:blipFill>
        <p:spPr>
          <a:xfrm>
            <a:off x="2346480" y="1852560"/>
            <a:ext cx="58276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19280" y="404640"/>
            <a:ext cx="71899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Цель создания проекта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искусством мозаики;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воение технологии мозаичного искусства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дачи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рать и изучить информацию об искусстве мозаик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сделать панно в технике алмазная мозаика для интерьера своего дома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овать других ребят на творческую деятельность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96880" y="259920"/>
            <a:ext cx="76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Что такое мозаика…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1619280" y="1484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́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фр. mosaïque, итал. mosaico                от лат. (opus) musivum — (произведение), посвящённое музам) — декоративно-прикладное и монументальное искусство             разных жанров, произведения которого подразумевают формирование изображения посредством компоновки, набора и закрепления на поверхности (как правило — на плоскости) разноцветных камней, смальты, керамических плиток и других матери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7920" y="0"/>
            <a:ext cx="923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лмазная моза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92000" y="980640"/>
            <a:ext cx="7127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шивка, она же "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живопись" или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 мозаи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кладка акриловыми стразами красочных картин по схемам вышивки крестом. В отличие от вышивания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шивка требует меньше сил и времени, а результат при этом получается блестящий в прямом и переносном смысле этого 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я\Desktop\10-2.jpg"/>
          <p:cNvPicPr/>
          <p:nvPr/>
        </p:nvPicPr>
        <p:blipFill>
          <a:blip r:embed="rId3"/>
          <a:stretch/>
        </p:blipFill>
        <p:spPr>
          <a:xfrm>
            <a:off x="4859280" y="3933720"/>
            <a:ext cx="4065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остоинства алмазной моза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аика не теряет своих качеств и не выцветает с течением време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шивка стразами, придает вышитому полотну определенную фактуру и рельеф, делая их максимально реалистичны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широкой цветовой гаммы с передачей мельчайших оттенков, позволяет передать настоящую игру света и тени, реализуя эффект 3D, в отличие от полотен, вышитых бисером, где это сделать, не уда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иды техник выкл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я\Desktop\chastichnaya2.jpg"/>
          <p:cNvPicPr/>
          <p:nvPr/>
        </p:nvPicPr>
        <p:blipFill>
          <a:blip r:embed="rId3"/>
          <a:stretch/>
        </p:blipFill>
        <p:spPr>
          <a:xfrm>
            <a:off x="5418000" y="1738440"/>
            <a:ext cx="361800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я\Desktop\313660.jpg"/>
          <p:cNvPicPr/>
          <p:nvPr/>
        </p:nvPicPr>
        <p:blipFill>
          <a:blip r:embed="rId4"/>
          <a:srcRect l="-2018" t="0" r="0" b="0"/>
          <a:stretch/>
        </p:blipFill>
        <p:spPr>
          <a:xfrm>
            <a:off x="1619280" y="1779480"/>
            <a:ext cx="3600360" cy="384516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1835280" y="5624640"/>
            <a:ext cx="7200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                              частич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иды стр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9236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я\Desktop\vidy-mozaiki4.jpg"/>
          <p:cNvPicPr/>
          <p:nvPr/>
        </p:nvPicPr>
        <p:blipFill>
          <a:blip r:embed="rId3"/>
          <a:stretch/>
        </p:blipFill>
        <p:spPr>
          <a:xfrm>
            <a:off x="1496880" y="2260440"/>
            <a:ext cx="4499280" cy="253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я\Desktop\Rhinestone.jpg"/>
          <p:cNvPicPr/>
          <p:nvPr/>
        </p:nvPicPr>
        <p:blipFill>
          <a:blip r:embed="rId4"/>
          <a:stretch/>
        </p:blipFill>
        <p:spPr>
          <a:xfrm>
            <a:off x="6243480" y="3816360"/>
            <a:ext cx="23385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емы алмазных моза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8920" y="1268280"/>
            <a:ext cx="27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ые мотив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зодиа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я\Desktop\26366_nabor-dlya-almaznoy-vyshivki-.jpg"/>
          <p:cNvPicPr/>
          <p:nvPr/>
        </p:nvPicPr>
        <p:blipFill>
          <a:blip r:embed="rId3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Это мой набор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324792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11292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я\Desktop\彩虹-璃锦砖-59220678.jpg"/>
          <p:cNvPicPr/>
          <p:nvPr/>
        </p:nvPicPr>
        <p:blipFill>
          <a:blip r:embed="rId4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9T16:59:03Z</dcterms:created>
  <dc:creator>я</dc:creator>
  <dc:description/>
  <dc:language>en-US</dc:language>
  <cp:lastModifiedBy>я</cp:lastModifiedBy>
  <dcterms:modified xsi:type="dcterms:W3CDTF">2018-08-10T05:27:43Z</dcterms:modified>
  <cp:revision>20</cp:revision>
  <dc:subject/>
  <dc:title>Подарок для мамы  или алмазная мозаика</dc:title>
</cp:coreProperties>
</file>