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D8C9-9CBA-4BF6-A6A1-5FC4B71DBD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518D-01A8-4D24-9F2E-47C979889C1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23C-726C-46E4-840A-95C3ADC8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6F0C-1C7B-49CB-9AB2-8AC1203E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22C-68E0-4181-8A63-798CB74B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85F-4353-45D9-97CF-25935BC8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D81-84FE-42E7-973C-891E7245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179-62C3-4952-8705-66E25839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20C-D81B-404A-ACEA-C7E08C6A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6E6-A115-48AF-BBFA-3DCCD5A0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97A-82D5-49B6-B2EA-CF44AA02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399-0FD6-4F43-BE2E-36C84F9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CC6-1AD5-46B0-9A67-C6E48B1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51C-7FE3-48F7-B2E9-C1C9677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3C9E-54F4-40E6-88C8-274D27B07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ipa.ru/" TargetMode="External"/><Relationship Id="rId3" Type="http://schemas.openxmlformats.org/officeDocument/2006/relationships/hyperlink" Target="http://www.mirkrestikom.ru/" TargetMode="External"/><Relationship Id="rId4" Type="http://schemas.openxmlformats.org/officeDocument/2006/relationships/hyperlink" Target="http://vishivashka.ru/vyshivka_biserom/almaznaya.php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106200" y="-14400"/>
            <a:ext cx="923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838480" y="3645000"/>
            <a:ext cx="3305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7 кла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чанова Любов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Бакушев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ья Александров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3387600" y="1643040"/>
            <a:ext cx="3953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2916360" y="6165720"/>
            <a:ext cx="395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 2018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763640" y="189000"/>
            <a:ext cx="720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ЕНОЕ ОБЩЕ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ОВСКАЯ СРЕДНЯЯ ОБЩЕОБРАЗОВАТЕЛЬНАЯ ШКО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10" descr=""/>
          <p:cNvPicPr/>
          <p:nvPr/>
        </p:nvPicPr>
        <p:blipFill>
          <a:blip r:embed="rId3"/>
          <a:stretch/>
        </p:blipFill>
        <p:spPr>
          <a:xfrm>
            <a:off x="1695600" y="2120760"/>
            <a:ext cx="72723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з чего состоит набо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я\Desktop\彩虹-璃锦砖-59220678.jpg"/>
          <p:cNvPicPr/>
          <p:nvPr/>
        </p:nvPicPr>
        <p:blipFill>
          <a:blip r:embed="rId3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я\Desktop\ЛЮБА\DSCN9373.JPG"/>
          <p:cNvPicPr/>
          <p:nvPr/>
        </p:nvPicPr>
        <p:blipFill>
          <a:blip r:embed="rId4"/>
          <a:stretch/>
        </p:blipFill>
        <p:spPr>
          <a:xfrm>
            <a:off x="4859280" y="3414600"/>
            <a:ext cx="4038480" cy="303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я\Desktop\ЛЮБА\DSCN9372.JPG"/>
          <p:cNvPicPr/>
          <p:nvPr/>
        </p:nvPicPr>
        <p:blipFill>
          <a:blip r:embed="rId5"/>
          <a:stretch/>
        </p:blipFill>
        <p:spPr>
          <a:xfrm>
            <a:off x="1692360" y="1628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равила безопас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92000" y="1600200"/>
            <a:ext cx="71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мозаикой необходимо, чтобы на рабочей поверхности не было ничего лишн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инструменты нужно аккуратно, с осторож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работу внимательно, не отвлека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работы убрать своё рабочее место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804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полнение творческого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7640" y="1600200"/>
            <a:ext cx="69850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в место и все необходимые для работы материалы, следует максимально осторожно освободить небольшой кусочек схемы от клейкой лен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0" y="1260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я\Desktop\ЛЮБА\DSCN9377.JPG"/>
          <p:cNvPicPr/>
          <p:nvPr/>
        </p:nvPicPr>
        <p:blipFill>
          <a:blip r:embed="rId3"/>
          <a:stretch/>
        </p:blipFill>
        <p:spPr>
          <a:xfrm>
            <a:off x="5364000" y="3573360"/>
            <a:ext cx="3654720" cy="2739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я\Desktop\ЛЮБА\DSCN9375.JPG"/>
          <p:cNvPicPr/>
          <p:nvPr/>
        </p:nvPicPr>
        <p:blipFill>
          <a:blip r:embed="rId4"/>
          <a:stretch/>
        </p:blipFill>
        <p:spPr>
          <a:xfrm>
            <a:off x="1569960" y="3613320"/>
            <a:ext cx="3648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692000" y="1268280"/>
            <a:ext cx="7273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, мы переходим непосредственно к выкладыванию камней. Для этого с помощью пинцета, я беру, пронумерованный в соответствии с цветом схемы камень и осторожно укладываем его в нужную клеточку на схе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полнение творческого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Users\я\Desktop\ЛЮБА\DSCN9383.JPG"/>
          <p:cNvPicPr/>
          <p:nvPr/>
        </p:nvPicPr>
        <p:blipFill>
          <a:blip r:embed="rId3"/>
          <a:stretch/>
        </p:blipFill>
        <p:spPr>
          <a:xfrm>
            <a:off x="4859280" y="37162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7960" y="182160"/>
            <a:ext cx="718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полнение творческого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Users\я\Desktop\ЛЮБА\DSCN9382.JPG"/>
          <p:cNvPicPr/>
          <p:nvPr/>
        </p:nvPicPr>
        <p:blipFill>
          <a:blip r:embed="rId3"/>
          <a:stretch/>
        </p:blipFill>
        <p:spPr>
          <a:xfrm>
            <a:off x="1908000" y="1341360"/>
            <a:ext cx="67312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8748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96880" y="274320"/>
            <a:ext cx="718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авершение работы над проек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ого как вся алмазная мозаика будет собрана, еще раз подравниваем края металлической линейкой , для получения однородной фактуры полот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работа была с рамкой, и мне осталось только дождаться  8 марта, чтобы подарить маме свой неповторимый шедев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181080" y="-14400"/>
            <a:ext cx="9158400" cy="680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763280" y="549360"/>
            <a:ext cx="31640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Расходы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й набор: 900руб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ериод изготовл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 нед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тоим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товой работы, сделанной своими руками:  2500-3000 руб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095640" cy="453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я\Desktop\彩虹-璃锦砖-59220678.jpg"/>
          <p:cNvPicPr/>
          <p:nvPr/>
        </p:nvPicPr>
        <p:blipFill>
          <a:blip r:embed="rId3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8748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ыво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19280" y="907920"/>
            <a:ext cx="7200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проектом была полезной и увлекательной. Ис­пользованы навыки и умения, полученные в 5 и 6 классе при изучении видов изобразительного искусства и на уроках технологии, они закрепляют полученный опыт работы над изделием, прививают художественный вкус, способствуют общему развитию, доставляют много положи­тельных эмоц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изделие служит в качестве полезной вещи в моей практической деятельности. Приобретённая опре­деленная подготовка является моим активом в конструкторской деятельности, а также из­делия ручной работы всегда привлекают людей с художествен­ным вку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07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8748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764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писок литературы и интернет ресурс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47440" y="134136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ггинтон Майкл. “Пять возрастов стекла”. Журнал Architecture d'aujourd'h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усарчук Д.М. «300 ответов любителю художественных работ» Москва.198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сов Игорь, статьи из журнала "Художественный совет" 3(49)2006 и 4(50)2006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чинова О.В. «Декоративно-прикладное творчество» Ростов на Дану «Феникс» 200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ьяццари Сюзи «Цвет в интерьере вашего дома», издательство «Кристина- Новый век».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aipa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mirkrestikom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vishivashka.ru/vyshivka_biserom/almaznaya.ph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C:\Users\я\Desktop\彩虹-璃锦砖-59220678.jpg"/>
          <p:cNvPicPr/>
          <p:nvPr/>
        </p:nvPicPr>
        <p:blipFill>
          <a:blip r:embed="rId5"/>
          <a:stretch/>
        </p:blipFill>
        <p:spPr>
          <a:xfrm>
            <a:off x="-87480" y="84240"/>
            <a:ext cx="14925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39600" y="-33480"/>
            <a:ext cx="92314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" descr=""/>
          <p:cNvPicPr/>
          <p:nvPr/>
        </p:nvPicPr>
        <p:blipFill>
          <a:blip r:embed="rId3"/>
          <a:stretch/>
        </p:blipFill>
        <p:spPr>
          <a:xfrm>
            <a:off x="2346480" y="1852560"/>
            <a:ext cx="58276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19280" y="404640"/>
            <a:ext cx="71899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Цель создания проекта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искусством мозаики;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воение технологии мозаичного искусства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адачи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рать и изучить информацию об искусстве мозаики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сделать панно в технике алмазная мозаика для интерьера своего дома;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ировать других ребят на творческую деятельность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96880" y="259920"/>
            <a:ext cx="764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Что такое мозаика…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1619280" y="148428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а́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фр. mosaïque, итал. mosaico                от лат. (opus) musivum — (произведение), посвящённое музам) — декоративно-прикладное и монументальное искусство             разных жанров, произведения которого подразумевают формирование изображения посредством компоновки, набора и закрепления на поверхности (как правило — на плоскости) разноцветных камней, смальты, керамических плиток и других материа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-7920" y="0"/>
            <a:ext cx="9231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Алмазная моза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92000" y="980640"/>
            <a:ext cx="7127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ышивка, она же "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живопись" или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ная мозаи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ыкладка акриловыми стразами красочных картин по схемам вышивки крестом. В отличие от вышивания,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ышивка требует меньше сил и времени, а результат при этом получается блестящий в прямом и переносном смысле этого сл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я\Desktop\10-2.jpg"/>
          <p:cNvPicPr/>
          <p:nvPr/>
        </p:nvPicPr>
        <p:blipFill>
          <a:blip r:embed="rId3"/>
          <a:stretch/>
        </p:blipFill>
        <p:spPr>
          <a:xfrm>
            <a:off x="4859280" y="3933720"/>
            <a:ext cx="40654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остоинства алмазной моза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9200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заика не теряет своих качеств и не выцветает с течением време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шивка стразами, придает вышитому полотну определенную фактуру и рельеф, делая их максимально реалистичны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широкой цветовой гаммы с передачей мельчайших оттенков, позволяет передать настоящую игру света и тени, реализуя эффект 3D, в отличие от полотен, вышитых бисером, где это сделать, не удае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иды техник выкл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я\Desktop\chastichnaya2.jpg"/>
          <p:cNvPicPr/>
          <p:nvPr/>
        </p:nvPicPr>
        <p:blipFill>
          <a:blip r:embed="rId3"/>
          <a:stretch/>
        </p:blipFill>
        <p:spPr>
          <a:xfrm>
            <a:off x="5418000" y="1738440"/>
            <a:ext cx="3618000" cy="388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я\Desktop\313660.jpg"/>
          <p:cNvPicPr/>
          <p:nvPr/>
        </p:nvPicPr>
        <p:blipFill>
          <a:blip r:embed="rId4"/>
          <a:srcRect l="-2018" t="0" r="0" b="0"/>
          <a:stretch/>
        </p:blipFill>
        <p:spPr>
          <a:xfrm>
            <a:off x="1619280" y="1779480"/>
            <a:ext cx="3600360" cy="384516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1835280" y="5624640"/>
            <a:ext cx="7200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                              частич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иды стра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92360" y="160020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я\Desktop\vidy-mozaiki4.jpg"/>
          <p:cNvPicPr/>
          <p:nvPr/>
        </p:nvPicPr>
        <p:blipFill>
          <a:blip r:embed="rId3"/>
          <a:stretch/>
        </p:blipFill>
        <p:spPr>
          <a:xfrm>
            <a:off x="1496880" y="2260440"/>
            <a:ext cx="4499280" cy="253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я\Desktop\Rhinestone.jpg"/>
          <p:cNvPicPr/>
          <p:nvPr/>
        </p:nvPicPr>
        <p:blipFill>
          <a:blip r:embed="rId4"/>
          <a:stretch/>
        </p:blipFill>
        <p:spPr>
          <a:xfrm>
            <a:off x="6243480" y="3816360"/>
            <a:ext cx="23385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емы алмазных моза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8920" y="1268280"/>
            <a:ext cx="273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йзаж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ые мотив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 зодиа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юрморт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н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я\Desktop\彩虹-璃锦砖-59220678.jpg"/>
          <p:cNvPicPr/>
          <p:nvPr/>
        </p:nvPicPr>
        <p:blipFill>
          <a:blip r:embed="rId2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Users\я\Desktop\26366_nabor-dlya-almaznoy-vyshivki-.jpg"/>
          <p:cNvPicPr/>
          <p:nvPr/>
        </p:nvPicPr>
        <p:blipFill>
          <a:blip r:embed="rId3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я\Desktop\шаблоны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Это мой набор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324792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311292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я\Desktop\彩虹-璃锦砖-59220678.jpg"/>
          <p:cNvPicPr/>
          <p:nvPr/>
        </p:nvPicPr>
        <p:blipFill>
          <a:blip r:embed="rId4"/>
          <a:stretch/>
        </p:blipFill>
        <p:spPr>
          <a:xfrm>
            <a:off x="4680" y="28440"/>
            <a:ext cx="14922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9T16:59:03Z</dcterms:created>
  <dc:creator>я</dc:creator>
  <dc:description/>
  <dc:language>en-US</dc:language>
  <cp:lastModifiedBy>я</cp:lastModifiedBy>
  <dcterms:modified xsi:type="dcterms:W3CDTF">2018-08-10T05:27:43Z</dcterms:modified>
  <cp:revision>20</cp:revision>
  <dc:subject/>
  <dc:title>Подарок для мамы  или алмазная мозаика</dc:title>
</cp:coreProperties>
</file>