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72288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E194-77C5-4AF4-82C2-D5BB1388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3D1-96FF-4B66-8EEA-A39C163B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3E46-20F6-4707-937B-B14F2C19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6910-9930-4F5A-AB22-17FFF404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0F26-06A4-4581-A386-FE5F8A8E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57A-A831-4D38-A503-CA26803D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61AB-285E-45E6-8EA6-3B6AB2606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839-1761-4354-BEEC-2DD7169C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F0AE-CB9E-4189-8850-39191D88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3068-BF4E-4E8B-9E90-29E7FCE0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CA9-D0F7-4F00-85CE-9A4A9293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7396-B924-4D22-807F-47EC0F3E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1BFC3-0780-45A9-8BBD-CA075E7200CC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hyperlink" Target="http://smiles.33b.ru/smile.104982.html" TargetMode="External"/><Relationship Id="rId4" Type="http://schemas.openxmlformats.org/officeDocument/2006/relationships/image" Target="../media/image2.gif"/><Relationship Id="rId5" Type="http://schemas.openxmlformats.org/officeDocument/2006/relationships/image" Target="../media/image3.png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Picture 8" descr="9ebddb1c0b977ae95b0dbaaf99b3341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-125280" y="5678640"/>
            <a:ext cx="1857240" cy="11016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1" descr=""/>
          <p:cNvPicPr/>
          <p:nvPr/>
        </p:nvPicPr>
        <p:blipFill>
          <a:blip r:embed="rId5"/>
          <a:stretch/>
        </p:blipFill>
        <p:spPr>
          <a:xfrm>
            <a:off x="1689120" y="1036800"/>
            <a:ext cx="5765760" cy="2584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5" descr="5e0d2ec5cd23a33e1bbbf10375c3ccae"/>
          <p:cNvPicPr/>
          <p:nvPr/>
        </p:nvPicPr>
        <p:blipFill>
          <a:blip r:embed="rId6"/>
          <a:stretch/>
        </p:blipFill>
        <p:spPr>
          <a:xfrm>
            <a:off x="6467400" y="5565600"/>
            <a:ext cx="1981440" cy="1257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5" descr="5e0d2ec5cd23a33e1bbbf10375c3ccae"/>
          <p:cNvPicPr/>
          <p:nvPr/>
        </p:nvPicPr>
        <p:blipFill>
          <a:blip r:embed="rId7"/>
          <a:stretch/>
        </p:blipFill>
        <p:spPr>
          <a:xfrm>
            <a:off x="2843280" y="5546880"/>
            <a:ext cx="1981080" cy="1257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9" descr="Копия (3) 213"/>
          <p:cNvPicPr/>
          <p:nvPr/>
        </p:nvPicPr>
        <p:blipFill>
          <a:blip r:embed="rId8"/>
          <a:stretch/>
        </p:blipFill>
        <p:spPr>
          <a:xfrm>
            <a:off x="735120" y="3800520"/>
            <a:ext cx="2108160" cy="1795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3" descr="TRAFFIC"/>
          <p:cNvPicPr/>
          <p:nvPr/>
        </p:nvPicPr>
        <p:blipFill>
          <a:blip r:embed="rId9"/>
          <a:stretch/>
        </p:blipFill>
        <p:spPr>
          <a:xfrm>
            <a:off x="8228160" y="1054080"/>
            <a:ext cx="77292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2" descr=""/>
          <p:cNvPicPr/>
          <p:nvPr/>
        </p:nvPicPr>
        <p:blipFill>
          <a:blip r:embed="rId10"/>
          <a:stretch/>
        </p:blipFill>
        <p:spPr>
          <a:xfrm>
            <a:off x="4359240" y="4041720"/>
            <a:ext cx="3595680" cy="5857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3" descr=""/>
          <p:cNvPicPr/>
          <p:nvPr/>
        </p:nvPicPr>
        <p:blipFill>
          <a:blip r:embed="rId11"/>
          <a:stretch/>
        </p:blipFill>
        <p:spPr>
          <a:xfrm>
            <a:off x="2481120" y="3554280"/>
            <a:ext cx="6523200" cy="20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" descr=""/>
          <p:cNvPicPr/>
          <p:nvPr/>
        </p:nvPicPr>
        <p:blipFill>
          <a:blip r:embed="rId2"/>
          <a:stretch/>
        </p:blipFill>
        <p:spPr>
          <a:xfrm>
            <a:off x="682560" y="476280"/>
            <a:ext cx="7778880" cy="646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468360" y="1397160"/>
          <a:ext cx="8424720" cy="4464000"/>
        </p:xfrm>
        <a:graphic>
          <a:graphicData uri="http://schemas.openxmlformats.org/drawingml/2006/table">
            <a:tbl>
              <a:tblPr/>
              <a:tblGrid>
                <a:gridCol w="2736720"/>
                <a:gridCol w="5688000"/>
              </a:tblGrid>
              <a:tr h="518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Название проек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262673"/>
                          </a:solidFill>
                          <a:latin typeface="Times New Roman"/>
                          <a:ea typeface="Times New Roman"/>
                        </a:rPr>
                        <a:t>«Школьный велогородок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Основная иде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оздание учебно-методической площадки для проведения занятий по фигурному вождению велосипед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855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вто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итель физической культуры Грунская Е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еница 5 класса Нагибина По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сполн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Творческая группа отряда ЮИД  «Светофор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артне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педагоги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одите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администрация  школ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Консультант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и руководи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523800" indent="-5238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Учитель физической культуры    Грунская Е.Г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Сроки выполн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Май - июнь   2018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08000" y="-100080"/>
            <a:ext cx="9036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Цель проек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оздать на территории школы велогородок, который станет учебной базой для школьного отряда ЮИД и всех учащихся школы в изучении Правил дорожного движения и будет способствовать формированию стереотипов безопасного поведения на дорога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Задачи  проек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Создание условий для повышения качества обучения детей и подростков навыкам безопасного вождения велосипеда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Научить четко  и  правильно  действовать  в  различных  ситуация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Закрепить  знания  правил  дорожного  движения  через  игровую  деятельность, беседы, деловые  игры, викторины, экскурс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99"/>
                </a:solidFill>
                <a:uFillTx/>
                <a:latin typeface="Times New Roman"/>
              </a:rPr>
              <a:t>Партнеры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педагоги шк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родители учащихся шк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</a:rPr>
              <a:t>администрация  школ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24000" y="404640"/>
            <a:ext cx="8820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Ожидаемые результат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здание   велогород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нижение количества дорожно - транспортных происшествий с участием детей в район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величение процента вовлечения детей и подростков   в общественно-полезную деятельность через участие в общественном движении ЮИД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ышение качества работы образовательных учреждений района по профилактике детского дорожно-транспортного травматизм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ышение уровня знаний детьми Правил дорожного движ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•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ание транспортной культуры безопасного поведения на дорогах детей и подрост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2"/>
          <p:cNvSpPr/>
          <p:nvPr/>
        </p:nvSpPr>
        <p:spPr>
          <a:xfrm>
            <a:off x="108000" y="476280"/>
            <a:ext cx="8928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99"/>
                </a:solidFill>
                <a:uFillTx/>
                <a:latin typeface="Times New Roman"/>
              </a:rPr>
              <a:t>Ожидаемые результаты реализации проект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оздание   велогородк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снижение количества дорожно - транспортных происшествий с участием детей в районе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увеличение процента вовлечения детей и подростков   в общественно-полезную деятельность через участие в движении ЮИД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овышение качества работы образовательных учреждений района по профилактике детского дорожно-транспортного травматизм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повышение уровня знаний детьми Правил дорожного движе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</a:rPr>
              <a:t>воспитание транспортной культуры безопасного поведения на дорогах детей и подрост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3" descr=""/>
          <p:cNvPicPr/>
          <p:nvPr/>
        </p:nvPicPr>
        <p:blipFill>
          <a:blip r:embed="rId2"/>
          <a:stretch/>
        </p:blipFill>
        <p:spPr>
          <a:xfrm>
            <a:off x="900000" y="981000"/>
            <a:ext cx="7417080" cy="5562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TextBox 1" descr=""/>
          <p:cNvPicPr/>
          <p:nvPr/>
        </p:nvPicPr>
        <p:blipFill>
          <a:blip r:embed="rId3"/>
          <a:stretch/>
        </p:blipFill>
        <p:spPr>
          <a:xfrm>
            <a:off x="1620720" y="189000"/>
            <a:ext cx="6121440" cy="706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07:43:44Z</dcterms:created>
  <dc:creator>Pavlik</dc:creator>
  <dc:description/>
  <dc:language>en-US</dc:language>
  <cp:lastModifiedBy>Пользователь</cp:lastModifiedBy>
  <dcterms:modified xsi:type="dcterms:W3CDTF">2018-08-10T10:51:55Z</dcterms:modified>
  <cp:revision>386</cp:revision>
  <dc:subject/>
  <dc:title>Слайд 1</dc:title>
</cp:coreProperties>
</file>