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gif" ContentType="image/gif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72288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DC98-6178-4615-BD5E-47C6AA203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4B2B-977E-44B9-827E-579115A0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4A84-3310-45C7-B7E1-AAA7CC231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E5FC-18F2-477B-AF6B-D41AF0675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1F68-B56D-40EF-96C2-E8816B8E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D358-7250-498B-B6B1-160F012D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724F-6C74-47F1-AFC9-4FC31F1E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EE36-6FE0-4538-865B-C5138B05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C1C3-CA9B-4C93-B8C6-DA2B3F8F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7AAD-AF00-4F95-B478-1A019D1D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949A-E8DC-46A1-A893-34820519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6A2E-DC6A-4369-947D-D27A7D89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3501-0B72-4D19-9778-88462EB6A681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hyperlink" Target="http://smiles.33b.ru/smile.104982.html" TargetMode="External"/><Relationship Id="rId4" Type="http://schemas.openxmlformats.org/officeDocument/2006/relationships/image" Target="../media/image2.gif"/><Relationship Id="rId5" Type="http://schemas.openxmlformats.org/officeDocument/2006/relationships/image" Target="../media/image3.png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Picture 8" descr="9ebddb1c0b977ae95b0dbaaf99b3341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-125280" y="5678640"/>
            <a:ext cx="1857240" cy="110160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11" descr=""/>
          <p:cNvPicPr/>
          <p:nvPr/>
        </p:nvPicPr>
        <p:blipFill>
          <a:blip r:embed="rId5"/>
          <a:stretch/>
        </p:blipFill>
        <p:spPr>
          <a:xfrm>
            <a:off x="1689120" y="1036800"/>
            <a:ext cx="5765760" cy="2584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5" descr="5e0d2ec5cd23a33e1bbbf10375c3ccae"/>
          <p:cNvPicPr/>
          <p:nvPr/>
        </p:nvPicPr>
        <p:blipFill>
          <a:blip r:embed="rId6"/>
          <a:stretch/>
        </p:blipFill>
        <p:spPr>
          <a:xfrm>
            <a:off x="6467400" y="5565600"/>
            <a:ext cx="1981440" cy="1257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5" descr="5e0d2ec5cd23a33e1bbbf10375c3ccae"/>
          <p:cNvPicPr/>
          <p:nvPr/>
        </p:nvPicPr>
        <p:blipFill>
          <a:blip r:embed="rId7"/>
          <a:stretch/>
        </p:blipFill>
        <p:spPr>
          <a:xfrm>
            <a:off x="2843280" y="5546880"/>
            <a:ext cx="1981080" cy="1257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9" descr="Копия (3) 213"/>
          <p:cNvPicPr/>
          <p:nvPr/>
        </p:nvPicPr>
        <p:blipFill>
          <a:blip r:embed="rId8"/>
          <a:stretch/>
        </p:blipFill>
        <p:spPr>
          <a:xfrm>
            <a:off x="735120" y="3800520"/>
            <a:ext cx="2108160" cy="1795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3" descr="TRAFFIC"/>
          <p:cNvPicPr/>
          <p:nvPr/>
        </p:nvPicPr>
        <p:blipFill>
          <a:blip r:embed="rId9"/>
          <a:stretch/>
        </p:blipFill>
        <p:spPr>
          <a:xfrm>
            <a:off x="8228160" y="1054080"/>
            <a:ext cx="772920" cy="158436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2" descr=""/>
          <p:cNvPicPr/>
          <p:nvPr/>
        </p:nvPicPr>
        <p:blipFill>
          <a:blip r:embed="rId10"/>
          <a:stretch/>
        </p:blipFill>
        <p:spPr>
          <a:xfrm>
            <a:off x="4359240" y="4041720"/>
            <a:ext cx="3595680" cy="58572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3" descr=""/>
          <p:cNvPicPr/>
          <p:nvPr/>
        </p:nvPicPr>
        <p:blipFill>
          <a:blip r:embed="rId11"/>
          <a:stretch/>
        </p:blipFill>
        <p:spPr>
          <a:xfrm>
            <a:off x="2481120" y="3554280"/>
            <a:ext cx="6523200" cy="20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extBox 1" descr=""/>
          <p:cNvPicPr/>
          <p:nvPr/>
        </p:nvPicPr>
        <p:blipFill>
          <a:blip r:embed="rId2"/>
          <a:stretch/>
        </p:blipFill>
        <p:spPr>
          <a:xfrm>
            <a:off x="682560" y="476280"/>
            <a:ext cx="7778880" cy="646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468360" y="1397160"/>
          <a:ext cx="8424720" cy="4464000"/>
        </p:xfrm>
        <a:graphic>
          <a:graphicData uri="http://schemas.openxmlformats.org/drawingml/2006/table">
            <a:tbl>
              <a:tblPr/>
              <a:tblGrid>
                <a:gridCol w="2736720"/>
                <a:gridCol w="5688000"/>
              </a:tblGrid>
              <a:tr h="518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Название проек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«Школьный велогородок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Основная иде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оздание учебно-методической площадки для проведения занятий по фигурному вождению велосипед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55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Ав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Учитель физической культуры Грунская Е.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Ученица 5 класса Нагибина Пол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Исполни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Творческая группа отряда ЮИД  «Светофор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артне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едагоги шко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роди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администрация  шко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Консультант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и руковод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523800" indent="-5238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Учитель физической культуры    Грунская Е.Г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4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роки выпол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Май - июнь   2018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108000" y="-100080"/>
            <a:ext cx="9036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99"/>
                </a:solidFill>
                <a:uFillTx/>
                <a:latin typeface="Times New Roman"/>
              </a:rPr>
              <a:t>Цель проект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оздать на территории школы велогородок, который станет учебной базой для школьного отряда ЮИД и всех учащихся школы в изучении Правил дорожного движения и будет способствовать формированию стереотипов безопасного поведения на дорога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99"/>
                </a:solidFill>
                <a:uFillTx/>
                <a:latin typeface="Times New Roman"/>
              </a:rPr>
              <a:t>Задачи  проект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оздание условий для повышения качества обучения детей и подростков навыкам безопасного вождения велосипед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аучить четко  и  правильно  действовать  в  различных  ситуация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Закрепить  знания  правил  дорожного  движения  через  игровую  деятельность, беседы, деловые  игры, викторины, экскурс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99"/>
                </a:solidFill>
                <a:uFillTx/>
                <a:latin typeface="Times New Roman"/>
              </a:rPr>
              <a:t>Партнеры: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едагоги школ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родители учащихся школ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администрация  школ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324000" y="404640"/>
            <a:ext cx="8820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Ожидаемые результаты реализации проект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•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оздание   велогород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•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нижение количества дорожно - транспортных происшествий с участием детей в районе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•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величение процента вовлечения детей и подростков   в общественно-полезную деятельность через участие в общественном движении ЮИД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•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вышение качества работы образовательных учреждений района по профилактике детского дорожно-транспортного травматизм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•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вышение уровня знаний детьми Правил дорожного движени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•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оспитание транспортной культуры безопасного поведения на дорогах детей и подростк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2"/>
          <p:cNvSpPr/>
          <p:nvPr/>
        </p:nvSpPr>
        <p:spPr>
          <a:xfrm>
            <a:off x="108000" y="476280"/>
            <a:ext cx="8928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Ожидаемые результаты реализации проект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создание   велогородк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снижение количества дорожно - транспортных происшествий с участием детей в районе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увеличение процента вовлечения детей и подростков   в общественно-полезную деятельность через участие в движении ЮИД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повышение качества работы образовательных учреждений района по профилактике детского дорожно-транспортного травматизм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повышение уровня знаний детьми Правил дорожного движени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воспитание транспортной культуры безопасного поведения на дорогах детей и подростк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3" descr=""/>
          <p:cNvPicPr/>
          <p:nvPr/>
        </p:nvPicPr>
        <p:blipFill>
          <a:blip r:embed="rId2"/>
          <a:stretch/>
        </p:blipFill>
        <p:spPr>
          <a:xfrm>
            <a:off x="900000" y="981000"/>
            <a:ext cx="7417080" cy="556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" name="TextBox 1" descr=""/>
          <p:cNvPicPr/>
          <p:nvPr/>
        </p:nvPicPr>
        <p:blipFill>
          <a:blip r:embed="rId3"/>
          <a:stretch/>
        </p:blipFill>
        <p:spPr>
          <a:xfrm>
            <a:off x="1620720" y="189000"/>
            <a:ext cx="6121440" cy="706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07:43:44Z</dcterms:created>
  <dc:creator>Pavlik</dc:creator>
  <dc:description/>
  <dc:language>en-US</dc:language>
  <cp:lastModifiedBy>Пользователь</cp:lastModifiedBy>
  <dcterms:modified xsi:type="dcterms:W3CDTF">2018-08-10T10:51:55Z</dcterms:modified>
  <cp:revision>386</cp:revision>
  <dc:subject/>
  <dc:title>Слайд 1</dc:title>
</cp:coreProperties>
</file>