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0.gif" ContentType="image/gif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35.png" ContentType="image/png"/>
  <Override PartName="/ppt/media/image3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gif" ContentType="image/gif"/>
  <Override PartName="/ppt/media/image45.png" ContentType="image/png"/>
  <Override PartName="/ppt/media/image6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48.jpeg" ContentType="image/jpeg"/>
  <Override PartName="/ppt/media/image53.png" ContentType="image/png"/>
  <Override PartName="/ppt/media/image54.jpeg" ContentType="image/jpeg"/>
  <Override PartName="/ppt/media/image49.jpeg" ContentType="image/jpeg"/>
  <Override PartName="/ppt/media/image51.png" ContentType="image/png"/>
  <Override PartName="/ppt/media/image31.jpeg" ContentType="image/jpeg"/>
  <Override PartName="/ppt/media/image55.jpeg" ContentType="image/jpeg"/>
  <Override PartName="/ppt/media/image30.gif" ContentType="image/gif"/>
  <Override PartName="/ppt/media/image44.png" ContentType="image/png"/>
  <Override PartName="/ppt/media/image13.jpeg" ContentType="image/jpeg"/>
  <Override PartName="/ppt/media/image8.jpeg" ContentType="image/jpeg"/>
  <Override PartName="/ppt/media/image41.gif" ContentType="image/gif"/>
  <Override PartName="/ppt/media/image34.png" ContentType="image/pn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9A16-1EE4-403C-9E9C-0C719975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8AE3-AD29-4F3C-B87D-150FB666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A818-0A7B-47D3-A3C2-3F7B0BE62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219-D2E2-4D47-8F27-7C1FAAB3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E5FE-B637-4A70-976B-411A6154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DB3-FA73-4985-A913-04901CE0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EACA-D081-4CCF-93C1-9FF47C4A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D17-620B-4EDC-9709-7E6EA073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B25-E384-4D9C-9D09-EAD4B9B8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CF5B-3615-47C0-8E72-8ED75EA02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64FD-9025-45DB-ADFE-7F68BF11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C2A-D8EF-41AF-8A8B-B9FC9672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2A9B6-C51C-437E-9ECD-68AA0F1232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rtjunkies.net/uploads/posts/2008-06/thumbs/1213086791_day-and-night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onlineexpert.ru/uploaded_files/shop_images/4190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6.jpeg"/><Relationship Id="rId3" Type="http://schemas.openxmlformats.org/officeDocument/2006/relationships/image" Target="../media/image37.gif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vio.fio.ru/vio_34/cd_site/article_img/z13.jpg" TargetMode="External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moyamatem.ru/konspekt-uroka-po-algebre-v-8-klasse-po-teme-kvadratnie-uravne/index.html" TargetMode="Externa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971640" y="-27000"/>
            <a:ext cx="597672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333333"/>
                </a:solidFill>
                <a:uFillTx/>
                <a:latin typeface="Helvetica Neue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а – нау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– гимнастика ум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в ней точность и смекал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фры, буквы и …игр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т, кто учит, поним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ука нам нуж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в трудной жизни наш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нее никак нельз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а повсюд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а везд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т, кто учит, понимает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орядок в гол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Без названия"/>
          <p:cNvPicPr/>
          <p:nvPr/>
        </p:nvPicPr>
        <p:blipFill>
          <a:blip r:embed="rId1"/>
          <a:stretch/>
        </p:blipFill>
        <p:spPr>
          <a:xfrm>
            <a:off x="7380360" y="33336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Мудрая сова"/>
          <p:cNvPicPr/>
          <p:nvPr/>
        </p:nvPicPr>
        <p:blipFill>
          <a:blip r:embed="rId2"/>
          <a:stretch/>
        </p:blipFill>
        <p:spPr>
          <a:xfrm>
            <a:off x="7075440" y="49006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-"/>
          <p:cNvPicPr/>
          <p:nvPr/>
        </p:nvPicPr>
        <p:blipFill>
          <a:blip r:embed="rId3"/>
          <a:stretch/>
        </p:blipFill>
        <p:spPr>
          <a:xfrm>
            <a:off x="6300720" y="243216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539640" y="333360"/>
            <a:ext cx="76068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476360" y="404640"/>
            <a:ext cx="61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ое число делится на все числа без остат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940360" y="580536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вет: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M8I3CA70RC7TCA0U3I4GCA1RC0XBCALA8YE3CAYG0LHKCAOLTV4YCA3UCOL4CA43586PCAQ8AG4UCA4L9IT4CAVR0I9ECATE3P1VCACQ9X8DCAA8TJXRCA5P4IWJCAVKMV6ZCA4ICWBSCARUS8KHCAVFMPBO"/>
          <p:cNvPicPr/>
          <p:nvPr/>
        </p:nvPicPr>
        <p:blipFill>
          <a:blip r:embed="rId1"/>
          <a:stretch/>
        </p:blipFill>
        <p:spPr>
          <a:xfrm>
            <a:off x="971640" y="2133720"/>
            <a:ext cx="2759040" cy="38192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539640" y="260280"/>
            <a:ext cx="76068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405080" y="115920"/>
            <a:ext cx="633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6 картофелин сварились за 30 минут. Сколько минут варилась в кастрюле одна картофел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i?id=70438572&amp;tov=0"/>
          <p:cNvPicPr/>
          <p:nvPr/>
        </p:nvPicPr>
        <p:blipFill>
          <a:blip r:embed="rId2"/>
          <a:stretch/>
        </p:blipFill>
        <p:spPr>
          <a:xfrm>
            <a:off x="179280" y="2262240"/>
            <a:ext cx="5059440" cy="4046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5651640" y="2133720"/>
            <a:ext cx="3097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3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6 мину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) 10 мину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5724360" y="3933720"/>
            <a:ext cx="194328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1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324000" y="260280"/>
            <a:ext cx="76032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476360" y="33336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ем кончается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Картинка 1 из 34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97000"/>
            <a:ext cx="3624120" cy="5661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5796000" y="35002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i?id=2297074&amp;tov=2"/>
          <p:cNvPicPr/>
          <p:nvPr/>
        </p:nvPicPr>
        <p:blipFill>
          <a:blip r:embed="rId2"/>
          <a:stretch/>
        </p:blipFill>
        <p:spPr>
          <a:xfrm>
            <a:off x="0" y="2224080"/>
            <a:ext cx="6372360" cy="4262400"/>
          </a:xfrm>
          <a:prstGeom prst="rect">
            <a:avLst/>
          </a:prstGeom>
          <a:ln w="0">
            <a:noFill/>
          </a:ln>
        </p:spPr>
      </p:pic>
      <p:sp>
        <p:nvSpPr>
          <p:cNvPr id="94" name="WordArt 4"/>
          <p:cNvSpPr txBox="1"/>
          <p:nvPr/>
        </p:nvSpPr>
        <p:spPr>
          <a:xfrm>
            <a:off x="324000" y="260280"/>
            <a:ext cx="90468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908000" y="189000"/>
            <a:ext cx="554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ва сына и два отца съели 3 яблока. Каждому досталось по целому яблоку. Как это могло случ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284720" y="615456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дед, отец, вн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395280" y="333360"/>
            <a:ext cx="90504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619280" y="26028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идят три белки на ветке, напротив каждой белки две белки. Сколько их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i?id=38545813&amp;tov=6"/>
          <p:cNvPicPr/>
          <p:nvPr/>
        </p:nvPicPr>
        <p:blipFill>
          <a:blip r:embed="rId2"/>
          <a:stretch/>
        </p:blipFill>
        <p:spPr>
          <a:xfrm>
            <a:off x="0" y="2133720"/>
            <a:ext cx="3240000" cy="3024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i?id=68863313&amp;tov=3"/>
          <p:cNvPicPr/>
          <p:nvPr/>
        </p:nvPicPr>
        <p:blipFill>
          <a:blip r:embed="rId3"/>
          <a:stretch/>
        </p:blipFill>
        <p:spPr>
          <a:xfrm>
            <a:off x="6345360" y="2060640"/>
            <a:ext cx="2798640" cy="3240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i?id=31113182&amp;tov=2"/>
          <p:cNvPicPr/>
          <p:nvPr/>
        </p:nvPicPr>
        <p:blipFill>
          <a:blip r:embed="rId4"/>
          <a:stretch/>
        </p:blipFill>
        <p:spPr>
          <a:xfrm>
            <a:off x="3276720" y="2133720"/>
            <a:ext cx="3058920" cy="2447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4"/>
          <p:cNvSpPr/>
          <p:nvPr/>
        </p:nvSpPr>
        <p:spPr>
          <a:xfrm>
            <a:off x="2627280" y="608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 : 3 бе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c5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539640" y="260280"/>
            <a:ext cx="863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124000" y="47628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колько пальцев на двух руках? А на 10 рук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i?id=66057573&amp;tov=3"/>
          <p:cNvPicPr/>
          <p:nvPr/>
        </p:nvPicPr>
        <p:blipFill>
          <a:blip r:embed="rId1"/>
          <a:stretch/>
        </p:blipFill>
        <p:spPr>
          <a:xfrm>
            <a:off x="2124000" y="1989000"/>
            <a:ext cx="4540320" cy="34052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971640" y="551664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вет: На двух руках – 10 пальце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 10 руках -  50 паль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250920" y="260280"/>
            <a:ext cx="833400" cy="13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" name="Picture 8" descr="i?id=55228058&amp;tov=2"/>
          <p:cNvPicPr/>
          <p:nvPr/>
        </p:nvPicPr>
        <p:blipFill>
          <a:blip r:embed="rId2"/>
          <a:stretch/>
        </p:blipFill>
        <p:spPr>
          <a:xfrm>
            <a:off x="1908000" y="2276640"/>
            <a:ext cx="5399280" cy="35114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2266920" y="602136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: один самос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187280" y="0"/>
            <a:ext cx="676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амосвал ехал в поселок. По дороге он встретил три легковые машины и грузовик. Сколько всего машин ехало в этот посел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395280" y="333360"/>
            <a:ext cx="83340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6" name="Picture 8" descr="i?id=20078406&amp;tov=6"/>
          <p:cNvPicPr/>
          <p:nvPr/>
        </p:nvPicPr>
        <p:blipFill>
          <a:blip r:embed="rId2"/>
          <a:stretch/>
        </p:blipFill>
        <p:spPr>
          <a:xfrm>
            <a:off x="684360" y="2766960"/>
            <a:ext cx="4751280" cy="36385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5580000" y="61545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1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476360" y="-55080"/>
            <a:ext cx="59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ску длиной 4 м распилили на части по 1 м. Чтобы отпилить 1 м доски, нужно 5 минут. За сколько времени можно распилить всю дос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95280" y="260280"/>
            <a:ext cx="93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547640" y="259200"/>
            <a:ext cx="61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сса кирпича 1 кг и еще полкирпича. Сколько весит весь кирпич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Картинка 12 из 526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2349360"/>
            <a:ext cx="5077080" cy="3724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72360" y="6021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2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c5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324000" y="260280"/>
            <a:ext cx="100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621080" y="403920"/>
            <a:ext cx="583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легч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кг ваты или 1 кг желез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i?id=37244028&amp;tov=3"/>
          <p:cNvPicPr/>
          <p:nvPr/>
        </p:nvPicPr>
        <p:blipFill>
          <a:blip r:embed="rId1"/>
          <a:stretch/>
        </p:blipFill>
        <p:spPr>
          <a:xfrm>
            <a:off x="1042920" y="1916280"/>
            <a:ext cx="2130480" cy="36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i?id=12565124&amp;tov=3"/>
          <p:cNvPicPr/>
          <p:nvPr/>
        </p:nvPicPr>
        <p:blipFill>
          <a:blip r:embed="rId2"/>
          <a:stretch/>
        </p:blipFill>
        <p:spPr>
          <a:xfrm>
            <a:off x="4427640" y="198900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2124000" y="6165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одинак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990720" y="820440"/>
            <a:ext cx="72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годня мы с вами отправляемся в необыкновенное путеше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 необъятной стране, имя которой-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Calibri"/>
              </a:rPr>
              <a:t>Матем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Это великая страна со своими законами, традициями, исто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Если вы будете вдумчивы, терпеливы, то вам откроются все тайны прекрасной Математики. Вы проедите немало занимательны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и интересных станций, на каждой из которых вас жду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лёгкие испы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539640" y="404640"/>
            <a:ext cx="10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763640" y="332280"/>
            <a:ext cx="61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тух, стоя на одной ноге, весит 3 кг. Сколько весит петух, стоя на двух нога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i?id=9323319&amp;tov=8"/>
          <p:cNvPicPr/>
          <p:nvPr/>
        </p:nvPicPr>
        <p:blipFill>
          <a:blip r:embed="rId1"/>
          <a:stretch/>
        </p:blipFill>
        <p:spPr>
          <a:xfrm>
            <a:off x="539640" y="2205000"/>
            <a:ext cx="4319640" cy="32320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5651640" y="5229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3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250920" y="260280"/>
            <a:ext cx="936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547640" y="234000"/>
            <a:ext cx="61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12 ч ночи идет дождь, то можно ли через 48 часов ожидать солнц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i?id=15570775&amp;tov=5"/>
          <p:cNvPicPr/>
          <p:nvPr/>
        </p:nvPicPr>
        <p:blipFill>
          <a:blip r:embed="rId1"/>
          <a:stretch/>
        </p:blipFill>
        <p:spPr>
          <a:xfrm>
            <a:off x="179280" y="2293920"/>
            <a:ext cx="5106960" cy="38466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5580000" y="5300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нет, т.к. будет но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c5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539640" y="404640"/>
            <a:ext cx="100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692360" y="232200"/>
            <a:ext cx="58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каком числе столько же цифр, сколько букв в его назва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268360" y="4221000"/>
            <a:ext cx="63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100 – ст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000 000 – милли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8"/>
          <p:cNvSpPr txBox="1"/>
          <p:nvPr/>
        </p:nvSpPr>
        <p:spPr>
          <a:xfrm>
            <a:off x="539640" y="2205000"/>
            <a:ext cx="100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WordArt 9"/>
          <p:cNvSpPr txBox="1"/>
          <p:nvPr/>
        </p:nvSpPr>
        <p:spPr>
          <a:xfrm>
            <a:off x="3708360" y="2205000"/>
            <a:ext cx="100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10"/>
          <p:cNvSpPr txBox="1"/>
          <p:nvPr/>
        </p:nvSpPr>
        <p:spPr>
          <a:xfrm>
            <a:off x="7164360" y="2205000"/>
            <a:ext cx="100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539640" y="404640"/>
            <a:ext cx="100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547640" y="-720"/>
            <a:ext cx="59058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ая геометрическая фигура используется для наказания дете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5219640" y="530064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у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i?id=4709483&amp;tov=5"/>
          <p:cNvPicPr/>
          <p:nvPr/>
        </p:nvPicPr>
        <p:blipFill>
          <a:blip r:embed="rId1"/>
          <a:stretch/>
        </p:blipFill>
        <p:spPr>
          <a:xfrm>
            <a:off x="1403280" y="2349360"/>
            <a:ext cx="2046240" cy="38163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10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6"/>
          <p:cNvSpPr txBox="1"/>
          <p:nvPr/>
        </p:nvSpPr>
        <p:spPr>
          <a:xfrm>
            <a:off x="539640" y="404640"/>
            <a:ext cx="100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68360" y="213372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Что идет не двигаясь с мест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435640" y="573408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eb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324000" y="333360"/>
            <a:ext cx="856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Вычислитель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5" descr="M8I3CA70RC7TCA0U3I4GCA1RC0XBCALA8YE3CAYG0LHKCAOLTV4YCA3UCOL4CA43586PCAQ8AG4UCA4L9IT4CAVR0I9ECATE3P1VCACQ9X8DCAA8TJXRCA5P4IWJCAVKMV6ZCA4ICWBSCARUS8KHCAVFMPBO"/>
          <p:cNvPicPr/>
          <p:nvPr/>
        </p:nvPicPr>
        <p:blipFill>
          <a:blip r:embed="rId1"/>
          <a:stretch/>
        </p:blipFill>
        <p:spPr>
          <a:xfrm>
            <a:off x="539640" y="1844640"/>
            <a:ext cx="3382920" cy="46846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4859280" y="1488960"/>
            <a:ext cx="3382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о отец в подарок сыну сделал счетную маш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сожалению она- недостаточно точ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ы перед вами, быстро все исправьте 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539640" y="549360"/>
          <a:ext cx="8280360" cy="5832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14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+ 95 = 10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+ 94 = 10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1 = 34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1 =7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=29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=650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AutoShape 22"/>
          <p:cNvSpPr/>
          <p:nvPr/>
        </p:nvSpPr>
        <p:spPr>
          <a:xfrm>
            <a:off x="2987640" y="692280"/>
            <a:ext cx="1368360" cy="1008000"/>
          </a:xfrm>
          <a:prstGeom prst="triangle">
            <a:avLst>
              <a:gd name="adj" fmla="val 50000"/>
            </a:avLst>
          </a:prstGeom>
          <a:solidFill>
            <a:srgbClr val="b234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3"/>
          <p:cNvSpPr/>
          <p:nvPr/>
        </p:nvSpPr>
        <p:spPr>
          <a:xfrm>
            <a:off x="7308720" y="692280"/>
            <a:ext cx="1150920" cy="108108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4"/>
          <p:cNvSpPr txBox="1"/>
          <p:nvPr/>
        </p:nvSpPr>
        <p:spPr>
          <a:xfrm>
            <a:off x="539640" y="333360"/>
            <a:ext cx="806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Кроссворд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5" name="Picture 5" descr="M5NMCAVYKXACCA3ROTLPCA6VWEDQCAQ8Q9YCCA1G1GMVCAE1KQPBCAZ023MTCAJ1KYKACA8AW6WHCAXPYNQ5CAGG5WOOCADX2J9DCA8BLC75CA8E3FGFCAXWQRZCCAQALQGLCAU0USXJCAS6H0TKCAKAKJXD"/>
          <p:cNvPicPr/>
          <p:nvPr/>
        </p:nvPicPr>
        <p:blipFill>
          <a:blip r:embed="rId1"/>
          <a:stretch/>
        </p:blipFill>
        <p:spPr>
          <a:xfrm>
            <a:off x="1692360" y="1628640"/>
            <a:ext cx="53276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0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5"/>
          <p:cNvSpPr txBox="1"/>
          <p:nvPr/>
        </p:nvSpPr>
        <p:spPr>
          <a:xfrm>
            <a:off x="755640" y="404640"/>
            <a:ext cx="77040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АДАЙ СЛОВО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95280" y="1844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есть у слова, растения,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"/>
          <p:cNvSpPr/>
          <p:nvPr/>
        </p:nvSpPr>
        <p:spPr>
          <a:xfrm>
            <a:off x="2411280" y="486900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2411280" y="558972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2411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313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>
            <a:off x="3851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457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>
            <a:off x="529272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6"/>
          <p:cNvSpPr/>
          <p:nvPr/>
        </p:nvSpPr>
        <p:spPr>
          <a:xfrm>
            <a:off x="601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673272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6443640" y="34909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х + 35 = 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0" descr="i?id=38878626&amp;tov=3"/>
          <p:cNvPicPr/>
          <p:nvPr/>
        </p:nvPicPr>
        <p:blipFill>
          <a:blip r:embed="rId2"/>
          <a:stretch/>
        </p:blipFill>
        <p:spPr>
          <a:xfrm>
            <a:off x="3564000" y="2565360"/>
            <a:ext cx="2160360" cy="21034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1"/>
          <p:cNvSpPr/>
          <p:nvPr/>
        </p:nvSpPr>
        <p:spPr>
          <a:xfrm>
            <a:off x="826920" y="3429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2556000" y="494172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   О   Р   Е   Н   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755640" y="404640"/>
            <a:ext cx="77040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АДАЙ СЛОВО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95280" y="2205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о, записанное с помощью бук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2411280" y="4869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411280" y="4869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0"/>
          <p:cNvSpPr/>
          <p:nvPr/>
        </p:nvSpPr>
        <p:spPr>
          <a:xfrm>
            <a:off x="2411280" y="55897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2411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2"/>
          <p:cNvSpPr/>
          <p:nvPr/>
        </p:nvSpPr>
        <p:spPr>
          <a:xfrm>
            <a:off x="313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3851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457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5"/>
          <p:cNvSpPr/>
          <p:nvPr/>
        </p:nvSpPr>
        <p:spPr>
          <a:xfrm>
            <a:off x="529272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601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673272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745164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19"/>
          <p:cNvSpPr txBox="1"/>
          <p:nvPr/>
        </p:nvSpPr>
        <p:spPr>
          <a:xfrm>
            <a:off x="468360" y="5013360"/>
            <a:ext cx="718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WordArt 20"/>
          <p:cNvSpPr txBox="1"/>
          <p:nvPr/>
        </p:nvSpPr>
        <p:spPr>
          <a:xfrm>
            <a:off x="8183520" y="2852640"/>
            <a:ext cx="4921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WordArt 21"/>
          <p:cNvSpPr txBox="1"/>
          <p:nvPr/>
        </p:nvSpPr>
        <p:spPr>
          <a:xfrm>
            <a:off x="4859280" y="3284640"/>
            <a:ext cx="7286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WordArt 22"/>
          <p:cNvSpPr txBox="1"/>
          <p:nvPr/>
        </p:nvSpPr>
        <p:spPr>
          <a:xfrm>
            <a:off x="1258920" y="2924280"/>
            <a:ext cx="8143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v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WordArt 23"/>
          <p:cNvSpPr txBox="1"/>
          <p:nvPr/>
        </p:nvSpPr>
        <p:spPr>
          <a:xfrm>
            <a:off x="8028000" y="5445000"/>
            <a:ext cx="86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Line 25"/>
          <p:cNvSpPr/>
          <p:nvPr/>
        </p:nvSpPr>
        <p:spPr>
          <a:xfrm>
            <a:off x="2411280" y="4869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2411280" y="4869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7"/>
          <p:cNvSpPr/>
          <p:nvPr/>
        </p:nvSpPr>
        <p:spPr>
          <a:xfrm>
            <a:off x="2411280" y="55897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8"/>
          <p:cNvSpPr/>
          <p:nvPr/>
        </p:nvSpPr>
        <p:spPr>
          <a:xfrm>
            <a:off x="2411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9"/>
          <p:cNvSpPr/>
          <p:nvPr/>
        </p:nvSpPr>
        <p:spPr>
          <a:xfrm>
            <a:off x="313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0"/>
          <p:cNvSpPr/>
          <p:nvPr/>
        </p:nvSpPr>
        <p:spPr>
          <a:xfrm>
            <a:off x="3851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1"/>
          <p:cNvSpPr/>
          <p:nvPr/>
        </p:nvSpPr>
        <p:spPr>
          <a:xfrm>
            <a:off x="457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2"/>
          <p:cNvSpPr/>
          <p:nvPr/>
        </p:nvSpPr>
        <p:spPr>
          <a:xfrm>
            <a:off x="529272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3"/>
          <p:cNvSpPr/>
          <p:nvPr/>
        </p:nvSpPr>
        <p:spPr>
          <a:xfrm>
            <a:off x="601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4"/>
          <p:cNvSpPr/>
          <p:nvPr/>
        </p:nvSpPr>
        <p:spPr>
          <a:xfrm>
            <a:off x="673272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5"/>
          <p:cNvSpPr/>
          <p:nvPr/>
        </p:nvSpPr>
        <p:spPr>
          <a:xfrm>
            <a:off x="745164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6"/>
          <p:cNvSpPr/>
          <p:nvPr/>
        </p:nvSpPr>
        <p:spPr>
          <a:xfrm>
            <a:off x="2484360" y="486900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  О   Р   М   У   Л 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YKFKCARAFE67CAYM3KYHCA1WXXSICAULR9I7CAOEZT67CAWDC4Y0CA9OCFDECAV6ULUACAB93VMECAJ660DCCAPRW23MCAKTON47CA191UJUCAPCWS9WCAO35PYRCACQ77UNCAUKNYAKCAGKEC5DCAYW35TP"/>
          <p:cNvPicPr/>
          <p:nvPr/>
        </p:nvPicPr>
        <p:blipFill>
          <a:blip r:embed="rId1"/>
          <a:stretch/>
        </p:blipFill>
        <p:spPr>
          <a:xfrm>
            <a:off x="5940360" y="4308480"/>
            <a:ext cx="3203640" cy="2549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RYLCAXC2QO9CA70KL2TCAF4AD1ICAPQ0YSDCAMRIG22CA60GLCPCAQEJBYBCA56M3T5CA1G1S5YCA0UBNRMCAY30YLMCAK04KIWCAU5ZCIPCAL6VR2QCAFN7BQ0CA5MN8NECAXLTB6BCAYFR98UCA2VZRXY"/>
          <p:cNvPicPr/>
          <p:nvPr/>
        </p:nvPicPr>
        <p:blipFill>
          <a:blip r:embed="rId2"/>
          <a:stretch/>
        </p:blipFill>
        <p:spPr>
          <a:xfrm>
            <a:off x="1403280" y="765000"/>
            <a:ext cx="1559160" cy="2357640"/>
          </a:xfrm>
          <a:prstGeom prst="rect">
            <a:avLst/>
          </a:prstGeom>
          <a:ln w="0">
            <a:noFill/>
          </a:ln>
        </p:spPr>
      </p:pic>
      <p:sp>
        <p:nvSpPr>
          <p:cNvPr id="48" name="WordArt 4"/>
          <p:cNvSpPr txBox="1"/>
          <p:nvPr/>
        </p:nvSpPr>
        <p:spPr>
          <a:xfrm rot="5400000">
            <a:off x="-1296360" y="2456640"/>
            <a:ext cx="5112000" cy="172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ИГРА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476360" y="0"/>
            <a:ext cx="7272360" cy="54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утешеств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тематическ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анци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755640" y="404640"/>
            <a:ext cx="77040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АДАЙ СЛОВО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42920" y="16970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струмент для измерения длины отре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523880" y="4724280"/>
          <a:ext cx="6096240" cy="73656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Line 26"/>
          <p:cNvSpPr/>
          <p:nvPr/>
        </p:nvSpPr>
        <p:spPr>
          <a:xfrm flipV="1">
            <a:off x="468360" y="2781360"/>
            <a:ext cx="3816360" cy="1008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7"/>
          <p:cNvSpPr/>
          <p:nvPr/>
        </p:nvSpPr>
        <p:spPr>
          <a:xfrm>
            <a:off x="4716360" y="3716280"/>
            <a:ext cx="3527640" cy="217440"/>
          </a:xfrm>
          <a:prstGeom prst="line">
            <a:avLst/>
          </a:prstGeom>
          <a:ln w="57240">
            <a:solidFill>
              <a:srgbClr val="952b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 flipV="1">
            <a:off x="6372360" y="2421000"/>
            <a:ext cx="1512720" cy="72072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1547640" y="479736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     И     Н     Е     Й     К   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0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4"/>
          <p:cNvSpPr txBox="1"/>
          <p:nvPr/>
        </p:nvSpPr>
        <p:spPr>
          <a:xfrm>
            <a:off x="755640" y="404640"/>
            <a:ext cx="77040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АДАЙ СЛОВО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395280" y="162864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ка, которая ум в порядок прив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523880" y="4869000"/>
          <a:ext cx="6143760" cy="591840"/>
        </p:xfrm>
        <a:graphic>
          <a:graphicData uri="http://schemas.openxmlformats.org/drawingml/2006/table">
            <a:tbl>
              <a:tblPr/>
              <a:tblGrid>
                <a:gridCol w="614520"/>
                <a:gridCol w="614160"/>
                <a:gridCol w="614520"/>
                <a:gridCol w="614520"/>
                <a:gridCol w="614160"/>
                <a:gridCol w="614520"/>
                <a:gridCol w="614160"/>
                <a:gridCol w="614520"/>
                <a:gridCol w="614160"/>
                <a:gridCol w="61452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1" name="Picture 31" descr="X8QECAYITF29CAV7KTU7CATR9BF9CAAOE7ULCASY9F61CAQKK355CAUN7SZZCAEXK9F4CAZJFZVACA6P7K4UCA24JOU7CAX1WZ7XCAHM0ZECCA4YYFOOCAJJLC57CART35S1CAB73U24CA87QDIWCA0RTVWF"/>
          <p:cNvPicPr/>
          <p:nvPr/>
        </p:nvPicPr>
        <p:blipFill>
          <a:blip r:embed="rId1"/>
          <a:stretch/>
        </p:blipFill>
        <p:spPr>
          <a:xfrm>
            <a:off x="179280" y="2443320"/>
            <a:ext cx="2521080" cy="22683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2"/>
          <p:cNvSpPr/>
          <p:nvPr/>
        </p:nvSpPr>
        <p:spPr>
          <a:xfrm>
            <a:off x="1476360" y="4869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   А   Т   Е   М   А   Т   И   К 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1244520" y="3210840"/>
            <a:ext cx="6656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И 100 РИЯ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755640" y="404640"/>
            <a:ext cx="77040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АДАЙ СЛОВО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539640" y="333360"/>
            <a:ext cx="799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Шагающ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6" name="Picture 5" descr="j0318104"/>
          <p:cNvPicPr/>
          <p:nvPr/>
        </p:nvPicPr>
        <p:blipFill>
          <a:blip r:embed="rId2"/>
          <a:stretch/>
        </p:blipFill>
        <p:spPr>
          <a:xfrm>
            <a:off x="0" y="5365800"/>
            <a:ext cx="1692360" cy="1492200"/>
          </a:xfrm>
          <a:prstGeom prst="rect">
            <a:avLst/>
          </a:prstGeom>
          <a:ln w="0">
            <a:noFill/>
          </a:ln>
        </p:spPr>
      </p:pic>
      <p:sp>
        <p:nvSpPr>
          <p:cNvPr id="227" name="WordArt 7"/>
          <p:cNvSpPr txBox="1"/>
          <p:nvPr/>
        </p:nvSpPr>
        <p:spPr>
          <a:xfrm>
            <a:off x="971640" y="1484280"/>
            <a:ext cx="6985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ни шаг -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о математический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рмин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20240" y="476280"/>
            <a:ext cx="689940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езультат сложения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езультат вычитания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ибор для измерения углов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зовите фигуру, не имеющую угл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ука, изучающая действия над числ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резок, соединяющий центр окружности с любой ее точко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Луч, исходящий из вершины угла и делящий его попола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диница измерения угл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ямоугольник, у которого все стороны равн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ношение длины линии на чертеже к длине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оответствующей линии в натур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ножество точек плоскости, находящихся на данном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сстоянии от данной точки, лежащей в той же плоскости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 называемой ее центр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еометрическая фигура, состоящая из двух лучей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 общим начал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резок, соединяющий две точки окружност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ибор для вычерчивания дуг, окружностей,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линейных измер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123840" y="11592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7020000" y="485640"/>
            <a:ext cx="212400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Сумм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Раз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Транспорти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Окружность, круг, ша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Арифмети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Радиу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Биссектри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Граду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Масшта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Окруж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Уго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Хор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Циркул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c7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95280" y="260280"/>
            <a:ext cx="842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Художествен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2" name="Picture 7" descr="i?id=29174211&amp;tov=8"/>
          <p:cNvPicPr/>
          <p:nvPr/>
        </p:nvPicPr>
        <p:blipFill>
          <a:blip r:embed="rId1"/>
          <a:stretch/>
        </p:blipFill>
        <p:spPr>
          <a:xfrm>
            <a:off x="755640" y="2276640"/>
            <a:ext cx="3322800" cy="3322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i?id=18804752&amp;tov=2"/>
          <p:cNvPicPr/>
          <p:nvPr/>
        </p:nvPicPr>
        <p:blipFill>
          <a:blip r:embed="rId2"/>
          <a:stretch/>
        </p:blipFill>
        <p:spPr>
          <a:xfrm>
            <a:off x="5423040" y="1844640"/>
            <a:ext cx="2733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nodeType="clickEffect" fill="hold">
                      <p:stCondLst>
                        <p:cond delay="0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рисовать лису и колобка из сказки «Колобок» с помощью геометрических фиг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66840" y="189000"/>
            <a:ext cx="2260440" cy="1863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6732720" y="4284720"/>
            <a:ext cx="2162160" cy="2313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3"/>
          <a:stretch/>
        </p:blipFill>
        <p:spPr>
          <a:xfrm>
            <a:off x="936720" y="620640"/>
            <a:ext cx="68976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5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9" descr="i?id=13875177&amp;tov=7"/>
          <p:cNvPicPr/>
          <p:nvPr/>
        </p:nvPicPr>
        <p:blipFill>
          <a:blip r:embed="rId2"/>
          <a:stretch/>
        </p:blipFill>
        <p:spPr>
          <a:xfrm>
            <a:off x="179280" y="30240"/>
            <a:ext cx="8964720" cy="6827760"/>
          </a:xfrm>
          <a:prstGeom prst="rect">
            <a:avLst/>
          </a:prstGeom>
          <a:ln w="0">
            <a:noFill/>
          </a:ln>
        </p:spPr>
      </p:pic>
      <p:sp>
        <p:nvSpPr>
          <p:cNvPr id="239" name="WordArt 4"/>
          <p:cNvSpPr txBox="1"/>
          <p:nvPr/>
        </p:nvSpPr>
        <p:spPr>
          <a:xfrm>
            <a:off x="468360" y="260280"/>
            <a:ext cx="8136000" cy="547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ГР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 ЗРИТЕЛЯ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40" name="Picture 7" descr="6"/>
          <p:cNvPicPr/>
          <p:nvPr/>
        </p:nvPicPr>
        <p:blipFill>
          <a:blip r:embed="rId3"/>
          <a:stretch/>
        </p:blipFill>
        <p:spPr>
          <a:xfrm>
            <a:off x="324000" y="333360"/>
            <a:ext cx="1728720" cy="1233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i?id=13121315&amp;tov=8"/>
          <p:cNvPicPr/>
          <p:nvPr/>
        </p:nvPicPr>
        <p:blipFill>
          <a:blip r:embed="rId4"/>
          <a:stretch/>
        </p:blipFill>
        <p:spPr>
          <a:xfrm>
            <a:off x="5435640" y="3933720"/>
            <a:ext cx="352908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0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e4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611280" y="404640"/>
            <a:ext cx="792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Капитанск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3" name="Picture 5" descr="j0303414"/>
          <p:cNvPicPr/>
          <p:nvPr/>
        </p:nvPicPr>
        <p:blipFill>
          <a:blip r:embed="rId1"/>
          <a:stretch/>
        </p:blipFill>
        <p:spPr>
          <a:xfrm>
            <a:off x="6732720" y="4941720"/>
            <a:ext cx="2160360" cy="1754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j0284021"/>
          <p:cNvPicPr/>
          <p:nvPr/>
        </p:nvPicPr>
        <p:blipFill>
          <a:blip r:embed="rId2"/>
          <a:stretch/>
        </p:blipFill>
        <p:spPr>
          <a:xfrm>
            <a:off x="395280" y="5140440"/>
            <a:ext cx="1728720" cy="1425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j0286677"/>
          <p:cNvPicPr/>
          <p:nvPr/>
        </p:nvPicPr>
        <p:blipFill>
          <a:blip r:embed="rId3"/>
          <a:stretch/>
        </p:blipFill>
        <p:spPr>
          <a:xfrm>
            <a:off x="2916360" y="2035080"/>
            <a:ext cx="280800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0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684360" y="189000"/>
            <a:ext cx="784836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“Загадочная”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7" name="Picture 16" descr="&amp;Mcy;&amp;acy;&amp;tcy;&amp;iecy;&amp;mcy;&amp;acy;&amp;tcy;&amp;icy;&amp;chcy;&amp;iecy;&amp;scy;&amp;kcy;&amp;icy;&amp;iecy; &amp;zcy;&amp;acy;&amp;gcy;&amp;acy;&amp;dcy;&amp;kcy;&amp;icy;: &amp;Pcy;&amp;ocy;&amp;scy;&amp;chcy;&amp;icy;&amp;tcy;&amp;acy;&amp;tcy;&amp;jcy;&amp;tcy;&amp;iecy; &amp;scy;&amp;kcy;&amp;ocy;&amp;lcy;&amp;softcy;&amp;kcy;&amp;ocy; &amp;vcy;&amp;scy;&amp;iecy;&amp;gcy;&amp;ocy; &amp;bcy;&amp;ycy;&amp;lcy;&amp;ocy; &amp;kcy;&amp;ncy;&amp;icy;&amp;gcy; &amp;vcy; &amp;bcy;&amp;icy;&amp;bcy;&amp;lcy;&amp;iecy;&amp;ocy;&amp;tcy;&amp;iecy;&amp;kcy;&amp;iecy;?"/>
          <p:cNvPicPr/>
          <p:nvPr/>
        </p:nvPicPr>
        <p:blipFill>
          <a:blip r:embed="rId1"/>
          <a:stretch/>
        </p:blipFill>
        <p:spPr>
          <a:xfrm>
            <a:off x="2249640" y="1614600"/>
            <a:ext cx="4717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0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2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9A1FCAVBQSTOCA72MB40CAMSQ8PKCAPI8WWCCAINQ2BVCAS4YX2FCAK91GXMCAPTHWH7CAW6KG4YCAKC9BA0CAH1SVI4CA1SKQ3QCAXPGFKKCAFQX41ICAJ02GWBCA0A1ZT2CADJAKB9CAXQLZ2LCA75ISQM"/>
          <p:cNvPicPr/>
          <p:nvPr/>
        </p:nvPicPr>
        <p:blipFill>
          <a:blip r:embed="rId1"/>
          <a:stretch/>
        </p:blipFill>
        <p:spPr>
          <a:xfrm>
            <a:off x="108000" y="264960"/>
            <a:ext cx="8964720" cy="6188400"/>
          </a:xfrm>
          <a:prstGeom prst="rect">
            <a:avLst/>
          </a:prstGeom>
          <a:ln w="0">
            <a:noFill/>
          </a:ln>
        </p:spPr>
      </p:pic>
      <p:sp>
        <p:nvSpPr>
          <p:cNvPr id="51" name="WordArt 4"/>
          <p:cNvSpPr txBox="1"/>
          <p:nvPr/>
        </p:nvSpPr>
        <p:spPr>
          <a:xfrm>
            <a:off x="0" y="189000"/>
            <a:ext cx="8893080" cy="64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, кто учит математику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, кто учит математике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, кто любит математику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, кто еще не знает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может полюбить математику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ша игра посвящается...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08000" y="115920"/>
            <a:ext cx="57592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попадет в дневник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инился уче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ный нос, одна н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то Бабушка-Я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ит в дневнике страни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м отметк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3241800" y="4292640"/>
            <a:ext cx="2842920" cy="2101680"/>
          </a:xfrm>
          <a:prstGeom prst="rect">
            <a:avLst/>
          </a:prstGeom>
          <a:ln w="0">
            <a:noFill/>
          </a:ln>
        </p:spPr>
      </p:pic>
      <p:sp>
        <p:nvSpPr>
          <p:cNvPr id="250" name="TextBox 3"/>
          <p:cNvSpPr/>
          <p:nvPr/>
        </p:nvSpPr>
        <p:spPr>
          <a:xfrm>
            <a:off x="6084720" y="3500280"/>
            <a:ext cx="26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едини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79280" y="189000"/>
            <a:ext cx="5905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цифры голова — крюч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аже брюшко 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ючок похож на колпач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эта цифр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5651640" y="2997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ше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067280" y="3657600"/>
            <a:ext cx="214776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324000" y="476280"/>
            <a:ext cx="583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ее нет нич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ни глаз, ни рук, ни но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ит она 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условия с вопрос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5292720" y="34495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187280" y="3911760"/>
            <a:ext cx="338148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250920" y="33336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к я хоть к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балую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ь я и не пион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ребятам всем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5940360" y="3429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2987640" y="43164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+3=        8-2=                 4-3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+3=        8-4=                6-3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+3=        8-6=               5-3=    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+3=        8-5=                8-3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+3=        8-3=               7-3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+3=        8-7=               9-3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179280" y="40464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отрезок длинный, есть короч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линейке его чертим, между проч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нтиметров пять — велич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ется она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5651640" y="3789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3384720" y="4251240"/>
            <a:ext cx="22669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539640" y="260280"/>
            <a:ext cx="81360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Сообразитель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4" name="Picture 7" descr="i?id=10844951&amp;tov=3"/>
          <p:cNvPicPr/>
          <p:nvPr/>
        </p:nvPicPr>
        <p:blipFill>
          <a:blip r:embed="rId1"/>
          <a:stretch/>
        </p:blipFill>
        <p:spPr>
          <a:xfrm>
            <a:off x="611280" y="2060640"/>
            <a:ext cx="3825720" cy="4321080"/>
          </a:xfrm>
          <a:prstGeom prst="rect">
            <a:avLst/>
          </a:prstGeom>
          <a:ln w="0">
            <a:noFill/>
          </a:ln>
        </p:spPr>
      </p:pic>
      <p:sp>
        <p:nvSpPr>
          <p:cNvPr id="265" name="WordArt 9"/>
          <p:cNvSpPr txBox="1"/>
          <p:nvPr/>
        </p:nvSpPr>
        <p:spPr>
          <a:xfrm>
            <a:off x="5580000" y="1844640"/>
            <a:ext cx="2562120" cy="412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nodeType="clickEffect" fill="hold">
                      <p:stCondLst>
                        <p:cond delay="0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253440" y="1017360"/>
            <a:ext cx="7503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втобусе ехали 25 человек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ервой останов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шли 7 человек, зашли 4 челове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ледующей остан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шли 12 человек, зашли 5 челове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ледующей останов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шли 8 человек, зашли 6 челове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ледующей останов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шли 2 человека, зашли 16 челове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ледующей остановке вышли 5 челове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было останов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7093080" y="260280"/>
            <a:ext cx="2050920" cy="60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5148360" y="5805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 остан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0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627120" y="640080"/>
            <a:ext cx="7729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вал Трофим на ры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поры, ковры и крынк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бли, ведра и рубан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урцов соленых банк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кастрюльки, и корзин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же детские машин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вал Трофим на рынк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рилавка все толпили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упали, не скупилис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хвалили млад и ст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рофима, и товар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: Сосчитайте, сколько ви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ых товаров продавал Трофим на ры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5"/>
          <p:cNvSpPr txBox="1"/>
          <p:nvPr/>
        </p:nvSpPr>
        <p:spPr>
          <a:xfrm>
            <a:off x="6227640" y="404640"/>
            <a:ext cx="256248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4788000" y="6281640"/>
            <a:ext cx="36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0 видов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nodeType="clickEffect" fill="hold">
                      <p:stCondLst>
                        <p:cond delay="0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4"/>
          <p:cNvSpPr txBox="1"/>
          <p:nvPr/>
        </p:nvSpPr>
        <p:spPr>
          <a:xfrm>
            <a:off x="611280" y="333360"/>
            <a:ext cx="792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Народ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3" name="Picture 8" descr="Картинка 149 из 2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1989000"/>
            <a:ext cx="6012000" cy="4508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i?id=49363155&amp;tov=4"/>
          <p:cNvPicPr/>
          <p:nvPr/>
        </p:nvPicPr>
        <p:blipFill>
          <a:blip r:embed="rId4"/>
          <a:stretch/>
        </p:blipFill>
        <p:spPr>
          <a:xfrm>
            <a:off x="468360" y="1773360"/>
            <a:ext cx="2655720" cy="2735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i?id=50620795&amp;tov=0"/>
          <p:cNvPicPr/>
          <p:nvPr/>
        </p:nvPicPr>
        <p:blipFill>
          <a:blip r:embed="rId5"/>
          <a:stretch/>
        </p:blipFill>
        <p:spPr>
          <a:xfrm>
            <a:off x="684360" y="4653000"/>
            <a:ext cx="237636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0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658800" y="69228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ый друг лучше новых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"/>
          <p:cNvSpPr/>
          <p:nvPr/>
        </p:nvSpPr>
        <p:spPr>
          <a:xfrm>
            <a:off x="172800" y="155736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го не жд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"/>
          <p:cNvSpPr/>
          <p:nvPr/>
        </p:nvSpPr>
        <p:spPr>
          <a:xfrm>
            <a:off x="5225760" y="3240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ш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4"/>
          <p:cNvSpPr/>
          <p:nvPr/>
        </p:nvSpPr>
        <p:spPr>
          <a:xfrm>
            <a:off x="4368240" y="1557360"/>
            <a:ext cx="38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шеной собаке … вёрст не крю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5"/>
          <p:cNvSpPr/>
          <p:nvPr/>
        </p:nvSpPr>
        <p:spPr>
          <a:xfrm>
            <a:off x="685440" y="249228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мей … рублей, а имей … друз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6"/>
          <p:cNvSpPr/>
          <p:nvPr/>
        </p:nvSpPr>
        <p:spPr>
          <a:xfrm>
            <a:off x="5580000" y="29210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пога - па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7"/>
          <p:cNvSpPr/>
          <p:nvPr/>
        </p:nvSpPr>
        <p:spPr>
          <a:xfrm>
            <a:off x="647640" y="34401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ртям не бывать, а … не мино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4176720" y="4092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трелом … зайцев убить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9"/>
          <p:cNvSpPr/>
          <p:nvPr/>
        </p:nvSpPr>
        <p:spPr>
          <a:xfrm>
            <a:off x="754560" y="4738680"/>
            <a:ext cx="29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а - метель и вью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0"/>
          <p:cNvSpPr/>
          <p:nvPr/>
        </p:nvSpPr>
        <p:spPr>
          <a:xfrm>
            <a:off x="3938400" y="5445000"/>
            <a:ext cx="38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чела много меду не натаск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826920" y="404640"/>
            <a:ext cx="734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КОМАНДЫ: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395280" y="1700280"/>
            <a:ext cx="4464000" cy="3672000"/>
          </a:xfrm>
          <a:prstGeom prst="triangle">
            <a:avLst>
              <a:gd name="adj" fmla="val 50000"/>
            </a:avLst>
          </a:prstGeom>
          <a:solidFill>
            <a:srgbClr val="c63aab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932360" y="1773360"/>
            <a:ext cx="3600360" cy="3600360"/>
          </a:xfrm>
          <a:prstGeom prst="rect">
            <a:avLst/>
          </a:prstGeom>
          <a:solidFill>
            <a:srgbClr val="e4715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10"/>
          <p:cNvSpPr/>
          <p:nvPr/>
        </p:nvSpPr>
        <p:spPr>
          <a:xfrm>
            <a:off x="4976640" y="1763640"/>
            <a:ext cx="3376800" cy="395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9" descr="sidebar-jidelnicek"/>
          <p:cNvPicPr/>
          <p:nvPr/>
        </p:nvPicPr>
        <p:blipFill>
          <a:blip r:embed="rId1"/>
          <a:stretch/>
        </p:blipFill>
        <p:spPr>
          <a:xfrm>
            <a:off x="5008680" y="1628640"/>
            <a:ext cx="3838320" cy="4692960"/>
          </a:xfrm>
          <a:prstGeom prst="rect">
            <a:avLst/>
          </a:prstGeom>
          <a:ln w="0">
            <a:noFill/>
          </a:ln>
        </p:spPr>
      </p:pic>
      <p:sp>
        <p:nvSpPr>
          <p:cNvPr id="288" name="WordArt 11"/>
          <p:cNvSpPr txBox="1"/>
          <p:nvPr/>
        </p:nvSpPr>
        <p:spPr>
          <a:xfrm>
            <a:off x="250920" y="189000"/>
            <a:ext cx="6300720" cy="22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64b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Подведение</a:t>
            </a:r>
            <a:endParaRPr b="1" lang="en-US" sz="1800" spc="1" strike="noStrike">
              <a:ln w="28440">
                <a:solidFill>
                  <a:srgbClr val="964b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64b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итогов</a:t>
            </a:r>
            <a:endParaRPr b="1" lang="en-US" sz="1800" spc="1" strike="noStrike">
              <a:ln w="28440">
                <a:solidFill>
                  <a:srgbClr val="964b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rcRect l="26989" t="33248" r="13387" b="7977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rcRect l="26989" t="33248" r="13387" b="7977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291" name="WordArt 5"/>
          <p:cNvSpPr txBox="1"/>
          <p:nvPr/>
        </p:nvSpPr>
        <p:spPr>
          <a:xfrm>
            <a:off x="1979640" y="692280"/>
            <a:ext cx="17859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ес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2" name="WordArt 6"/>
          <p:cNvSpPr txBox="1"/>
          <p:nvPr/>
        </p:nvSpPr>
        <p:spPr>
          <a:xfrm rot="21033600">
            <a:off x="5439960" y="3083040"/>
            <a:ext cx="3287880" cy="31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50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50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50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ар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50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3" name="Мальчик - Про математику.mp3" descr=""/>
          <p:cNvPicPr/>
          <p:nvPr/>
        </p:nvPicPr>
        <p:blipFill>
          <a:blip r:embed="rId3"/>
          <a:stretch/>
        </p:blipFill>
        <p:spPr>
          <a:xfrm>
            <a:off x="842976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nodeType="clickEffect" fill="hold">
                      <p:stCondLst>
                        <p:cond delay="0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77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4" dur="770" fill="hold"/>
                                        <p:tgtEl>
                                          <p:spTgt spid="2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6" dur="77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8" dur="77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77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4" dur="770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6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8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2" dur="111205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1"/>
          <p:cNvSpPr/>
          <p:nvPr/>
        </p:nvSpPr>
        <p:spPr>
          <a:xfrm>
            <a:off x="611280" y="1967040"/>
            <a:ext cx="273672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Окончена игра, но не грустите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Хоть проиграли или выиграли сейчас –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Будут в вашей жизни и успех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И победы еще не раз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лавное, не забывайте: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Чтоб врачом, моряк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Или летчиком стать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ужно, прежде всего, 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Математику знать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Мальчик гений, очки."/>
          <p:cNvPicPr/>
          <p:nvPr/>
        </p:nvPicPr>
        <p:blipFill>
          <a:blip r:embed="rId1"/>
          <a:stretch/>
        </p:blipFill>
        <p:spPr>
          <a:xfrm>
            <a:off x="3917880" y="36360"/>
            <a:ext cx="4286160" cy="3105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3D White Sphere с гладкой тени и миллиметровой бумаги текстуры и математические символы - изолированные на белом фоне"/>
          <p:cNvPicPr/>
          <p:nvPr/>
        </p:nvPicPr>
        <p:blipFill>
          <a:blip r:embed="rId2"/>
          <a:stretch/>
        </p:blipFill>
        <p:spPr>
          <a:xfrm>
            <a:off x="4859280" y="3429000"/>
            <a:ext cx="3711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оугольник 1"/>
          <p:cNvSpPr/>
          <p:nvPr/>
        </p:nvSpPr>
        <p:spPr>
          <a:xfrm>
            <a:off x="2286000" y="19969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тематика – это орудие, с помощью которого человек познает и покоряет себе окружающий мир. Чтобы сделать в математике открытие, надо любить её так, как любил её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каждый из великих математик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ак любили и любят её сотни других людей. Сделайте хотя бы малую часть того, что сделал каждый из них и мир навсегда станет благодарным вам. Полюбите математик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0" descr="i?id=22795190&amp;tov=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WordArt 4"/>
          <p:cNvSpPr txBox="1"/>
          <p:nvPr/>
        </p:nvSpPr>
        <p:spPr>
          <a:xfrm>
            <a:off x="826920" y="1052640"/>
            <a:ext cx="770580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новых встреч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бята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nodeType="clickEffect" fill="hold">
                      <p:stCondLst>
                        <p:cond delay="0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d2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539640" y="333360"/>
            <a:ext cx="813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Разминоч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6" descr="5ONOCAU1OWS0CARM1B8CCA9LF88PCA26ZVEDCA2VV6OECA1GAE1RCAOB7FF5CA0WM3XTCA3U6J7UCASNOJYXCAX19PP9CAI2IUBXCAOUW4ZVCAE4DB3PCAZ7DNODCA13CYO1CAGHA9L7CACEQ1GTCA1CU44S"/>
          <p:cNvPicPr/>
          <p:nvPr/>
        </p:nvPicPr>
        <p:blipFill>
          <a:blip r:embed="rId1"/>
          <a:stretch/>
        </p:blipFill>
        <p:spPr>
          <a:xfrm>
            <a:off x="250920" y="1700280"/>
            <a:ext cx="2520720" cy="18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9A1FCAVBQSTOCA72MB40CAMSQ8PKCAPI8WWCCAINQ2BVCAS4YX2FCAK91GXMCAPTHWH7CAW6KG4YCAKC9BA0CAH1SVI4CA1SKQ3QCAXPGFKKCAFQX41ICAJ02GWBCA0A1ZT2CADJAKB9CAXQLZ2LCA75ISQM"/>
          <p:cNvPicPr/>
          <p:nvPr/>
        </p:nvPicPr>
        <p:blipFill>
          <a:blip r:embed="rId2"/>
          <a:stretch/>
        </p:blipFill>
        <p:spPr>
          <a:xfrm>
            <a:off x="3059280" y="1552680"/>
            <a:ext cx="59054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395280" y="333360"/>
            <a:ext cx="863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619280" y="189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ойка лошадей проскакала 90 км. Сколько километров проскакала каждая лоша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i?id=61145861&amp;tov=3"/>
          <p:cNvPicPr/>
          <p:nvPr/>
        </p:nvPicPr>
        <p:blipFill>
          <a:blip r:embed="rId1"/>
          <a:stretch/>
        </p:blipFill>
        <p:spPr>
          <a:xfrm>
            <a:off x="1763640" y="2349360"/>
            <a:ext cx="5761080" cy="3726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6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6012000" y="62229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90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b5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468360" y="333360"/>
            <a:ext cx="83196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979640" y="476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ему равно произведение всех циф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84360" y="2708280"/>
            <a:ext cx="78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0=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869080" y="5516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8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611280" y="333360"/>
            <a:ext cx="68904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124000" y="5382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сключите лишнее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755640" y="2205000"/>
            <a:ext cx="230364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м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5219640" y="2205000"/>
            <a:ext cx="266544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WordArt 8"/>
          <p:cNvSpPr txBox="1"/>
          <p:nvPr/>
        </p:nvSpPr>
        <p:spPr>
          <a:xfrm>
            <a:off x="468360" y="4365720"/>
            <a:ext cx="309564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жите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WordArt 9"/>
          <p:cNvSpPr txBox="1"/>
          <p:nvPr/>
        </p:nvSpPr>
        <p:spPr>
          <a:xfrm>
            <a:off x="5076720" y="4365720"/>
            <a:ext cx="280836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ст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468360" y="5516640"/>
            <a:ext cx="309564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6:38:29Z</dcterms:created>
  <dc:creator>Зиновьевы</dc:creator>
  <dc:description/>
  <dc:language>en-US</dc:language>
  <cp:lastModifiedBy>Томара</cp:lastModifiedBy>
  <dcterms:modified xsi:type="dcterms:W3CDTF">2018-04-22T09:07:22Z</dcterms:modified>
  <cp:revision>94</cp:revision>
  <dc:subject/>
  <dc:title>Слайд 1</dc:title>
</cp:coreProperties>
</file>