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625-4342-4B19-BCC0-E4348A09C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6A49-44D5-4268-B469-84A53DEB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AC92-3C2F-4934-A0FE-D03B42A5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EC8-F13C-42E4-B338-D46B0E26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BC041-D6B9-449D-803D-689F7E13E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EEF6-B851-4441-AC30-205AA54B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B043E-501C-487B-B663-5015CC59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3194-06ED-4D40-B05B-4111E4EA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8A3D-0583-4932-85D7-0CD4B9A0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F8F4-A786-4654-9198-27A0F920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C966-BF73-4BA3-9727-B32D323A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B98-BD70-42A1-8CF9-65BB6D4C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5FCB-BC4B-499E-87B1-B2776FC4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78694-6002-44F2-8B81-9EB401A9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D6D0-B99E-4041-9B44-3D9CD8E4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C1A9-4A65-44D3-A6A3-DBF6E05D7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D55B-E7E6-4695-B3FA-2179B1D7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76EEC-D5C6-45F3-9AF6-91678BDC8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F926-E51F-4C87-AFCB-A6F0924A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1C50F-E13B-4CF0-8AC7-89722025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6C07B-8F58-49BE-915E-E24E2BD8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9462-C7DD-4C52-AF8E-8CCF810C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614-FB83-40CD-B39F-2772C290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E9D70-C2A2-4BE7-87D3-0224F3A4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14A4C-C9A0-47B2-A01C-AD5471B3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2736-EE16-4942-A127-B1C48B6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C4513-712A-4148-A629-67CF716B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99173-3D5E-4A94-9DB6-CE022560B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02C6F-4DF2-49D7-BDFF-83C1AB3C7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1966A-3CA5-4F00-B8A8-91F403933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3654-EC10-41A6-8F29-5D2ED365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D0CF-1F04-4E88-AD59-40D625AE7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0F6E6-738B-4CE5-A3F4-05B5649AA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E1CC-2275-42F1-A177-948FBBFD3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A00A8-7511-4B23-BC5D-7E10A8DB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7CCC0-9FFD-4E56-8821-3EC7A61D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53800-CC67-433C-8555-0B8F65FE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3A366F-47B4-4876-BF4D-20DD6DD0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2642C-64F5-4BB6-ACFF-40E6756E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0B609-74BC-48D5-9B43-46FBB415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5D190-DD51-47EE-8546-FABA3876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064A8-49EF-4628-A2AB-8A967261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63B9-6822-4A81-B2E1-01DDC907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F9BC9-BBF2-4C39-AEFE-8006165C3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5B63-6C52-4864-B0D1-7ECB5495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9FF75-9F51-4BFA-B27E-2561976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432E7-2817-4668-B4A9-74AB4E82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9146D4-0183-49FC-98D5-DFD7A403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F3B979-EFCB-433A-A771-1AC60F9CB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C348-9C7A-41E2-9E56-E11FBB8F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AA8EF-0F9B-47F0-8FF1-79C3FD10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2B7A0-C388-4E98-924F-ADC44D34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C9FB3-F302-44C7-928E-0F2BDD83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A0BD-F77D-43EA-90BB-B1B96FEF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E774D-C438-474D-BA94-653E54F3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6A90-FE9D-4D05-98CE-437C630C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A2F6F-9857-4199-B7E2-81BD7EED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7D653-9AC1-452C-B322-9060EEC6D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BFD50-D459-491E-B031-356429624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176E2-130A-4D72-9CB6-F660DC4F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28B4B-78B6-41F2-8D38-19CB92DC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7EC5B-0D28-41D6-B4EE-57B806D6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528C4-AD43-43E5-9F03-9E7A38E5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771A0-0787-4E97-B7ED-146DBEF64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80262-F64C-48AE-A40C-950901F5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59F69-6638-4D2A-98DB-101C6D0D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DBBD-102C-438E-9770-29A551729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CD7A8-2CE4-43EF-9CDB-6679C679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082E7-63F7-4976-A32E-889FAAC72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A0795-436C-4570-9FCC-508799E6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48B4E-2A0E-4343-A6CD-D4E52E480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7B3D3-AAB6-4A8E-82D4-B0FA54ED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BEDA34-3989-4FCC-AD1B-F7C7B79DD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4480D-D65F-4712-90B2-EFEC1ABF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274DA-7680-44E6-8EA0-B9B353CA0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3A2F5-4DA5-44EB-8A48-1A4D86E6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4335D-DADE-41CB-A029-05F9CFF7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4042-C0C6-43DB-9423-61BACB5D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62DEB-3085-4522-8F00-AAA8F628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66B8C-1469-4917-A5C9-F8EA81DD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82BBA1-AC5A-422A-AAA0-231E6ABE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25F1D-FE73-453F-AA20-DEA45A617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DC521-2AC2-4465-B977-35C1C4E1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0324-8AEF-4852-B561-AFE2B9B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13C22-BB74-4A0D-808C-36DD92F58E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0AE8-8796-487E-B925-BA2C4726DD9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374C-4188-492F-A9E7-92C258527E9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87E62-F926-4410-ACC0-4EAF0DA6EE6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9CF8-9609-493B-9B1C-12D1A55244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EE07-8A11-4F31-B6B5-E704733E6DD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D71F-0120-4574-8D9A-F5290316E68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исование и стирание, заливка цвет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хтомская Е. 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вторение изученног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графические редакторы вы зна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бота в групп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C:\Users\Nadzeya\Desktop\Приложения\работа по группам.png"/>
          <p:cNvPicPr/>
          <p:nvPr/>
        </p:nvPicPr>
        <p:blipFill>
          <a:blip r:embed="rId1"/>
          <a:stretch/>
        </p:blipFill>
        <p:spPr>
          <a:xfrm>
            <a:off x="1332000" y="1341360"/>
            <a:ext cx="7578720" cy="51944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3"/>
          <p:cNvSpPr/>
          <p:nvPr/>
        </p:nvSpPr>
        <p:spPr>
          <a:xfrm>
            <a:off x="1116000" y="31528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сование линиям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564000" y="31528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ии и залив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5815080" y="3132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гуры, заливка и стира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1692360" y="623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гуры и лин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8"/>
          <p:cNvSpPr/>
          <p:nvPr/>
        </p:nvSpPr>
        <p:spPr>
          <a:xfrm>
            <a:off x="5157720" y="62071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гуры и залив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ой приём здесь использован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327672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раже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3" descr="C:\Users\Nadzeya\Desktop\Приложения\отражение.jpg"/>
          <p:cNvPicPr/>
          <p:nvPr/>
        </p:nvPicPr>
        <p:blipFill>
          <a:blip r:embed="rId1"/>
          <a:stretch/>
        </p:blipFill>
        <p:spPr>
          <a:xfrm>
            <a:off x="2268360" y="1536840"/>
            <a:ext cx="50803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ой приём здесь использован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2" descr="C:\Users\Nadzeya\Desktop\Приложения\штамп.png"/>
          <p:cNvPicPr/>
          <p:nvPr/>
        </p:nvPicPr>
        <p:blipFill>
          <a:blip r:embed="rId1"/>
          <a:stretch/>
        </p:blipFill>
        <p:spPr>
          <a:xfrm>
            <a:off x="1476360" y="1197000"/>
            <a:ext cx="6966000" cy="43545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3"/>
          <p:cNvSpPr/>
          <p:nvPr/>
        </p:nvSpPr>
        <p:spPr>
          <a:xfrm>
            <a:off x="4385160" y="57643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Штамп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ой приём здесь использован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2" descr="C:\Users\Nadzeya\Desktop\Приложения\размытие.png"/>
          <p:cNvPicPr/>
          <p:nvPr/>
        </p:nvPicPr>
        <p:blipFill>
          <a:blip r:embed="rId1"/>
          <a:stretch/>
        </p:blipFill>
        <p:spPr>
          <a:xfrm>
            <a:off x="1476360" y="1432080"/>
            <a:ext cx="7048440" cy="37335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3487680" y="5580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мыт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9:12:40Z</dcterms:created>
  <dc:creator>Nadzeya</dc:creator>
  <dc:description/>
  <dc:language>en-US</dc:language>
  <cp:lastModifiedBy>Nadzeya</cp:lastModifiedBy>
  <dcterms:modified xsi:type="dcterms:W3CDTF">2012-04-01T19:26:45Z</dcterms:modified>
  <cp:revision>1</cp:revision>
  <dc:subject/>
  <dc:title>Рисование и стирание, заливка цветом</dc:title>
</cp:coreProperties>
</file>