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08C3-05AA-4FB0-A49F-58B661FA6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1E37-94FD-436B-9F83-EC0A9D883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D411-1B0D-440F-AB1A-4493A6663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99D7-A648-4363-A664-A26D21A27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3C4AD-E15C-46D0-B259-2AAE06417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F0E20-47CC-472E-8A0D-9B53D4B8F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8821F-8E94-465D-B17F-8C288BF97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F4213-A83C-493C-8EEF-EF75D6C42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FBDC7-5C3A-40C0-A4C7-96C1268FA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CBD96-86D6-41B2-93C6-F33FA7EBD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A4708-6AF7-4DDB-A581-8A23B892F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E3B6-4B06-494B-B8A8-1234D8111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4B606-AFAA-45F7-9F47-99545FE67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B9BF4-8C01-4561-9ACC-407781CD0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9E0C2-1DBF-4A06-8CE5-B49BA5B9F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943F8-EED5-4EE0-9780-853D1FA30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DEB43-A4CE-4345-93B4-7C75D6C08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98234-257F-4BDD-99DA-7770A193D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CE56C-EA5F-4445-B116-574C2C073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B6E0C-0FA7-44DE-9BCC-CCA04EDE0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0B48B-8B46-4C58-9418-95933B2B8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1807F-121F-4DA2-A508-1C5064CF1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E991-6D96-449A-A058-913E0F91C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8C7E0-600C-4F79-A1E1-981A3C4BC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7E9D5-3719-44FE-8DAE-A853B0A4E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FAFF8-8C07-452F-9D59-DFF1D36D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4189F-E727-4F1A-B143-71B444362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85D70-BB3A-41D5-B8E6-C1D81710B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3A4DC-BF72-407D-BC21-F05846AF9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F6E57-9D74-418C-B91E-7D329CA1F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D7E9B9-EA0F-4A53-A915-07F2677AA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5C055-3B9C-42C2-97DC-AB1C19D39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FE3DF-2BAC-4D4F-9A04-F8213D04E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DC3A-001E-447F-9705-1CE612E56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19BD67-4991-4C4F-87F3-318CFBB41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D75EE-DA4E-4E9D-A5DD-2BA291186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3F4622-5FE0-48E2-BB21-51EF3E61C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003F2-CDFA-4FD7-B3A3-549E16B3C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6F3EF-2319-4B8E-8B7E-99C7FA0B8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9668C-9875-424E-A380-1E58B1D0A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EDB94-9019-42A7-89F0-0383B9531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77F19-DEAF-4F92-A5AB-5BDB41952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D56B4-E61C-4C88-9410-E633D9207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739BAA-F950-4FDD-9645-E9DABA828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AEA3-7611-434E-8DCD-6F9DD021C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2D2FBA-7183-4A72-A1DE-4072F897F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B0CD31-1106-4845-A363-6E9D00F13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FB4F74-F99A-4072-B835-425431D4E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87785D-ECA3-4C83-89DF-BC5E9508B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DD009F-6A13-4459-AC07-DABD19619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57D360-ADC4-44CA-A9B3-F6DBE6BE9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E982E4-1243-4025-94E0-EB75925F8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AD00B1-8537-4488-91DC-593AE065D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F23784-5F32-4024-9244-F8B5E290E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1C8034-5344-4E6F-B5C1-BE6027E32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DAFA-8B2D-4148-BA3F-F5F7590F6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121EEF-44EE-48CF-BB4F-4BF987D32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8401AF-F798-4C71-80EA-F4975EDB2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1E464E-28B9-426A-BB00-833A5914A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FAAA99-7D29-4468-81C2-7E5F77A7B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E84487-2B04-425B-861F-4D74DFEA6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EE292B-0548-447C-8E4E-E893E92C0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01C985-0A95-4FA8-AFEF-774BC8056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98463F-98F8-4415-9AA7-A171E9375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12161E-69F0-407A-A911-D1B36018C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4F2445-6B4D-44F6-812C-71F7E5EE8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FCB7-5A62-4D17-85EC-F3F4C508B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FC7FA0-C74C-43CC-8BE6-87D610C7E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586258-29F4-4160-906D-3C59C44CC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22C90C-D7DE-4453-90CF-684BA78AD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90DEFE-15E3-46A6-9FDA-D14924327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377D4E-796E-45ED-B25F-E53D49E99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4378BA-974A-4854-877C-D0001CBC3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64B72C-8516-4E85-B52A-A621C6049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A27322-52D0-44CF-848B-91E81B95C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39E779-3352-4572-86CD-3139AA7E7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21A9C4-03FB-4CC1-9B2D-5BCC3423A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A5B5-0FC9-4B1F-9263-9881678A3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7101EF-A77E-45E6-ADF7-C75F92EBB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BE6B0A-C12B-48B0-91FC-16CCC72ED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A91CF3-054F-48BE-8BBF-6ADB24AD4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4CDE43-40B2-421D-981F-190E08ECE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E4C681-2B1A-401F-A876-2E29814E1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85D5-918B-47E7-998E-77A5173AC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887" h="1638887">
                <a:moveTo>
                  <a:pt x="1638887" y="819444"/>
                </a:moveTo>
                <a:cubicBezTo>
                  <a:pt x="1638887" y="1036862"/>
                  <a:pt x="1552484" y="1245367"/>
                  <a:pt x="1398699" y="1399057"/>
                </a:cubicBezTo>
                <a:cubicBezTo>
                  <a:pt x="1244914" y="1552747"/>
                  <a:pt x="1036356" y="1639022"/>
                  <a:pt x="818938" y="1638888"/>
                </a:cubicBezTo>
                <a:cubicBezTo>
                  <a:pt x="819107" y="1365740"/>
                  <a:pt x="819275" y="1092592"/>
                  <a:pt x="819444" y="819444"/>
                </a:cubicBezTo>
                <a:lnTo>
                  <a:pt x="1638887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CB945-836A-4FEB-A8FB-E41A8D23837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887" h="1638887">
                <a:moveTo>
                  <a:pt x="1638887" y="819444"/>
                </a:moveTo>
                <a:cubicBezTo>
                  <a:pt x="1638887" y="1036862"/>
                  <a:pt x="1552484" y="1245367"/>
                  <a:pt x="1398699" y="1399057"/>
                </a:cubicBezTo>
                <a:cubicBezTo>
                  <a:pt x="1244914" y="1552747"/>
                  <a:pt x="1036356" y="1639022"/>
                  <a:pt x="818938" y="1638888"/>
                </a:cubicBezTo>
                <a:cubicBezTo>
                  <a:pt x="819107" y="1365740"/>
                  <a:pt x="819275" y="1092592"/>
                  <a:pt x="819444" y="819444"/>
                </a:cubicBezTo>
                <a:lnTo>
                  <a:pt x="1638887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57F24-5934-41EB-B97E-7F4C12695B3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F3351-E625-4256-AFD0-A09C47B9C93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B62B0-7B38-4E77-B005-37C6A61ED86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373A7-388E-4686-9913-C2821B16047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87A04-1578-456F-A680-7D6B3785D15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7B905-F4DA-4F6C-8CCA-B0B77EB9C05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Рисование и стирание, заливка цветом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Ухтомская Е. С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овторение изученного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Какие графические редакторы вы знаете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Работа в группах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3" name="Picture 2" descr="C:\Users\Nadzeya\Desktop\Приложения\работа по группам.png"/>
          <p:cNvPicPr/>
          <p:nvPr/>
        </p:nvPicPr>
        <p:blipFill>
          <a:blip r:embed="rId1"/>
          <a:stretch/>
        </p:blipFill>
        <p:spPr>
          <a:xfrm>
            <a:off x="1332000" y="1341360"/>
            <a:ext cx="7578720" cy="5194440"/>
          </a:xfrm>
          <a:prstGeom prst="rect">
            <a:avLst/>
          </a:prstGeom>
          <a:ln w="0">
            <a:noFill/>
          </a:ln>
        </p:spPr>
      </p:pic>
      <p:sp>
        <p:nvSpPr>
          <p:cNvPr id="324" name="TextBox 3"/>
          <p:cNvSpPr/>
          <p:nvPr/>
        </p:nvSpPr>
        <p:spPr>
          <a:xfrm>
            <a:off x="1116000" y="315288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Рисование линиями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TextBox 5"/>
          <p:cNvSpPr/>
          <p:nvPr/>
        </p:nvSpPr>
        <p:spPr>
          <a:xfrm>
            <a:off x="3564000" y="3152880"/>
            <a:ext cx="25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Линии и заливка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TextBox 6"/>
          <p:cNvSpPr/>
          <p:nvPr/>
        </p:nvSpPr>
        <p:spPr>
          <a:xfrm>
            <a:off x="5815080" y="313200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Фигуры, заливка и стирание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TextBox 7"/>
          <p:cNvSpPr/>
          <p:nvPr/>
        </p:nvSpPr>
        <p:spPr>
          <a:xfrm>
            <a:off x="1692360" y="6237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Фигуры и линии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8" name="TextBox 8"/>
          <p:cNvSpPr/>
          <p:nvPr/>
        </p:nvSpPr>
        <p:spPr>
          <a:xfrm>
            <a:off x="5157720" y="620712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Фигуры и заливка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Какой приём здесь использован?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0" name="TextBox 3"/>
          <p:cNvSpPr/>
          <p:nvPr/>
        </p:nvSpPr>
        <p:spPr>
          <a:xfrm>
            <a:off x="3276720" y="422100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Отражение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1" name="Picture 3" descr="C:\Users\Nadzeya\Desktop\Приложения\отражение.jpg"/>
          <p:cNvPicPr/>
          <p:nvPr/>
        </p:nvPicPr>
        <p:blipFill>
          <a:blip r:embed="rId1"/>
          <a:stretch/>
        </p:blipFill>
        <p:spPr>
          <a:xfrm>
            <a:off x="2268360" y="1536840"/>
            <a:ext cx="508032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Какой приём здесь использован?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3" name="Picture 2" descr="C:\Users\Nadzeya\Desktop\Приложения\штамп.png"/>
          <p:cNvPicPr/>
          <p:nvPr/>
        </p:nvPicPr>
        <p:blipFill>
          <a:blip r:embed="rId1"/>
          <a:stretch/>
        </p:blipFill>
        <p:spPr>
          <a:xfrm>
            <a:off x="1476360" y="1197000"/>
            <a:ext cx="6966000" cy="4354560"/>
          </a:xfrm>
          <a:prstGeom prst="rect">
            <a:avLst/>
          </a:prstGeom>
          <a:ln w="0">
            <a:noFill/>
          </a:ln>
        </p:spPr>
      </p:pic>
      <p:sp>
        <p:nvSpPr>
          <p:cNvPr id="334" name="TextBox 3"/>
          <p:cNvSpPr/>
          <p:nvPr/>
        </p:nvSpPr>
        <p:spPr>
          <a:xfrm>
            <a:off x="4385160" y="5764320"/>
            <a:ext cx="11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Штампы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Какой приём здесь использован?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6" name="Picture 2" descr="C:\Users\Nadzeya\Desktop\Приложения\размытие.png"/>
          <p:cNvPicPr/>
          <p:nvPr/>
        </p:nvPicPr>
        <p:blipFill>
          <a:blip r:embed="rId1"/>
          <a:stretch/>
        </p:blipFill>
        <p:spPr>
          <a:xfrm>
            <a:off x="1476360" y="1432080"/>
            <a:ext cx="7048440" cy="3733560"/>
          </a:xfrm>
          <a:prstGeom prst="rect">
            <a:avLst/>
          </a:prstGeom>
          <a:ln w="0">
            <a:noFill/>
          </a:ln>
        </p:spPr>
      </p:pic>
      <p:sp>
        <p:nvSpPr>
          <p:cNvPr id="337" name="TextBox 3"/>
          <p:cNvSpPr/>
          <p:nvPr/>
        </p:nvSpPr>
        <p:spPr>
          <a:xfrm>
            <a:off x="3487680" y="558000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Размытие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1T19:12:40Z</dcterms:created>
  <dc:creator>Nadzeya</dc:creator>
  <dc:description/>
  <dc:language>en-US</dc:language>
  <cp:lastModifiedBy>Nadzeya</cp:lastModifiedBy>
  <dcterms:modified xsi:type="dcterms:W3CDTF">2012-04-01T19:26:45Z</dcterms:modified>
  <cp:revision>1</cp:revision>
  <dc:subject/>
  <dc:title>Рисование и стирание, заливка цветом</dc:title>
</cp:coreProperties>
</file>