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8E4-1635-475E-802A-D372EAAB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54E-5B89-441E-98D6-59A86B1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922-DAE3-46BE-8912-9FDB4DA9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091-881D-420F-B492-3FC25294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267-465B-4A17-961F-51E1A8B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99E-9B56-46AE-8418-731A4131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D8D-C8C6-4B57-8C75-48F6BB2A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9B6-8CBD-4205-A7C9-66E0F92C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BF7-F96C-4F79-8C50-7E4EC20B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C38-BDBF-454B-A18B-5AA5EF90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222-37BF-4FDC-B6F9-DFAEF61A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2DB-847E-4542-9579-D2A1801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3D06F-96A9-41F2-915E-E5D2BC40DD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603440" y="1547640"/>
            <a:ext cx="6149880" cy="103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749760" y="4726080"/>
            <a:ext cx="488952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mic Sans MS"/>
              </a:rPr>
              <a:t>Бакушева Наталья Александровна,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mic Sans MS"/>
              </a:rPr>
              <a:t>учитель изобразительного искусства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mic Sans MS"/>
              </a:rPr>
              <a:t>МКОУ Березовская СОШ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755640" y="2498760"/>
            <a:ext cx="7755120" cy="24019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360440" y="307800"/>
            <a:ext cx="654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657440" y="217440"/>
            <a:ext cx="5943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543466"/>
                </a:solidFill>
                <a:latin typeface="Times New Roman"/>
              </a:rPr>
              <a:t>РМО учителей ИЗО и черч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2629080" y="6161040"/>
            <a:ext cx="3828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43466"/>
                </a:solidFill>
                <a:latin typeface="Times New Roman"/>
              </a:rPr>
              <a:t>Ноябрь 2016г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411440" y="971640"/>
            <a:ext cx="438948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 Напиши на фигуре буквы своего имени, располагая их от краёв фигуры к центру, двигаясь по кругу или по разным сторонам в любом направлении. Можно брать полное имя или сокращённое (Анастасия или Настя). Например, если любимая форма — круг, любимый цвет — красный, а имя — Люба, то рисунок для полного имени Любовь может выглядеть так: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7" name="Рисунок 6" descr="http://stranamasterov.ru/images/startrek/1/PICT9514.jpg"/>
          <p:cNvPicPr/>
          <p:nvPr/>
        </p:nvPicPr>
        <p:blipFill>
          <a:blip r:embed="rId1"/>
          <a:stretch/>
        </p:blipFill>
        <p:spPr>
          <a:xfrm>
            <a:off x="485640" y="1700280"/>
            <a:ext cx="369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256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перь аккуратно, маленькими ножницами, вырежи все буквы, не забывая про их серединки.  Средние части вырезай маникюрными ножницами или канцелярским ножом. Будь осторожен с острыми инструментами!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Рисунок 7" descr="http://stranamasterov.ru/images/startrek/1/PICT9515.jpg"/>
          <p:cNvPicPr/>
          <p:nvPr/>
        </p:nvPicPr>
        <p:blipFill>
          <a:blip r:embed="rId1"/>
          <a:stretch/>
        </p:blipFill>
        <p:spPr>
          <a:xfrm>
            <a:off x="5168880" y="1206360"/>
            <a:ext cx="326700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331880" y="960480"/>
            <a:ext cx="466236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 Приклей на плотную основу клеящим карандашом основную фигуру с вырезанными окошками. Переворачивай каждую букву и приклеивай её зеркально, располагая напротив её вырезанного белого силуэта-окошка. Чтобы не запутаться, следи за тем, чтобы на букве не было карандашных следов, это должна быть изнанка. Используй клеящий карандаш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1" name="Рисунок 8" descr="http://stranamasterov.ru/images/startrek/1/PICT9518.jpg"/>
          <p:cNvPicPr/>
          <p:nvPr/>
        </p:nvPicPr>
        <p:blipFill>
          <a:blip r:embed="rId1"/>
          <a:stretch/>
        </p:blipFill>
        <p:spPr>
          <a:xfrm>
            <a:off x="428760" y="1117440"/>
            <a:ext cx="327024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34520" y="1108080"/>
            <a:ext cx="4286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теперь не забудь приклеить все вырезанные внутренние детали на прежнее место. (Подсказка: на них должен быть виден карандашный след). Когда всё приклеено, можно аккуратно стереть карандашные следы. Получился вот такой орнамент с именем Любовь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3" name="Рисунок 9" descr="http://stranamasterov.ru/images/startrek/1/PICT9519.jpg"/>
          <p:cNvPicPr/>
          <p:nvPr/>
        </p:nvPicPr>
        <p:blipFill>
          <a:blip r:embed="rId1"/>
          <a:stretch/>
        </p:blipFill>
        <p:spPr>
          <a:xfrm>
            <a:off x="5029200" y="1069920"/>
            <a:ext cx="34322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0" y="274680"/>
            <a:ext cx="8858160" cy="1871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http://stranamasterov.ru/images/startrek/1/PICT9520.jpg"/>
          <p:cNvPicPr/>
          <p:nvPr/>
        </p:nvPicPr>
        <p:blipFill>
          <a:blip r:embed="rId2"/>
          <a:stretch/>
        </p:blipFill>
        <p:spPr>
          <a:xfrm>
            <a:off x="1446120" y="2530440"/>
            <a:ext cx="2565360" cy="3695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http://stranamasterov.ru/images/startrek/1/PICT9521.jpg"/>
          <p:cNvPicPr/>
          <p:nvPr/>
        </p:nvPicPr>
        <p:blipFill>
          <a:blip r:embed="rId3"/>
          <a:stretch/>
        </p:blipFill>
        <p:spPr>
          <a:xfrm>
            <a:off x="5291280" y="2530440"/>
            <a:ext cx="2555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8"/>
          <p:cNvSpPr/>
          <p:nvPr/>
        </p:nvSpPr>
        <p:spPr>
          <a:xfrm>
            <a:off x="368280" y="2995560"/>
            <a:ext cx="83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Наши весёлые име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8" name="Picture 9" descr="C:\Users\user\Desktop\2016-10-31\001.jpg"/>
          <p:cNvPicPr/>
          <p:nvPr/>
        </p:nvPicPr>
        <p:blipFill>
          <a:blip r:embed="rId1"/>
          <a:stretch/>
        </p:blipFill>
        <p:spPr>
          <a:xfrm>
            <a:off x="3470400" y="3695760"/>
            <a:ext cx="2305080" cy="262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C:\Users\user\Desktop\2016-10-31\002.jpg"/>
          <p:cNvPicPr/>
          <p:nvPr/>
        </p:nvPicPr>
        <p:blipFill>
          <a:blip r:embed="rId2"/>
          <a:stretch/>
        </p:blipFill>
        <p:spPr>
          <a:xfrm>
            <a:off x="3430440" y="557280"/>
            <a:ext cx="2384640" cy="244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C:\Users\user\Desktop\2016-10-31\003.jpg"/>
          <p:cNvPicPr/>
          <p:nvPr/>
        </p:nvPicPr>
        <p:blipFill>
          <a:blip r:embed="rId3"/>
          <a:stretch/>
        </p:blipFill>
        <p:spPr>
          <a:xfrm>
            <a:off x="6289560" y="493560"/>
            <a:ext cx="2411640" cy="243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user\Desktop\2016-10-31\004.jpg"/>
          <p:cNvPicPr/>
          <p:nvPr/>
        </p:nvPicPr>
        <p:blipFill>
          <a:blip r:embed="rId4"/>
          <a:stretch/>
        </p:blipFill>
        <p:spPr>
          <a:xfrm>
            <a:off x="735120" y="560520"/>
            <a:ext cx="2423880" cy="2435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C:\Users\user\Desktop\2016-10-31\005.jpg"/>
          <p:cNvPicPr/>
          <p:nvPr/>
        </p:nvPicPr>
        <p:blipFill>
          <a:blip r:embed="rId5"/>
          <a:stretch/>
        </p:blipFill>
        <p:spPr>
          <a:xfrm>
            <a:off x="6157800" y="3675240"/>
            <a:ext cx="2452680" cy="2622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Users\user\Desktop\2016-10-31\006.jpg"/>
          <p:cNvPicPr/>
          <p:nvPr/>
        </p:nvPicPr>
        <p:blipFill>
          <a:blip r:embed="rId6"/>
          <a:stretch/>
        </p:blipFill>
        <p:spPr>
          <a:xfrm>
            <a:off x="846000" y="3695760"/>
            <a:ext cx="2202120" cy="260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590400" y="2206800"/>
            <a:ext cx="82296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920" y="353520"/>
            <a:ext cx="87440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(лат. </a:t>
            </a:r>
            <a:r>
              <a:rPr b="0" i="1" lang="la-VA" sz="2600" spc="-1" strike="noStrike">
                <a:solidFill>
                  <a:srgbClr val="000000"/>
                </a:solidFill>
                <a:latin typeface="Comic Sans MS"/>
              </a:rPr>
              <a:t>applicātiō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 — прикладывание, присоединение) — способ получения изображения; техника декоративно-прикладного искусства. Вырезание и наклеивание (нашивание) фигурок, узоров или целых картин из кусочков бумаги, ткани, кожи, растительных и прочих материалов на материал-основу (фон). Как правило, материалом-основой служат картон, плотная бумага, дерево. Аппликация связана с познавательной деятельностью и огромное влияние оказывает на развитие умственных и творческих способностей детей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0" y="0"/>
            <a:ext cx="37735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345520" cy="171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49400" y="1463400"/>
            <a:ext cx="8743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очетание различных видов  аппликации в различных комбинациях  даёт бесконечное множество работ, позволяя решать разнообразные задачи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Классификация аппликаций разделяется  по нескольким признакам – по форме (объемная, плоская), цвету (одноцветная, многоцветная), тематике (предметная, сюжетная, декоративная) и по материалу (аппликация из бумаги, ткани, природных материалов, бросовых материалов)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182880" y="149040"/>
            <a:ext cx="9326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В соответствии с различными типами симметрии различают: зеркальную (боковую) симметричную аппликацию, передающую изображения предметов, обладающих при некотором упрощении симметричным строением (листья, деревья, насекомые, человек и т.д.); центрально-лучевую  симметричную аппликацию, при которой  равномерность распределения частей достигается их вращением относительно центра, когда отдельный элемент  повторяется многократно по окружности.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Асимметричная аппликация представляет собой наклеенные на фон изображения предметов, несимметричные по форме. Вместе с цветной аппликацией этот вид является базовым для детского творчества, так как не диктует жестких стилистических ограничений и не требует специальных приемов при изготовлении.</a:t>
            </a: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249120" y="3286080"/>
            <a:ext cx="3262320" cy="32907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72960" y="347760"/>
            <a:ext cx="506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мотрите изображение танцующего шута. Что вы можете о нём сказать?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5851440" y="281160"/>
            <a:ext cx="2511360" cy="31636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629160" y="3794040"/>
            <a:ext cx="525276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Такой способ вырезания получил название </a:t>
            </a:r>
            <a:r>
              <a:rPr b="0" i="1" lang="ru-RU" sz="2800" spc="-1" strike="noStrike">
                <a:solidFill>
                  <a:srgbClr val="ff6600"/>
                </a:solidFill>
                <a:latin typeface="Comic Sans MS"/>
              </a:rPr>
              <a:t>транспарантного                  </a:t>
            </a: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 от английского слова </a:t>
            </a:r>
            <a:r>
              <a:rPr b="0" i="1" lang="en-US" sz="2800" spc="-1" strike="noStrike">
                <a:solidFill>
                  <a:srgbClr val="543466"/>
                </a:solidFill>
                <a:latin typeface="Comic Sans MS"/>
              </a:rPr>
              <a:t>transparent</a:t>
            </a:r>
            <a:r>
              <a:rPr b="0" lang="en-US" sz="2800" spc="-1" strike="noStrike">
                <a:solidFill>
                  <a:srgbClr val="543466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прозрачный, просвечивающий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385920" y="18108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В технике транспарантного вырезания можно создавать различные орнаменты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294000" y="1135080"/>
            <a:ext cx="570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Посмотрите, как можно получить такую цветочную розетку, вписанную в круг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5035680" y="2938320"/>
            <a:ext cx="3413160" cy="3554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53880" y="1219320"/>
            <a:ext cx="2975040" cy="3906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260280" y="4051440"/>
            <a:ext cx="429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543466"/>
                </a:solidFill>
                <a:latin typeface="Comic Sans MS"/>
              </a:rPr>
              <a:t>Наклеивайте элементы узора по кругу, ориентируясь на начерченные линии диаметров круга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585720" y="603360"/>
            <a:ext cx="829008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88800" y="2709720"/>
            <a:ext cx="8321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делай узор со своим именем на основе своей геометрической фигуры. Используй свой любимый цвет. Буквы могут быть одинаковой или разной высоты, шрифт — любой. Можно представить узор в виде какого-то образа, а можно просто сделать абстрактный орнамент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3280" y="43488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того чтобы выполнить это задание, тебе понадобится сначала вырезать какую-то геометрическую фигуру, например, квадрат. Можно, конечно, взять и вырезать, не раздумывая. Но что если тебе больше нравится круг? Психологи установили, что разным людям нравятся разные фигуры — кому-то круг, кому-то треугольник... А качества характера людей, выбирающих ту или иную фигуру, оказываются в чём-то похож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Возьми цветную двухстороннюю бумагу и плотную белую бумагу для основы. (Возможен противоположный вариант: тонкая белая бумага для вырезания и цветной картон для основы). Цвет бумаги или картона так же выбери наиболее приятный для себя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Вырежи из бумаги фигуру (круг, квадрат, треугольник или прямоугольник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14:40:13Z</dcterms:created>
  <dc:creator>Юра</dc:creator>
  <dc:description/>
  <dc:language>en-US</dc:language>
  <cp:lastModifiedBy>я</cp:lastModifiedBy>
  <dcterms:modified xsi:type="dcterms:W3CDTF">2018-08-10T06:26:58Z</dcterms:modified>
  <cp:revision>36</cp:revision>
  <dc:subject/>
  <dc:title>Транспарантное вырезание</dc:title>
</cp:coreProperties>
</file>