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B3F2-D228-4E7E-B372-FF38879C4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8AC4-843F-4E07-9A91-302B569D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6F8C-DEB6-4AD0-85ED-A66D4E7D7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0D4B-BCE8-404F-B3A2-47F4DECD3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5EE4-950F-4474-87EC-86DF59FF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0B3E-184C-4194-AB37-DE7118EB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8D21-C913-4EC9-93EB-B54C6AFC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745F-80D9-402B-BF2C-EACA215F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657C-1DC1-4A31-B495-21A48D57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DFE1-FB03-44C4-B2C2-0F76F2FB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06D3-37C6-4FA8-B512-FDEBC9D5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526A-9995-47BD-A97D-F51E107B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297D-6EF8-4232-B9E6-7A91F915D2FF}" type="slidenum"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" descr=""/>
          <p:cNvPicPr/>
          <p:nvPr/>
        </p:nvPicPr>
        <p:blipFill>
          <a:blip r:embed="rId1"/>
          <a:srcRect l="16419" t="31980" r="17124" b="25543"/>
          <a:stretch/>
        </p:blipFill>
        <p:spPr>
          <a:xfrm>
            <a:off x="912960" y="500040"/>
            <a:ext cx="6443640" cy="352728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2342160" y="771480"/>
            <a:ext cx="4085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Добрый день, ребята!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Проверим посадку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Ножки — на месте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Ручки — на месте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Локти — у края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Спинка — пряма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" name="Рисунок 6" descr=""/>
          <p:cNvPicPr/>
          <p:nvPr/>
        </p:nvPicPr>
        <p:blipFill>
          <a:blip r:embed="rId2"/>
          <a:stretch/>
        </p:blipFill>
        <p:spPr>
          <a:xfrm>
            <a:off x="6227640" y="987480"/>
            <a:ext cx="31212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D:\ВХОДЯЩИЕ\шаттерсток\картинки\доска7.png"/>
          <p:cNvPicPr/>
          <p:nvPr/>
        </p:nvPicPr>
        <p:blipFill>
          <a:blip r:embed="rId1"/>
          <a:stretch/>
        </p:blipFill>
        <p:spPr>
          <a:xfrm>
            <a:off x="-22320" y="4680"/>
            <a:ext cx="9166320" cy="507384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3"/>
          <p:cNvSpPr/>
          <p:nvPr/>
        </p:nvSpPr>
        <p:spPr>
          <a:xfrm>
            <a:off x="1403280" y="1863720"/>
            <a:ext cx="12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40∙2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306360" y="217440"/>
            <a:ext cx="850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Можно рассуждать так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Прямоугольник 17"/>
          <p:cNvSpPr/>
          <p:nvPr/>
        </p:nvSpPr>
        <p:spPr>
          <a:xfrm>
            <a:off x="2411280" y="1863720"/>
            <a:ext cx="308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=4 дес. ∙2=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Прямоугольник 26"/>
          <p:cNvSpPr/>
          <p:nvPr/>
        </p:nvSpPr>
        <p:spPr>
          <a:xfrm>
            <a:off x="5065560" y="185724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8 дес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Прямоугольник 18"/>
          <p:cNvSpPr/>
          <p:nvPr/>
        </p:nvSpPr>
        <p:spPr>
          <a:xfrm>
            <a:off x="6507000" y="185724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=80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D:\ВХОДЯЩИЕ\шаттерсток\картинки\доска7.png"/>
          <p:cNvPicPr/>
          <p:nvPr/>
        </p:nvPicPr>
        <p:blipFill>
          <a:blip r:embed="rId1"/>
          <a:stretch/>
        </p:blipFill>
        <p:spPr>
          <a:xfrm>
            <a:off x="-22320" y="4680"/>
            <a:ext cx="9166320" cy="50738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8"/>
          <p:cNvSpPr/>
          <p:nvPr/>
        </p:nvSpPr>
        <p:spPr>
          <a:xfrm>
            <a:off x="306360" y="217440"/>
            <a:ext cx="850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Посмотрите и запишите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Прямоугольник 18"/>
          <p:cNvSpPr/>
          <p:nvPr/>
        </p:nvSpPr>
        <p:spPr>
          <a:xfrm>
            <a:off x="1403280" y="186372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40:2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Прямоугольник 19"/>
          <p:cNvSpPr/>
          <p:nvPr/>
        </p:nvSpPr>
        <p:spPr>
          <a:xfrm>
            <a:off x="2411280" y="1863720"/>
            <a:ext cx="308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=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4</a:t>
            </a: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 дес. 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:</a:t>
            </a: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2=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Прямоугольник 20"/>
          <p:cNvSpPr/>
          <p:nvPr/>
        </p:nvSpPr>
        <p:spPr>
          <a:xfrm>
            <a:off x="5065560" y="186372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 дес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Прямоугольник 27"/>
          <p:cNvSpPr/>
          <p:nvPr/>
        </p:nvSpPr>
        <p:spPr>
          <a:xfrm>
            <a:off x="6507000" y="186372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=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D:\__Василий\Математика\3 класс\24\img\математика фон цифры.png"/>
          <p:cNvPicPr/>
          <p:nvPr/>
        </p:nvPicPr>
        <p:blipFill>
          <a:blip r:embed="rId1"/>
          <a:stretch/>
        </p:blipFill>
        <p:spPr>
          <a:xfrm>
            <a:off x="541440" y="52560"/>
            <a:ext cx="8062920" cy="5038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D:\__Василий\Математика\3 класс\24\img\ноль нолик зеро 0 мультяшный [преобразованный].png"/>
          <p:cNvPicPr/>
          <p:nvPr/>
        </p:nvPicPr>
        <p:blipFill>
          <a:blip r:embed="rId2"/>
          <a:stretch/>
        </p:blipFill>
        <p:spPr>
          <a:xfrm>
            <a:off x="2700360" y="560520"/>
            <a:ext cx="374328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D:\__Василий\Математика\3 класс\24\img\математика фон цифры.png"/>
          <p:cNvPicPr/>
          <p:nvPr/>
        </p:nvPicPr>
        <p:blipFill>
          <a:blip r:embed="rId1"/>
          <a:stretch/>
        </p:blipFill>
        <p:spPr>
          <a:xfrm>
            <a:off x="541440" y="52560"/>
            <a:ext cx="8062920" cy="5038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D:\__Василий\Математика\3 класс\24\img\ноль нолик зеро 0 мультяшный [преобразованный].png"/>
          <p:cNvPicPr/>
          <p:nvPr/>
        </p:nvPicPr>
        <p:blipFill>
          <a:blip r:embed="rId2"/>
          <a:stretch/>
        </p:blipFill>
        <p:spPr>
          <a:xfrm>
            <a:off x="468360" y="484200"/>
            <a:ext cx="3743280" cy="4022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D:\ВХОДЯЩИЕ\шаттерсток\картинки\доска7.png"/>
          <p:cNvPicPr/>
          <p:nvPr/>
        </p:nvPicPr>
        <p:blipFill>
          <a:blip r:embed="rId3"/>
          <a:stretch/>
        </p:blipFill>
        <p:spPr>
          <a:xfrm>
            <a:off x="4284720" y="787320"/>
            <a:ext cx="4643280" cy="365616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5"/>
          <p:cNvSpPr/>
          <p:nvPr/>
        </p:nvSpPr>
        <p:spPr>
          <a:xfrm>
            <a:off x="4552920" y="922320"/>
            <a:ext cx="40514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Правило 1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Чтобы найти произведение круглых чисел, можно выполнить умножение, не глядя на нули, а затем приписать справа столько нулей, сколько в обоих множителях вместе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3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rebuchet MS"/>
              </a:rPr>
              <a:t>0</a:t>
            </a: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·3=9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rebuchet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D:\__Василий\Математика\3 класс\24\img\математика фон цифры.png"/>
          <p:cNvPicPr/>
          <p:nvPr/>
        </p:nvPicPr>
        <p:blipFill>
          <a:blip r:embed="rId1"/>
          <a:stretch/>
        </p:blipFill>
        <p:spPr>
          <a:xfrm>
            <a:off x="541440" y="52560"/>
            <a:ext cx="8062920" cy="5038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D:\__Василий\Математика\3 класс\24\img\ноль нолик зеро 0 мультяшный [преобразованный].png"/>
          <p:cNvPicPr/>
          <p:nvPr/>
        </p:nvPicPr>
        <p:blipFill>
          <a:blip r:embed="rId2"/>
          <a:stretch/>
        </p:blipFill>
        <p:spPr>
          <a:xfrm>
            <a:off x="468360" y="484200"/>
            <a:ext cx="3743280" cy="4022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D:\ВХОДЯЩИЕ\шаттерсток\картинки\доска7.png"/>
          <p:cNvPicPr/>
          <p:nvPr/>
        </p:nvPicPr>
        <p:blipFill>
          <a:blip r:embed="rId3"/>
          <a:stretch/>
        </p:blipFill>
        <p:spPr>
          <a:xfrm>
            <a:off x="4284720" y="787320"/>
            <a:ext cx="4643280" cy="36561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5"/>
          <p:cNvSpPr/>
          <p:nvPr/>
        </p:nvSpPr>
        <p:spPr>
          <a:xfrm>
            <a:off x="4552920" y="915840"/>
            <a:ext cx="405144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Правило 2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При делении круглых чисел (без остатка) можно сначала отбросить поровну нули в делимом и делителе, а потом продолжать деление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50:5=10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D:\ВХОДЯЩИЕ\шаттерсток\картинки\доска7.png"/>
          <p:cNvPicPr/>
          <p:nvPr/>
        </p:nvPicPr>
        <p:blipFill>
          <a:blip r:embed="rId1"/>
          <a:stretch/>
        </p:blipFill>
        <p:spPr>
          <a:xfrm>
            <a:off x="-22320" y="4680"/>
            <a:ext cx="9166320" cy="50738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8"/>
          <p:cNvSpPr/>
          <p:nvPr/>
        </p:nvSpPr>
        <p:spPr>
          <a:xfrm>
            <a:off x="306360" y="217440"/>
            <a:ext cx="850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Выполните вычислени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Прямоугольник 7"/>
          <p:cNvSpPr/>
          <p:nvPr/>
        </p:nvSpPr>
        <p:spPr>
          <a:xfrm>
            <a:off x="1116000" y="121608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20·3=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Прямоугольник 9"/>
          <p:cNvSpPr/>
          <p:nvPr/>
        </p:nvSpPr>
        <p:spPr>
          <a:xfrm>
            <a:off x="1116000" y="221760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80:8=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Прямоугольник 10"/>
          <p:cNvSpPr/>
          <p:nvPr/>
        </p:nvSpPr>
        <p:spPr>
          <a:xfrm>
            <a:off x="5003640" y="221760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30·3=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Прямоугольник 11"/>
          <p:cNvSpPr/>
          <p:nvPr/>
        </p:nvSpPr>
        <p:spPr>
          <a:xfrm>
            <a:off x="4932360" y="121608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100:5=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D:\ВХОДЯЩИЕ\шаттерсток\картинки\доска7.png"/>
          <p:cNvPicPr/>
          <p:nvPr/>
        </p:nvPicPr>
        <p:blipFill>
          <a:blip r:embed="rId1"/>
          <a:stretch/>
        </p:blipFill>
        <p:spPr>
          <a:xfrm>
            <a:off x="-22320" y="4680"/>
            <a:ext cx="9166320" cy="5073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8"/>
          <p:cNvSpPr/>
          <p:nvPr/>
        </p:nvSpPr>
        <p:spPr>
          <a:xfrm>
            <a:off x="306360" y="217440"/>
            <a:ext cx="850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Проверьте себ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Прямоугольник 7"/>
          <p:cNvSpPr/>
          <p:nvPr/>
        </p:nvSpPr>
        <p:spPr>
          <a:xfrm>
            <a:off x="1116000" y="121608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20·3=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Прямоугольник 9"/>
          <p:cNvSpPr/>
          <p:nvPr/>
        </p:nvSpPr>
        <p:spPr>
          <a:xfrm>
            <a:off x="1116000" y="221760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80:8=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Прямоугольник 10"/>
          <p:cNvSpPr/>
          <p:nvPr/>
        </p:nvSpPr>
        <p:spPr>
          <a:xfrm>
            <a:off x="5003640" y="222264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30·3=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Прямоугольник 11"/>
          <p:cNvSpPr/>
          <p:nvPr/>
        </p:nvSpPr>
        <p:spPr>
          <a:xfrm>
            <a:off x="4932360" y="121608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100:5=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Прямоугольник 12"/>
          <p:cNvSpPr/>
          <p:nvPr/>
        </p:nvSpPr>
        <p:spPr>
          <a:xfrm>
            <a:off x="2381400" y="12160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60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Прямоугольник 13"/>
          <p:cNvSpPr/>
          <p:nvPr/>
        </p:nvSpPr>
        <p:spPr>
          <a:xfrm>
            <a:off x="2365200" y="2217600"/>
            <a:ext cx="10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Прямоугольник 15"/>
          <p:cNvSpPr/>
          <p:nvPr/>
        </p:nvSpPr>
        <p:spPr>
          <a:xfrm>
            <a:off x="6300720" y="223524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90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Прямоугольник 16"/>
          <p:cNvSpPr/>
          <p:nvPr/>
        </p:nvSpPr>
        <p:spPr>
          <a:xfrm>
            <a:off x="6456240" y="1216080"/>
            <a:ext cx="10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D:\__Василий\Математика\3 класс\24\img\яблоки сад колхоз собирать тележка яблоня [преобразованный].png"/>
          <p:cNvPicPr/>
          <p:nvPr/>
        </p:nvPicPr>
        <p:blipFill>
          <a:blip r:embed="rId1"/>
          <a:srcRect l="-1126" t="12187" r="0" b="9884"/>
          <a:stretch/>
        </p:blipFill>
        <p:spPr>
          <a:xfrm>
            <a:off x="-101520" y="0"/>
            <a:ext cx="924552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32" name="Скругленный прямоугольник 5"/>
          <p:cNvGrpSpPr/>
          <p:nvPr/>
        </p:nvGrpSpPr>
        <p:grpSpPr>
          <a:xfrm>
            <a:off x="341280" y="1170000"/>
            <a:ext cx="3206880" cy="3097080"/>
            <a:chOff x="341280" y="1170000"/>
            <a:chExt cx="3206880" cy="3097080"/>
          </a:xfrm>
        </p:grpSpPr>
        <p:pic>
          <p:nvPicPr>
            <p:cNvPr id="133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341280" y="1170000"/>
              <a:ext cx="320688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541440" y="1349280"/>
              <a:ext cx="2805120" cy="26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rebuchet MS"/>
                </a:rPr>
                <a:t>В колхозном саду было 40 яблонь, школьники посадили ещё 5 рядов яблонь по 10 деревьев в каждом. Сколько яблонь стало в колхозном саду?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35" name="Скругленный прямоугольник 6"/>
          <p:cNvGrpSpPr/>
          <p:nvPr/>
        </p:nvGrpSpPr>
        <p:grpSpPr>
          <a:xfrm>
            <a:off x="4962600" y="1743120"/>
            <a:ext cx="2833560" cy="853920"/>
            <a:chOff x="4962600" y="1743120"/>
            <a:chExt cx="2833560" cy="853920"/>
          </a:xfrm>
        </p:grpSpPr>
        <p:pic>
          <p:nvPicPr>
            <p:cNvPr id="13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4962600" y="1743120"/>
              <a:ext cx="28335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048280" y="1809720"/>
              <a:ext cx="26622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rebuchet MS"/>
                </a:rPr>
                <a:t>5·10=50 (яб.)</a:t>
              </a:r>
              <a:endParaRPr b="0" lang="en-US" sz="2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38" name="Скругленный прямоугольник 7"/>
          <p:cNvGrpSpPr/>
          <p:nvPr/>
        </p:nvGrpSpPr>
        <p:grpSpPr>
          <a:xfrm>
            <a:off x="4932360" y="2859120"/>
            <a:ext cx="2889360" cy="853920"/>
            <a:chOff x="4932360" y="2859120"/>
            <a:chExt cx="2889360" cy="853920"/>
          </a:xfrm>
        </p:grpSpPr>
        <p:pic>
          <p:nvPicPr>
            <p:cNvPr id="139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4932360" y="2859120"/>
              <a:ext cx="28893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048280" y="2924280"/>
              <a:ext cx="266220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rebuchet MS"/>
                </a:rPr>
                <a:t>40+50=90 (яб.)</a:t>
              </a:r>
              <a:endParaRPr b="0" lang="en-US" sz="2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D:\__Василий\Математика\3 класс\24\img\математика фон цифры.png"/>
          <p:cNvPicPr/>
          <p:nvPr/>
        </p:nvPicPr>
        <p:blipFill>
          <a:blip r:embed="rId1"/>
          <a:stretch/>
        </p:blipFill>
        <p:spPr>
          <a:xfrm>
            <a:off x="541440" y="52560"/>
            <a:ext cx="8062920" cy="5038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D:\__Василий\Математика\3 класс\24\img\ноль нолик зеро 0 мультяшный [преобразованный].png"/>
          <p:cNvPicPr/>
          <p:nvPr/>
        </p:nvPicPr>
        <p:blipFill>
          <a:blip r:embed="rId2"/>
          <a:stretch/>
        </p:blipFill>
        <p:spPr>
          <a:xfrm>
            <a:off x="468360" y="484200"/>
            <a:ext cx="3743280" cy="4022640"/>
          </a:xfrm>
          <a:prstGeom prst="rect">
            <a:avLst/>
          </a:prstGeom>
          <a:ln w="0">
            <a:noFill/>
          </a:ln>
        </p:spPr>
      </p:pic>
      <p:grpSp>
        <p:nvGrpSpPr>
          <p:cNvPr id="143" name="Скругленная прямоугольная выноска 2"/>
          <p:cNvGrpSpPr/>
          <p:nvPr/>
        </p:nvGrpSpPr>
        <p:grpSpPr>
          <a:xfrm>
            <a:off x="3444840" y="438120"/>
            <a:ext cx="3784680" cy="1549440"/>
            <a:chOff x="3444840" y="438120"/>
            <a:chExt cx="3784680" cy="1549440"/>
          </a:xfrm>
        </p:grpSpPr>
        <p:pic>
          <p:nvPicPr>
            <p:cNvPr id="144" name="Скругленная прямоугольная выноска 2" descr=""/>
            <p:cNvPicPr/>
            <p:nvPr/>
          </p:nvPicPr>
          <p:blipFill>
            <a:blip r:embed="rId3"/>
            <a:stretch/>
          </p:blipFill>
          <p:spPr>
            <a:xfrm>
              <a:off x="3444840" y="438120"/>
              <a:ext cx="378468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3629160" y="520560"/>
              <a:ext cx="3495600" cy="9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rebuchet MS"/>
                </a:rPr>
                <a:t>Вспомните, 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rebuchet MS"/>
                </a:rPr>
                <a:t>что такое уравнение?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D:\__Василий\Математика\3 класс\24\img\математика фон цифры.png"/>
          <p:cNvPicPr/>
          <p:nvPr/>
        </p:nvPicPr>
        <p:blipFill>
          <a:blip r:embed="rId1"/>
          <a:stretch/>
        </p:blipFill>
        <p:spPr>
          <a:xfrm>
            <a:off x="541440" y="52560"/>
            <a:ext cx="8062920" cy="5038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D:\__Василий\Математика\3 класс\24\img\ноль нолик зеро 0 мультяшный [преобразованный].png"/>
          <p:cNvPicPr/>
          <p:nvPr/>
        </p:nvPicPr>
        <p:blipFill>
          <a:blip r:embed="rId2"/>
          <a:stretch/>
        </p:blipFill>
        <p:spPr>
          <a:xfrm>
            <a:off x="468360" y="484200"/>
            <a:ext cx="3743280" cy="4022640"/>
          </a:xfrm>
          <a:prstGeom prst="rect">
            <a:avLst/>
          </a:prstGeom>
          <a:ln w="0">
            <a:noFill/>
          </a:ln>
        </p:spPr>
      </p:pic>
      <p:grpSp>
        <p:nvGrpSpPr>
          <p:cNvPr id="148" name="Скругленная прямоугольная выноска 2"/>
          <p:cNvGrpSpPr/>
          <p:nvPr/>
        </p:nvGrpSpPr>
        <p:grpSpPr>
          <a:xfrm>
            <a:off x="3444840" y="438120"/>
            <a:ext cx="3998880" cy="1549440"/>
            <a:chOff x="3444840" y="438120"/>
            <a:chExt cx="3998880" cy="1549440"/>
          </a:xfrm>
        </p:grpSpPr>
        <p:pic>
          <p:nvPicPr>
            <p:cNvPr id="149" name="Скругленная прямоугольная выноска 2" descr=""/>
            <p:cNvPicPr/>
            <p:nvPr/>
          </p:nvPicPr>
          <p:blipFill>
            <a:blip r:embed="rId3"/>
            <a:stretch/>
          </p:blipFill>
          <p:spPr>
            <a:xfrm>
              <a:off x="3444840" y="438120"/>
              <a:ext cx="399888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629160" y="520560"/>
              <a:ext cx="3625560" cy="9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rebuchet MS"/>
                </a:rPr>
                <a:t>Уравнение — равенство с неизвестным.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__Василий\Математика\3 класс\24\img\математика фон цифры.png"/>
          <p:cNvPicPr/>
          <p:nvPr/>
        </p:nvPicPr>
        <p:blipFill>
          <a:blip r:embed="rId1"/>
          <a:stretch/>
        </p:blipFill>
        <p:spPr>
          <a:xfrm>
            <a:off x="541440" y="52560"/>
            <a:ext cx="8062920" cy="5038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D:\__Василий\Математика\3 класс\24\img\ноль нолик зеро 0 мультяшный [преобразованный].png"/>
          <p:cNvPicPr/>
          <p:nvPr/>
        </p:nvPicPr>
        <p:blipFill>
          <a:blip r:embed="rId2"/>
          <a:stretch/>
        </p:blipFill>
        <p:spPr>
          <a:xfrm>
            <a:off x="2700360" y="560520"/>
            <a:ext cx="3743280" cy="4022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D:\__Василий\Математика\3 класс\24\img\математика фон цифры.png"/>
          <p:cNvPicPr/>
          <p:nvPr/>
        </p:nvPicPr>
        <p:blipFill>
          <a:blip r:embed="rId1"/>
          <a:stretch/>
        </p:blipFill>
        <p:spPr>
          <a:xfrm>
            <a:off x="541440" y="52560"/>
            <a:ext cx="8062920" cy="5038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D:\__Василий\Математика\3 класс\24\img\ноль нолик зеро 0 мультяшный [преобразованный].png"/>
          <p:cNvPicPr/>
          <p:nvPr/>
        </p:nvPicPr>
        <p:blipFill>
          <a:blip r:embed="rId2"/>
          <a:stretch/>
        </p:blipFill>
        <p:spPr>
          <a:xfrm>
            <a:off x="468360" y="484200"/>
            <a:ext cx="3743280" cy="4022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D:\ВХОДЯЩИЕ\шаттерсток\картинки\доска7.png"/>
          <p:cNvPicPr/>
          <p:nvPr/>
        </p:nvPicPr>
        <p:blipFill>
          <a:blip r:embed="rId3"/>
          <a:stretch/>
        </p:blipFill>
        <p:spPr>
          <a:xfrm>
            <a:off x="4560840" y="4680"/>
            <a:ext cx="4583160" cy="507384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7"/>
          <p:cNvSpPr/>
          <p:nvPr/>
        </p:nvSpPr>
        <p:spPr>
          <a:xfrm>
            <a:off x="5951520" y="41112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Х:3=20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Прямая соединительная линия 3"/>
          <p:cNvSpPr/>
          <p:nvPr/>
        </p:nvSpPr>
        <p:spPr>
          <a:xfrm>
            <a:off x="5986440" y="1058760"/>
            <a:ext cx="360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Прямоугольник 14"/>
          <p:cNvSpPr/>
          <p:nvPr/>
        </p:nvSpPr>
        <p:spPr>
          <a:xfrm>
            <a:off x="5940360" y="120348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Х=20·3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Прямоугольник 17"/>
          <p:cNvSpPr/>
          <p:nvPr/>
        </p:nvSpPr>
        <p:spPr>
          <a:xfrm>
            <a:off x="5951520" y="191124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Х=60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Прямоугольник 18"/>
          <p:cNvSpPr/>
          <p:nvPr/>
        </p:nvSpPr>
        <p:spPr>
          <a:xfrm>
            <a:off x="5951520" y="2787480"/>
            <a:ext cx="21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60:3=20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Прямая соединительная линия 19"/>
          <p:cNvSpPr/>
          <p:nvPr/>
        </p:nvSpPr>
        <p:spPr>
          <a:xfrm>
            <a:off x="6059520" y="2676600"/>
            <a:ext cx="10796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Прямоугольник 20"/>
          <p:cNvSpPr/>
          <p:nvPr/>
        </p:nvSpPr>
        <p:spPr>
          <a:xfrm>
            <a:off x="5951520" y="3495600"/>
            <a:ext cx="21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20=20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D:\__Василий\Математика\3 класс\24\img\математика фон цифры.png"/>
          <p:cNvPicPr/>
          <p:nvPr/>
        </p:nvPicPr>
        <p:blipFill>
          <a:blip r:embed="rId1"/>
          <a:stretch/>
        </p:blipFill>
        <p:spPr>
          <a:xfrm>
            <a:off x="541440" y="52560"/>
            <a:ext cx="8062920" cy="5038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D:\__Василий\Математика\3 класс\24\img\ноль нолик зеро 0 мультяшный [преобразованный].png"/>
          <p:cNvPicPr/>
          <p:nvPr/>
        </p:nvPicPr>
        <p:blipFill>
          <a:blip r:embed="rId2"/>
          <a:stretch/>
        </p:blipFill>
        <p:spPr>
          <a:xfrm>
            <a:off x="468360" y="484200"/>
            <a:ext cx="3743280" cy="4022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D:\ВХОДЯЩИЕ\шаттерсток\картинки\доска7.png"/>
          <p:cNvPicPr/>
          <p:nvPr/>
        </p:nvPicPr>
        <p:blipFill>
          <a:blip r:embed="rId3"/>
          <a:stretch/>
        </p:blipFill>
        <p:spPr>
          <a:xfrm>
            <a:off x="4560840" y="4680"/>
            <a:ext cx="4583160" cy="507384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4"/>
          <p:cNvSpPr/>
          <p:nvPr/>
        </p:nvSpPr>
        <p:spPr>
          <a:xfrm>
            <a:off x="4788000" y="474840"/>
            <a:ext cx="403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Если число умножить на 10, то оно оканчивается цифрой 0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Если число 5 умножить на 100, то в записи числа будет один 0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Если число круглое, то оно оканчивается 0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Если 20 умножить на 2, то получится 40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D:\Окружающий мир 1 класс\презентации\38 появление жизни на земле\небо.png"/>
          <p:cNvPicPr/>
          <p:nvPr/>
        </p:nvPicPr>
        <p:blipFill>
          <a:blip r:embed="rId1"/>
          <a:srcRect l="34705" t="38594" r="34920" b="50775"/>
          <a:stretch/>
        </p:blipFill>
        <p:spPr>
          <a:xfrm>
            <a:off x="-88920" y="0"/>
            <a:ext cx="9232920" cy="5143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D:\Окружающий мир 1 класс\презентации\38 появление жизни на земле\облачко.png"/>
          <p:cNvPicPr/>
          <p:nvPr/>
        </p:nvPicPr>
        <p:blipFill>
          <a:blip r:embed="rId2"/>
          <a:stretch/>
        </p:blipFill>
        <p:spPr>
          <a:xfrm>
            <a:off x="395280" y="276120"/>
            <a:ext cx="1909800" cy="1138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D:\Окружающий мир 1 класс\презентации\38 появление жизни на земле\облачко.png"/>
          <p:cNvPicPr/>
          <p:nvPr/>
        </p:nvPicPr>
        <p:blipFill>
          <a:blip r:embed="rId3"/>
          <a:stretch/>
        </p:blipFill>
        <p:spPr>
          <a:xfrm>
            <a:off x="7000920" y="276120"/>
            <a:ext cx="1911240" cy="1138320"/>
          </a:xfrm>
          <a:prstGeom prst="rect">
            <a:avLst/>
          </a:prstGeom>
          <a:ln w="0">
            <a:noFill/>
          </a:ln>
        </p:spPr>
      </p:pic>
      <p:sp>
        <p:nvSpPr>
          <p:cNvPr id="168" name="Овал 1"/>
          <p:cNvSpPr/>
          <p:nvPr/>
        </p:nvSpPr>
        <p:spPr>
          <a:xfrm>
            <a:off x="3276720" y="1281240"/>
            <a:ext cx="2590560" cy="2581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69" name="Группа 22"/>
          <p:cNvGrpSpPr/>
          <p:nvPr/>
        </p:nvGrpSpPr>
        <p:grpSpPr>
          <a:xfrm>
            <a:off x="2195280" y="123840"/>
            <a:ext cx="4897440" cy="4896000"/>
            <a:chOff x="2195280" y="123840"/>
            <a:chExt cx="4897440" cy="4896000"/>
          </a:xfrm>
        </p:grpSpPr>
        <p:grpSp>
          <p:nvGrpSpPr>
            <p:cNvPr id="170" name="Группа 18"/>
            <p:cNvGrpSpPr/>
            <p:nvPr/>
          </p:nvGrpSpPr>
          <p:grpSpPr>
            <a:xfrm>
              <a:off x="2195280" y="2598840"/>
              <a:ext cx="4897440" cy="360"/>
              <a:chOff x="2195280" y="2598840"/>
              <a:chExt cx="4897440" cy="360"/>
            </a:xfrm>
          </p:grpSpPr>
          <p:sp>
            <p:nvSpPr>
              <p:cNvPr id="171" name="Прямая соединительная линия 8"/>
              <p:cNvSpPr/>
              <p:nvPr/>
            </p:nvSpPr>
            <p:spPr>
              <a:xfrm flipH="1">
                <a:off x="2195280" y="2598840"/>
                <a:ext cx="1008360" cy="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72" name="Прямая соединительная линия 12"/>
              <p:cNvSpPr/>
              <p:nvPr/>
            </p:nvSpPr>
            <p:spPr>
              <a:xfrm flipH="1">
                <a:off x="6084360" y="2599200"/>
                <a:ext cx="1008360" cy="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173" name="Группа 19"/>
            <p:cNvGrpSpPr/>
            <p:nvPr/>
          </p:nvGrpSpPr>
          <p:grpSpPr>
            <a:xfrm>
              <a:off x="4572000" y="123840"/>
              <a:ext cx="360" cy="4896000"/>
              <a:chOff x="4572000" y="123840"/>
              <a:chExt cx="360" cy="4896000"/>
            </a:xfrm>
          </p:grpSpPr>
          <p:sp>
            <p:nvSpPr>
              <p:cNvPr id="174" name="Прямая соединительная линия 20"/>
              <p:cNvSpPr/>
              <p:nvPr/>
            </p:nvSpPr>
            <p:spPr>
              <a:xfrm flipV="1">
                <a:off x="4572360" y="123840"/>
                <a:ext cx="0" cy="10080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75" name="Прямая соединительная линия 21"/>
              <p:cNvSpPr/>
              <p:nvPr/>
            </p:nvSpPr>
            <p:spPr>
              <a:xfrm flipV="1">
                <a:off x="4572000" y="4011840"/>
                <a:ext cx="0" cy="10080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176" name="Группа 23"/>
          <p:cNvGrpSpPr/>
          <p:nvPr/>
        </p:nvGrpSpPr>
        <p:grpSpPr>
          <a:xfrm>
            <a:off x="2428560" y="337320"/>
            <a:ext cx="4407480" cy="4406040"/>
            <a:chOff x="2428560" y="337320"/>
            <a:chExt cx="4407480" cy="4406040"/>
          </a:xfrm>
        </p:grpSpPr>
        <p:grpSp>
          <p:nvGrpSpPr>
            <p:cNvPr id="177" name="Группа 24"/>
            <p:cNvGrpSpPr/>
            <p:nvPr/>
          </p:nvGrpSpPr>
          <p:grpSpPr>
            <a:xfrm>
              <a:off x="2428560" y="1528560"/>
              <a:ext cx="4407480" cy="2135160"/>
              <a:chOff x="2428560" y="1528560"/>
              <a:chExt cx="4407480" cy="2135160"/>
            </a:xfrm>
          </p:grpSpPr>
          <p:sp>
            <p:nvSpPr>
              <p:cNvPr id="178" name="Прямая соединительная линия 28"/>
              <p:cNvSpPr/>
              <p:nvPr/>
            </p:nvSpPr>
            <p:spPr>
              <a:xfrm flipH="1" flipV="1">
                <a:off x="2428560" y="1528560"/>
                <a:ext cx="907200" cy="43956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79" name="Прямая соединительная линия 29"/>
              <p:cNvSpPr/>
              <p:nvPr/>
            </p:nvSpPr>
            <p:spPr>
              <a:xfrm flipH="1" flipV="1">
                <a:off x="5928480" y="3224160"/>
                <a:ext cx="907560" cy="43956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180" name="Группа 25"/>
            <p:cNvGrpSpPr/>
            <p:nvPr/>
          </p:nvGrpSpPr>
          <p:grpSpPr>
            <a:xfrm>
              <a:off x="3512160" y="337320"/>
              <a:ext cx="2134440" cy="4406040"/>
              <a:chOff x="3512160" y="337320"/>
              <a:chExt cx="2134440" cy="4406040"/>
            </a:xfrm>
          </p:grpSpPr>
          <p:sp>
            <p:nvSpPr>
              <p:cNvPr id="181" name="Прямая соединительная линия 26"/>
              <p:cNvSpPr/>
              <p:nvPr/>
            </p:nvSpPr>
            <p:spPr>
              <a:xfrm flipV="1">
                <a:off x="5207040" y="337320"/>
                <a:ext cx="439560" cy="9072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82" name="Прямая соединительная линия 27"/>
              <p:cNvSpPr/>
              <p:nvPr/>
            </p:nvSpPr>
            <p:spPr>
              <a:xfrm flipV="1">
                <a:off x="3512160" y="3836160"/>
                <a:ext cx="439560" cy="9072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183" name="Группа 30"/>
          <p:cNvGrpSpPr/>
          <p:nvPr/>
        </p:nvGrpSpPr>
        <p:grpSpPr>
          <a:xfrm>
            <a:off x="2469600" y="470160"/>
            <a:ext cx="4230720" cy="4231080"/>
            <a:chOff x="2469600" y="470160"/>
            <a:chExt cx="4230720" cy="4231080"/>
          </a:xfrm>
        </p:grpSpPr>
        <p:grpSp>
          <p:nvGrpSpPr>
            <p:cNvPr id="184" name="Группа 31"/>
            <p:cNvGrpSpPr/>
            <p:nvPr/>
          </p:nvGrpSpPr>
          <p:grpSpPr>
            <a:xfrm>
              <a:off x="3365640" y="470160"/>
              <a:ext cx="2463120" cy="4231080"/>
              <a:chOff x="3365640" y="470160"/>
              <a:chExt cx="2463120" cy="4231080"/>
            </a:xfrm>
          </p:grpSpPr>
          <p:sp>
            <p:nvSpPr>
              <p:cNvPr id="185" name="Прямая соединительная линия 35"/>
              <p:cNvSpPr/>
              <p:nvPr/>
            </p:nvSpPr>
            <p:spPr>
              <a:xfrm flipH="1" flipV="1">
                <a:off x="3365640" y="470160"/>
                <a:ext cx="507240" cy="87084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86" name="Прямая соединительная линия 36"/>
              <p:cNvSpPr/>
              <p:nvPr/>
            </p:nvSpPr>
            <p:spPr>
              <a:xfrm flipH="1" flipV="1">
                <a:off x="5321520" y="3830040"/>
                <a:ext cx="507240" cy="8712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187" name="Группа 32"/>
            <p:cNvGrpSpPr/>
            <p:nvPr/>
          </p:nvGrpSpPr>
          <p:grpSpPr>
            <a:xfrm>
              <a:off x="2469600" y="1278000"/>
              <a:ext cx="4230720" cy="2462760"/>
              <a:chOff x="2469600" y="1278000"/>
              <a:chExt cx="4230720" cy="2462760"/>
            </a:xfrm>
          </p:grpSpPr>
          <p:sp>
            <p:nvSpPr>
              <p:cNvPr id="188" name="Прямая соединительная линия 33"/>
              <p:cNvSpPr/>
              <p:nvPr/>
            </p:nvSpPr>
            <p:spPr>
              <a:xfrm flipV="1">
                <a:off x="5829480" y="1278000"/>
                <a:ext cx="870840" cy="50688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89" name="Прямая соединительная линия 34"/>
              <p:cNvSpPr/>
              <p:nvPr/>
            </p:nvSpPr>
            <p:spPr>
              <a:xfrm flipV="1">
                <a:off x="2469600" y="3233520"/>
                <a:ext cx="870840" cy="50724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sp>
        <p:nvSpPr>
          <p:cNvPr id="190" name="Овал 37"/>
          <p:cNvSpPr/>
          <p:nvPr/>
        </p:nvSpPr>
        <p:spPr>
          <a:xfrm>
            <a:off x="3924360" y="2066760"/>
            <a:ext cx="287280" cy="289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Овал 38"/>
          <p:cNvSpPr/>
          <p:nvPr/>
        </p:nvSpPr>
        <p:spPr>
          <a:xfrm>
            <a:off x="4932360" y="2066760"/>
            <a:ext cx="287280" cy="289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Полилиния 39"/>
          <p:cNvSpPr/>
          <p:nvPr/>
        </p:nvSpPr>
        <p:spPr>
          <a:xfrm>
            <a:off x="3889440" y="2859120"/>
            <a:ext cx="1353960" cy="569880"/>
          </a:xfrm>
          <a:custGeom>
            <a:avLst/>
            <a:gdLst/>
            <a:ahLst/>
            <a:rect l="l" t="t" r="r" b="b"/>
            <a:pathLst>
              <a:path w="1381158" h="516781">
                <a:moveTo>
                  <a:pt x="0" y="0"/>
                </a:moveTo>
                <a:cubicBezTo>
                  <a:pt x="16853" y="342101"/>
                  <a:pt x="283432" y="513004"/>
                  <a:pt x="719616" y="516740"/>
                </a:cubicBezTo>
                <a:cubicBezTo>
                  <a:pt x="1155800" y="520476"/>
                  <a:pt x="1428891" y="272236"/>
                  <a:pt x="1374220" y="22425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D:\Окружающий мир 1 класс\презентации\38 появление жизни на земле\небо.png"/>
          <p:cNvPicPr/>
          <p:nvPr/>
        </p:nvPicPr>
        <p:blipFill>
          <a:blip r:embed="rId1"/>
          <a:srcRect l="34705" t="38594" r="34920" b="50775"/>
          <a:stretch/>
        </p:blipFill>
        <p:spPr>
          <a:xfrm>
            <a:off x="-88920" y="0"/>
            <a:ext cx="9232920" cy="5143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D:\Окружающий мир 1 класс\презентации\38 появление жизни на земле\облачко.png"/>
          <p:cNvPicPr/>
          <p:nvPr/>
        </p:nvPicPr>
        <p:blipFill>
          <a:blip r:embed="rId2"/>
          <a:stretch/>
        </p:blipFill>
        <p:spPr>
          <a:xfrm>
            <a:off x="395280" y="276120"/>
            <a:ext cx="1909800" cy="1138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D:\Окружающий мир 1 класс\презентации\38 появление жизни на земле\облачко.png"/>
          <p:cNvPicPr/>
          <p:nvPr/>
        </p:nvPicPr>
        <p:blipFill>
          <a:blip r:embed="rId3"/>
          <a:stretch/>
        </p:blipFill>
        <p:spPr>
          <a:xfrm>
            <a:off x="7000920" y="276120"/>
            <a:ext cx="1911240" cy="1138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D:\Окружающий мир 1 класс\презентации\38 появление жизни на земле\облачко.png"/>
          <p:cNvPicPr/>
          <p:nvPr/>
        </p:nvPicPr>
        <p:blipFill>
          <a:blip r:embed="rId4"/>
          <a:stretch/>
        </p:blipFill>
        <p:spPr>
          <a:xfrm>
            <a:off x="2682720" y="1474920"/>
            <a:ext cx="3687840" cy="219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D:\__Василий\Математика\3 класс\24\img\математика фон цифры.png"/>
          <p:cNvPicPr/>
          <p:nvPr/>
        </p:nvPicPr>
        <p:blipFill>
          <a:blip r:embed="rId1"/>
          <a:stretch/>
        </p:blipFill>
        <p:spPr>
          <a:xfrm>
            <a:off x="541440" y="52560"/>
            <a:ext cx="8062920" cy="5038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D:\__Василий\Математика\3 класс\24\img\ноль нолик зеро 0 мультяшный_прощание.png"/>
          <p:cNvPicPr/>
          <p:nvPr/>
        </p:nvPicPr>
        <p:blipFill>
          <a:blip r:embed="rId2"/>
          <a:stretch/>
        </p:blipFill>
        <p:spPr>
          <a:xfrm>
            <a:off x="2411280" y="272880"/>
            <a:ext cx="4464360" cy="4596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7" descr=""/>
          <p:cNvPicPr/>
          <p:nvPr/>
        </p:nvPicPr>
        <p:blipFill>
          <a:blip r:embed="rId1"/>
          <a:srcRect l="16419" t="31980" r="17124" b="25543"/>
          <a:stretch/>
        </p:blipFill>
        <p:spPr>
          <a:xfrm>
            <a:off x="912960" y="500040"/>
            <a:ext cx="6443640" cy="352728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1776240" y="843120"/>
            <a:ext cx="4596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Сегодня мы будем работать с круглыми числами, учиться их делить и умножать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8" name="Рисунок 6" descr=""/>
          <p:cNvPicPr/>
          <p:nvPr/>
        </p:nvPicPr>
        <p:blipFill>
          <a:blip r:embed="rId2"/>
          <a:stretch/>
        </p:blipFill>
        <p:spPr>
          <a:xfrm>
            <a:off x="6227640" y="987480"/>
            <a:ext cx="31212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ВХОДЯЩИЕ\шаттерсток\картинки\доска7.png"/>
          <p:cNvPicPr/>
          <p:nvPr/>
        </p:nvPicPr>
        <p:blipFill>
          <a:blip r:embed="rId1"/>
          <a:stretch/>
        </p:blipFill>
        <p:spPr>
          <a:xfrm>
            <a:off x="-22320" y="4680"/>
            <a:ext cx="9166320" cy="50738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1116000" y="121608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3·8-18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1170000" y="229536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74-6·4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1192320" y="3435480"/>
            <a:ext cx="309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9·2+11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4788000" y="1203480"/>
            <a:ext cx="286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83-7·6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Прямоугольник 7"/>
          <p:cNvSpPr/>
          <p:nvPr/>
        </p:nvSpPr>
        <p:spPr>
          <a:xfrm>
            <a:off x="4788000" y="229536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50+45:5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306360" y="217440"/>
            <a:ext cx="850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Решите числовые выражения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Запишите только те выражения, где в ответе получается круглое число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2599560" y="2308320"/>
            <a:ext cx="104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=50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Прямая соединительная линия 11"/>
          <p:cNvSpPr/>
          <p:nvPr/>
        </p:nvSpPr>
        <p:spPr>
          <a:xfrm>
            <a:off x="1192320" y="2990880"/>
            <a:ext cx="2371680" cy="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:\ВХОДЯЩИЕ\шаттерсток\картинки\доска7.png"/>
          <p:cNvPicPr/>
          <p:nvPr/>
        </p:nvPicPr>
        <p:blipFill>
          <a:blip r:embed="rId1"/>
          <a:stretch/>
        </p:blipFill>
        <p:spPr>
          <a:xfrm>
            <a:off x="-22320" y="4680"/>
            <a:ext cx="9166320" cy="50738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3"/>
          <p:cNvSpPr/>
          <p:nvPr/>
        </p:nvSpPr>
        <p:spPr>
          <a:xfrm>
            <a:off x="2257560" y="183816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58, 50, 27, 42, 4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306360" y="217440"/>
            <a:ext cx="850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Расставьте числа в порядке убывани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D:\ВХОДЯЩИЕ\шаттерсток\картинки\доска7.png"/>
          <p:cNvPicPr/>
          <p:nvPr/>
        </p:nvPicPr>
        <p:blipFill>
          <a:blip r:embed="rId1"/>
          <a:stretch/>
        </p:blipFill>
        <p:spPr>
          <a:xfrm>
            <a:off x="-22320" y="4680"/>
            <a:ext cx="9166320" cy="507384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2257560" y="183816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58, 50, 42, 27, 4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306360" y="217440"/>
            <a:ext cx="850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Проверьте себ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D:\__Василий\Математика\3 класс\24\img\стол дерево [преобразованный].png"/>
          <p:cNvPicPr/>
          <p:nvPr/>
        </p:nvPicPr>
        <p:blipFill>
          <a:blip r:embed="rId1"/>
          <a:stretch/>
        </p:blipFill>
        <p:spPr>
          <a:xfrm>
            <a:off x="2484360" y="2287440"/>
            <a:ext cx="4319640" cy="2686320"/>
          </a:xfrm>
          <a:prstGeom prst="rect">
            <a:avLst/>
          </a:prstGeom>
          <a:ln w="0">
            <a:noFill/>
          </a:ln>
        </p:spPr>
      </p:pic>
      <p:grpSp>
        <p:nvGrpSpPr>
          <p:cNvPr id="65" name="Скругленный прямоугольник 10"/>
          <p:cNvGrpSpPr/>
          <p:nvPr/>
        </p:nvGrpSpPr>
        <p:grpSpPr>
          <a:xfrm>
            <a:off x="195120" y="420840"/>
            <a:ext cx="3859200" cy="1560240"/>
            <a:chOff x="195120" y="420840"/>
            <a:chExt cx="3859200" cy="1560240"/>
          </a:xfrm>
        </p:grpSpPr>
        <p:pic>
          <p:nvPicPr>
            <p:cNvPr id="66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195120" y="420840"/>
              <a:ext cx="3859200" cy="15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20760" y="517680"/>
              <a:ext cx="3606840" cy="12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rebuchet MS"/>
                </a:rPr>
                <a:t>У стола 4 ножки,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rebuchet MS"/>
                </a:rPr>
                <a:t>А вопрос таков: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rebuchet MS"/>
                </a:rPr>
                <a:t>Сколько вместе будет ножек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rebuchet MS"/>
                </a:rPr>
                <a:t>У 10 таких столов?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68" name="Picture 3" descr="D:\ВХОДЯЩИЕ\шаттерсток\профессии\вопрос.png"/>
          <p:cNvPicPr/>
          <p:nvPr/>
        </p:nvPicPr>
        <p:blipFill>
          <a:blip r:embed="rId3"/>
          <a:stretch/>
        </p:blipFill>
        <p:spPr>
          <a:xfrm>
            <a:off x="6372360" y="119160"/>
            <a:ext cx="1439640" cy="2452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Скругленный прямоугольник 11"/>
          <p:cNvGrpSpPr/>
          <p:nvPr/>
        </p:nvGrpSpPr>
        <p:grpSpPr>
          <a:xfrm>
            <a:off x="5016600" y="420840"/>
            <a:ext cx="3365280" cy="718920"/>
            <a:chOff x="5016600" y="420840"/>
            <a:chExt cx="3365280" cy="718920"/>
          </a:xfrm>
        </p:grpSpPr>
        <p:pic>
          <p:nvPicPr>
            <p:cNvPr id="70" name="Скругленный прямоугольник 11" descr=""/>
            <p:cNvPicPr/>
            <p:nvPr/>
          </p:nvPicPr>
          <p:blipFill>
            <a:blip r:embed="rId1"/>
            <a:stretch/>
          </p:blipFill>
          <p:spPr>
            <a:xfrm>
              <a:off x="5016600" y="420840"/>
              <a:ext cx="33652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105520" y="477720"/>
              <a:ext cx="318132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rebuchet MS"/>
                </a:rPr>
                <a:t>4+4+4+4+4+4+4+4+4+4=40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72" name="Скругленный прямоугольник 12"/>
          <p:cNvGrpSpPr/>
          <p:nvPr/>
        </p:nvGrpSpPr>
        <p:grpSpPr>
          <a:xfrm>
            <a:off x="5956200" y="1206360"/>
            <a:ext cx="1481400" cy="725760"/>
            <a:chOff x="5956200" y="1206360"/>
            <a:chExt cx="1481400" cy="725760"/>
          </a:xfrm>
        </p:grpSpPr>
        <p:pic>
          <p:nvPicPr>
            <p:cNvPr id="73" name="Скругленный 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5956200" y="1206360"/>
              <a:ext cx="148140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6041880" y="1268280"/>
              <a:ext cx="130824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rebuchet MS"/>
                </a:rPr>
                <a:t>4·10=40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75" name="Picture 2" descr="D:\__Василий\Математика\3 класс\24\img\стол дерево [преобразованный].png"/>
          <p:cNvPicPr/>
          <p:nvPr/>
        </p:nvPicPr>
        <p:blipFill>
          <a:blip r:embed="rId3"/>
          <a:stretch/>
        </p:blipFill>
        <p:spPr>
          <a:xfrm>
            <a:off x="2484360" y="2287440"/>
            <a:ext cx="4319640" cy="2686320"/>
          </a:xfrm>
          <a:prstGeom prst="rect">
            <a:avLst/>
          </a:prstGeom>
          <a:ln w="0">
            <a:noFill/>
          </a:ln>
        </p:spPr>
      </p:pic>
      <p:grpSp>
        <p:nvGrpSpPr>
          <p:cNvPr id="76" name="Скругленный прямоугольник 5"/>
          <p:cNvGrpSpPr/>
          <p:nvPr/>
        </p:nvGrpSpPr>
        <p:grpSpPr>
          <a:xfrm>
            <a:off x="195120" y="420840"/>
            <a:ext cx="3859200" cy="1560240"/>
            <a:chOff x="195120" y="420840"/>
            <a:chExt cx="3859200" cy="1560240"/>
          </a:xfrm>
        </p:grpSpPr>
        <p:pic>
          <p:nvPicPr>
            <p:cNvPr id="77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95120" y="420840"/>
              <a:ext cx="3859200" cy="15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320760" y="517680"/>
              <a:ext cx="3606840" cy="12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rebuchet MS"/>
                </a:rPr>
                <a:t>У стола 4 ножки,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rebuchet MS"/>
                </a:rPr>
                <a:t>А вопрос таков: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rebuchet MS"/>
                </a:rPr>
                <a:t>Сколько вместе будет ножек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rebuchet MS"/>
                </a:rPr>
                <a:t>У 10 таких столов?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p:transition spd="med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D:\ВХОДЯЩИЕ\шаттерсток\картинки\доска7.png"/>
          <p:cNvPicPr/>
          <p:nvPr/>
        </p:nvPicPr>
        <p:blipFill>
          <a:blip r:embed="rId1"/>
          <a:stretch/>
        </p:blipFill>
        <p:spPr>
          <a:xfrm>
            <a:off x="-22320" y="4680"/>
            <a:ext cx="9166320" cy="507384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3"/>
          <p:cNvSpPr/>
          <p:nvPr/>
        </p:nvSpPr>
        <p:spPr>
          <a:xfrm>
            <a:off x="1619280" y="1574640"/>
            <a:ext cx="12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40∙2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306360" y="217440"/>
            <a:ext cx="850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Запишите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82" name="Группа 15"/>
          <p:cNvGrpSpPr/>
          <p:nvPr/>
        </p:nvGrpSpPr>
        <p:grpSpPr>
          <a:xfrm>
            <a:off x="1726920" y="2255760"/>
            <a:ext cx="432000" cy="250920"/>
            <a:chOff x="1726920" y="2255760"/>
            <a:chExt cx="432000" cy="250920"/>
          </a:xfrm>
        </p:grpSpPr>
        <p:sp>
          <p:nvSpPr>
            <p:cNvPr id="83" name="Прямая соединительная линия 4"/>
            <p:cNvSpPr/>
            <p:nvPr/>
          </p:nvSpPr>
          <p:spPr>
            <a:xfrm flipH="1">
              <a:off x="1726920" y="2266560"/>
              <a:ext cx="215640" cy="240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4" name="Прямая соединительная линия 6"/>
            <p:cNvSpPr/>
            <p:nvPr/>
          </p:nvSpPr>
          <p:spPr>
            <a:xfrm>
              <a:off x="1926720" y="2255760"/>
              <a:ext cx="232200" cy="250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85" name="Прямоугольник 16"/>
          <p:cNvSpPr/>
          <p:nvPr/>
        </p:nvSpPr>
        <p:spPr>
          <a:xfrm>
            <a:off x="1403280" y="2481120"/>
            <a:ext cx="13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(4·10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Прямоугольник 17"/>
          <p:cNvSpPr/>
          <p:nvPr/>
        </p:nvSpPr>
        <p:spPr>
          <a:xfrm>
            <a:off x="2627280" y="1574640"/>
            <a:ext cx="273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=(4∙10)∙2=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Прямоугольник 21"/>
          <p:cNvSpPr/>
          <p:nvPr/>
        </p:nvSpPr>
        <p:spPr>
          <a:xfrm>
            <a:off x="4994280" y="157464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4∙2∙10=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88" name="Группа 22"/>
          <p:cNvGrpSpPr/>
          <p:nvPr/>
        </p:nvGrpSpPr>
        <p:grpSpPr>
          <a:xfrm>
            <a:off x="5219640" y="2184120"/>
            <a:ext cx="432000" cy="196920"/>
            <a:chOff x="5219640" y="2184120"/>
            <a:chExt cx="432000" cy="196920"/>
          </a:xfrm>
        </p:grpSpPr>
        <p:sp>
          <p:nvSpPr>
            <p:cNvPr id="89" name="Прямая соединительная линия 23"/>
            <p:cNvSpPr/>
            <p:nvPr/>
          </p:nvSpPr>
          <p:spPr>
            <a:xfrm flipH="1" flipV="1">
              <a:off x="5219640" y="2184120"/>
              <a:ext cx="216000" cy="188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0" name="Прямая соединительная линия 24"/>
            <p:cNvSpPr/>
            <p:nvPr/>
          </p:nvSpPr>
          <p:spPr>
            <a:xfrm flipV="1">
              <a:off x="5419080" y="2184120"/>
              <a:ext cx="232560" cy="196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1" name="Прямоугольник 25"/>
          <p:cNvSpPr/>
          <p:nvPr/>
        </p:nvSpPr>
        <p:spPr>
          <a:xfrm>
            <a:off x="5264280" y="2368440"/>
            <a:ext cx="31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Прямоугольник 26"/>
          <p:cNvSpPr/>
          <p:nvPr/>
        </p:nvSpPr>
        <p:spPr>
          <a:xfrm>
            <a:off x="6732720" y="1574640"/>
            <a:ext cx="71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80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3T06:35:09Z</dcterms:created>
  <dc:creator>Пользователь</dc:creator>
  <dc:description/>
  <dc:language>en-US</dc:language>
  <cp:lastModifiedBy>Пользователь</cp:lastModifiedBy>
  <dcterms:modified xsi:type="dcterms:W3CDTF">2014-12-09T12:59:55Z</dcterms:modified>
  <cp:revision>97</cp:revision>
  <dc:subject/>
  <dc:title>Презентация PowerPoint</dc:title>
</cp:coreProperties>
</file>