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77B-AD58-4E05-A348-7DFB471D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535-03A9-48FF-BB41-6DF4F9B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F11-EE40-4B89-B96D-053A0F94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9A0-F253-4311-B64F-3E422A59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EB4-ADF8-484A-B4D9-EFCDDC07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B92-22A7-4D38-9C76-0B462F6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8915-334F-48C0-9838-25391AAB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890-2873-471B-8878-DEDDDB0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A5D-FF52-4330-8BF9-1F2DE914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1EC-AC2C-4FA8-9392-B159888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706-87F6-405B-983A-9B9E5B8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DD7-3DC8-4D0E-98B3-5E31575E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BD2B-BB34-42A2-994E-E421F6A83A22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rcRect l="16419" t="31980" r="17124" b="25543"/>
          <a:stretch/>
        </p:blipFill>
        <p:spPr>
          <a:xfrm>
            <a:off x="912960" y="500040"/>
            <a:ext cx="6443640" cy="3527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342160" y="771480"/>
            <a:ext cx="408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Добрый день, ребята!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им посадк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ожки — на месте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Ручки — на мест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Локти — у края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Спинка — пряма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6227640" y="987480"/>
            <a:ext cx="3121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1403280" y="186372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∙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Можно рассуждать так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2411280" y="186372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4 дес. ∙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Прямоугольник 26"/>
          <p:cNvSpPr/>
          <p:nvPr/>
        </p:nvSpPr>
        <p:spPr>
          <a:xfrm>
            <a:off x="5065560" y="1857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 дес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Прямоугольник 18"/>
          <p:cNvSpPr/>
          <p:nvPr/>
        </p:nvSpPr>
        <p:spPr>
          <a:xfrm>
            <a:off x="6507000" y="1857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8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осмотрите и запишит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Прямоугольник 18"/>
          <p:cNvSpPr/>
          <p:nvPr/>
        </p:nvSpPr>
        <p:spPr>
          <a:xfrm>
            <a:off x="1403280" y="186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: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Прямоугольник 19"/>
          <p:cNvSpPr/>
          <p:nvPr/>
        </p:nvSpPr>
        <p:spPr>
          <a:xfrm>
            <a:off x="2411280" y="1863720"/>
            <a:ext cx="30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дес.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5065560" y="186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 дес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Прямоугольник 27"/>
          <p:cNvSpPr/>
          <p:nvPr/>
        </p:nvSpPr>
        <p:spPr>
          <a:xfrm>
            <a:off x="6507000" y="186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2700360" y="560520"/>
            <a:ext cx="37432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284720" y="787320"/>
            <a:ext cx="4643280" cy="3656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4552920" y="922320"/>
            <a:ext cx="4051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авило 1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тобы найти произведение круглых чисел, можно выполнить умножение, не глядя на нули, а затем приписать справа столько нулей, сколько в обоих множителях вмест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3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rebuchet MS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·3=9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284720" y="787320"/>
            <a:ext cx="4643280" cy="36561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4552920" y="915840"/>
            <a:ext cx="405144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авило 2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 делении круглых чисел (без остатка) можно сначала отбросить поровну нули в делимом и делителе, а потом продолжать делени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50:5=1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Выполните вычис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1116000" y="121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·3=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116000" y="2217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:8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5003640" y="22176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0·3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4932360" y="1216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0:5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ьте себ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116000" y="12160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·3=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1116000" y="2217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:8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5003640" y="2222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0·3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4932360" y="1216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0:5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381400" y="1216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2365200" y="221760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6300720" y="223524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Прямоугольник 16"/>
          <p:cNvSpPr/>
          <p:nvPr/>
        </p:nvSpPr>
        <p:spPr>
          <a:xfrm>
            <a:off x="6456240" y="12160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D:\__Василий\Математика\3 класс\24\img\яблоки сад колхоз собирать тележка яблоня [преобразованный].png"/>
          <p:cNvPicPr/>
          <p:nvPr/>
        </p:nvPicPr>
        <p:blipFill>
          <a:blip r:embed="rId1"/>
          <a:srcRect l="-1126" t="12187" r="0" b="9884"/>
          <a:stretch/>
        </p:blipFill>
        <p:spPr>
          <a:xfrm>
            <a:off x="-101520" y="0"/>
            <a:ext cx="92455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2" name="Скругленный прямоугольник 5"/>
          <p:cNvGrpSpPr/>
          <p:nvPr/>
        </p:nvGrpSpPr>
        <p:grpSpPr>
          <a:xfrm>
            <a:off x="341280" y="1170000"/>
            <a:ext cx="3206880" cy="3097080"/>
            <a:chOff x="341280" y="1170000"/>
            <a:chExt cx="3206880" cy="3097080"/>
          </a:xfrm>
        </p:grpSpPr>
        <p:pic>
          <p:nvPicPr>
            <p:cNvPr id="13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41280" y="1170000"/>
              <a:ext cx="3206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1440" y="1349280"/>
              <a:ext cx="2805120" cy="26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В колхозном саду было 40 яблонь, школьники посадили ещё 5 рядов яблонь по 10 деревьев в каждом. Сколько яблонь стало в колхозном саду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5" name="Скругленный прямоугольник 6"/>
          <p:cNvGrpSpPr/>
          <p:nvPr/>
        </p:nvGrpSpPr>
        <p:grpSpPr>
          <a:xfrm>
            <a:off x="4962600" y="1743120"/>
            <a:ext cx="2833560" cy="853920"/>
            <a:chOff x="4962600" y="1743120"/>
            <a:chExt cx="2833560" cy="853920"/>
          </a:xfrm>
        </p:grpSpPr>
        <p:pic>
          <p:nvPicPr>
            <p:cNvPr id="13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962600" y="1743120"/>
              <a:ext cx="2833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48280" y="1809720"/>
              <a:ext cx="26622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rebuchet MS"/>
                </a:rPr>
                <a:t>5·10=50 (яб.)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8" name="Скругленный прямоугольник 7"/>
          <p:cNvGrpSpPr/>
          <p:nvPr/>
        </p:nvGrpSpPr>
        <p:grpSpPr>
          <a:xfrm>
            <a:off x="4932360" y="2859120"/>
            <a:ext cx="2889360" cy="853920"/>
            <a:chOff x="4932360" y="2859120"/>
            <a:chExt cx="2889360" cy="853920"/>
          </a:xfrm>
        </p:grpSpPr>
        <p:pic>
          <p:nvPicPr>
            <p:cNvPr id="13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4932360" y="2859120"/>
              <a:ext cx="2889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48280" y="2924280"/>
              <a:ext cx="266220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rebuchet MS"/>
                </a:rPr>
                <a:t>40+50=90 (яб.)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43" name="Скругленная прямоугольная выноска 2"/>
          <p:cNvGrpSpPr/>
          <p:nvPr/>
        </p:nvGrpSpPr>
        <p:grpSpPr>
          <a:xfrm>
            <a:off x="3444840" y="438120"/>
            <a:ext cx="3784680" cy="1549440"/>
            <a:chOff x="3444840" y="438120"/>
            <a:chExt cx="3784680" cy="1549440"/>
          </a:xfrm>
        </p:grpSpPr>
        <p:pic>
          <p:nvPicPr>
            <p:cNvPr id="144" name="Скругленная прямоугольная выноска 2" descr=""/>
            <p:cNvPicPr/>
            <p:nvPr/>
          </p:nvPicPr>
          <p:blipFill>
            <a:blip r:embed="rId3"/>
            <a:stretch/>
          </p:blipFill>
          <p:spPr>
            <a:xfrm>
              <a:off x="3444840" y="438120"/>
              <a:ext cx="37846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629160" y="520560"/>
              <a:ext cx="349560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Вспомните, 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что такое уравнение?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grpSp>
        <p:nvGrpSpPr>
          <p:cNvPr id="148" name="Скругленная прямоугольная выноска 2"/>
          <p:cNvGrpSpPr/>
          <p:nvPr/>
        </p:nvGrpSpPr>
        <p:grpSpPr>
          <a:xfrm>
            <a:off x="3444840" y="438120"/>
            <a:ext cx="3998880" cy="1549440"/>
            <a:chOff x="3444840" y="438120"/>
            <a:chExt cx="3998880" cy="1549440"/>
          </a:xfrm>
        </p:grpSpPr>
        <p:pic>
          <p:nvPicPr>
            <p:cNvPr id="149" name="Скругленная прямоугольная выноска 2" descr=""/>
            <p:cNvPicPr/>
            <p:nvPr/>
          </p:nvPicPr>
          <p:blipFill>
            <a:blip r:embed="rId3"/>
            <a:stretch/>
          </p:blipFill>
          <p:spPr>
            <a:xfrm>
              <a:off x="3444840" y="438120"/>
              <a:ext cx="39988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29160" y="520560"/>
              <a:ext cx="36255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rebuchet MS"/>
                </a:rPr>
                <a:t>Уравнение — равенство с неизвестным.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2700360" y="560520"/>
            <a:ext cx="3743280" cy="402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560840" y="4680"/>
            <a:ext cx="4583160" cy="50738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5951520" y="4111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:3=20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Прямая соединительная линия 3"/>
          <p:cNvSpPr/>
          <p:nvPr/>
        </p:nvSpPr>
        <p:spPr>
          <a:xfrm>
            <a:off x="5986440" y="105876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Прямоугольник 14"/>
          <p:cNvSpPr/>
          <p:nvPr/>
        </p:nvSpPr>
        <p:spPr>
          <a:xfrm>
            <a:off x="5940360" y="12034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=20·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Прямоугольник 17"/>
          <p:cNvSpPr/>
          <p:nvPr/>
        </p:nvSpPr>
        <p:spPr>
          <a:xfrm>
            <a:off x="5951520" y="19112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Х=6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5951520" y="278748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60:3=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Прямая соединительная линия 19"/>
          <p:cNvSpPr/>
          <p:nvPr/>
        </p:nvSpPr>
        <p:spPr>
          <a:xfrm>
            <a:off x="6059520" y="267660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Прямоугольник 20"/>
          <p:cNvSpPr/>
          <p:nvPr/>
        </p:nvSpPr>
        <p:spPr>
          <a:xfrm>
            <a:off x="5951520" y="349560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20=2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D:\__Василий\Математика\3 класс\24\img\ноль нолик зеро 0 мультяшный [преобразованный].png"/>
          <p:cNvPicPr/>
          <p:nvPr/>
        </p:nvPicPr>
        <p:blipFill>
          <a:blip r:embed="rId2"/>
          <a:stretch/>
        </p:blipFill>
        <p:spPr>
          <a:xfrm>
            <a:off x="468360" y="484200"/>
            <a:ext cx="3743280" cy="402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D:\ВХОДЯЩИЕ\шаттерсток\картинки\доска7.png"/>
          <p:cNvPicPr/>
          <p:nvPr/>
        </p:nvPicPr>
        <p:blipFill>
          <a:blip r:embed="rId3"/>
          <a:stretch/>
        </p:blipFill>
        <p:spPr>
          <a:xfrm>
            <a:off x="4560840" y="4680"/>
            <a:ext cx="4583160" cy="50738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4"/>
          <p:cNvSpPr/>
          <p:nvPr/>
        </p:nvSpPr>
        <p:spPr>
          <a:xfrm>
            <a:off x="4788000" y="474840"/>
            <a:ext cx="40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умножить на 10, то оно оканчивается цифрой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5 умножить на 100, то в записи числа будет один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число круглое, то оно оканчивается 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Если 20 умножить на 2, то получится 40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D:\Окружающий мир 1 класс\презентации\38 появление жизни на земле\небо.png"/>
          <p:cNvPicPr/>
          <p:nvPr/>
        </p:nvPicPr>
        <p:blipFill>
          <a:blip r:embed="rId1"/>
          <a:srcRect l="34705" t="38594" r="34920" b="50775"/>
          <a:stretch/>
        </p:blipFill>
        <p:spPr>
          <a:xfrm>
            <a:off x="-88920" y="0"/>
            <a:ext cx="923292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2"/>
          <a:stretch/>
        </p:blipFill>
        <p:spPr>
          <a:xfrm>
            <a:off x="395280" y="276120"/>
            <a:ext cx="1909800" cy="113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3"/>
          <a:stretch/>
        </p:blipFill>
        <p:spPr>
          <a:xfrm>
            <a:off x="7000920" y="276120"/>
            <a:ext cx="1911240" cy="113832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1"/>
          <p:cNvSpPr/>
          <p:nvPr/>
        </p:nvSpPr>
        <p:spPr>
          <a:xfrm>
            <a:off x="3276720" y="1281240"/>
            <a:ext cx="2590560" cy="2581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9" name="Группа 22"/>
          <p:cNvGrpSpPr/>
          <p:nvPr/>
        </p:nvGrpSpPr>
        <p:grpSpPr>
          <a:xfrm>
            <a:off x="2195280" y="123840"/>
            <a:ext cx="4897440" cy="4896000"/>
            <a:chOff x="2195280" y="123840"/>
            <a:chExt cx="4897440" cy="4896000"/>
          </a:xfrm>
        </p:grpSpPr>
        <p:grpSp>
          <p:nvGrpSpPr>
            <p:cNvPr id="170" name="Группа 18"/>
            <p:cNvGrpSpPr/>
            <p:nvPr/>
          </p:nvGrpSpPr>
          <p:grpSpPr>
            <a:xfrm>
              <a:off x="2195280" y="2598840"/>
              <a:ext cx="4897440" cy="360"/>
              <a:chOff x="2195280" y="2598840"/>
              <a:chExt cx="4897440" cy="360"/>
            </a:xfrm>
          </p:grpSpPr>
          <p:sp>
            <p:nvSpPr>
              <p:cNvPr id="171" name="Прямая соединительная линия 8"/>
              <p:cNvSpPr/>
              <p:nvPr/>
            </p:nvSpPr>
            <p:spPr>
              <a:xfrm flipH="1">
                <a:off x="2195280" y="2598840"/>
                <a:ext cx="10083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2" name="Прямая соединительная линия 12"/>
              <p:cNvSpPr/>
              <p:nvPr/>
            </p:nvSpPr>
            <p:spPr>
              <a:xfrm flipH="1">
                <a:off x="6084360" y="2599200"/>
                <a:ext cx="10083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73" name="Группа 19"/>
            <p:cNvGrpSpPr/>
            <p:nvPr/>
          </p:nvGrpSpPr>
          <p:grpSpPr>
            <a:xfrm>
              <a:off x="4572000" y="123840"/>
              <a:ext cx="360" cy="4896000"/>
              <a:chOff x="4572000" y="123840"/>
              <a:chExt cx="360" cy="4896000"/>
            </a:xfrm>
          </p:grpSpPr>
          <p:sp>
            <p:nvSpPr>
              <p:cNvPr id="174" name="Прямая соединительная линия 20"/>
              <p:cNvSpPr/>
              <p:nvPr/>
            </p:nvSpPr>
            <p:spPr>
              <a:xfrm flipV="1">
                <a:off x="4572360" y="123840"/>
                <a:ext cx="0" cy="1008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5" name="Прямая соединительная линия 21"/>
              <p:cNvSpPr/>
              <p:nvPr/>
            </p:nvSpPr>
            <p:spPr>
              <a:xfrm flipV="1">
                <a:off x="4572000" y="4011840"/>
                <a:ext cx="0" cy="10080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76" name="Группа 23"/>
          <p:cNvGrpSpPr/>
          <p:nvPr/>
        </p:nvGrpSpPr>
        <p:grpSpPr>
          <a:xfrm>
            <a:off x="2428560" y="337320"/>
            <a:ext cx="4407480" cy="4406040"/>
            <a:chOff x="2428560" y="337320"/>
            <a:chExt cx="4407480" cy="4406040"/>
          </a:xfrm>
        </p:grpSpPr>
        <p:grpSp>
          <p:nvGrpSpPr>
            <p:cNvPr id="177" name="Группа 24"/>
            <p:cNvGrpSpPr/>
            <p:nvPr/>
          </p:nvGrpSpPr>
          <p:grpSpPr>
            <a:xfrm>
              <a:off x="2428560" y="1528560"/>
              <a:ext cx="4407480" cy="2135160"/>
              <a:chOff x="2428560" y="1528560"/>
              <a:chExt cx="4407480" cy="2135160"/>
            </a:xfrm>
          </p:grpSpPr>
          <p:sp>
            <p:nvSpPr>
              <p:cNvPr id="178" name="Прямая соединительная линия 28"/>
              <p:cNvSpPr/>
              <p:nvPr/>
            </p:nvSpPr>
            <p:spPr>
              <a:xfrm flipH="1" flipV="1">
                <a:off x="2428560" y="1528560"/>
                <a:ext cx="907200" cy="439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9" name="Прямая соединительная линия 29"/>
              <p:cNvSpPr/>
              <p:nvPr/>
            </p:nvSpPr>
            <p:spPr>
              <a:xfrm flipH="1" flipV="1">
                <a:off x="5928480" y="3224160"/>
                <a:ext cx="907560" cy="439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80" name="Группа 25"/>
            <p:cNvGrpSpPr/>
            <p:nvPr/>
          </p:nvGrpSpPr>
          <p:grpSpPr>
            <a:xfrm>
              <a:off x="3512160" y="337320"/>
              <a:ext cx="2134440" cy="4406040"/>
              <a:chOff x="3512160" y="337320"/>
              <a:chExt cx="2134440" cy="4406040"/>
            </a:xfrm>
          </p:grpSpPr>
          <p:sp>
            <p:nvSpPr>
              <p:cNvPr id="181" name="Прямая соединительная линия 26"/>
              <p:cNvSpPr/>
              <p:nvPr/>
            </p:nvSpPr>
            <p:spPr>
              <a:xfrm flipV="1">
                <a:off x="5207040" y="337320"/>
                <a:ext cx="439560" cy="907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2" name="Прямая соединительная линия 27"/>
              <p:cNvSpPr/>
              <p:nvPr/>
            </p:nvSpPr>
            <p:spPr>
              <a:xfrm flipV="1">
                <a:off x="3512160" y="3836160"/>
                <a:ext cx="439560" cy="907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83" name="Группа 30"/>
          <p:cNvGrpSpPr/>
          <p:nvPr/>
        </p:nvGrpSpPr>
        <p:grpSpPr>
          <a:xfrm>
            <a:off x="2469600" y="470160"/>
            <a:ext cx="4230720" cy="4231080"/>
            <a:chOff x="2469600" y="470160"/>
            <a:chExt cx="4230720" cy="4231080"/>
          </a:xfrm>
        </p:grpSpPr>
        <p:grpSp>
          <p:nvGrpSpPr>
            <p:cNvPr id="184" name="Группа 31"/>
            <p:cNvGrpSpPr/>
            <p:nvPr/>
          </p:nvGrpSpPr>
          <p:grpSpPr>
            <a:xfrm>
              <a:off x="3365640" y="470160"/>
              <a:ext cx="2463120" cy="4231080"/>
              <a:chOff x="3365640" y="470160"/>
              <a:chExt cx="2463120" cy="4231080"/>
            </a:xfrm>
          </p:grpSpPr>
          <p:sp>
            <p:nvSpPr>
              <p:cNvPr id="185" name="Прямая соединительная линия 35"/>
              <p:cNvSpPr/>
              <p:nvPr/>
            </p:nvSpPr>
            <p:spPr>
              <a:xfrm flipH="1" flipV="1">
                <a:off x="3365640" y="470160"/>
                <a:ext cx="507240" cy="8708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6" name="Прямая соединительная линия 36"/>
              <p:cNvSpPr/>
              <p:nvPr/>
            </p:nvSpPr>
            <p:spPr>
              <a:xfrm flipH="1" flipV="1">
                <a:off x="5321520" y="3830040"/>
                <a:ext cx="507240" cy="871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87" name="Группа 32"/>
            <p:cNvGrpSpPr/>
            <p:nvPr/>
          </p:nvGrpSpPr>
          <p:grpSpPr>
            <a:xfrm>
              <a:off x="2469600" y="1278000"/>
              <a:ext cx="4230720" cy="2462760"/>
              <a:chOff x="2469600" y="1278000"/>
              <a:chExt cx="4230720" cy="2462760"/>
            </a:xfrm>
          </p:grpSpPr>
          <p:sp>
            <p:nvSpPr>
              <p:cNvPr id="188" name="Прямая соединительная линия 33"/>
              <p:cNvSpPr/>
              <p:nvPr/>
            </p:nvSpPr>
            <p:spPr>
              <a:xfrm flipV="1">
                <a:off x="5829480" y="1278000"/>
                <a:ext cx="870840" cy="506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Прямая соединительная линия 34"/>
              <p:cNvSpPr/>
              <p:nvPr/>
            </p:nvSpPr>
            <p:spPr>
              <a:xfrm flipV="1">
                <a:off x="2469600" y="3233520"/>
                <a:ext cx="870840" cy="5072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90" name="Овал 37"/>
          <p:cNvSpPr/>
          <p:nvPr/>
        </p:nvSpPr>
        <p:spPr>
          <a:xfrm>
            <a:off x="3924360" y="2066760"/>
            <a:ext cx="287280" cy="289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Овал 38"/>
          <p:cNvSpPr/>
          <p:nvPr/>
        </p:nvSpPr>
        <p:spPr>
          <a:xfrm>
            <a:off x="4932360" y="2066760"/>
            <a:ext cx="287280" cy="289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Полилиния 39"/>
          <p:cNvSpPr/>
          <p:nvPr/>
        </p:nvSpPr>
        <p:spPr>
          <a:xfrm>
            <a:off x="3889440" y="2859120"/>
            <a:ext cx="1353960" cy="569880"/>
          </a:xfrm>
          <a:custGeom>
            <a:avLst/>
            <a:gdLst/>
            <a:ahLst/>
            <a:rect l="l" t="t" r="r" b="b"/>
            <a:pathLst>
              <a:path w="1381158" h="516781">
                <a:moveTo>
                  <a:pt x="0" y="0"/>
                </a:moveTo>
                <a:cubicBezTo>
                  <a:pt x="16853" y="342101"/>
                  <a:pt x="283432" y="513004"/>
                  <a:pt x="719616" y="516740"/>
                </a:cubicBezTo>
                <a:cubicBezTo>
                  <a:pt x="1155800" y="520476"/>
                  <a:pt x="1428891" y="272236"/>
                  <a:pt x="1374220" y="224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D:\Окружающий мир 1 класс\презентации\38 появление жизни на земле\небо.png"/>
          <p:cNvPicPr/>
          <p:nvPr/>
        </p:nvPicPr>
        <p:blipFill>
          <a:blip r:embed="rId1"/>
          <a:srcRect l="34705" t="38594" r="34920" b="50775"/>
          <a:stretch/>
        </p:blipFill>
        <p:spPr>
          <a:xfrm>
            <a:off x="-88920" y="0"/>
            <a:ext cx="9232920" cy="5143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2"/>
          <a:stretch/>
        </p:blipFill>
        <p:spPr>
          <a:xfrm>
            <a:off x="395280" y="276120"/>
            <a:ext cx="1909800" cy="11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3"/>
          <a:stretch/>
        </p:blipFill>
        <p:spPr>
          <a:xfrm>
            <a:off x="7000920" y="276120"/>
            <a:ext cx="1911240" cy="1138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D:\Окружающий мир 1 класс\презентации\38 появление жизни на земле\облачко.png"/>
          <p:cNvPicPr/>
          <p:nvPr/>
        </p:nvPicPr>
        <p:blipFill>
          <a:blip r:embed="rId4"/>
          <a:stretch/>
        </p:blipFill>
        <p:spPr>
          <a:xfrm>
            <a:off x="2682720" y="1474920"/>
            <a:ext cx="3687840" cy="21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__Василий\Математика\3 класс\24\img\математика фон цифры.png"/>
          <p:cNvPicPr/>
          <p:nvPr/>
        </p:nvPicPr>
        <p:blipFill>
          <a:blip r:embed="rId1"/>
          <a:stretch/>
        </p:blipFill>
        <p:spPr>
          <a:xfrm>
            <a:off x="541440" y="52560"/>
            <a:ext cx="8062920" cy="503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D:\__Василий\Математика\3 класс\24\img\ноль нолик зеро 0 мультяшный_прощание.png"/>
          <p:cNvPicPr/>
          <p:nvPr/>
        </p:nvPicPr>
        <p:blipFill>
          <a:blip r:embed="rId2"/>
          <a:stretch/>
        </p:blipFill>
        <p:spPr>
          <a:xfrm>
            <a:off x="2411280" y="272880"/>
            <a:ext cx="4464360" cy="4596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"/>
          <p:cNvPicPr/>
          <p:nvPr/>
        </p:nvPicPr>
        <p:blipFill>
          <a:blip r:embed="rId1"/>
          <a:srcRect l="16419" t="31980" r="17124" b="25543"/>
          <a:stretch/>
        </p:blipFill>
        <p:spPr>
          <a:xfrm>
            <a:off x="912960" y="500040"/>
            <a:ext cx="6443640" cy="3527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776240" y="843120"/>
            <a:ext cx="459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Сегодня мы будем работать с круглыми числами, учиться их делить и умножать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8" name="Рисунок 6" descr=""/>
          <p:cNvPicPr/>
          <p:nvPr/>
        </p:nvPicPr>
        <p:blipFill>
          <a:blip r:embed="rId2"/>
          <a:stretch/>
        </p:blipFill>
        <p:spPr>
          <a:xfrm>
            <a:off x="6227640" y="987480"/>
            <a:ext cx="3121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116000" y="1216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3·8-18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170000" y="2295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74-6·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1192320" y="343548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·2+11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4788000" y="1203480"/>
            <a:ext cx="28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3-7·6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788000" y="2295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0+45:5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6360" y="21744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ешите числовые выраже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Запишите только те выражения, где в ответе получается круглое число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2599560" y="23083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5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Прямая соединительная линия 11"/>
          <p:cNvSpPr/>
          <p:nvPr/>
        </p:nvSpPr>
        <p:spPr>
          <a:xfrm>
            <a:off x="1192320" y="2990880"/>
            <a:ext cx="237168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257560" y="18381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8, 50, 27, 42, 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Расставьте числа в порядке убыва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2257560" y="18381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58, 50, 42, 27, 4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верьте себ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__Василий\Математика\3 класс\24\img\стол дерево [преобразованный].png"/>
          <p:cNvPicPr/>
          <p:nvPr/>
        </p:nvPicPr>
        <p:blipFill>
          <a:blip r:embed="rId1"/>
          <a:stretch/>
        </p:blipFill>
        <p:spPr>
          <a:xfrm>
            <a:off x="2484360" y="2287440"/>
            <a:ext cx="4319640" cy="2686320"/>
          </a:xfrm>
          <a:prstGeom prst="rect">
            <a:avLst/>
          </a:prstGeom>
          <a:ln w="0">
            <a:noFill/>
          </a:ln>
        </p:spPr>
      </p:pic>
      <p:grpSp>
        <p:nvGrpSpPr>
          <p:cNvPr id="65" name="Скругленный прямоугольник 10"/>
          <p:cNvGrpSpPr/>
          <p:nvPr/>
        </p:nvGrpSpPr>
        <p:grpSpPr>
          <a:xfrm>
            <a:off x="195120" y="420840"/>
            <a:ext cx="3859200" cy="1560240"/>
            <a:chOff x="195120" y="420840"/>
            <a:chExt cx="3859200" cy="1560240"/>
          </a:xfrm>
        </p:grpSpPr>
        <p:pic>
          <p:nvPicPr>
            <p:cNvPr id="6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95120" y="420840"/>
              <a:ext cx="38592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0760" y="517680"/>
              <a:ext cx="36068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стола 4 ножки,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А вопрос таков: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Сколько вместе будет ножек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10 таких столов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68" name="Picture 3" descr="D:\ВХОДЯЩИЕ\шаттерсток\профессии\вопрос.png"/>
          <p:cNvPicPr/>
          <p:nvPr/>
        </p:nvPicPr>
        <p:blipFill>
          <a:blip r:embed="rId3"/>
          <a:stretch/>
        </p:blipFill>
        <p:spPr>
          <a:xfrm>
            <a:off x="6372360" y="119160"/>
            <a:ext cx="143964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Скругленный прямоугольник 11"/>
          <p:cNvGrpSpPr/>
          <p:nvPr/>
        </p:nvGrpSpPr>
        <p:grpSpPr>
          <a:xfrm>
            <a:off x="5016600" y="420840"/>
            <a:ext cx="3365280" cy="718920"/>
            <a:chOff x="5016600" y="420840"/>
            <a:chExt cx="3365280" cy="718920"/>
          </a:xfrm>
        </p:grpSpPr>
        <p:pic>
          <p:nvPicPr>
            <p:cNvPr id="70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5016600" y="420840"/>
              <a:ext cx="3365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105520" y="477720"/>
              <a:ext cx="318132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4+4+4+4+4+4+4+4+4+4=40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72" name="Скругленный прямоугольник 12"/>
          <p:cNvGrpSpPr/>
          <p:nvPr/>
        </p:nvGrpSpPr>
        <p:grpSpPr>
          <a:xfrm>
            <a:off x="5956200" y="1206360"/>
            <a:ext cx="1481400" cy="725760"/>
            <a:chOff x="5956200" y="1206360"/>
            <a:chExt cx="1481400" cy="725760"/>
          </a:xfrm>
        </p:grpSpPr>
        <p:pic>
          <p:nvPicPr>
            <p:cNvPr id="73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956200" y="1206360"/>
              <a:ext cx="148140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041880" y="1268280"/>
              <a:ext cx="13082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4·10=40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75" name="Picture 2" descr="D:\__Василий\Математика\3 класс\24\img\стол дерево [преобразованный].png"/>
          <p:cNvPicPr/>
          <p:nvPr/>
        </p:nvPicPr>
        <p:blipFill>
          <a:blip r:embed="rId3"/>
          <a:stretch/>
        </p:blipFill>
        <p:spPr>
          <a:xfrm>
            <a:off x="2484360" y="2287440"/>
            <a:ext cx="4319640" cy="2686320"/>
          </a:xfrm>
          <a:prstGeom prst="rect">
            <a:avLst/>
          </a:prstGeom>
          <a:ln w="0">
            <a:noFill/>
          </a:ln>
        </p:spPr>
      </p:pic>
      <p:grpSp>
        <p:nvGrpSpPr>
          <p:cNvPr id="76" name="Скругленный прямоугольник 5"/>
          <p:cNvGrpSpPr/>
          <p:nvPr/>
        </p:nvGrpSpPr>
        <p:grpSpPr>
          <a:xfrm>
            <a:off x="195120" y="420840"/>
            <a:ext cx="3859200" cy="1560240"/>
            <a:chOff x="195120" y="420840"/>
            <a:chExt cx="3859200" cy="1560240"/>
          </a:xfrm>
        </p:grpSpPr>
        <p:pic>
          <p:nvPicPr>
            <p:cNvPr id="7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95120" y="420840"/>
              <a:ext cx="38592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20760" y="517680"/>
              <a:ext cx="36068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стола 4 ножки,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А вопрос таков: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Сколько вместе будет ножек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rebuchet MS"/>
                </a:rPr>
                <a:t>У 10 таких столов?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ВХОДЯЩИЕ\шаттерсток\картинки\доска7.png"/>
          <p:cNvPicPr/>
          <p:nvPr/>
        </p:nvPicPr>
        <p:blipFill>
          <a:blip r:embed="rId1"/>
          <a:stretch/>
        </p:blipFill>
        <p:spPr>
          <a:xfrm>
            <a:off x="-22320" y="4680"/>
            <a:ext cx="9166320" cy="5073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1619280" y="15746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0∙2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06360" y="217440"/>
            <a:ext cx="85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Запишит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2" name="Группа 15"/>
          <p:cNvGrpSpPr/>
          <p:nvPr/>
        </p:nvGrpSpPr>
        <p:grpSpPr>
          <a:xfrm>
            <a:off x="1726920" y="2255760"/>
            <a:ext cx="432000" cy="250920"/>
            <a:chOff x="1726920" y="2255760"/>
            <a:chExt cx="432000" cy="250920"/>
          </a:xfrm>
        </p:grpSpPr>
        <p:sp>
          <p:nvSpPr>
            <p:cNvPr id="83" name="Прямая соединительная линия 4"/>
            <p:cNvSpPr/>
            <p:nvPr/>
          </p:nvSpPr>
          <p:spPr>
            <a:xfrm flipH="1">
              <a:off x="1726920" y="2266560"/>
              <a:ext cx="215640" cy="240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Прямая соединительная линия 6"/>
            <p:cNvSpPr/>
            <p:nvPr/>
          </p:nvSpPr>
          <p:spPr>
            <a:xfrm>
              <a:off x="1926720" y="2255760"/>
              <a:ext cx="232200" cy="25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5" name="Прямоугольник 16"/>
          <p:cNvSpPr/>
          <p:nvPr/>
        </p:nvSpPr>
        <p:spPr>
          <a:xfrm>
            <a:off x="1403280" y="2481120"/>
            <a:ext cx="13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(4·1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2627280" y="157464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=(4∙10)∙2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Прямоугольник 21"/>
          <p:cNvSpPr/>
          <p:nvPr/>
        </p:nvSpPr>
        <p:spPr>
          <a:xfrm>
            <a:off x="4994280" y="157464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4∙2∙10=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219640" y="2184120"/>
            <a:ext cx="432000" cy="196920"/>
            <a:chOff x="5219640" y="2184120"/>
            <a:chExt cx="432000" cy="196920"/>
          </a:xfrm>
        </p:grpSpPr>
        <p:sp>
          <p:nvSpPr>
            <p:cNvPr id="89" name="Прямая соединительная линия 23"/>
            <p:cNvSpPr/>
            <p:nvPr/>
          </p:nvSpPr>
          <p:spPr>
            <a:xfrm flipH="1" flipV="1">
              <a:off x="5219640" y="2184120"/>
              <a:ext cx="216000" cy="188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Прямая соединительная линия 24"/>
            <p:cNvSpPr/>
            <p:nvPr/>
          </p:nvSpPr>
          <p:spPr>
            <a:xfrm flipV="1">
              <a:off x="5419080" y="2184120"/>
              <a:ext cx="232560" cy="196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1" name="Прямоугольник 25"/>
          <p:cNvSpPr/>
          <p:nvPr/>
        </p:nvSpPr>
        <p:spPr>
          <a:xfrm>
            <a:off x="5264280" y="2368440"/>
            <a:ext cx="3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Прямоугольник 26"/>
          <p:cNvSpPr/>
          <p:nvPr/>
        </p:nvSpPr>
        <p:spPr>
          <a:xfrm>
            <a:off x="6732720" y="1574640"/>
            <a:ext cx="71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06:35:09Z</dcterms:created>
  <dc:creator>Пользователь</dc:creator>
  <dc:description/>
  <dc:language>en-US</dc:language>
  <cp:lastModifiedBy>Пользователь</cp:lastModifiedBy>
  <dcterms:modified xsi:type="dcterms:W3CDTF">2014-12-09T12:59:55Z</dcterms:modified>
  <cp:revision>97</cp:revision>
  <dc:subject/>
  <dc:title>Презентация PowerPoint</dc:title>
</cp:coreProperties>
</file>