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AD7C-EC80-4F3B-9E21-0D3785EF7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CF87-DAE3-41A6-9891-BD148704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99A5-F35F-4565-96E8-F4236506A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9A3C-0D26-4687-9A58-18A1BB8F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338-4AEF-47A5-8E3B-5BDC9F89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F1D-F20A-4988-99E1-386B6F46F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1F37-A6B5-4712-9EBB-4629A1517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4757-06A1-4286-8E9C-C3995A6A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944C-622F-41B4-8D56-E4027B93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0C57-E07C-4FEE-B6D7-E8476619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EC6-E766-45FE-8792-47C8509D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06EB-946B-4EEC-B847-EA8FEFBB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5FD-5CE7-4526-9036-D50A45D8A4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разделить на 10, надо отброси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 из 104810"/>
          <p:cNvPicPr/>
          <p:nvPr/>
        </p:nvPicPr>
        <p:blipFill>
          <a:blip r:embed="rId1"/>
          <a:stretch/>
        </p:blipFill>
        <p:spPr>
          <a:xfrm>
            <a:off x="468360" y="2421000"/>
            <a:ext cx="13683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43 из 111139"/>
          <p:cNvPicPr/>
          <p:nvPr/>
        </p:nvPicPr>
        <p:blipFill>
          <a:blip r:embed="rId2"/>
          <a:stretch/>
        </p:blipFill>
        <p:spPr>
          <a:xfrm>
            <a:off x="3564000" y="4221000"/>
            <a:ext cx="125892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артинка 30 из 103472"/>
          <p:cNvPicPr/>
          <p:nvPr/>
        </p:nvPicPr>
        <p:blipFill>
          <a:blip r:embed="rId3"/>
          <a:stretch/>
        </p:blipFill>
        <p:spPr>
          <a:xfrm>
            <a:off x="6156360" y="256536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а 5 из 102893"/>
          <p:cNvPicPr/>
          <p:nvPr/>
        </p:nvPicPr>
        <p:blipFill>
          <a:blip r:embed="rId4"/>
          <a:stretch/>
        </p:blipFill>
        <p:spPr>
          <a:xfrm>
            <a:off x="7524720" y="263700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5 из 102893"/>
          <p:cNvPicPr/>
          <p:nvPr/>
        </p:nvPicPr>
        <p:blipFill>
          <a:blip r:embed="rId5"/>
          <a:stretch/>
        </p:blipFill>
        <p:spPr>
          <a:xfrm>
            <a:off x="4788000" y="4221000"/>
            <a:ext cx="1296720" cy="20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 из 102893"/>
          <p:cNvPicPr/>
          <p:nvPr/>
        </p:nvPicPr>
        <p:blipFill>
          <a:blip r:embed="rId6"/>
          <a:stretch/>
        </p:blipFill>
        <p:spPr>
          <a:xfrm>
            <a:off x="1692360" y="263700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en-US" sz="8800" spc="-1" strike="noStrike">
                <a:solidFill>
                  <a:srgbClr val="006600"/>
                </a:solidFill>
                <a:latin typeface="Times New Roman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17 из 106432"/>
          <p:cNvPicPr/>
          <p:nvPr/>
        </p:nvPicPr>
        <p:blipFill>
          <a:blip r:embed="rId1"/>
          <a:stretch/>
        </p:blipFill>
        <p:spPr>
          <a:xfrm>
            <a:off x="395280" y="3213000"/>
            <a:ext cx="2448000" cy="339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тинка 20 из 106432"/>
          <p:cNvPicPr/>
          <p:nvPr/>
        </p:nvPicPr>
        <p:blipFill>
          <a:blip r:embed="rId2"/>
          <a:stretch/>
        </p:blipFill>
        <p:spPr>
          <a:xfrm>
            <a:off x="6372360" y="3213000"/>
            <a:ext cx="2393640" cy="336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95 из 2296"/>
          <p:cNvPicPr/>
          <p:nvPr/>
        </p:nvPicPr>
        <p:blipFill>
          <a:blip r:embed="rId3"/>
          <a:stretch/>
        </p:blipFill>
        <p:spPr>
          <a:xfrm>
            <a:off x="7236000" y="404640"/>
            <a:ext cx="171576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Картинка 14 из 2752"/>
          <p:cNvPicPr/>
          <p:nvPr/>
        </p:nvPicPr>
        <p:blipFill>
          <a:blip r:embed="rId4"/>
          <a:stretch/>
        </p:blipFill>
        <p:spPr>
          <a:xfrm>
            <a:off x="3492360" y="3213000"/>
            <a:ext cx="21733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Картинка 27 из 4923"/>
          <p:cNvPicPr/>
          <p:nvPr/>
        </p:nvPicPr>
        <p:blipFill>
          <a:blip r:embed="rId5"/>
          <a:stretch/>
        </p:blipFill>
        <p:spPr>
          <a:xfrm>
            <a:off x="179280" y="260280"/>
            <a:ext cx="187164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Картинка 15 из 122191"/>
          <p:cNvPicPr/>
          <p:nvPr/>
        </p:nvPicPr>
        <p:blipFill>
          <a:blip r:embed="rId6"/>
          <a:stretch/>
        </p:blipFill>
        <p:spPr>
          <a:xfrm>
            <a:off x="2627280" y="189000"/>
            <a:ext cx="41292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любую пару чисел и составьте все возможные примеры на умножение и делен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6 , 60               3 ,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7 , 70               9 ,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-0.03885 L 0.00452 -0.37179 E">
                                      <p:cBhvr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9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9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+ 9 =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– 9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16080"/>
            <a:ext cx="878544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Новый космодром имеет квадратную форму со стороной 10 км. Вокруг надо поставить забор. Как узнать длину з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1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 = 10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4 = 40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 = а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171 из 60083"/>
          <p:cNvPicPr/>
          <p:nvPr/>
        </p:nvPicPr>
        <p:blipFill>
          <a:blip r:embed="rId1"/>
          <a:stretch/>
        </p:blipFill>
        <p:spPr>
          <a:xfrm>
            <a:off x="250920" y="1916280"/>
            <a:ext cx="4249800" cy="385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867280" y="1916280"/>
            <a:ext cx="2016360" cy="1942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Картинка 114 из 105108"/>
          <p:cNvPicPr/>
          <p:nvPr/>
        </p:nvPicPr>
        <p:blipFill>
          <a:blip r:embed="rId2"/>
          <a:stretch/>
        </p:blipFill>
        <p:spPr>
          <a:xfrm>
            <a:off x="1692360" y="4508640"/>
            <a:ext cx="3168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от Земли на 4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324000" y="3213000"/>
            <a:ext cx="3960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27107 L 0.24618 -0.06204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от Земли на 4см. На какое расстояние она удалится за 1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2214720" y="3357720"/>
            <a:ext cx="3960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уравнения, которые относятся к теме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х + 35 = 76          98 – у =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50           х : 10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х = 16             90 : 10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50 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див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дум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пом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ауч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сомне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повтор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809800" cy="285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2259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3:05Z</dcterms:modified>
  <cp:revision>16</cp:revision>
  <dc:subject/>
  <dc:title>Урок математики. 2б  класс.</dc:title>
</cp:coreProperties>
</file>