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gif" ContentType="image/gif"/>
  <Override PartName="/ppt/media/image4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gif" ContentType="image/gif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9F4-D4F6-43E8-948E-194CE92E8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98D0-263F-4665-A93E-B7CF6A9E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565-9198-4C8B-8D0C-027CEDE9E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F69-F953-4DAB-8484-B2C00B78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934-5783-45CF-ABCC-A1F8F899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8C52-9980-4957-B6E3-A2758697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E8F-9853-40A9-8182-E22F70BD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41A5-AE3E-46FB-941C-E721DF3A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5D91-B122-4FB2-8198-95D69992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68E-D8AE-4EDB-A245-E65998D2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9106-2C1D-4EF4-8495-DE08D5AF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4876-E75A-4C30-BC54-05D396E0A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99C-ADA3-4FFD-9293-EDAEDFC776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ез имени-1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riroda-15"/>
          <p:cNvPicPr/>
          <p:nvPr/>
        </p:nvPicPr>
        <p:blipFill>
          <a:blip r:embed="rId2"/>
          <a:stretch/>
        </p:blipFill>
        <p:spPr>
          <a:xfrm>
            <a:off x="250920" y="2928960"/>
            <a:ext cx="8713800" cy="3740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1476360" y="260280"/>
            <a:ext cx="648180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 повед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ля учащих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 школьном лаге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 дневным пребыван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«Алые пару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46" name="Picture 9" descr="110562e92738"/>
          <p:cNvPicPr/>
          <p:nvPr/>
        </p:nvPicPr>
        <p:blipFill>
          <a:blip r:embed="rId3"/>
          <a:stretch/>
        </p:blipFill>
        <p:spPr>
          <a:xfrm>
            <a:off x="250920" y="1844640"/>
            <a:ext cx="2484360" cy="2205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571680" y="5072040"/>
            <a:ext cx="8143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4"/>
          <a:stretch/>
        </p:blipFill>
        <p:spPr>
          <a:xfrm>
            <a:off x="250920" y="3441600"/>
            <a:ext cx="88930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198440" y="241200"/>
            <a:ext cx="6912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авило перв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0" name="Picture 5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1"/>
          <p:cNvPicPr/>
          <p:nvPr/>
        </p:nvPicPr>
        <p:blipFill>
          <a:blip r:embed="rId2"/>
          <a:stretch/>
        </p:blipFill>
        <p:spPr>
          <a:xfrm>
            <a:off x="0" y="2421000"/>
            <a:ext cx="223344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2771640" y="2492280"/>
            <a:ext cx="5819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Не надо долго спать с утр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школу спешить тебе  по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Чтобы сонею не слыть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8.30 должен бы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2916360" y="4653000"/>
            <a:ext cx="516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Жди воспитателя у входа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школу с утра нет хода!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2700360" y="1125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люда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тановленный в лаге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жим дн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6320" y="1000080"/>
            <a:ext cx="83883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30-9.00 – сбор детей, за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00-9.15 – линей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15-10.00 – завтра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00- 12.00 - работа по плану отрядов, работа кружков и секци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00-13.00 – оздоровительные процед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.00-14.00 – 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00-14.30 – свободн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30- уход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2771640" y="476280"/>
            <a:ext cx="36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жим д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187280" y="1268280"/>
            <a:ext cx="676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187280" y="1700280"/>
            <a:ext cx="5543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1187280" y="2133720"/>
            <a:ext cx="4972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187280" y="2565360"/>
            <a:ext cx="4538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324000" y="3068640"/>
            <a:ext cx="882000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258920" y="4365720"/>
            <a:ext cx="4564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5" name="WordArt 12"/>
          <p:cNvSpPr txBox="1"/>
          <p:nvPr/>
        </p:nvSpPr>
        <p:spPr>
          <a:xfrm>
            <a:off x="1042920" y="4869000"/>
            <a:ext cx="5248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1042920" y="5300640"/>
            <a:ext cx="77821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7" name="WordArt 14"/>
          <p:cNvSpPr txBox="1"/>
          <p:nvPr/>
        </p:nvSpPr>
        <p:spPr>
          <a:xfrm>
            <a:off x="1116000" y="5805360"/>
            <a:ext cx="509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8112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297080" y="200160"/>
            <a:ext cx="6912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"/>
              </a:rPr>
              <a:t>Правило втор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"/>
              <a:ea typeface="Arial"/>
            </a:endParaRPr>
          </a:p>
        </p:txBody>
      </p:sp>
      <p:pic>
        <p:nvPicPr>
          <p:cNvPr id="72" name="Picture 6" descr="j0297551"/>
          <p:cNvPicPr/>
          <p:nvPr/>
        </p:nvPicPr>
        <p:blipFill>
          <a:blip r:embed="rId2"/>
          <a:stretch/>
        </p:blipFill>
        <p:spPr>
          <a:xfrm>
            <a:off x="324000" y="1773360"/>
            <a:ext cx="1944360" cy="1942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150920" y="2940120"/>
            <a:ext cx="70581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спитатель главный ту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наставник твой и друг. Если что-то беспоко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ь какой вопрос возник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решит он все проблемы - вмиг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2700360" y="1125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ходи из лаге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разрешению воспита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079640" y="368280"/>
            <a:ext cx="698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о трет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79" name="Picture 8" descr="anmated_doll_100091"/>
          <p:cNvPicPr/>
          <p:nvPr/>
        </p:nvPicPr>
        <p:blipFill>
          <a:blip r:embed="rId2"/>
          <a:stretch/>
        </p:blipFill>
        <p:spPr>
          <a:xfrm>
            <a:off x="611280" y="1628640"/>
            <a:ext cx="2232000" cy="225108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097000" y="330192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девайся по погод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смотри на всё , что в мод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3201840" y="429588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19080" y="156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1193760" y="399960"/>
            <a:ext cx="6912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о четвёрт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86" name="Picture 10" descr="deti"/>
          <p:cNvPicPr/>
          <p:nvPr/>
        </p:nvPicPr>
        <p:blipFill>
          <a:blip r:embed="rId2"/>
          <a:stretch/>
        </p:blipFill>
        <p:spPr>
          <a:xfrm>
            <a:off x="0" y="1268280"/>
            <a:ext cx="1852560" cy="18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Рисунок1"/>
          <p:cNvPicPr/>
          <p:nvPr/>
        </p:nvPicPr>
        <p:blipFill>
          <a:blip r:embed="rId3"/>
          <a:stretch/>
        </p:blipFill>
        <p:spPr>
          <a:xfrm>
            <a:off x="179280" y="3213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2" descr=""/>
          <p:cNvPicPr/>
          <p:nvPr/>
        </p:nvPicPr>
        <p:blipFill>
          <a:blip r:embed="rId4"/>
          <a:stretch/>
        </p:blipFill>
        <p:spPr>
          <a:xfrm>
            <a:off x="2262240" y="1835280"/>
            <a:ext cx="6375240" cy="542880"/>
          </a:xfrm>
          <a:prstGeom prst="rect">
            <a:avLst/>
          </a:prstGeom>
          <a:ln w="0">
            <a:noFill/>
          </a:ln>
        </p:spPr>
      </p:pic>
      <p:sp>
        <p:nvSpPr>
          <p:cNvPr id="89" name="WordArt 13"/>
          <p:cNvSpPr txBox="1"/>
          <p:nvPr/>
        </p:nvSpPr>
        <p:spPr>
          <a:xfrm>
            <a:off x="2268360" y="2997360"/>
            <a:ext cx="58388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дь вежливым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рожелательны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отношению  друг к друг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0" name="Picture 17" descr="к проекту 027"/>
          <p:cNvPicPr/>
          <p:nvPr/>
        </p:nvPicPr>
        <p:blipFill>
          <a:blip r:embed="rId5"/>
          <a:stretch/>
        </p:blipFill>
        <p:spPr>
          <a:xfrm>
            <a:off x="0" y="5013360"/>
            <a:ext cx="197964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18" descr=""/>
          <p:cNvPicPr/>
          <p:nvPr/>
        </p:nvPicPr>
        <p:blipFill>
          <a:blip r:embed="rId6"/>
          <a:stretch/>
        </p:blipFill>
        <p:spPr>
          <a:xfrm>
            <a:off x="2262240" y="5291280"/>
            <a:ext cx="6138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332000" y="192240"/>
            <a:ext cx="6912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равило пят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96" name="WordArt 6" descr=""/>
          <p:cNvPicPr/>
          <p:nvPr/>
        </p:nvPicPr>
        <p:blipFill>
          <a:blip r:embed="rId2"/>
          <a:stretch/>
        </p:blipFill>
        <p:spPr>
          <a:xfrm>
            <a:off x="3700440" y="1116000"/>
            <a:ext cx="4840200" cy="80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_1_~1"/>
          <p:cNvPicPr/>
          <p:nvPr/>
        </p:nvPicPr>
        <p:blipFill>
          <a:blip r:embed="rId3"/>
          <a:stretch/>
        </p:blipFill>
        <p:spPr>
          <a:xfrm>
            <a:off x="0" y="1341360"/>
            <a:ext cx="3564000" cy="5085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17"/>
          <p:cNvSpPr txBox="1"/>
          <p:nvPr/>
        </p:nvSpPr>
        <p:spPr>
          <a:xfrm>
            <a:off x="3635280" y="1989000"/>
            <a:ext cx="5508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 дорож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нать каждому положе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олько там иди вперёд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де знак дорожный "Переход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 зелёный свет и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И внимательно смотр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тоб машины встал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шеходов пропуска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3780000" cy="626436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3581280" y="692280"/>
            <a:ext cx="5562720" cy="53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 каждая подруж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костров не развод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 пожаре взрослым  сразу сообщ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 каждый гражданин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жарный номер - 01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backgrounds_1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rainbow17"/>
          <p:cNvPicPr/>
          <p:nvPr/>
        </p:nvPicPr>
        <p:blipFill>
          <a:blip r:embed="rId2"/>
          <a:stretch/>
        </p:blipFill>
        <p:spPr>
          <a:xfrm>
            <a:off x="0" y="0"/>
            <a:ext cx="2340000" cy="2421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4"/>
          <p:cNvSpPr txBox="1"/>
          <p:nvPr/>
        </p:nvSpPr>
        <p:spPr>
          <a:xfrm>
            <a:off x="2590920" y="1066680"/>
            <a:ext cx="615780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ти правила,дружок,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учи ты назубок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всегда ты следуй им: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удешь цел и невредим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15" descr="110562e92738"/>
          <p:cNvPicPr/>
          <p:nvPr/>
        </p:nvPicPr>
        <p:blipFill>
          <a:blip r:embed="rId3"/>
          <a:stretch/>
        </p:blipFill>
        <p:spPr>
          <a:xfrm>
            <a:off x="1332000" y="-171360"/>
            <a:ext cx="7938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6"/>
          <p:cNvSpPr txBox="1"/>
          <p:nvPr/>
        </p:nvSpPr>
        <p:spPr>
          <a:xfrm>
            <a:off x="826920" y="4437000"/>
            <a:ext cx="77058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тличного отдых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1:47:12Z</dcterms:created>
  <dc:creator>HOME</dc:creator>
  <dc:description/>
  <dc:language>en-US</dc:language>
  <cp:lastModifiedBy>Надежда</cp:lastModifiedBy>
  <dcterms:modified xsi:type="dcterms:W3CDTF">2018-03-26T02:02:48Z</dcterms:modified>
  <cp:revision>17</cp:revision>
  <dc:subject/>
  <dc:title>Слайд 1</dc:title>
</cp:coreProperties>
</file>