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28.png" ContentType="image/pn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6.jpeg" ContentType="image/jpeg"/>
  <Override PartName="/ppt/media/image27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7.jpeg" ContentType="image/jpeg"/>
  <Override PartName="/ppt/media/image16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15.png" ContentType="image/png"/>
  <Override PartName="/ppt/media/image24.jpeg" ContentType="image/jpeg"/>
  <Override PartName="/ppt/media/image3.jpeg" ContentType="image/jpeg"/>
  <Override PartName="/ppt/media/image4.jpeg" ContentType="image/jpe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D252-01E5-4EEA-AED9-00643924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F09-A10B-47B5-936D-AED73C31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CA89-B300-4991-974E-73E937BC1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6CB-E82C-4848-9F07-E9169E375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EA73-E635-4241-8B32-3D88900A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1343-E07B-4089-B26E-E118C328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9F98-3AF3-45F2-84EC-5A5B8E3E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04B4-71D0-4D92-B19E-952CAF56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259C-8CF9-46C2-AFB4-F61DBE0E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2626C-1D59-4F01-879D-8575F27B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9481F-07F9-45AA-8FB1-C1806695C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B40F-9590-4A49-AE7C-54A223D2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5428-8C88-476A-8B46-768A508A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0B33-307D-492F-B926-E6DC3548E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40E3-B7B0-4DD3-91D8-977669BE7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FEA8-2833-4A15-A89A-9302DC4C0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673CA-52F1-4E95-A698-EF9314E26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223D-59C5-4C7E-A5C8-A4039D0F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CFE0-A7A7-49C0-BF80-F1C946E2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BB3-FD5A-4EBE-A8C3-711575B9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29F6-397F-4B9E-83FB-43297891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05A-BBA3-467E-B41D-79A69A10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84E3-03F0-4AE4-AAEB-188C263C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782A-EF57-4549-B9F9-BA06EA06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22BE0-7670-4B32-BE0E-14137909701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0485000">
                  <a:off x="2055240" y="355356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67" name="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38AA-F231-4DEF-962D-C59BC2D3A5F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png"/><Relationship Id="rId9" Type="http://schemas.openxmlformats.org/officeDocument/2006/relationships/audio" Target="file:///tmp/home/.config/libreoffice/4/user/gallery/&#1087;&#1086;&#1087;&#1086;&#1083;&#1079;&#1077;&#1085;&#1100;.wav" TargetMode="External"/><Relationship Id="rId10" Type="http://schemas.microsoft.com/office/2007/relationships/media" Target="file:///tmp/home/.config/libreoffice/4/user/gallery/&#1087;&#1086;&#1087;&#1086;&#1083;&#1079;&#1077;&#1085;&#1100;.wav" TargetMode="External"/><Relationship Id="rId11" Type="http://schemas.openxmlformats.org/officeDocument/2006/relationships/image" Target="../media/image11.png"/><Relationship Id="rId12" Type="http://schemas.openxmlformats.org/officeDocument/2006/relationships/audio" Target="file:///tmp/home/.config/libreoffice/4/user/gallery/&#1086;&#1073;&#1099;&#1082;&#1085;&#1086;&#1074;&#1077;&#1085;&#1085;&#1099;&#1081;%20&#1089;&#1085;&#1077;&#1075;&#1080;&#1088;&#1100;.wav" TargetMode="External"/><Relationship Id="rId13" Type="http://schemas.microsoft.com/office/2007/relationships/media" Target="file:///tmp/home/.config/libreoffice/4/user/gallery/&#1086;&#1073;&#1099;&#1082;&#1085;&#1086;&#1074;&#1077;&#1085;&#1085;&#1099;&#1081;%20&#1089;&#1085;&#1077;&#1075;&#1080;&#1088;&#1100;.wav" TargetMode="External"/><Relationship Id="rId14" Type="http://schemas.openxmlformats.org/officeDocument/2006/relationships/image" Target="../media/image11.png"/><Relationship Id="rId15" Type="http://schemas.openxmlformats.org/officeDocument/2006/relationships/audio" Target="file:///tmp/home/.config/libreoffice/4/user/gallery/&#1079;&#1103;&#1073;&#1083;&#1080;&#1082;.wav" TargetMode="External"/><Relationship Id="rId16" Type="http://schemas.microsoft.com/office/2007/relationships/media" Target="file:///tmp/home/.config/libreoffice/4/user/gallery/&#1079;&#1103;&#1073;&#1083;&#1080;&#1082;.wav" TargetMode="External"/><Relationship Id="rId17" Type="http://schemas.openxmlformats.org/officeDocument/2006/relationships/image" Target="../media/image11.png"/><Relationship Id="rId18" Type="http://schemas.openxmlformats.org/officeDocument/2006/relationships/audio" Target="file:///tmp/home/.config/libreoffice/4/user/gallery/kukush-1.wav" TargetMode="External"/><Relationship Id="rId19" Type="http://schemas.microsoft.com/office/2007/relationships/media" Target="file:///tmp/home/.config/libreoffice/4/user/gallery/kukush-1.wav" TargetMode="External"/><Relationship Id="rId20" Type="http://schemas.openxmlformats.org/officeDocument/2006/relationships/image" Target="../media/image11.png"/><Relationship Id="rId21" Type="http://schemas.openxmlformats.org/officeDocument/2006/relationships/audio" Target="file:///tmp/home/.config/libreoffice/4/user/gallery/datel-2.wav" TargetMode="External"/><Relationship Id="rId22" Type="http://schemas.microsoft.com/office/2007/relationships/media" Target="file:///tmp/home/.config/libreoffice/4/user/gallery/datel-2.wav" TargetMode="External"/><Relationship Id="rId23" Type="http://schemas.openxmlformats.org/officeDocument/2006/relationships/image" Target="../media/image11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000" y="1267920"/>
            <a:ext cx="8783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пятёркой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4392720" cy="3240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195640" y="2492280"/>
            <a:ext cx="2158920" cy="294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ozuka Mincho Pro H"/>
              </a:rPr>
              <a:t>5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ozuka Mincho Pro H"/>
              <a:ea typeface="Kozuka Mincho Pro 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850"/>
                            </p:stCondLst>
                            <p:childTnLst>
                              <p:par>
                                <p:cTn id="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916360" y="3213000"/>
            <a:ext cx="3527280" cy="2646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187280" y="1052640"/>
            <a:ext cx="727236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иногероями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987640" y="3141720"/>
            <a:ext cx="3240000" cy="28083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916360" y="3213000"/>
            <a:ext cx="3528720" cy="28321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2916360" y="3141720"/>
            <a:ext cx="3600360" cy="31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484360" y="1484280"/>
            <a:ext cx="5051520" cy="145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ЛАД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-2005" t="2366" r="0" b="0"/>
          <a:stretch/>
        </p:blipFill>
        <p:spPr>
          <a:xfrm>
            <a:off x="3419640" y="3068640"/>
            <a:ext cx="367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1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4" name=""/>
          <p:cNvSpPr txBox="1"/>
          <p:nvPr/>
        </p:nvSpPr>
        <p:spPr>
          <a:xfrm rot="21384600">
            <a:off x="1763640" y="2565360"/>
            <a:ext cx="79218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61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интеллект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260280"/>
            <a:ext cx="8352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819000" y="258840"/>
            <a:ext cx="8325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олько звёзд на этой картинк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акое число изображено чуть выше надписи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SpyLog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3. Такая кнопка испортилась на мышк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4. Столько знаков вопросов на данной картинке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5. Этот император изображен на монет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6. Столько птиц на данной картинке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7. Для игры в какой вид спорта предназначается мяч на картинк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8. Столько колец находится в правом нижнем углу рисунка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000" y="260280"/>
            <a:ext cx="835200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1116000" y="3473280"/>
            <a:ext cx="75596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 новым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учебным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одом!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 Black"/>
              </a:rPr>
              <a:t>Охотники за пятёркой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"/>
          <p:cNvSpPr/>
          <p:nvPr/>
        </p:nvSpPr>
        <p:spPr>
          <a:xfrm>
            <a:off x="4067280" y="1773360"/>
            <a:ext cx="5076720" cy="28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859280" y="5237280"/>
            <a:ext cx="2438280" cy="1620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219640" y="3573360"/>
            <a:ext cx="2133720" cy="17240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1370160" cy="2016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380360" y="5084640"/>
            <a:ext cx="1603440" cy="1295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3132000" y="4797360"/>
            <a:ext cx="1760760" cy="1809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020000" y="1341360"/>
            <a:ext cx="1782720" cy="1984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3419640" y="2781360"/>
            <a:ext cx="1711080" cy="1905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7380360" y="36450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audioFile r:link="rId9"/>
            <p:extLst>
              <p:ext uri="{DAA4B4D4-6D71-4841-9C94-3DE7FCFB9230}">
                <p14:media r:link="rId10"/>
              </p:ext>
            </p:extLst>
          </p:nvPr>
        </p:nvPicPr>
        <p:blipFill>
          <a:blip r:embed="rId11"/>
          <a:stretch>
            <a:fillRect/>
          </a:stretch>
        </p:blipFill>
        <p:spPr>
          <a:xfrm>
            <a:off x="68770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8459640" y="3573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audioFile r:link="rId15"/>
            <p:extLst>
              <p:ext uri="{DAA4B4D4-6D71-4841-9C94-3DE7FCFB9230}">
                <p14:media r:link="rId16"/>
              </p:ext>
            </p:extLst>
          </p:nvPr>
        </p:nvPicPr>
        <p:blipFill>
          <a:blip r:embed="rId17"/>
          <a:stretch>
            <a:fillRect/>
          </a:stretch>
        </p:blipFill>
        <p:spPr>
          <a:xfrm>
            <a:off x="457200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8604360" y="4869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audioFile r:link="rId21"/>
            <p:extLst>
              <p:ext uri="{DAA4B4D4-6D71-4841-9C94-3DE7FCFB9230}">
                <p14:media r:link="rId22"/>
              </p:ext>
            </p:extLst>
          </p:nvPr>
        </p:nvPicPr>
        <p:blipFill>
          <a:blip r:embed="rId23"/>
          <a:stretch>
            <a:fillRect/>
          </a:stretch>
        </p:blipFill>
        <p:spPr>
          <a:xfrm>
            <a:off x="8388360" y="1557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4"/>
          <a:stretch/>
        </p:blipFill>
        <p:spPr>
          <a:xfrm>
            <a:off x="4788000" y="2997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5"/>
          <a:stretch/>
        </p:blipFill>
        <p:spPr>
          <a:xfrm>
            <a:off x="6877080" y="3789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6"/>
          <a:stretch/>
        </p:blipFill>
        <p:spPr>
          <a:xfrm>
            <a:off x="6516720" y="299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684360" y="1268280"/>
            <a:ext cx="396072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28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тицелов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2" name=""/>
          <p:cNvSpPr/>
          <p:nvPr/>
        </p:nvSpPr>
        <p:spPr>
          <a:xfrm>
            <a:off x="6804000" y="5877000"/>
            <a:ext cx="647640" cy="50472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86480" y="6415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6165720"/>
            <a:ext cx="576360" cy="43200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1484280"/>
            <a:ext cx="43164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000" y="2924280"/>
            <a:ext cx="36036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494560" y="4797360"/>
            <a:ext cx="649440" cy="43200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43640" y="2997360"/>
            <a:ext cx="433440" cy="4316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6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77080" y="3645000"/>
            <a:ext cx="431640" cy="4334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7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88360" y="3573360"/>
            <a:ext cx="539640" cy="43200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8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598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3042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106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" dur="7828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195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" dur="260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2599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2704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23"/>
                </p:tgtEl>
              </p:cMediaNode>
            </p:audio>
            <p:audio isNarration="0">
              <p:cMediaNode showWhenStopped="1">
                <p:cTn/>
                <p:tgtEl>
                  <p:spTgt spid="125"/>
                </p:tgtEl>
              </p:cMediaNode>
            </p:audio>
            <p:audio isNarration="0">
              <p:cMediaNode showWhenStopped="1">
                <p:cTn/>
                <p:tgtEl>
                  <p:spTgt spid="127"/>
                </p:tgtEl>
              </p:cMediaNode>
            </p:audio>
            <p:audio isNarration="0">
              <p:cMediaNode showWhenStopped="1">
                <p:cTn/>
                <p:tgtEl>
                  <p:spTgt spid="126"/>
                </p:tgtEl>
              </p:cMediaNode>
            </p:audio>
            <p:audio isNarration="0">
              <p:cMediaNode showWhenStopped="1">
                <p:cTn/>
                <p:tgtEl>
                  <p:spTgt spid="12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824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6119640" cy="46087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835280" y="1989000"/>
            <a:ext cx="5832360" cy="4572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1835280" y="1989000"/>
            <a:ext cx="604836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7705800" cy="52056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835280" y="5157720"/>
            <a:ext cx="6192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риведениями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2916360" y="260280"/>
            <a:ext cx="4103640" cy="61930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700360" y="6021360"/>
            <a:ext cx="468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Юлий Цезар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81720"/>
            <a:ext cx="7772400" cy="3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ecff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187280" y="260280"/>
            <a:ext cx="7417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340000" y="549360"/>
            <a:ext cx="5257800" cy="568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3419640" y="5734080"/>
            <a:ext cx="3384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Чингизхан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741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627280" y="620640"/>
            <a:ext cx="5472000" cy="5545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3419640" y="5661000"/>
            <a:ext cx="40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арта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332000" y="404640"/>
            <a:ext cx="741672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4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835280" y="907920"/>
            <a:ext cx="6840360" cy="1757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68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енсацией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268360" y="2708280"/>
            <a:ext cx="6120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93 0.02986 C 0.38212 -0.05949 0.21962 -0.13681 0.00226 -0.14213 C -0.20555 -0.14885 -0.4 -0.08889 -0.41267 -0.00209 C -0.42899 0.07777 -0.29288 0.15254 -0.09809 0.15787 C 0.08004 0.1618 0.24896 0.1125 0.26181 0.03796 C 0.27483 -0.0301 0.16111 -0.09422 -0.00399 -0.09954 C -0.15659 -0.10348 -0.29965 -0.06204 -0.3092 0.00046 C -0.31892 0.05648 -0.22812 0.11111 -0.09184 0.11389 C 0.03143 0.11782 0.14809 0.08588 0.15816 0.03518 C 0.16441 -0.01019 0.09636 -0.05417 -0.01076 -0.05672 C -0.10486 -0.05949 -0.19896 -0.03542 -0.20555 0.00324 C -0.2118 0.03657 -0.16337 0.06852 -0.08507 0.07129 C -0.02031 0.07384 0.04775 0.05926 0.05122 0.03264 C 0.05747 0.01111 0.03143 -0.01158 -0.01701 -0.01412 C -0.05642 -0.01412 -0.09514 -0.0088 -0.10139 0.00578 C -0.10486 0.01527 -0.09809 0.02453 -0.07882 0.02847 C -0.06927 0.02986 -0.0625 0.02986 -0.05295 0.02847 E">
                                      <p:cBhvr>
                                        <p:cTn id="172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987640" y="2997360"/>
            <a:ext cx="3313080" cy="340488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 Black"/>
              </a:rPr>
              <a:t>Охотники за …</a:t>
            </a:r>
            <a:endParaRPr b="0" lang="en-US" sz="48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87280" y="1052640"/>
            <a:ext cx="74883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"/>
              </a:rPr>
              <a:t>ДИНОЗАВРАМИ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"/>
              <a:ea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95640" y="3500280"/>
            <a:ext cx="358920" cy="2876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03640" y="4941720"/>
            <a:ext cx="288720" cy="28764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12000" y="5373720"/>
            <a:ext cx="36036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932360" y="5877000"/>
            <a:ext cx="431640" cy="360360"/>
          </a:xfrm>
          <a:prstGeom prst="rect">
            <a:avLst/>
          </a:prstGeom>
          <a:solidFill>
            <a:srgbClr val="00669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48360" y="558972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 flipV="1">
            <a:off x="5940000" y="5084280"/>
            <a:ext cx="144360" cy="28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3348000" y="4653000"/>
            <a:ext cx="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140360" y="3789360"/>
            <a:ext cx="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142560" cy="14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3500"/>
                            </p:stCondLst>
                            <p:childTnLst>
                              <p:par>
                                <p:cTn id="2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50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15:50:30Z</dcterms:created>
  <dc:creator>Оля</dc:creator>
  <dc:description/>
  <dc:language>en-US</dc:language>
  <cp:lastModifiedBy>Оля</cp:lastModifiedBy>
  <dcterms:modified xsi:type="dcterms:W3CDTF">2008-08-31T17:31:54Z</dcterms:modified>
  <cp:revision>5</cp:revision>
  <dc:subject/>
  <dc:title>Охотники за пятёркой</dc:title>
</cp:coreProperties>
</file>