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28.png" ContentType="image/png"/>
  <Override PartName="/ppt/media/image2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27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15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A911-0323-461C-9086-5716E4E82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7069-1FAA-4A4D-96BE-904E744E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ADCC-1140-4016-B41A-DDDA6B131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5B50-3E6F-4876-86BA-3DC630919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BE48-23D8-4A57-8DB3-A800FA48A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8504-0FE6-42F1-A557-82D2682E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EA7A-31C5-4221-B0B1-447EC685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047EE-FAFF-4B13-95A8-60DDA4DA4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18BE0-6001-4E68-9055-7C482BEE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2604-00C1-443D-98C0-7573678A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21DB-0652-46B9-91F2-64844C18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AA39-A15B-4BBF-955C-CA9C95A6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4627E-408C-4F22-B929-103650CC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EFA6-8464-42F4-A1D7-C5C0BD5F5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3249-BD26-4D66-91F5-9EAA2C8B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F09A-9DAD-4485-96EC-25E8E18DC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43C5-A58F-4C89-8F99-482369D60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1B96-8964-41A5-A7D5-10FAEB8E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17EE-E2AA-4388-9BC4-8A6F0E14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BE07-30A9-47C8-9E32-BDA12E47B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81EC-99D9-49FF-901E-123F2EB1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A288-338B-4667-9C06-7F1EC6EA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487B-99D8-4DA6-ACB4-5BED9662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1856-76F9-4556-9C47-87628AEA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ECA8-74BE-498A-83D2-820F42D4ACB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0485000">
                  <a:off x="2055240" y="355356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7263-BAA2-412E-8725-BBF7663A859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audio" Target="file:///tmp/home/.config/libreoffice/4/user/gallery/&#1087;&#1086;&#1087;&#1086;&#1083;&#1079;&#1077;&#1085;&#1100;.wav" TargetMode="External"/><Relationship Id="rId10" Type="http://schemas.microsoft.com/office/2007/relationships/media" Target="file:///tmp/home/.config/libreoffice/4/user/gallery/&#1087;&#1086;&#1087;&#1086;&#1083;&#1079;&#1077;&#1085;&#1100;.wav" TargetMode="External"/><Relationship Id="rId11" Type="http://schemas.openxmlformats.org/officeDocument/2006/relationships/image" Target="../media/image11.png"/><Relationship Id="rId12" Type="http://schemas.openxmlformats.org/officeDocument/2006/relationships/audio" Target="file:///tmp/home/.config/libreoffice/4/user/gallery/&#1086;&#1073;&#1099;&#1082;&#1085;&#1086;&#1074;&#1077;&#1085;&#1085;&#1099;&#1081;%20&#1089;&#1085;&#1077;&#1075;&#1080;&#1088;&#1100;.wav" TargetMode="External"/><Relationship Id="rId13" Type="http://schemas.microsoft.com/office/2007/relationships/media" Target="file:///tmp/home/.config/libreoffice/4/user/gallery/&#1086;&#1073;&#1099;&#1082;&#1085;&#1086;&#1074;&#1077;&#1085;&#1085;&#1099;&#1081;%20&#1089;&#1085;&#1077;&#1075;&#1080;&#1088;&#1100;.wav" TargetMode="External"/><Relationship Id="rId14" Type="http://schemas.openxmlformats.org/officeDocument/2006/relationships/image" Target="../media/image11.png"/><Relationship Id="rId15" Type="http://schemas.openxmlformats.org/officeDocument/2006/relationships/audio" Target="file:///tmp/home/.config/libreoffice/4/user/gallery/&#1079;&#1103;&#1073;&#1083;&#1080;&#1082;.wav" TargetMode="External"/><Relationship Id="rId16" Type="http://schemas.microsoft.com/office/2007/relationships/media" Target="file:///tmp/home/.config/libreoffice/4/user/gallery/&#1079;&#1103;&#1073;&#1083;&#1080;&#1082;.wav" TargetMode="External"/><Relationship Id="rId17" Type="http://schemas.openxmlformats.org/officeDocument/2006/relationships/image" Target="../media/image11.png"/><Relationship Id="rId18" Type="http://schemas.openxmlformats.org/officeDocument/2006/relationships/audio" Target="file:///tmp/home/.config/libreoffice/4/user/gallery/kukush-1.wav" TargetMode="External"/><Relationship Id="rId19" Type="http://schemas.microsoft.com/office/2007/relationships/media" Target="file:///tmp/home/.config/libreoffice/4/user/gallery/kukush-1.wav" TargetMode="External"/><Relationship Id="rId20" Type="http://schemas.openxmlformats.org/officeDocument/2006/relationships/image" Target="../media/image11.png"/><Relationship Id="rId21" Type="http://schemas.openxmlformats.org/officeDocument/2006/relationships/audio" Target="file:///tmp/home/.config/libreoffice/4/user/gallery/datel-2.wav" TargetMode="External"/><Relationship Id="rId22" Type="http://schemas.microsoft.com/office/2007/relationships/media" Target="file:///tmp/home/.config/libreoffice/4/user/gallery/datel-2.wav" TargetMode="External"/><Relationship Id="rId23" Type="http://schemas.openxmlformats.org/officeDocument/2006/relationships/image" Target="../media/image11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000" y="1267920"/>
            <a:ext cx="878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 Black"/>
              </a:rPr>
              <a:t>Охотники за пятёркой</a:t>
            </a:r>
            <a:endParaRPr b="0" lang="en-US" sz="48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0" y="2781360"/>
            <a:ext cx="4392720" cy="3240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2195640" y="2492280"/>
            <a:ext cx="2158920" cy="29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Kozuka Mincho Pro H"/>
              </a:rPr>
              <a:t>5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Kozuka Mincho Pro H"/>
              <a:ea typeface="Kozuka Mincho Pro 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850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916360" y="3213000"/>
            <a:ext cx="3527280" cy="26463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 Black"/>
              </a:rPr>
              <a:t>Охотники за …</a:t>
            </a:r>
            <a:endParaRPr b="0" lang="en-US" sz="48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187280" y="1052640"/>
            <a:ext cx="727236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иногероями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987640" y="3141720"/>
            <a:ext cx="3240000" cy="2808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2916360" y="3213000"/>
            <a:ext cx="3528720" cy="28321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2916360" y="3141720"/>
            <a:ext cx="360036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5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6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 Black"/>
              </a:rPr>
              <a:t>Охотники за …</a:t>
            </a:r>
            <a:endParaRPr b="0" lang="en-US" sz="48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484360" y="1484280"/>
            <a:ext cx="5051520" cy="145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ЛАД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-2005" t="2366" r="0" b="0"/>
          <a:stretch/>
        </p:blipFill>
        <p:spPr>
          <a:xfrm>
            <a:off x="3419640" y="3068640"/>
            <a:ext cx="36734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 Black"/>
              </a:rPr>
              <a:t>Охотники за …</a:t>
            </a:r>
            <a:endParaRPr b="0" lang="en-US" sz="48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4" name=""/>
          <p:cNvSpPr txBox="1"/>
          <p:nvPr/>
        </p:nvSpPr>
        <p:spPr>
          <a:xfrm rot="21384600">
            <a:off x="1763640" y="2565360"/>
            <a:ext cx="792180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1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интеллект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92000" y="260280"/>
            <a:ext cx="8352000" cy="62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819000" y="258840"/>
            <a:ext cx="8325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только звёзд на этой картинке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акое число изображено чуть выше надписи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pyLog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3. Такая кнопка испортилась на мышке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4. Столько знаков вопросов на данной картинке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5. Этот император изображен на монет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6. Столько птиц на данной картинке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7. Для игры в какой вид спорта предназначается мяч на картинк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8. Столько колец находится в правом нижнем углу рисун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000" y="260280"/>
            <a:ext cx="8352000" cy="62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1116000" y="3473280"/>
            <a:ext cx="755964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 новым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чебным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одом!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 Black"/>
              </a:rPr>
              <a:t>Охотники за пятёркой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4067280" y="1773360"/>
            <a:ext cx="5076720" cy="28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859280" y="5237280"/>
            <a:ext cx="2438280" cy="1620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219640" y="3573360"/>
            <a:ext cx="2133720" cy="1724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364000" y="1484280"/>
            <a:ext cx="1370160" cy="2016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7380360" y="5084640"/>
            <a:ext cx="1603440" cy="1295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3132000" y="4797360"/>
            <a:ext cx="1760760" cy="1809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7020000" y="1341360"/>
            <a:ext cx="1782720" cy="1984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3419640" y="2781360"/>
            <a:ext cx="1711080" cy="190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7380360" y="364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" action="ppaction://media"/>
          </p:cNvPr>
          <p:cNvPicPr/>
          <p:nvPr>
            <a:audioFile r:link="rId9"/>
            <p:extLst>
              <p:ext uri="{DAA4B4D4-6D71-4841-9C94-3DE7FCFB9230}">
                <p14:media r:link="rId10"/>
              </p:ext>
            </p:extLst>
          </p:nvPr>
        </p:nvPicPr>
        <p:blipFill>
          <a:blip r:embed="rId11"/>
          <a:stretch>
            <a:fillRect/>
          </a:stretch>
        </p:blipFill>
        <p:spPr>
          <a:xfrm>
            <a:off x="6877080" y="587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" action="ppaction://media"/>
          </p:cNvPr>
          <p:cNvPicPr/>
          <p:nvPr>
            <a:audioFile r:link="rId12"/>
            <p:extLst>
              <p:ext uri="{DAA4B4D4-6D71-4841-9C94-3DE7FCFB9230}">
                <p14:media r:link="rId13"/>
              </p:ext>
            </p:extLst>
          </p:nvPr>
        </p:nvPicPr>
        <p:blipFill>
          <a:blip r:embed="rId14"/>
          <a:stretch>
            <a:fillRect/>
          </a:stretch>
        </p:blipFill>
        <p:spPr>
          <a:xfrm>
            <a:off x="8459640" y="3573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" action="ppaction://media"/>
          </p:cNvPr>
          <p:cNvPicPr/>
          <p:nvPr>
            <a:audioFile r:link="rId15"/>
            <p:extLst>
              <p:ext uri="{DAA4B4D4-6D71-4841-9C94-3DE7FCFB9230}">
                <p14:media r:link="rId16"/>
              </p:ext>
            </p:extLst>
          </p:nvPr>
        </p:nvPicPr>
        <p:blipFill>
          <a:blip r:embed="rId17"/>
          <a:stretch>
            <a:fillRect/>
          </a:stretch>
        </p:blipFill>
        <p:spPr>
          <a:xfrm>
            <a:off x="457200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" action="ppaction://media"/>
          </p:cNvPr>
          <p:cNvPicPr/>
          <p:nvPr>
            <a:audioFile r:link="rId18"/>
            <p:extLst>
              <p:ext uri="{DAA4B4D4-6D71-4841-9C94-3DE7FCFB9230}">
                <p14:media r:link="rId19"/>
              </p:ext>
            </p:extLst>
          </p:nvPr>
        </p:nvPicPr>
        <p:blipFill>
          <a:blip r:embed="rId20"/>
          <a:stretch>
            <a:fillRect/>
          </a:stretch>
        </p:blipFill>
        <p:spPr>
          <a:xfrm>
            <a:off x="8604360" y="4869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" action="ppaction://media"/>
          </p:cNvPr>
          <p:cNvPicPr/>
          <p:nvPr>
            <a:audioFile r:link="rId21"/>
            <p:extLst>
              <p:ext uri="{DAA4B4D4-6D71-4841-9C94-3DE7FCFB9230}">
                <p14:media r:link="rId22"/>
              </p:ext>
            </p:extLst>
          </p:nvPr>
        </p:nvPicPr>
        <p:blipFill>
          <a:blip r:embed="rId23"/>
          <a:stretch>
            <a:fillRect/>
          </a:stretch>
        </p:blipFill>
        <p:spPr>
          <a:xfrm>
            <a:off x="8388360" y="1557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4"/>
          <a:stretch/>
        </p:blipFill>
        <p:spPr>
          <a:xfrm>
            <a:off x="4788000" y="2997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5"/>
          <a:stretch/>
        </p:blipFill>
        <p:spPr>
          <a:xfrm>
            <a:off x="6877080" y="378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6"/>
          <a:stretch/>
        </p:blipFill>
        <p:spPr>
          <a:xfrm>
            <a:off x="6516720" y="299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684360" y="1268280"/>
            <a:ext cx="396072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тицелов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2" name=""/>
          <p:cNvSpPr/>
          <p:nvPr/>
        </p:nvSpPr>
        <p:spPr>
          <a:xfrm>
            <a:off x="6804000" y="5877000"/>
            <a:ext cx="647640" cy="504720"/>
          </a:xfrm>
          <a:prstGeom prst="rect">
            <a:avLst/>
          </a:prstGeom>
          <a:solidFill>
            <a:srgbClr val="00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6480" y="6415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6165720"/>
            <a:ext cx="576360" cy="432000"/>
          </a:xfrm>
          <a:prstGeom prst="rect">
            <a:avLst/>
          </a:prstGeom>
          <a:solidFill>
            <a:srgbClr val="00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88360" y="1484280"/>
            <a:ext cx="431640" cy="360360"/>
          </a:xfrm>
          <a:prstGeom prst="rect">
            <a:avLst/>
          </a:prstGeom>
          <a:solidFill>
            <a:srgbClr val="00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88000" y="2924280"/>
            <a:ext cx="360360" cy="360360"/>
          </a:xfrm>
          <a:prstGeom prst="rect">
            <a:avLst/>
          </a:prstGeom>
          <a:solidFill>
            <a:srgbClr val="00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494560" y="4797360"/>
            <a:ext cx="649440" cy="432000"/>
          </a:xfrm>
          <a:prstGeom prst="rect">
            <a:avLst/>
          </a:prstGeom>
          <a:solidFill>
            <a:srgbClr val="00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43640" y="2997360"/>
            <a:ext cx="433440" cy="431640"/>
          </a:xfrm>
          <a:prstGeom prst="rect">
            <a:avLst/>
          </a:prstGeom>
          <a:solidFill>
            <a:srgbClr val="00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77080" y="3645000"/>
            <a:ext cx="431640" cy="433440"/>
          </a:xfrm>
          <a:prstGeom prst="rect">
            <a:avLst/>
          </a:prstGeom>
          <a:solidFill>
            <a:srgbClr val="00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88360" y="3573360"/>
            <a:ext cx="539640" cy="432000"/>
          </a:xfrm>
          <a:prstGeom prst="rect">
            <a:avLst/>
          </a:prstGeom>
          <a:solidFill>
            <a:srgbClr val="00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5980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3042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2106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7828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950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260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2599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2704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3"/>
                </p:tgtEl>
              </p:cMediaNode>
            </p:audio>
            <p:audio isNarration="0">
              <p:cMediaNode showWhenStopped="1">
                <p:cTn/>
                <p:tgtEl>
                  <p:spTgt spid="125"/>
                </p:tgtEl>
              </p:cMediaNode>
            </p:audio>
            <p:audio isNarration="0">
              <p:cMediaNode showWhenStopped="1">
                <p:cTn/>
                <p:tgtEl>
                  <p:spTgt spid="127"/>
                </p:tgtEl>
              </p:cMediaNode>
            </p:audio>
            <p:audio isNarration="0">
              <p:cMediaNode showWhenStopped="1">
                <p:cTn/>
                <p:tgtEl>
                  <p:spTgt spid="126"/>
                </p:tgtEl>
              </p:cMediaNode>
            </p:audio>
            <p:audio isNarration="0">
              <p:cMediaNode showWhenStopped="1">
                <p:cTn/>
                <p:tgtEl>
                  <p:spTgt spid="124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 Black"/>
              </a:rPr>
              <a:t>Охотники</a:t>
            </a:r>
            <a:endParaRPr b="0" lang="en-US" sz="48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6119640" cy="4608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835280" y="1989000"/>
            <a:ext cx="5832360" cy="4572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835280" y="1989000"/>
            <a:ext cx="6048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7705800" cy="52056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 Black"/>
              </a:rPr>
              <a:t>Охотники за …</a:t>
            </a:r>
            <a:endParaRPr b="0" lang="en-US" sz="48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835280" y="5157720"/>
            <a:ext cx="6192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иведениями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916360" y="260280"/>
            <a:ext cx="4103640" cy="6193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2700360" y="6021360"/>
            <a:ext cx="468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Юлий Цезар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81720"/>
            <a:ext cx="777240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187280" y="260280"/>
            <a:ext cx="7417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340000" y="549360"/>
            <a:ext cx="5257800" cy="568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3419640" y="5734080"/>
            <a:ext cx="3384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ингизхан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332000" y="404640"/>
            <a:ext cx="7416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627280" y="620640"/>
            <a:ext cx="5472000" cy="5545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3419640" y="5661000"/>
            <a:ext cx="4032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парта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332000" y="404640"/>
            <a:ext cx="7416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 Black"/>
              </a:rPr>
              <a:t>Охотники за …</a:t>
            </a:r>
            <a:endParaRPr b="0" lang="en-US" sz="48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835280" y="907920"/>
            <a:ext cx="6840360" cy="17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6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нсацией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268360" y="2708280"/>
            <a:ext cx="6120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893 0.02986 C 0.38212 -0.05949 0.21962 -0.13681 0.00226 -0.14213 C -0.20555 -0.14885 -0.4 -0.08889 -0.41267 -0.00209 C -0.42899 0.07777 -0.29288 0.15254 -0.09809 0.15787 C 0.08004 0.1618 0.24896 0.1125 0.26181 0.03796 C 0.27483 -0.0301 0.16111 -0.09422 -0.00399 -0.09954 C -0.15659 -0.10348 -0.29965 -0.06204 -0.3092 0.00046 C -0.31892 0.05648 -0.22812 0.11111 -0.09184 0.11389 C 0.03143 0.11782 0.14809 0.08588 0.15816 0.03518 C 0.16441 -0.01019 0.09636 -0.05417 -0.01076 -0.05672 C -0.10486 -0.05949 -0.19896 -0.03542 -0.20555 0.00324 C -0.2118 0.03657 -0.16337 0.06852 -0.08507 0.07129 C -0.02031 0.07384 0.04775 0.05926 0.05122 0.03264 C 0.05747 0.01111 0.03143 -0.01158 -0.01701 -0.01412 C -0.05642 -0.01412 -0.09514 -0.0088 -0.10139 0.00578 C -0.10486 0.01527 -0.09809 0.02453 -0.07882 0.02847 C -0.06927 0.02986 -0.0625 0.02986 -0.05295 0.02847 E">
                                      <p:cBhvr>
                                        <p:cTn id="172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987640" y="2997360"/>
            <a:ext cx="3313080" cy="34048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 Black"/>
              </a:rPr>
              <a:t>Охотники за …</a:t>
            </a:r>
            <a:endParaRPr b="0" lang="en-US" sz="48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87280" y="1052640"/>
            <a:ext cx="748836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ДИНОЗАВРАМ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95640" y="3500280"/>
            <a:ext cx="358920" cy="287640"/>
          </a:xfrm>
          <a:prstGeom prst="rect">
            <a:avLst/>
          </a:prstGeom>
          <a:solidFill>
            <a:srgbClr val="00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03640" y="4941720"/>
            <a:ext cx="288720" cy="287640"/>
          </a:xfrm>
          <a:prstGeom prst="rect">
            <a:avLst/>
          </a:prstGeom>
          <a:solidFill>
            <a:srgbClr val="00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12000" y="5373720"/>
            <a:ext cx="360360" cy="360360"/>
          </a:xfrm>
          <a:prstGeom prst="rect">
            <a:avLst/>
          </a:prstGeom>
          <a:solidFill>
            <a:srgbClr val="00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32360" y="5877000"/>
            <a:ext cx="431640" cy="360360"/>
          </a:xfrm>
          <a:prstGeom prst="rect">
            <a:avLst/>
          </a:prstGeom>
          <a:solidFill>
            <a:srgbClr val="00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148360" y="5589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5940000" y="5084280"/>
            <a:ext cx="144360" cy="2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348000" y="46530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40360" y="378936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500720" y="3357720"/>
            <a:ext cx="142560" cy="14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50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15:50:30Z</dcterms:created>
  <dc:creator>Оля</dc:creator>
  <dc:description/>
  <dc:language>en-US</dc:language>
  <cp:lastModifiedBy>Оля</cp:lastModifiedBy>
  <dcterms:modified xsi:type="dcterms:W3CDTF">2008-08-31T17:31:54Z</dcterms:modified>
  <cp:revision>5</cp:revision>
  <dc:subject/>
  <dc:title>Охотники за пятёркой</dc:title>
</cp:coreProperties>
</file>