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EE3-A459-49C0-82A5-64ABB5C1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394-7B8F-4376-82B1-9FFB5979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AAF-A2BF-410E-8893-386BC637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37C-3299-434A-B0FD-6B946336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A7D-8850-4CC2-9CA2-D9E8BD3E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426-4F57-4A51-82AD-8C6BEF96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914-511A-4CF5-B76F-5A6ADA46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B2B-7C6C-48CC-888D-93A3375C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69D-E52C-4340-8A45-ABECB9C4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6C2-3E09-4BD9-852E-F9090910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DC1-2994-4D25-B0C6-4951414A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D37-BB51-4F83-85F6-4B5B6813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9BAB-9851-43A8-87C4-F1F411E2D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760" y="-360"/>
            <a:ext cx="12051000" cy="638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урока в рамках требования ФГОС. Составление технологической карты урока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естествознания. 10 класс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а как структурная основа живых организмов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ада Н.А., учитель химии и биологии, ГБОУ СОШ № 350 Невский район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24538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ии органоидов клетки. Деление клеток эукариот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0" y="693720"/>
            <a:ext cx="120682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е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бота в группах по заданиям.(карточки с заданиями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групп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итоплазма, плазматическая мембрана;  стр.95 рис.40,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групп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изосомы, ЭПС, рибосомы; стр.95-96 рис42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групп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плекс Гольджи, цитоскелет, митохондрии; стр.96 рис.43,44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групп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ядро, хромосомы; стр.97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группы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ление клеток эукариот. Стр.97-98 рис.45,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45800"/>
            <a:ext cx="124668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самостоятельной работы (получение знаний)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-141120" y="826920"/>
            <a:ext cx="124664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клеточных органоидов. Заполнить таблицу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28880" y="1905120"/>
          <a:ext cx="8128080" cy="4348080"/>
        </p:xfrm>
        <a:graphic>
          <a:graphicData uri="http://schemas.openxmlformats.org/drawingml/2006/table">
            <a:tbl>
              <a:tblPr/>
              <a:tblGrid>
                <a:gridCol w="1638360"/>
                <a:gridCol w="3779640"/>
                <a:gridCol w="27100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560" y="0"/>
            <a:ext cx="1219212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ние клеток эукариот. Митоз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15920" y="684360"/>
            <a:ext cx="12192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таблиц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81160" y="1515960"/>
          <a:ext cx="8127720" cy="2924280"/>
        </p:xfrm>
        <a:graphic>
          <a:graphicData uri="http://schemas.openxmlformats.org/drawingml/2006/table">
            <a:tbl>
              <a:tblPr/>
              <a:tblGrid>
                <a:gridCol w="2552400"/>
                <a:gridCol w="5575320"/>
              </a:tblGrid>
              <a:tr h="43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ф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цессы, происходящие в кле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фаза (подготовка к делению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о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Заголовок 1"/>
          <p:cNvSpPr/>
          <p:nvPr/>
        </p:nvSpPr>
        <p:spPr>
          <a:xfrm>
            <a:off x="115920" y="4497480"/>
            <a:ext cx="121921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по групп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рассказывает. Заполняю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 эталон. Самопровер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2068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5. Рефлексия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243000" y="950760"/>
            <a:ext cx="120664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123840" y="1324080"/>
            <a:ext cx="1206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0" y="836640"/>
            <a:ext cx="1219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ение к таблице «Утверждения». Теперь в этой таблице необходимо расставит правильно значки «+» и «-». Для этого возможно вновь вернуться к изучаемому тексту на уро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123840" y="2658960"/>
            <a:ext cx="90201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ите правильно ли данное высказыва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да – нет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ПС – это часть комплекса Гольджи. (н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изосомы образуются из пузырьков комплекса Гольджи. (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ероховатая ЭПС покрыта рибосомами. (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итоскелет выполняет защитную функцию. ( 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сомы образуются в ядре. (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С всегда покрыта рибосомами. (н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скелет состоит из сократительных белков. ( 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ЗАИМОПРОВЕРК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052800" y="3902040"/>
          <a:ext cx="6086520" cy="198360"/>
        </p:xfrm>
        <a:graphic>
          <a:graphicData uri="http://schemas.openxmlformats.org/drawingml/2006/table">
            <a:tbl>
              <a:tblPr/>
              <a:tblGrid>
                <a:gridCol w="6086520"/>
              </a:tblGrid>
              <a:tr h="198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052800" y="3902040"/>
          <a:ext cx="6086520" cy="198360"/>
        </p:xfrm>
        <a:graphic>
          <a:graphicData uri="http://schemas.openxmlformats.org/drawingml/2006/table">
            <a:tbl>
              <a:tblPr/>
              <a:tblGrid>
                <a:gridCol w="6086520"/>
              </a:tblGrid>
              <a:tr h="198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052800" y="3902040"/>
          <a:ext cx="6086520" cy="198360"/>
        </p:xfrm>
        <a:graphic>
          <a:graphicData uri="http://schemas.openxmlformats.org/drawingml/2006/table">
            <a:tbl>
              <a:tblPr/>
              <a:tblGrid>
                <a:gridCol w="6086520"/>
              </a:tblGrid>
              <a:tr h="198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052800" y="3902040"/>
          <a:ext cx="6086520" cy="198360"/>
        </p:xfrm>
        <a:graphic>
          <a:graphicData uri="http://schemas.openxmlformats.org/drawingml/2006/table">
            <a:tbl>
              <a:tblPr/>
              <a:tblGrid>
                <a:gridCol w="6086520"/>
              </a:tblGrid>
              <a:tr h="198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052800" y="3902040"/>
          <a:ext cx="6086520" cy="198360"/>
        </p:xfrm>
        <a:graphic>
          <a:graphicData uri="http://schemas.openxmlformats.org/drawingml/2006/table">
            <a:tbl>
              <a:tblPr/>
              <a:tblGrid>
                <a:gridCol w="6086520"/>
              </a:tblGrid>
              <a:tr h="198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482760" y="58320"/>
            <a:ext cx="1303992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оизведите логическую последовательность текста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щегося ключевой фразой этого урок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а является основно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т из клеток, жизн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м составляющих его клето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ей жизни. Все организм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й и функционально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а в целом обусловлен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-1017720" y="5654880"/>
            <a:ext cx="130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680" y="102960"/>
            <a:ext cx="10515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урока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220680" y="835200"/>
            <a:ext cx="114220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онны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организация рабочего места (5 групп по 4 чел.) ; групповая работа; раздача материа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20680" y="3370320"/>
            <a:ext cx="1051560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Актуализация зна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:-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арточек с изображениями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видеоматериала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проблемных вопрос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7120" y="5119560"/>
            <a:ext cx="10515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материал.  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627120" y="1022400"/>
            <a:ext cx="5927760" cy="3962520"/>
          </a:xfrm>
          <a:prstGeom prst="rect">
            <a:avLst/>
          </a:prstGeom>
          <a:ln w="0">
            <a:noFill/>
          </a:ln>
        </p:spPr>
      </p:pic>
      <p:sp>
        <p:nvSpPr>
          <p:cNvPr id="47" name="Заголовок 1"/>
          <p:cNvSpPr/>
          <p:nvPr/>
        </p:nvSpPr>
        <p:spPr>
          <a:xfrm>
            <a:off x="6761160" y="2022480"/>
            <a:ext cx="534024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6854760" y="1117440"/>
            <a:ext cx="49690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элементарную единицу онтогенетического уровня организации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го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627120" y="55440"/>
            <a:ext cx="10515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2. Актуализация знан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627120" y="5778360"/>
            <a:ext cx="105156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те тему урока.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Клетка, или из чего состоит жизнь 1 из 3 серий (BBC)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Клетка, или из чего состоит жизнь 2 из 3 серий (BBC)" descr=""/>
          <p:cNvPicPr/>
          <p:nvPr/>
        </p:nvPicPr>
        <p:blipFill>
          <a:blip r:embed="rId1"/>
          <a:stretch/>
        </p:blipFill>
        <p:spPr>
          <a:xfrm>
            <a:off x="-136440" y="0"/>
            <a:ext cx="1232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3320" y="103320"/>
            <a:ext cx="105156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3. Постановка целей и задач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0" y="831960"/>
            <a:ext cx="12192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: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 таблицу «верю/не верю»; (знаю/не знаю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0320" y="2201760"/>
          <a:ext cx="10856880" cy="4664160"/>
        </p:xfrm>
        <a:graphic>
          <a:graphicData uri="http://schemas.openxmlformats.org/drawingml/2006/table">
            <a:tbl>
              <a:tblPr/>
              <a:tblGrid>
                <a:gridCol w="7997760"/>
                <a:gridCol w="1557360"/>
                <a:gridCol w="1301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ю (соглас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наю (не соглас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Именно клетки играют роль «кирпичиков», из которых слагается живой организ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первые о существовании клеток сообщил в 1665 г. англичанин Роберт Гу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Все живые существа состоят из одной или многих клет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Прокариоты не обладают оформленным ядром, это бактер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В клетке эукариот выделяют поверхностные структуры, цитоплазму и ядр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9360"/>
          <a:ext cx="11952360" cy="3957840"/>
        </p:xfrm>
        <a:graphic>
          <a:graphicData uri="http://schemas.openxmlformats.org/drawingml/2006/table">
            <a:tbl>
              <a:tblPr/>
              <a:tblGrid>
                <a:gridCol w="9753480"/>
                <a:gridCol w="932040"/>
                <a:gridCol w="1266840"/>
              </a:tblGrid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ю (соглас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знаю (не соглас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троение всех клеточных мембран однотип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лазматическая мембрана участвует в процессах пиноцетоза и фагоцетоз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Отделившиеся от комплекса Гольджи пузырьки с пищеварительными ферментами представляют собой лизосом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Синтез сахаров и жиров связан с работой гладкой ЭП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Рибосомы – мельчайшие органоиды, участвующие в синтезе бел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3967200"/>
          <a:ext cx="11952360" cy="3666960"/>
        </p:xfrm>
        <a:graphic>
          <a:graphicData uri="http://schemas.openxmlformats.org/drawingml/2006/table">
            <a:tbl>
              <a:tblPr/>
              <a:tblGrid>
                <a:gridCol w="9750600"/>
                <a:gridCol w="952200"/>
                <a:gridCol w="124956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Комплекс Гольджи – органоид, содержащий ферменты, способные разрушить органические соедин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Митохондрии – «энергетические станции» клето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Ядро - органоид, в котором сосредоточен генетический аппарат кле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езультате митоза дочерние клетки получают полные коп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нетического материала родительской кле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135368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3. Постановка целей и задач. (соотнесите с текстом параграфа)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293760" y="1095480"/>
            <a:ext cx="1135368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История открытия клетки. Основные постулаты клеточной те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Общее строение клетки эукари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итоплаз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атическая мембр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осо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С; рибосо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Гольд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ске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охонд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, хромосо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Деление клеток эукари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1219212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4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001880"/>
            <a:ext cx="121921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тория открытия клетки. Клеточная теор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0" y="1871640"/>
            <a:ext cx="121921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.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индивидуального выступл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ежающее зад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2987640"/>
            <a:ext cx="12192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тка на памя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я пункты 1-5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0" y="4262400"/>
            <a:ext cx="12192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верка. Сверьте с учебником. Стр.9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17:22:14Z</dcterms:created>
  <dc:creator>Наташа</dc:creator>
  <dc:description/>
  <dc:language>en-US</dc:language>
  <cp:lastModifiedBy>Наташа</cp:lastModifiedBy>
  <dcterms:modified xsi:type="dcterms:W3CDTF">2016-05-24T18:34:39Z</dcterms:modified>
  <cp:revision>32</cp:revision>
  <dc:subject/>
  <dc:title>Организация и проведение урока в рамках требования ФГОС. Составление технологической карты урока.  Урок естествознания. 10 класс.  Клетка как структурная основа живых организмов.  Присада Н.А., учитель химии и биологии, ГБОУ СОШ № 350 Невский район.</dc:title>
</cp:coreProperties>
</file>