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48D-6845-402D-9F4F-B95305C0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778-1BE8-4CBD-89AD-8678331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F69-D70A-418F-93BA-D553C692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BCA-674D-47EC-97D0-5A1BA4E8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BAB-1FE2-4240-8AB9-BBFA7A25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413-1935-47EC-BAC7-C912635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45C-941B-46DD-961E-F65E5020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97F-1560-44A0-BBF0-E9B63D2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0F1-5ED3-4CE9-A629-1B65AFE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87F-37DB-489D-8481-4508090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A57-B031-4185-9110-AB00D31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2C8-9641-4912-B4F3-46201D6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BDE3-C6B8-4F7A-B53A-B09E06CAB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760" y="-360"/>
            <a:ext cx="12051000" cy="638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урока в рамках требования ФГОС. Составление технологической карты урока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естествознания. 10 класс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как структурная основа живых организмов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ада Н.А., учитель химии и биологии, ГБОУ СОШ № 350 Невский район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24538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и органоидов клетки. Деление клеток эукариот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0" y="693720"/>
            <a:ext cx="12068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 в группах по заданиям.(карточки с заданиями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итоплазма, плазматическая мембрана;  стр.95 рис.40,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зосомы, ЭПС, рибосомы; стр.95-96 рис42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плекс Гольджи, цитоскелет, митохондрии; стр.96 рис.43,44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ядро, хромосомы; стр.97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групп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ление клеток эукариот. Стр.97-98 рис.45,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45800"/>
            <a:ext cx="124668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самостоятельной работы (получение знаний)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-141120" y="826920"/>
            <a:ext cx="124664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клеточных органоидов. Заполнить таблицу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28880" y="1905120"/>
          <a:ext cx="8128080" cy="4348080"/>
        </p:xfrm>
        <a:graphic>
          <a:graphicData uri="http://schemas.openxmlformats.org/drawingml/2006/table">
            <a:tbl>
              <a:tblPr/>
              <a:tblGrid>
                <a:gridCol w="1638360"/>
                <a:gridCol w="3779640"/>
                <a:gridCol w="2710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560" y="0"/>
            <a:ext cx="121921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клеток эукариот. Митоз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15920" y="684360"/>
            <a:ext cx="12192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таблиц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81160" y="1515960"/>
          <a:ext cx="8127720" cy="2924280"/>
        </p:xfrm>
        <a:graphic>
          <a:graphicData uri="http://schemas.openxmlformats.org/drawingml/2006/table">
            <a:tbl>
              <a:tblPr/>
              <a:tblGrid>
                <a:gridCol w="2552400"/>
                <a:gridCol w="5575320"/>
              </a:tblGrid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ф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сы, происходящие в кл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фаза (подготовка к делени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о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Заголовок 1"/>
          <p:cNvSpPr/>
          <p:nvPr/>
        </p:nvSpPr>
        <p:spPr>
          <a:xfrm>
            <a:off x="115920" y="4497480"/>
            <a:ext cx="121921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по групп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ссказывает. Заполня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 эталон. Самопровер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2068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5. Рефлексия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243000" y="950760"/>
            <a:ext cx="120664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23840" y="1324080"/>
            <a:ext cx="1206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0" y="83664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 к таблице «Утверждения». Теперь в этой таблице необходимо расставит правильно значки «+» и «-». Для этого возможно вновь вернуться к изучаемому тексту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123840" y="2658960"/>
            <a:ext cx="90201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е правильно ли данное высказы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да – нет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ПС – это часть комплекса Гольджи. (н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зосомы образуются из пузырьков комплекса Гольджи. (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ероховатая ЭПС покрыта рибосомами. (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итоскелет выполняет защитную функцию. ( 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сомы образуются в ядре. (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С всегда покрыта рибосомами. (н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келет состоит из сократительных белков. ( 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ЗАИМОПРОВЕР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482760" y="58320"/>
            <a:ext cx="1303992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едите логическую последовательность текст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щегося ключевой фразой этого урок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является основн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 из клеток, жизн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м составляющих его клет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жизни. Все организм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й и функциональн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 в целом обусловле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1017720" y="5654880"/>
            <a:ext cx="130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680" y="102960"/>
            <a:ext cx="10515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220680" y="835200"/>
            <a:ext cx="11422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организация рабочего места (5 групп по 4 чел.) ; групповая работа; раздач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20680" y="3370320"/>
            <a:ext cx="1051560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Актуализация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-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арточек с изображениям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идеоматериал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проблемных 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5119560"/>
            <a:ext cx="10515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материал.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627120" y="1022400"/>
            <a:ext cx="59277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6761160" y="2022480"/>
            <a:ext cx="534024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854760" y="1117440"/>
            <a:ext cx="4969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элементарную единицу онтогенетического уровня организаци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го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627120" y="55440"/>
            <a:ext cx="10515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2. Актуализация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627120" y="5778360"/>
            <a:ext cx="10515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тему урока.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Клетка, или из чего состоит жизнь 1 из 3 серий (BBC)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Клетка, или из чего состоит жизнь 2 из 3 серий (BBC)" descr=""/>
          <p:cNvPicPr/>
          <p:nvPr/>
        </p:nvPicPr>
        <p:blipFill>
          <a:blip r:embed="rId1"/>
          <a:stretch/>
        </p:blipFill>
        <p:spPr>
          <a:xfrm>
            <a:off x="-136440" y="0"/>
            <a:ext cx="1232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3320" y="103320"/>
            <a:ext cx="10515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3. Постановка целей и задач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0" y="831960"/>
            <a:ext cx="12192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таблицу «верю/не верю»; (знаю/не знаю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0320" y="2201760"/>
          <a:ext cx="10856880" cy="4664160"/>
        </p:xfrm>
        <a:graphic>
          <a:graphicData uri="http://schemas.openxmlformats.org/drawingml/2006/table">
            <a:tbl>
              <a:tblPr/>
              <a:tblGrid>
                <a:gridCol w="7997760"/>
                <a:gridCol w="1557360"/>
                <a:gridCol w="1301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ю (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ю (не 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Именно клетки играют роль «кирпичиков», из которых слагается живой организ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первые о существовании клеток сообщил в 1665 г. англичанин Роберт Гу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Все живые существа состоят из одной или многих кл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Прокариоты не обладают оформленным ядром, это бактер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 клетке эукариот выделяют поверхностные структуры, цитоплазму и я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9360"/>
          <a:ext cx="11952360" cy="3957840"/>
        </p:xfrm>
        <a:graphic>
          <a:graphicData uri="http://schemas.openxmlformats.org/drawingml/2006/table">
            <a:tbl>
              <a:tblPr/>
              <a:tblGrid>
                <a:gridCol w="9753480"/>
                <a:gridCol w="932040"/>
                <a:gridCol w="1266840"/>
              </a:tblGrid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ю (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ю (не 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троение всех клеточных мембран однотип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лазматическая мембрана участвует в процессах пиноцетоза и фагоцетоз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тделившиеся от комплекса Гольджи пузырьки с пищеварительными ферментами представляют собой лизосо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Синтез сахаров и жиров связан с работой гладкой ЭП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Рибосомы – мельчайшие органоиды, участвующие в синтезе бел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3967200"/>
          <a:ext cx="11952360" cy="3666960"/>
        </p:xfrm>
        <a:graphic>
          <a:graphicData uri="http://schemas.openxmlformats.org/drawingml/2006/table">
            <a:tbl>
              <a:tblPr/>
              <a:tblGrid>
                <a:gridCol w="9750600"/>
                <a:gridCol w="952200"/>
                <a:gridCol w="12495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Комплекс Гольджи – органоид, содержащий ферменты, способные разрушить органические соеди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Митохондрии – «энергетические станции» кл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Ядро - органоид, в котором сосредоточен генетический аппарат кл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езультате митоза дочерние клетки получают полные коп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ического материала родительской кл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135368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3. Постановка целей и задач. (соотнесите с текстом параграфа)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293760" y="1095480"/>
            <a:ext cx="1135368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История открытия клетки. Основные постулаты клеточной те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Общее строение клетки эукари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итопла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тическая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осо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С; рибосо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Гольд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ке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охонд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, хромосо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Деление клеток эукари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21921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4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001880"/>
            <a:ext cx="121921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я открытия клетки. Клеточная теор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0" y="1871640"/>
            <a:ext cx="12192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индивидуального выступ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ежающее зад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2987640"/>
            <a:ext cx="1219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тка на памя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пункты 1-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0" y="4262400"/>
            <a:ext cx="1219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. Сверьте с учебником. Стр.9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7:22:14Z</dcterms:created>
  <dc:creator>Наташа</dc:creator>
  <dc:description/>
  <dc:language>en-US</dc:language>
  <cp:lastModifiedBy>Наташа</cp:lastModifiedBy>
  <dcterms:modified xsi:type="dcterms:W3CDTF">2016-05-24T18:34:39Z</dcterms:modified>
  <cp:revision>32</cp:revision>
  <dc:subject/>
  <dc:title>Организация и проведение урока в рамках требования ФГОС. Составление технологической карты урока.  Урок естествознания. 10 класс.  Клетка как структурная основа живых организмов.  Присада Н.А., учитель химии и биологии, ГБОУ СОШ № 350 Невский район.</dc:title>
</cp:coreProperties>
</file>