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2D47-B690-43A4-BE8C-B88CB4F9F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B7A-DC00-4009-B418-28DAD5AA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D548-FF6E-44CE-894B-F99ED817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274-EE20-4480-8279-D7F10105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E2A3-6C1C-4381-914F-3822B08CA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59935-D69D-49CC-9E33-53AA61E5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FFED-6684-41A3-9065-9DAF2506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9C7D3-7214-47E6-B788-758D3A2C1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6CA9-FEF2-49ED-BF44-A3D50EC53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1EED-4FF1-4FCF-A39A-35FAAD02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ED175-5F56-40CF-BE9E-8EAA9B68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F41-088D-469E-8CF2-2684EAC1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59E6A-B0C9-40C0-AA85-4E861B5D0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B325-9B3F-4D49-BF9F-79184EF8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7873-8FFB-4568-82B7-FFFC5DC4A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F8A0-DA46-42FC-989D-06CA1CE9D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7F648-DE54-4E51-A8E2-B1467EC9B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B953D-3FC8-46EF-B945-1DB4FD112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05CD0-6DC0-42D4-B980-EFCC41BE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1C0D7F-1EAC-44EB-9D0D-186CF8C5F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7757F-D71E-4BD9-8E54-1AE1AE55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F010D-A1C5-4B0B-89C0-C6183022F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7649-25FE-4185-A871-6609399A4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908BD-328C-49F4-BEE1-61738CEA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5F88A-FB4A-478F-B2CF-BBB9EFB7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B8301-088D-461C-A5F5-81FA576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49CEA-0396-4E0F-AC69-2687384E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BCD1E-FBEB-4B69-AE14-6E9E78D91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07824-146E-43AB-BACE-58B38D90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BB84A5-2DBA-46EE-9219-DEAB90B0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84648-CC00-48B4-86D6-E8B52560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380B-4773-44F0-B682-B72B60064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AEEC3-CB99-4229-940E-89C7E850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BB8B-8D57-4B88-BD14-8E63A654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FAC10-9B4C-4A60-866A-0F1E5B1B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7F893D-6DAE-4CB5-8F18-4F3F2E04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9B034-EB39-43F3-BF9C-01D4EBE24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D32D4-1760-45E0-8790-4D7A2776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DAA12-FABE-4B35-8BEE-D06CF1318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DD7D3-BD51-48BC-B277-2231AC04A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D4F6B-F412-42B8-9C83-706D2727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B9FCF-751A-4A8B-86EB-280F20C18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DB3E5-8319-4AF7-BB6E-D72221A7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DE6272-34ED-41A2-83F2-C78AFD3DE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F7C-FC92-4763-A515-EF6042E7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0A16C-F7FA-432C-ADC2-6AC93F9AD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D2F4C-80F7-4094-AE5C-072A2711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7EBC1-0DB8-4C57-970D-7ED0C77B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4BCDD-7704-4234-8D69-8E632354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6D758-86CC-454E-9E7F-689FA5F4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700C6-56D6-4021-9308-44A582FAE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C2DA8-4EBA-442C-8BEE-7F18BF93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1110C-60FC-44D0-AF9D-2925A905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7EBF5-BD06-4B7A-97F9-F7604C31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D4587-28B3-4461-B17A-7DF27200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B341-D9E4-4E9A-A818-9C3DF3511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515CE-D41C-4B6E-9D1A-A7C2A20EE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0DE28-1D11-45EB-98FA-E6D8B3E3C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3410B-F247-4A89-8240-E15E0DDD4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EEEB9-2B52-4656-818E-6388227E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1B75C8-0CA9-4795-B14E-0CAF4CAB6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135B33-6C2E-4BB4-8A99-80FF52B1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699AF-FC11-4FE9-9CC0-3359F50E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3179F7-1BBF-42BC-A9B1-F60A918F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B08351-7836-4E09-B626-E4CD0AD6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799D9B-3EB8-4DCD-9B42-691A9C2DE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71DE-A7FA-4EE2-B0A1-0E4D10E1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17696-05F6-46CE-A936-25D94772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43399-642F-46A8-A02D-F3653606B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6A9E4-3259-410A-A9B9-CBFFD8B26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493E4-81D0-4E15-81B7-C137CD22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AE124-7284-4A62-9E2E-C70CD26E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6F2F20-F139-4BCA-9329-DFEFC94C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CAC78D-A616-4EE3-9E42-AE7242539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9E61D-5FC6-4383-AB2A-6D787BB59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4957A-ED97-4AB2-88A6-F3375D6E1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A35AE-CA98-433A-84CF-31262371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0DDC-35A1-467D-B5D4-2867D1B1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BB8BB-2E09-4AA6-B151-49BAE40A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83126-805D-4C0F-865B-E4DB3BD6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9EF3E-24BF-4D31-ADCC-A224A084B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98A431-C6AA-4D31-89D2-0107BE2D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E98016-3C8C-4CE1-9654-42A5D7A55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A0A9-8EF1-4E95-9A27-E4B12D08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4242-7234-408E-87D2-F763CF6F98F8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6ffff">
              <a:alpha val="33000"/>
            </a:srgbClr>
          </a:solidFill>
          <a:ln cap="rnd" w="3240">
            <a:solidFill>
              <a:srgbClr val="aedbe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e1ffff"/>
            </a:solidFill>
            <a:miter/>
          </a:ln>
          <a:effectLst>
            <a:outerShdw dist="12600" dir="5400000" blurRad="0" rotWithShape="0">
              <a:srgbClr val="9bb8b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34FA-D729-4F0C-AD5C-43EE61246E77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0c61ae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1EE1-5B0B-4C8A-8CB2-AF9C3012C1EF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CFC87-0A2D-438D-96DC-E2A56CEB1F14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687779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DDB2-7A46-425A-B0F3-BDB5B2AA970E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00F2-3C8F-42AA-BB1D-02CB70241FF2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c3f4fc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dbf5f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6b8d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006b8d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0f6fc6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009d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0bd0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10cf9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95bcc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9AEE-BADF-440A-8CFD-D293FEAEB656}" type="slidenum">
              <a:rPr b="0" lang="ru-RU" sz="1200" spc="-1" strike="noStrike">
                <a:solidFill>
                  <a:srgbClr val="95bcc2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71640" y="630000"/>
            <a:ext cx="7488000" cy="307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6b8d"/>
                </a:solidFill>
                <a:latin typeface="Times New Roman"/>
                <a:ea typeface="Times New Roman"/>
              </a:rPr>
              <a:t>Информационная безопасность как условие успешной социализации детей дошкольного возраста</a:t>
            </a:r>
            <a:br>
              <a:rPr sz="4400"/>
            </a:br>
            <a:endParaRPr b="0" lang="en-US" sz="3600" spc="-1" strike="noStrike">
              <a:solidFill>
                <a:srgbClr val="006b8d"/>
              </a:solidFill>
              <a:latin typeface="Corbel"/>
            </a:endParaRPr>
          </a:p>
        </p:txBody>
      </p:sp>
      <p:pic>
        <p:nvPicPr>
          <p:cNvPr id="319" name="Picture 2" descr="http://ds04.infourok.ru/uploads/ex/104b/0005a212-5418c643/hello_html_m2e0cdddb.png"/>
          <p:cNvPicPr/>
          <p:nvPr/>
        </p:nvPicPr>
        <p:blipFill>
          <a:blip r:embed="rId1"/>
          <a:stretch/>
        </p:blipFill>
        <p:spPr>
          <a:xfrm>
            <a:off x="2627280" y="3357720"/>
            <a:ext cx="482436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1187280" y="40428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44460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ая политика в сфере общего и дополнительного образования до 2020 года предполагает сохранение приоритета нравственного и гражданского воспитания, а также необходимость позитивной социализации подрастающего поколения. Указ Президента РФ от 1 июня 2012 г. N 761 "О Национальной стратегии действий в интересах детей на 2012-2017 годы" приоритетным направлением выделяет информационную безопасность детей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44460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 духовно-нравственного воспитания является одним из ключевых позиций ФГОС ДО. В стремительно меняющемся мире образование не всегда своевременно находит ответ на вызовы современности. Одним из таких главных вызовов является информационная безопасность детей и их социализация в условиях глобализированной информационной среды. В связи с этим был принят Федеральный закон от 29.12.2010 № 436-ФЗ «О защите детей от информации, причиняющей вред их здоровью и развитию». В целом, на сегодняшний день состояние информационно-образовательной среды можно оценить как небезопасное для ребенк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61080" indent="44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258560" y="260280"/>
            <a:ext cx="7675560" cy="598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ответственное пользование достижениями цивилизации становится фактором риска дезинтеграции и деградации психических функций и поведения детей, семей и общества. Одной из опасностей современной глобализированной информационной среды, оказывающей негативное влияние на личность ребенка, является формирование у детей деструктивной картины мира, подмена системы ценностей, искажение образцов межличностного общения и семейных отношений, вытеснение старшего поколения с позиций передачи подрастающему поколению базовых духовных и культурных ценностей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Компьютеризация породила ряд проблем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, прежде всего снижение интереса к чтению, которое является показателем общей культуры общества, и, как следствие, снижение уровня грамотности. Из-за большого потока низкопробной видеопродукции, стали утрачиваться ценности, которые накапливались веками. Причиной этой негативной тенденции является некритичное восприятие информации, неразвитость механизмов личностной рефлексии и саморегуляции. Все эти проблемы ребенок самостоятельно решить не може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82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1258560" y="333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431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гласно исследованиям психологов из Института современного детства, подавляющее большинство современных мультфильмов не пропагандируют настоящие человеческие ценности, а формируют неправильную, негативную картину мира. Во многих современных мультфильмах наблюдается, как скрытая, так и явная пропаганда жестокости, агрессии и насилия. У детей формируется негативное восприятие ребёнком мира и закладывается неправильное отношение ребёнка к окружающим. Иногда родители задаются вопросом «откуда в их ребёнке могла появиться ложь, агрессивность, злобность и лень?» Ответ родителям нужно искать в том, что их дети смотрели и смотрят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431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доступным местом пользования интернета является их дом. 65-70 % детей в свободное время смотрят телевизор, около 50% - играют в компьютерные игры, 23-21% - смотрят видео, фильмы на дисках, онлайн. Чем старше возраст детей, тем больше дети играют в игры с элементами насилия, ценят развлекательный характер передач и меньше – нравственные характеристики своих любимых героев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0280" indent="43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1258560" y="333000"/>
            <a:ext cx="7499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440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просмотра развлекательных передач увеличивается, также растет увлеченность компьютерными играми с насилием и наоборот уменьшается доля детей, которые любят своих русских мультипликационных персонажей за нравственные качества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440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другой стороны, в современном образовательном пространстве практически нельзя обойтись без компьютерных технологий. При грамотном использовании, современные информационные технологии могут принести детям содержание и деятельность, которые вызывают и поддерживают у них сильные и полезные эмоции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440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онная безопасность – состояние защищенности, обеспечивающее конфиденциальность доступа к информации, авторизованный доступ к ней, ее целостность, достоверность, полноту и непротиворечивость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440280" algn="just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тевой этикет (нетикет) – правила поведения, общения в Сети традиции и культура интернет-сообщества, которых придерживается большинство. 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357480" indent="44028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2:45:33Z</dcterms:created>
  <dc:creator>1</dc:creator>
  <dc:description/>
  <dc:language>en-US</dc:language>
  <cp:lastModifiedBy>Санечка</cp:lastModifiedBy>
  <dcterms:modified xsi:type="dcterms:W3CDTF">2018-08-12T18:29:02Z</dcterms:modified>
  <cp:revision>41</cp:revision>
  <dc:subject/>
  <dc:title>КЛЮЧЕВЫЕ КОМПЕТЕНЦИИ ПЕДАГОГА КАК ОСНОВА СТАНОВЛЕНИЯ НОВОГО КАЧЕСТВА ОБРАЗОВАНИЯ</dc:title>
</cp:coreProperties>
</file>