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A1F3-60DB-4CEB-9CA8-B56E6C667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A62-EBD8-492C-854D-F9F3A066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844E-94C7-4963-B307-D7BCFC8AC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FEF8-38A9-495C-A58D-0FCDF4DC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48CD-83B0-46DF-BA0F-5331AB2AD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7CAA0-B661-43D1-A045-B90B0D13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24EA-79DC-43BC-BBA6-60C37E1C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6558-FF6A-479B-B44A-7D70D20EB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AA8C-F4A2-4629-9652-C528469F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5502-83E8-4DC5-A161-CCD67B2F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862E3-FD50-4F16-AD95-02021DCC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AC4E-E6E7-45F1-AB02-18BD260D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ED95-A8E7-48B5-8EE6-48A5B8C5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7820-9F3A-4BD3-B295-5DBF6EC29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E2330-2985-4A7B-86EA-1AB7121F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0BDB-9889-4598-B633-D1811ED77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1DA0D-3982-488D-B652-D843C586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1B0C3-06F6-4819-8A7B-6DDB6BEEE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0AE03-1BC0-4369-A21B-E88C3F4C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1EE53-B589-4015-9C22-6C1246A4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EC660-C45F-4DE5-B133-B779C124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CAA2D-BD3A-4BD5-9841-56308027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DA41-38F1-427A-B410-44E07F48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70959-665B-4DDE-9897-529C1131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2E748-896D-47BF-A0CA-318620E8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7408C-D487-4A8F-9B0E-573EAFA6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4AAE5-38ED-45E1-AE85-00113DE7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58D25-469C-4971-9810-5B8D520F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0EEC5-C552-41CF-BEB6-94357E444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5DF2F-210D-4A1A-A18A-2E562A07B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C366A-3C55-48A9-8A78-8E5A86D61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8FBC3-E0C5-4557-B06D-D9357AAE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64C82-2D35-4809-A0E0-61E0ACF5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4F3D-AA61-4797-8B17-F2327C7FB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936DD-C228-4AC1-A5CB-6547DFB5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9FB9B-9298-4B0F-A35B-D152478BB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5B492-8F5F-41B3-B982-E93BC82CF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D605B-710C-4A03-AB25-359F9D05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7361D-FA6B-41DF-A1C5-AF64743A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A5027-3633-42F2-B0A6-5F3DAE58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8B42C-1EEB-4F08-AE77-7F0F5906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D8978-E842-43B3-A059-C962A28C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14938-A465-4892-B7C5-1B1F1B23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E6A50-360C-428A-A847-50A5DC7B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AE7F-3AD3-4801-AF23-94FF741B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369E0-6F1A-44C9-8D4E-C655F7F8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6D08D-374F-445C-84BD-D4938489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B93FF-E6BE-4C78-B248-5BA43484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D598D-55F8-4101-80D7-3BFD18B8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35FAC-0C39-42C5-8D1E-52281F8C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5A8F65-6EAB-42A9-BC0B-ED4A8B59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75D90-EA78-404F-A77C-69ED7780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772A1-6D4F-4CE2-AA36-621D924F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23F63-9852-4951-B18C-87929D84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8AE68-4803-45E0-B7DA-BDDE51D86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96AD-F25E-4F1F-A614-B50E58C1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09D54-3442-4C96-A284-3AA8770A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A2A9B-AD48-46AA-9013-29A3EBCA4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5ED75-E9CA-4273-8F76-419511DF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E71E8-6671-4ECF-86A3-C9AF1DFC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ABD8B-7CA2-420F-9D78-132CB962B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1469E-77A1-48D6-BC34-EC24818C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C37D1-96DB-4E90-8D0A-93ED3346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BA7B0-4F5F-48C6-826F-8B67C17A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5D2E3-77B0-4B88-B623-42DE5A91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D3D18-3D60-4497-AA18-CA2D2B16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97D5-4F2D-435D-B7AC-49D802BF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8F76C-F9E6-408C-84F1-C9E1874F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61EC0-DB3E-4C52-8441-8672822CF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E387E-7FEF-460F-A6D5-DAEEDA6BF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AAB0B-F8BA-4813-9F65-482A55772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FEB00-70CD-4A77-A2DA-002B8CC6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16E62-2B61-47EC-9678-09B60024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D4739-5425-4E96-97AD-0AF93B57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E400C4-D4EC-435E-A933-56087B01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9484F-50DC-4970-B929-A6805EF4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4EC06-2F58-4AEC-89A2-B6AF742A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8D5E-255A-4B21-9D54-860235AE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762FB-F3EB-42F2-A7AB-B958FCEF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4CA03-E260-4E46-906D-BF73D5DF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A0EB6-3189-4FF8-94D5-26309FA5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142FF-7D35-47FE-B9D2-876C5281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0FF0C-7320-4E25-A087-ACEC4EA8A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9D3A-B1BF-43D0-929D-A4AA37C9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2BD0-E684-4643-BADE-37B9929B2F1A}" type="slidenum">
              <a:rPr b="0" lang="ru-RU" sz="1200" spc="-1" strike="noStrike">
                <a:solidFill>
                  <a:srgbClr val="95bc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01F5-5B5E-404D-8F11-67D659C56A25}" type="slidenum">
              <a:rPr b="0" lang="ru-RU" sz="1200" spc="-1" strike="noStrike">
                <a:solidFill>
                  <a:srgbClr val="95bc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0EA0-0A7A-4BD0-AFD4-8F3E28582D4D}" type="slidenum">
              <a:rPr b="0" lang="ru-RU" sz="1200" spc="-1" strike="noStrike">
                <a:solidFill>
                  <a:srgbClr val="95bc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6AEA-AB94-40D3-B503-A36D268CE674}" type="slidenum">
              <a:rPr b="0" lang="ru-RU" sz="1200" spc="-1" strike="noStrike">
                <a:solidFill>
                  <a:srgbClr val="95bc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F2F1-B079-43AF-A790-46E997E5ED16}" type="slidenum">
              <a:rPr b="0" lang="ru-RU" sz="1200" spc="-1" strike="noStrike">
                <a:solidFill>
                  <a:srgbClr val="95bc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8CC2-16BE-4517-9553-6CA006AC9857}" type="slidenum">
              <a:rPr b="0" lang="ru-RU" sz="1200" spc="-1" strike="noStrike">
                <a:solidFill>
                  <a:srgbClr val="95bc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DDA4-61D2-439C-9C12-C600D5FF2ED5}" type="slidenum">
              <a:rPr b="0" lang="ru-RU" sz="1200" spc="-1" strike="noStrike">
                <a:solidFill>
                  <a:srgbClr val="95bc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640" y="630000"/>
            <a:ext cx="74880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Информационная безопасность как условие успешной социализации детей дошкольного возраста</a:t>
            </a:r>
            <a:br>
              <a:rPr sz="4400"/>
            </a:br>
            <a:endParaRPr b="0" lang="en-US" sz="3600" spc="-1" strike="noStrike">
              <a:solidFill>
                <a:srgbClr val="006b8d"/>
              </a:solidFill>
              <a:latin typeface="Corbel"/>
            </a:endParaRPr>
          </a:p>
        </p:txBody>
      </p:sp>
      <p:pic>
        <p:nvPicPr>
          <p:cNvPr id="319" name="Picture 2" descr="http://ds04.infourok.ru/uploads/ex/104b/0005a212-5418c643/hello_html_m2e0cdddb.png"/>
          <p:cNvPicPr/>
          <p:nvPr/>
        </p:nvPicPr>
        <p:blipFill>
          <a:blip r:embed="rId1"/>
          <a:stretch/>
        </p:blipFill>
        <p:spPr>
          <a:xfrm>
            <a:off x="2627280" y="3357720"/>
            <a:ext cx="482436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187280" y="404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44460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политика в сфере общего и дополнительного образования до 2020 года предполагает сохранение приоритета нравственного и гражданского воспитания, а также необходимость позитивной социализации подрастающего поколения. Указ Президента РФ от 1 июня 2012 г. N 761 "О Национальной стратегии действий в интересах детей на 2012-2017 годы" приоритетным направлением выделяет информационную безопасность дете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44460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духовно-нравственного воспитания является одним из ключевых позиций ФГОС ДО. В стремительно меняющемся мире образование не всегда своевременно находит ответ на вызовы современности. Одним из таких главных вызовов является информационная безопасность детей и их социализация в условиях глобализированной информационной среды. В связи с этим был принят Федеральный закон от 29.12.2010 № 436-ФЗ «О защите детей от информации, причиняющей вред их здоровью и развитию». В целом, на сегодняшний день состояние информационно-образовательной среды можно оценить как небезопасное для ребен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44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258560" y="260280"/>
            <a:ext cx="767556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тветственное пользование достижениями цивилизации становится фактором риска дезинтеграции и деградации психических функций и поведения детей, семей и общества. Одной из опасностей современной глобализированной информационной среды, оказывающей негативное влияние на личность ребенка, является формирование у детей деструктивной картины мира, подмена системы ценностей, искажение образцов межличностного общения и семейных отношений, вытеснение старшего поколения с позиций передачи подрастающему поколению базовых духовных и культурных ценностей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мпьютеризация породила ряд пробле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, прежде всего снижение интереса к чтению, которое является показателем общей культуры общества, и, как следствие, снижение уровня грамотности. Из-за большого потока низкопробной видеопродукции, стали утрачиваться ценности, которые накапливались веками. Причиной этой негативной тенденции является некритичное восприятие информации, неразвитость механизмов личностной рефлексии и саморегуляции. Все эти проблемы ребенок самостоятельно решить не може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258560" y="33300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43128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исследованиям психологов из Института современного детства, подавляющее большинство современных мультфильмов не пропагандируют настоящие человеческие ценности, а формируют неправильную, негативную картину мира. Во многих современных мультфильмах наблюдается, как скрытая, так и явная пропаганда жестокости, агрессии и насилия. У детей формируется негативное восприятие ребёнком мира и закладывается неправильное отношение ребёнка к окружающим. Иногда родители задаются вопросом «откуда в их ребёнке могла появиться ложь, агрессивность, злобность и лень?» Ответ родителям нужно искать в том, что их дети смотрели и смотря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43128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доступным местом пользования интернета является их дом. 65-70 % детей в свободное время смотрят телевизор, около 50% - играют в компьютерные игры, 23-21% - смотрят видео, фильмы на дисках, онлайн. Чем старше возраст детей, тем больше дети играют в игры с элементами насилия, ценят развлекательный характер передач и меньше – нравственные характеристики своих любимых героев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43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258560" y="33300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44028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просмотра развлекательных передач увеличивается, также растет увлеченность компьютерными играми с насилием и наоборот уменьшается доля детей, которые любят своих русских мультипликационных персонажей за нравственные качеств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44028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ругой стороны, в современном образовательном пространстве практически нельзя обойтись без компьютерных технологий. При грамотном использовании, современные информационные технологии могут принести детям содержание и деятельность, которые вызывают и поддерживают у них сильные и полезные эмоц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44028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безопасность – состояние защищенности, обеспечивающее конфиденциальность доступа к информации, авторизованный доступ к ней, ее целостность, достоверность, полноту и непротиворечивост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44028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евой этикет (нетикет) – правила поведения, общения в Сети традиции и культура интернет-сообщества, которых придерживается большинство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4402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2:45:33Z</dcterms:created>
  <dc:creator>1</dc:creator>
  <dc:description/>
  <dc:language>en-US</dc:language>
  <cp:lastModifiedBy>Санечка</cp:lastModifiedBy>
  <dcterms:modified xsi:type="dcterms:W3CDTF">2018-08-12T18:29:02Z</dcterms:modified>
  <cp:revision>41</cp:revision>
  <dc:subject/>
  <dc:title>КЛЮЧЕВЫЕ КОМПЕТЕНЦИИ ПЕДАГОГА КАК ОСНОВА СТАНОВЛЕНИЯ НОВОГО КАЧЕСТВА ОБРАЗОВАНИЯ</dc:title>
</cp:coreProperties>
</file>