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0C4C-D78D-4F8C-B52B-BA11693E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0D90-A8B9-456E-9BF5-79E32F7C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32C9-EF00-4674-AD4D-96E48C85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999A-A8BC-48EF-8B21-EAA7767B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1433-C539-400E-97E7-E88875F1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20B5-DF62-4E87-AAD9-442D352E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FFFC-B8B9-497D-B968-34EC6A17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40D3-E67B-469D-B867-1668CE29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7825-CE7F-4175-8BAE-4FCAF149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5FD4-91DB-4A51-B6D4-2AA73B6C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EF8A-F1C8-4E13-9DD8-1D61ABD6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0585-3B36-487A-9DAE-703CA878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517C-10F6-4AF5-97B1-1338F48F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F5FB-B6F8-4E87-8A8C-3B961B7B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EF40-4CF6-4C6B-9DC7-7CE6EF73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8297-7EBB-44D3-A345-95A7B701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B8F7-57A8-4B59-B32D-27BCD198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9194-40D9-4A3F-9D33-1695FC04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0C3F-FD19-4D5B-A857-AD42EFFC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5B47-50E6-4BB2-B874-B658ED7C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9971-8A87-43BD-929B-0035D342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564A-51EE-42B9-B755-C6A6033D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9EB7-C946-4073-A356-AE7B1A2C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40FA-DA6E-4408-9E70-69BCD5B8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6A5F-12CD-4F9D-9565-433AF6D242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svetofor4pq.gif"/>
          <p:cNvPicPr/>
          <p:nvPr/>
        </p:nvPicPr>
        <p:blipFill>
          <a:blip r:embed="rId3"/>
          <a:stretch/>
        </p:blipFill>
        <p:spPr>
          <a:xfrm>
            <a:off x="184320" y="214200"/>
            <a:ext cx="8799480" cy="642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1448-5D81-4413-918D-D6BE22D0BA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 rot="20711400">
            <a:off x="182520" y="2561760"/>
            <a:ext cx="833112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Правила дорожного 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движения 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для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одержимое 3" descr="33.jpg"/>
          <p:cNvPicPr/>
          <p:nvPr/>
        </p:nvPicPr>
        <p:blipFill>
          <a:blip r:embed="rId1"/>
          <a:stretch/>
        </p:blipFill>
        <p:spPr>
          <a:xfrm>
            <a:off x="1116000" y="765000"/>
            <a:ext cx="6985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3" descr="44.jpeg"/>
          <p:cNvPicPr/>
          <p:nvPr/>
        </p:nvPicPr>
        <p:blipFill>
          <a:blip r:embed="rId1"/>
          <a:stretch/>
        </p:blipFill>
        <p:spPr>
          <a:xfrm>
            <a:off x="1116000" y="836640"/>
            <a:ext cx="6985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3" descr="55.jpg"/>
          <p:cNvPicPr/>
          <p:nvPr/>
        </p:nvPicPr>
        <p:blipFill>
          <a:blip r:embed="rId1"/>
          <a:stretch/>
        </p:blipFill>
        <p:spPr>
          <a:xfrm>
            <a:off x="1116000" y="981000"/>
            <a:ext cx="6696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3" descr="66.jpg"/>
          <p:cNvPicPr/>
          <p:nvPr/>
        </p:nvPicPr>
        <p:blipFill>
          <a:blip r:embed="rId1"/>
          <a:stretch/>
        </p:blipFill>
        <p:spPr>
          <a:xfrm>
            <a:off x="1116000" y="620640"/>
            <a:ext cx="6985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99.jpg"/>
          <p:cNvPicPr/>
          <p:nvPr/>
        </p:nvPicPr>
        <p:blipFill>
          <a:blip r:embed="rId1"/>
          <a:stretch/>
        </p:blipFill>
        <p:spPr>
          <a:xfrm>
            <a:off x="1093680" y="692280"/>
            <a:ext cx="707868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0010-010-Eto-svetofor-on-reguliruet-dvizhenie-transporta-i-peshekhodov-na.jpg"/>
          <p:cNvPicPr/>
          <p:nvPr/>
        </p:nvPicPr>
        <p:blipFill>
          <a:blip r:embed="rId1"/>
          <a:stretch/>
        </p:blipFill>
        <p:spPr>
          <a:xfrm>
            <a:off x="1116000" y="836640"/>
            <a:ext cx="691200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Содержимое 3" descr="светофор.jpg"/>
          <p:cNvPicPr/>
          <p:nvPr/>
        </p:nvPicPr>
        <p:blipFill>
          <a:blip r:embed="rId1"/>
          <a:stretch/>
        </p:blipFill>
        <p:spPr>
          <a:xfrm>
            <a:off x="1092240" y="765000"/>
            <a:ext cx="708012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3" descr="008-2012-006.jpg"/>
          <p:cNvPicPr/>
          <p:nvPr/>
        </p:nvPicPr>
        <p:blipFill>
          <a:blip r:embed="rId1"/>
          <a:stretch/>
        </p:blipFill>
        <p:spPr>
          <a:xfrm>
            <a:off x="1116000" y="765000"/>
            <a:ext cx="70563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3" descr="60_4.gif"/>
          <p:cNvPicPr/>
          <p:nvPr/>
        </p:nvPicPr>
        <p:blipFill>
          <a:blip r:embed="rId1"/>
          <a:stretch/>
        </p:blipFill>
        <p:spPr>
          <a:xfrm>
            <a:off x="2050920" y="1093680"/>
            <a:ext cx="50421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Содержимое 3" descr="63_4.gif"/>
          <p:cNvPicPr/>
          <p:nvPr/>
        </p:nvPicPr>
        <p:blipFill>
          <a:blip r:embed="rId1"/>
          <a:stretch/>
        </p:blipFill>
        <p:spPr>
          <a:xfrm>
            <a:off x="1835280" y="1341360"/>
            <a:ext cx="56894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3" descr="nadzemny_perehod.jpg"/>
          <p:cNvPicPr/>
          <p:nvPr/>
        </p:nvPicPr>
        <p:blipFill>
          <a:blip r:embed="rId1"/>
          <a:stretch/>
        </p:blipFill>
        <p:spPr>
          <a:xfrm>
            <a:off x="2268360" y="917640"/>
            <a:ext cx="496764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Содержимое 3" descr="1.jpg"/>
          <p:cNvPicPr/>
          <p:nvPr/>
        </p:nvPicPr>
        <p:blipFill>
          <a:blip r:embed="rId1"/>
          <a:stretch/>
        </p:blipFill>
        <p:spPr>
          <a:xfrm>
            <a:off x="1116000" y="620640"/>
            <a:ext cx="7056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Содержимое 3" descr="2.jpg"/>
          <p:cNvPicPr/>
          <p:nvPr/>
        </p:nvPicPr>
        <p:blipFill>
          <a:blip r:embed="rId1"/>
          <a:stretch/>
        </p:blipFill>
        <p:spPr>
          <a:xfrm>
            <a:off x="976320" y="692280"/>
            <a:ext cx="71960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15:55:50Z</dcterms:created>
  <dc:creator>Admin</dc:creator>
  <dc:description/>
  <dc:language>en-US</dc:language>
  <cp:lastModifiedBy>Серега</cp:lastModifiedBy>
  <dcterms:modified xsi:type="dcterms:W3CDTF">2014-03-20T11:55:36Z</dcterms:modified>
  <cp:revision>7</cp:revision>
  <dc:subject/>
  <dc:title>Слайд 1</dc:title>
</cp:coreProperties>
</file>