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91B-3749-44AC-8BCD-8AADEFB3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01DF-0591-426F-9993-C40454EC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AA5-9078-4598-80A7-AF953B9D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8DF-2F3E-4A21-AF15-C79A7BAF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7739-54D6-4447-8F78-BD14D64B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66F8-46A3-44F7-8C41-43A96562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3E3B-062A-4C8B-8CAD-EA7AB68B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09B0-8AF5-48F4-9771-CC8727E2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5DAF-48BD-40F6-838B-88D794DD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EE7A-E13D-4763-A1AE-1FDEBA0A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0EFB-8876-4446-8D7E-868D6FB9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722-11C6-4795-AB78-44B8FF50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CB33-16EB-47B0-88AD-F8F389FB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3DCB-5F8C-4962-A447-B84A2B4B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EDD9-5493-443C-AC8A-B9CC71B2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3454-E080-4D43-90BE-9FF99F7C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901A-B117-4515-9877-20785CE3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895-ED0C-41B7-8FFD-5B9FCF23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7AA-B764-45A2-8FB9-9C35AB9F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40B-D80B-4218-AF77-17238450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9C6-4C0C-411C-8AD5-2BD1F388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AEB-6A3C-4D84-B39C-F16561F8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6D5-6193-487F-A776-457FC19A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033-1E8D-4DD3-9493-4BCD46BF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DEBB-4B86-4C35-A771-B2E7F355805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CB50-3598-464A-85E8-F23A0C5BAB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-7920" y="333360"/>
            <a:ext cx="885816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  <a:ea typeface="Arial"/>
              </a:rPr>
              <a:t>Русская басня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20 ве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99"/>
                </a:solidFill>
                <a:uFillTx/>
                <a:latin typeface="Comic Sans MS"/>
              </a:rPr>
              <a:t>Творческо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готовьте сценки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 мотивам басни «Зеркало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и покажите получившиеся номера остальны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Психологическая игра </a:t>
            </a: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«Ладошк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зьмите чистый лист бумаги, обведите свою ладонь. В центре ладони напишите свои имя и фамилию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416640" y="3429000"/>
            <a:ext cx="24732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исок использованной литерату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Классическая басня. Избранное в стихах и прозе: — Москва, АСТ, Астрель, 2011 г.- 608 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Классическая басня: — Москва, Астрель, АСТ, 2011 г.- 208 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Русская басня XVIII-XX веков: — Москва, ДРОФА, 2010 г.- 352 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Русская басня от Хераскова до Маяковского: — Санкт-Петербург, Олма Медиа Групп, 2014 г.- 304 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Современные басни. О том, как важно самому решить, кто ты и кем хочешь быть: Любочка Крылова — Москва, Домашняя библиотека, 2013 г.- 56 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тернет – ресурс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ндекс.Картин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анова Е.В. «О творчестве Сергея Михалкова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Психологическая игра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«Радуга настроения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085080" cy="45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кройте сейчас, пожалуйста, глаза, и представьте мысленно </a:t>
            </a: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белый лис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бумаги перед собой. Представили? А теперь 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окрасьте этот лист бумаг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в тот цвет, в который вам сейчас хочется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356000" y="4221000"/>
            <a:ext cx="2880000" cy="21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539640" y="98100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250920" y="692280"/>
            <a:ext cx="84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ергей Владимирович Михал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1913-200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3936960" cy="4606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24000" y="2367000"/>
            <a:ext cx="452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Какие стихи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  <a:ea typeface="Arial"/>
              </a:rPr>
              <a:t> эт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Comic Sans MS"/>
                <a:ea typeface="Arial"/>
              </a:rPr>
              <a:t>писателя вы знает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468360" y="620640"/>
            <a:ext cx="65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Сергей Михалк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 один из </a:t>
            </a:r>
            <a:r>
              <a:rPr b="0" lang="ru-RU" sz="2800" spc="-1" strike="noStrike">
                <a:solidFill>
                  <a:srgbClr val="cc0099"/>
                </a:solidFill>
                <a:latin typeface="Arial"/>
                <a:ea typeface="Arial"/>
              </a:rPr>
              <a:t>известных советских баснописце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Он творец как стихотворных, так и прозаических бас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324000" y="2133720"/>
            <a:ext cx="650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611280" y="1628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72360" y="4365720"/>
            <a:ext cx="2531880" cy="2158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3249720" cy="2157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477720"/>
            <a:ext cx="7561440" cy="369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Грибы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ос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яркий Мухомо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реди лесной полянки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росался всем в глаза его нахальный вид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Смотрите на меня! Заметней нет поганки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 я красив! Красив и ядови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Белый Гри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в тени под елочкой молчал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потому его никто не замечал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Вопросы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Попробуйте  охарактеризовать персонажей басни С.В.Михалкова «Грибы». Какими чертами наделен Мухомор? А Белый Гриб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Какие пороки высмеивает  Сергей Михалков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Вспомните, случалось ли вам в жизни самим встречаться с такими «Мухоморами»? Как нужно вести себя в подобных ситуациях, как вы считает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-1143000"/>
            <a:ext cx="6870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асня «Зеркало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авайте познакомимся с басней, которая называется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«Зеркало»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Эта басня «Зеркало» впервые была напечатана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в 1964 году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Будем читать эту басню по роля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12000" y="3789360"/>
            <a:ext cx="2427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47:01Z</dcterms:created>
  <dc:creator>Admin</dc:creator>
  <dc:description/>
  <dc:language>en-US</dc:language>
  <cp:lastModifiedBy>Vladimir aka punsh</cp:lastModifiedBy>
  <dcterms:modified xsi:type="dcterms:W3CDTF">2018-01-18T12:57:10Z</dcterms:modified>
  <cp:revision>94</cp:revision>
  <dc:subject/>
  <dc:title>Слайд 1</dc:title>
</cp:coreProperties>
</file>