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64C5-952D-4B17-A747-A8FCD81F3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914E-F365-425E-8088-1F635F91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5A0D-6F97-4FDA-99C7-731ADD433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7DE5-D223-48D7-B7BF-6C66E9D9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AEE8-14A4-4EB4-83F0-6EC7A2F85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2FEC-F321-4916-B2EB-E94B3E2F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0817-C044-436E-ABBB-6B72ED18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D76B-0D60-4CAE-A68B-BA0F0BEE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BFC2-C5EA-45C2-A355-BA24D89F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7325-EEE6-41C4-9B05-228D447A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6B7E-5E8B-41F4-9A0D-375B3444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8C6D-5849-4E06-B9ED-50280EFD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E693-4D47-4951-9A79-4433B45C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8EEF-3C53-4F7A-AC8D-8FE4BFDE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5E5C-0FF7-473B-9451-162236C9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4D18-3F2C-42CB-AF50-9DFDDF365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EE0D-01AC-4FF8-A2D2-343B71276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ED2E-0DE9-432B-AD47-050EE694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6804-AE9C-4063-9B27-9491C1B7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B848-9B2A-44A8-8CB3-FB6F9E17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B46B-1B8A-481D-8988-35943059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8812-985E-435A-9B89-F5836D39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DBF2-DD69-4D40-B788-E697CE9F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031D-E7F2-4449-A9A7-3B4B24F0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7AC4-7CB4-40A6-84BB-0FDE973CFB3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6ACC-BC90-4479-8195-5FCF329970E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3"/>
          <p:cNvSpPr/>
          <p:nvPr/>
        </p:nvSpPr>
        <p:spPr>
          <a:xfrm>
            <a:off x="-7920" y="333360"/>
            <a:ext cx="8858160" cy="36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  <a:ea typeface="Arial"/>
              </a:rPr>
              <a:t>Русская басня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20 век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124000" y="2708280"/>
            <a:ext cx="4969080" cy="37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0099"/>
                </a:solidFill>
                <a:uFillTx/>
                <a:latin typeface="Comic Sans MS"/>
              </a:rPr>
              <a:t>Творческо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дготовьте сценки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о мотивам басни «Зеркало»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и покажите получившиеся номера остальны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Психологическая игра </a:t>
            </a: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«Ладошки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озьмите чистый лист бумаги, обведите свою ладонь. В центре ладони напишите свои имя и фамилию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416640" y="3429000"/>
            <a:ext cx="247320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исок использованной литератур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Классическая басня. Избранное в стихах и прозе: — Москва, АСТ, Астрель, 2011 г.- 608 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Классическая басня: — Москва, Астрель, АСТ, 2011 г.- 208 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Русская басня XVIII-XX веков: — Москва, ДРОФА, 2010 г.- 352 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Русская басня от Хераскова до Маяковского: — Санкт-Петербург, Олма Медиа Групп, 2014 г.- 304 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Современные басни. О том, как важно самому решить, кто ты и кем хочешь быть: Любочка Крылова — Москва, Домашняя библиотека, 2013 г.- 56 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тернет – ресурс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ндекс.Картинк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зыканова Е.В. «О творчестве Сергея Михалкова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Психологическая игра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«Радуга настроения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085080" cy="456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Закройте сейчас, пожалуйста, глаза, и представьте мысленно </a:t>
            </a:r>
            <a:r>
              <a:rPr b="0" lang="en-US" sz="3600" spc="-1" strike="noStrike">
                <a:solidFill>
                  <a:srgbClr val="cc0099"/>
                </a:solidFill>
                <a:latin typeface="Times New Roman"/>
              </a:rPr>
              <a:t>белый лист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бумаги перед собой. Представили? А теперь </a:t>
            </a: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окрасьте этот лист бумаг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в тот цвет, в который вам сейчас хочется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356000" y="4221000"/>
            <a:ext cx="2880000" cy="21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fec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539640" y="98100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"/>
          <p:cNvSpPr/>
          <p:nvPr/>
        </p:nvSpPr>
        <p:spPr>
          <a:xfrm>
            <a:off x="250920" y="692280"/>
            <a:ext cx="84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ергей Владимирович Михал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1913-2009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356000" y="2060640"/>
            <a:ext cx="3936960" cy="46069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24000" y="2367000"/>
            <a:ext cx="452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  <a:ea typeface="Arial"/>
              </a:rPr>
              <a:t>Какие стихи</a:t>
            </a:r>
            <a:r>
              <a:rPr b="0" lang="en-US" sz="3600" spc="-1" strike="noStrike">
                <a:solidFill>
                  <a:srgbClr val="cc0099"/>
                </a:solidFill>
                <a:latin typeface="Comic Sans MS"/>
                <a:ea typeface="Arial"/>
              </a:rPr>
              <a:t> эт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Comic Sans MS"/>
                <a:ea typeface="Arial"/>
              </a:rPr>
              <a:t>писателя вы знаете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fec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1"/>
          <p:cNvSpPr/>
          <p:nvPr/>
        </p:nvSpPr>
        <p:spPr>
          <a:xfrm>
            <a:off x="468360" y="620640"/>
            <a:ext cx="6500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Сергей Михалк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–  один из </a:t>
            </a:r>
            <a:r>
              <a:rPr b="0" lang="ru-RU" sz="2800" spc="-1" strike="noStrike">
                <a:solidFill>
                  <a:srgbClr val="cc0099"/>
                </a:solidFill>
                <a:latin typeface="Arial"/>
                <a:ea typeface="Arial"/>
              </a:rPr>
              <a:t>известных советских баснописцев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Он творец как стихотворных, так и прозаических бас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203640" y="27813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fec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1"/>
          <p:cNvSpPr/>
          <p:nvPr/>
        </p:nvSpPr>
        <p:spPr>
          <a:xfrm>
            <a:off x="324000" y="2133720"/>
            <a:ext cx="6500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2"/>
          <p:cNvSpPr/>
          <p:nvPr/>
        </p:nvSpPr>
        <p:spPr>
          <a:xfrm>
            <a:off x="611280" y="16286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372360" y="4365720"/>
            <a:ext cx="2531880" cy="2158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3249720" cy="2157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79280" y="477720"/>
            <a:ext cx="7561440" cy="369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9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Грибы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ос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яркий Мухомо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среди лесной полянки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росался всем в глаза его нахальный вид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Смотрите на меня! Заметней нет поганки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 я красив! Красив и ядови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Белый Гри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в тени под елочкой молчал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 потому его никто не замечал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omic Sans MS"/>
              </a:rPr>
              <a:t>Вопросы</a:t>
            </a: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Попробуйте  охарактеризовать персонажей басни С.В.Михалкова «Грибы». Какими чертами наделен Мухомор? А Белый Гриб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Какие пороки высмеивает  Сергей Михалков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Вспомните, случалось ли вам в жизни самим встречаться с такими «Мухоморами»? Как нужно вести себя в подобных ситуациях, как вы считает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280" y="-1143000"/>
            <a:ext cx="68706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Басня «Зеркало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авайте познакомимся с басней, которая называется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«Зеркало»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Эта басня «Зеркало» впервые была напечатана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в 1964 году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Будем читать эту басню по ролям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12000" y="3789360"/>
            <a:ext cx="24271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5:47:01Z</dcterms:created>
  <dc:creator>Admin</dc:creator>
  <dc:description/>
  <dc:language>en-US</dc:language>
  <cp:lastModifiedBy>Vladimir aka punsh</cp:lastModifiedBy>
  <dcterms:modified xsi:type="dcterms:W3CDTF">2018-01-18T12:57:10Z</dcterms:modified>
  <cp:revision>94</cp:revision>
  <dc:subject/>
  <dc:title>Слайд 1</dc:title>
</cp:coreProperties>
</file>