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29.gif" ContentType="image/gif"/>
  <Override PartName="/ppt/media/image13.png" ContentType="image/png"/>
  <Override PartName="/ppt/media/image8.png" ContentType="image/png"/>
  <Override PartName="/ppt/media/image7.gif" ContentType="image/gif"/>
  <Override PartName="/ppt/media/image10.png" ContentType="image/png"/>
  <Override PartName="/ppt/media/image5.png" ContentType="image/png"/>
  <Override PartName="/ppt/media/image2.gif" ContentType="image/gif"/>
  <Override PartName="/ppt/media/image28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2DBF-8220-43A8-8B3B-74A75C10E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E544-D9BA-4E53-AD1C-DBBFEC1A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357C-16AC-4390-B335-6FC06FBD2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4892-6CB7-475C-8D3C-30AA154B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B8D63-C326-49D3-8243-971D83000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3B58D-AF87-4EA6-9436-1EDA90465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9782-BCEC-4010-BDA5-9B60BF01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F1169-A068-4203-A8AC-EA30F641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39AA-D8F1-4F65-A863-2BC174DB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DE46-0127-410B-AC2D-AC2610B3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EEDB-DF54-4B82-9CB4-68501C70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9338-0E4B-4F41-B18F-8F7A241A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3A5B-714B-4106-BFA8-78582BD9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7650-D9EB-48E1-8EE0-99296445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DE2E-8626-4B98-87CF-D870C08A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3D1B-32A7-4FC0-81FA-DD848DEEF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F229D-2FE5-49BB-A68E-A5A93D54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8B382-3818-4528-A9CB-CF9512148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03A6C-2B53-4F7E-A434-DE921566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62BC0-E492-4AE7-AB14-64D207C7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9EAD7-D981-4BA1-9A6D-7C673D42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375FF-4B26-471A-9646-76762CDB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5A78-1613-4C93-8D23-7D283A9F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87BD1-18E5-435D-989E-D245CC7A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5123A-B2FE-407E-BBC7-B744C103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844E2-A148-450A-8B8D-2CA2E273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203CE-AD10-46F9-A464-FF392C3F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C3405-2EB3-4877-9769-72338DE0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F4D45-BBA9-42CA-A924-D839A88CF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DE848-091A-479C-BE4B-338CC3484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C85508-9545-4E28-937B-396CF6E9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7A522-0B93-4C9B-AC09-1022F484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7EF8F-CA0C-4B4A-82A3-80627368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9775-5F01-4301-BC9F-C52BBF38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CFFA9-36AB-44C5-909B-F3C3B4FE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D9202-ACD5-4681-8419-CD69785B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C36F5-0908-46DE-BF1F-8AF3CE53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C139A-FCA4-474A-A171-196FB7EB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DDF87-2EDB-4FB2-8529-B69C3991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F085C-0A33-449C-A800-D1641DA7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AAB40-88CA-4BEB-91F8-C44CEA10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3FB27-39CF-4BB2-97D8-ECB055F4D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EC936-3771-45C0-BCFC-E5F21A7FC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4E7D3-DBF4-406F-BE44-7C668114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0F40-3FD2-40E4-A2FF-C4FBAE14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13E4B-31BB-4724-8533-2D0EB148D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DE15D-8854-458B-ADCA-7030B21D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8CDB7-EE70-41E0-9347-4AA43FF2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ECE26-6E93-4668-87B3-D733EC8F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44B41-EAD3-4978-82B9-D9B95CB3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50269-4893-4216-A467-6C409244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B6786-5C01-46F3-992E-DEED96FC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F706F-50AA-4363-82C1-3585C94B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9AB45-E97D-4124-AA89-09D59AC1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5CB3A-3DA8-4A39-B262-41236CD2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30F0-BD37-483E-906C-8251443A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F27FD-9BF1-4116-83B0-4FEE9B686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6351C-B17D-456B-9490-E3E2C2C6A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0806E-33BF-474E-AD27-99C2EC44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0375DF-D58C-4013-9DEA-B6FF1A318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A80138-C6F7-468A-8B4C-645D30E3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9FA25-0CD5-48CD-8531-9968FEBAA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52395-6232-4DDC-BBBE-0F50F94A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8B775-1E20-4D70-B99D-A40E81D2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7BCE2-8CFA-428F-BB2B-D148CAB0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14139-643F-44F8-A1E1-E98F2C0E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A329-D9CF-48BA-A46F-1E9BE139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17E0A-181D-49E3-9541-A902034F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4A119-4BEA-4922-B315-D4FD2286D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D8707-DF6E-4573-9FA4-04B2ACE1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031BE-E10B-454A-88A2-0DAE66852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37F8B-B710-4151-9BD4-10DF3DDE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1E46A7-1FBF-489A-8C0A-F3B9F70D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2B794-3428-4DBB-9016-E8B46B92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3F73C-B49A-41A6-A3E3-96EB1761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5C4FE-CDFE-41B7-8559-61A5C058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EEDE5-869B-4C02-B468-D5667BC7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8D21-65EC-45E4-AACA-3C9824D6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55C36D-9111-466F-BF24-0DD2B5CD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E000E-16B9-493B-B846-BE21F9B0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AF1F6-35D7-4FB6-B0AE-729FC9C3E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C3448-7FF8-4A70-B250-735BE37AA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04F2A-4414-4193-BF8F-1D2F765AB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8CBD0-B185-437A-8B6D-F7F03E4F1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252D3-1730-45AB-AEE3-C3763B7C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6EAEA8-6FCB-4D70-B753-33A06218C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1BCDE-3E5D-4695-BE81-62D53E80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0B111-87C2-4B74-AA02-6A1FE03B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AA7F-533D-4DFB-96D9-04F7B76C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B51A0-66D1-4777-A10E-C7C0E887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785CB-B08B-41D4-87B5-B0B2EF6F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3D42F-8BB8-4858-A8C3-A3732469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0CE70-8750-433E-93AE-18618B93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A6E84-9CB3-42E7-A938-37E2ACD6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E18599-3B53-4963-A392-3C8806C28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8DD84-3031-4300-BD9E-D8E7495D1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05EC-E79F-432F-B0B0-0DA59BC890B1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9623-5E3F-4D6D-9982-B6B954AE3CE7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A936-7F2A-443F-A5D0-3869A4763D7E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0845-D8BD-4355-B8C7-B7F463E9F287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75419-CAC4-4241-97F3-C7A1606AA1D8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3799-EDCB-4832-8D52-FD0D70093F1A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42B3-2E68-46AC-B437-8EB02BF8E82B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CCF3-CB3E-4781-A046-656361D06B27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93958"/>
                </a:solidFill>
                <a:latin typeface="Cambria"/>
              </a:rPr>
              <a:t>Функциональные разновидности русского языка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2133360" y="1699920"/>
            <a:ext cx="655956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53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464653"/>
                </a:solidFill>
                <a:latin typeface="Cambria"/>
              </a:rPr>
              <a:t>Язык есть средств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53"/>
                </a:solidFill>
                <a:latin typeface="Cambria"/>
              </a:rPr>
              <a:t>не выражать готовую мысль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53"/>
                </a:solidFill>
                <a:latin typeface="Cambria"/>
              </a:rPr>
              <a:t>а создавать её…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53"/>
                </a:solidFill>
                <a:latin typeface="Cambria"/>
              </a:rPr>
              <a:t>                          </a:t>
            </a:r>
            <a:r>
              <a:rPr b="0" lang="ru-RU" sz="2000" spc="-1" strike="noStrike">
                <a:solidFill>
                  <a:srgbClr val="464653"/>
                </a:solidFill>
                <a:latin typeface="Cambria"/>
              </a:rPr>
              <a:t>А.А.Потеб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0" y="404640"/>
            <a:ext cx="1905120" cy="2581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93958"/>
                </a:solidFill>
                <a:latin typeface="Cambria"/>
              </a:rPr>
              <a:t>Официально-деловой </a:t>
            </a:r>
            <a:br>
              <a:rPr sz="2900"/>
            </a:br>
            <a:r>
              <a:rPr b="1" lang="ru-RU" sz="2900" spc="-1" strike="noStrike">
                <a:solidFill>
                  <a:srgbClr val="393958"/>
                </a:solidFill>
                <a:latin typeface="Cambria"/>
              </a:rPr>
              <a:t>стиль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говоры, законы, деловые бумаг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6715080" y="3071880"/>
            <a:ext cx="1714680" cy="13572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"/>
          <p:cNvPicPr/>
          <p:nvPr/>
        </p:nvPicPr>
        <p:blipFill>
          <a:blip r:embed="rId2"/>
          <a:stretch/>
        </p:blipFill>
        <p:spPr>
          <a:xfrm>
            <a:off x="1285920" y="4714920"/>
            <a:ext cx="1928880" cy="15001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"/>
          <p:cNvPicPr/>
          <p:nvPr/>
        </p:nvPicPr>
        <p:blipFill>
          <a:blip r:embed="rId3"/>
          <a:stretch/>
        </p:blipFill>
        <p:spPr>
          <a:xfrm>
            <a:off x="785880" y="2857680"/>
            <a:ext cx="1571400" cy="11430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"/>
          <p:cNvPicPr/>
          <p:nvPr/>
        </p:nvPicPr>
        <p:blipFill>
          <a:blip r:embed="rId4"/>
          <a:stretch/>
        </p:blipFill>
        <p:spPr>
          <a:xfrm>
            <a:off x="3786120" y="3643200"/>
            <a:ext cx="1595520" cy="22654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"/>
          <p:cNvPicPr/>
          <p:nvPr/>
        </p:nvPicPr>
        <p:blipFill>
          <a:blip r:embed="rId5"/>
          <a:stretch/>
        </p:blipFill>
        <p:spPr>
          <a:xfrm>
            <a:off x="5715000" y="4857840"/>
            <a:ext cx="2071800" cy="1371600"/>
          </a:xfrm>
          <a:prstGeom prst="rect">
            <a:avLst/>
          </a:prstGeom>
          <a:ln w="0">
            <a:noFill/>
          </a:ln>
        </p:spPr>
      </p:pic>
      <p:sp>
        <p:nvSpPr>
          <p:cNvPr id="420" name="Овал 8"/>
          <p:cNvSpPr/>
          <p:nvPr/>
        </p:nvSpPr>
        <p:spPr>
          <a:xfrm>
            <a:off x="4143240" y="2286000"/>
            <a:ext cx="785880" cy="42876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Прямая со стрелкой 10"/>
          <p:cNvCxnSpPr>
            <a:stCxn id="420" idx="4"/>
          </p:cNvCxnSpPr>
          <p:nvPr/>
        </p:nvCxnSpPr>
        <p:spPr>
          <a:xfrm>
            <a:off x="4534560" y="2714400"/>
            <a:ext cx="37080" cy="85788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422" name="Прямая со стрелкой 14"/>
          <p:cNvCxnSpPr>
            <a:stCxn id="420" idx="3"/>
          </p:cNvCxnSpPr>
          <p:nvPr/>
        </p:nvCxnSpPr>
        <p:spPr>
          <a:xfrm flipH="1">
            <a:off x="2571120" y="2651040"/>
            <a:ext cx="1686600" cy="56448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423" name="Прямая со стрелкой 16"/>
          <p:cNvCxnSpPr>
            <a:stCxn id="420" idx="5"/>
          </p:cNvCxnSpPr>
          <p:nvPr/>
        </p:nvCxnSpPr>
        <p:spPr>
          <a:xfrm>
            <a:off x="4813920" y="2651040"/>
            <a:ext cx="1757880" cy="63576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424" name="Прямая со стрелкой 18"/>
          <p:cNvCxnSpPr>
            <a:stCxn id="420" idx="3"/>
          </p:cNvCxnSpPr>
          <p:nvPr/>
        </p:nvCxnSpPr>
        <p:spPr>
          <a:xfrm flipH="1">
            <a:off x="2642400" y="2650680"/>
            <a:ext cx="1615320" cy="170748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425" name="Прямая со стрелкой 20"/>
          <p:cNvCxnSpPr>
            <a:stCxn id="420" idx="5"/>
          </p:cNvCxnSpPr>
          <p:nvPr/>
        </p:nvCxnSpPr>
        <p:spPr>
          <a:xfrm>
            <a:off x="4815000" y="2650680"/>
            <a:ext cx="1543680" cy="206460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93958"/>
                </a:solidFill>
                <a:latin typeface="Cambria"/>
              </a:rPr>
              <a:t>Публицистический стиль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азеты, журналы, митинги, собрания, радио, телевид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143760" y="2928960"/>
            <a:ext cx="1714320" cy="12142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4572000" y="3786120"/>
            <a:ext cx="1928880" cy="12859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3000240" y="4714920"/>
            <a:ext cx="1814760" cy="12859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5" descr=""/>
          <p:cNvPicPr/>
          <p:nvPr/>
        </p:nvPicPr>
        <p:blipFill>
          <a:blip r:embed="rId4"/>
          <a:stretch/>
        </p:blipFill>
        <p:spPr>
          <a:xfrm>
            <a:off x="1143000" y="4643280"/>
            <a:ext cx="1428840" cy="1371600"/>
          </a:xfrm>
          <a:prstGeom prst="rect">
            <a:avLst/>
          </a:prstGeom>
          <a:ln w="0">
            <a:noFill/>
          </a:ln>
        </p:spPr>
      </p:pic>
      <p:sp>
        <p:nvSpPr>
          <p:cNvPr id="432" name="Овал 7"/>
          <p:cNvSpPr/>
          <p:nvPr/>
        </p:nvSpPr>
        <p:spPr>
          <a:xfrm>
            <a:off x="1143000" y="2571840"/>
            <a:ext cx="857160" cy="57132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3" name="Прямая со стрелкой 9"/>
          <p:cNvCxnSpPr/>
          <p:nvPr/>
        </p:nvCxnSpPr>
        <p:spPr>
          <a:xfrm>
            <a:off x="1928520" y="2928600"/>
            <a:ext cx="3715560" cy="42948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434" name="Прямая со стрелкой 12"/>
          <p:cNvCxnSpPr>
            <a:stCxn id="432" idx="5"/>
          </p:cNvCxnSpPr>
          <p:nvPr/>
        </p:nvCxnSpPr>
        <p:spPr>
          <a:xfrm>
            <a:off x="1873800" y="3058920"/>
            <a:ext cx="2554920" cy="108468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435" name="Прямая со стрелкой 14"/>
          <p:cNvCxnSpPr/>
          <p:nvPr/>
        </p:nvCxnSpPr>
        <p:spPr>
          <a:xfrm>
            <a:off x="1714680" y="3142800"/>
            <a:ext cx="1715040" cy="142956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436" name="Прямая со стрелкой 17"/>
          <p:cNvCxnSpPr>
            <a:stCxn id="432" idx="4"/>
          </p:cNvCxnSpPr>
          <p:nvPr/>
        </p:nvCxnSpPr>
        <p:spPr>
          <a:xfrm>
            <a:off x="1571760" y="3143160"/>
            <a:ext cx="72000" cy="128664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93958"/>
                </a:solidFill>
                <a:latin typeface="Cambria"/>
              </a:rPr>
              <a:t>Функциональные </a:t>
            </a:r>
            <a:br>
              <a:rPr sz="2900"/>
            </a:br>
            <a:r>
              <a:rPr b="1" lang="ru-RU" sz="2900" spc="-1" strike="noStrike">
                <a:solidFill>
                  <a:srgbClr val="393958"/>
                </a:solidFill>
                <a:latin typeface="Cambria"/>
              </a:rPr>
              <a:t>разновидности языка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38" name="Picture 4" descr="141"/>
          <p:cNvPicPr/>
          <p:nvPr/>
        </p:nvPicPr>
        <p:blipFill>
          <a:blip r:embed="rId1"/>
          <a:stretch/>
        </p:blipFill>
        <p:spPr>
          <a:xfrm>
            <a:off x="285840" y="4071960"/>
            <a:ext cx="1866960" cy="2590920"/>
          </a:xfrm>
          <a:prstGeom prst="rect">
            <a:avLst/>
          </a:prstGeom>
          <a:ln w="0">
            <a:noFill/>
          </a:ln>
        </p:spPr>
      </p:pic>
      <p:sp>
        <p:nvSpPr>
          <p:cNvPr id="439" name="Прямоугольник 3"/>
          <p:cNvSpPr/>
          <p:nvPr/>
        </p:nvSpPr>
        <p:spPr>
          <a:xfrm>
            <a:off x="928800" y="1928880"/>
            <a:ext cx="3286080" cy="121428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азговорная ре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оугольник 4"/>
          <p:cNvSpPr/>
          <p:nvPr/>
        </p:nvSpPr>
        <p:spPr>
          <a:xfrm>
            <a:off x="5143680" y="1928880"/>
            <a:ext cx="3286080" cy="121428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Язык художественной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оугольник 5"/>
          <p:cNvSpPr/>
          <p:nvPr/>
        </p:nvSpPr>
        <p:spPr>
          <a:xfrm>
            <a:off x="3000240" y="3429000"/>
            <a:ext cx="3500640" cy="250020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Функциональные ст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у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фициально-дел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ублицист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ТЕКСТ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кс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от лат.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extum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ткань», «связь», «соединение»; это произведение речи, в котором предложения связаны в целое темой и основной мыслью и соединены по смыслу и грамматиче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кс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несколько предложений, связанных по смыслу и грамматиче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Picture 4" descr="2"/>
          <p:cNvPicPr/>
          <p:nvPr/>
        </p:nvPicPr>
        <p:blipFill>
          <a:blip r:embed="rId1"/>
          <a:stretch/>
        </p:blipFill>
        <p:spPr>
          <a:xfrm>
            <a:off x="6413400" y="4500720"/>
            <a:ext cx="2087640" cy="19285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Типы речи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писание явлени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роды, людей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пейзажные, портретные</a:t>
            </a:r>
            <a:r>
              <a:rPr b="0" lang="ru-RU" sz="2600" spc="-1" strike="noStrike">
                <a:solidFill>
                  <a:srgbClr val="80685f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сказ о событиях 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х последовательно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зложение, разъяснение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дтверждени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акой-либо мысл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Выноска со стрелкой вправо 3"/>
          <p:cNvSpPr/>
          <p:nvPr/>
        </p:nvSpPr>
        <p:spPr>
          <a:xfrm>
            <a:off x="357120" y="1928880"/>
            <a:ext cx="3286080" cy="1000080"/>
          </a:xfrm>
          <a:prstGeom prst="rightArrowCallout">
            <a:avLst>
              <a:gd name="adj1" fmla="val 25002"/>
              <a:gd name="adj2" fmla="val 25000"/>
              <a:gd name="adj3" fmla="val 24993"/>
              <a:gd name="adj4" fmla="val 64977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пис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Выноска со стрелкой вправо 4"/>
          <p:cNvSpPr/>
          <p:nvPr/>
        </p:nvSpPr>
        <p:spPr>
          <a:xfrm>
            <a:off x="357120" y="3214800"/>
            <a:ext cx="4143600" cy="1000080"/>
          </a:xfrm>
          <a:prstGeom prst="rightArrowCallout">
            <a:avLst>
              <a:gd name="adj1" fmla="val 25002"/>
              <a:gd name="adj2" fmla="val 25000"/>
              <a:gd name="adj3" fmla="val 24994"/>
              <a:gd name="adj4" fmla="val 64977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овеств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Выноска со стрелкой вправо 5"/>
          <p:cNvSpPr/>
          <p:nvPr/>
        </p:nvSpPr>
        <p:spPr>
          <a:xfrm>
            <a:off x="357120" y="4572000"/>
            <a:ext cx="4143600" cy="1000080"/>
          </a:xfrm>
          <a:prstGeom prst="rightArrowCallout">
            <a:avLst>
              <a:gd name="adj1" fmla="val 25002"/>
              <a:gd name="adj2" fmla="val 25000"/>
              <a:gd name="adj3" fmla="val 24994"/>
              <a:gd name="adj4" fmla="val 64977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асс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93958"/>
                </a:solidFill>
                <a:latin typeface="Cambria"/>
              </a:rPr>
              <a:t>Основные функции языка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64" name="Picture 4" descr="j0336916"/>
          <p:cNvPicPr/>
          <p:nvPr/>
        </p:nvPicPr>
        <p:blipFill>
          <a:blip r:embed="rId1"/>
          <a:stretch/>
        </p:blipFill>
        <p:spPr>
          <a:xfrm>
            <a:off x="500040" y="4500720"/>
            <a:ext cx="1857240" cy="2028600"/>
          </a:xfrm>
          <a:prstGeom prst="rect">
            <a:avLst/>
          </a:prstGeom>
          <a:ln w="0">
            <a:noFill/>
          </a:ln>
        </p:spPr>
      </p:pic>
      <p:sp>
        <p:nvSpPr>
          <p:cNvPr id="365" name="Овал 3"/>
          <p:cNvSpPr/>
          <p:nvPr/>
        </p:nvSpPr>
        <p:spPr>
          <a:xfrm>
            <a:off x="928800" y="1500120"/>
            <a:ext cx="4500360" cy="100008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оммуника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Овал 4"/>
          <p:cNvSpPr/>
          <p:nvPr/>
        </p:nvSpPr>
        <p:spPr>
          <a:xfrm>
            <a:off x="2000160" y="2571840"/>
            <a:ext cx="4143600" cy="92844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огни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5"/>
          <p:cNvSpPr/>
          <p:nvPr/>
        </p:nvSpPr>
        <p:spPr>
          <a:xfrm>
            <a:off x="3714840" y="3571920"/>
            <a:ext cx="4500360" cy="107136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умуля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Овал 6"/>
          <p:cNvSpPr/>
          <p:nvPr/>
        </p:nvSpPr>
        <p:spPr>
          <a:xfrm>
            <a:off x="4857840" y="4786200"/>
            <a:ext cx="4000320" cy="107172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эстет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2"/>
          <a:stretch/>
        </p:blipFill>
        <p:spPr>
          <a:xfrm>
            <a:off x="5857920" y="1500120"/>
            <a:ext cx="1714320" cy="1000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"/>
          <p:cNvPicPr/>
          <p:nvPr/>
        </p:nvPicPr>
        <p:blipFill>
          <a:blip r:embed="rId3"/>
          <a:stretch/>
        </p:blipFill>
        <p:spPr>
          <a:xfrm>
            <a:off x="3214800" y="492912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"/>
          <p:cNvPicPr/>
          <p:nvPr/>
        </p:nvPicPr>
        <p:blipFill>
          <a:blip r:embed="rId4"/>
          <a:stretch/>
        </p:blipFill>
        <p:spPr>
          <a:xfrm>
            <a:off x="7072200" y="2286000"/>
            <a:ext cx="1571760" cy="1071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Поработаем со словарем.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муникативный – от лат.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communikare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делать общим», «связывать», «общаться»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нитивный – от лат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cognoscere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понимать», «осознавать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умулятивный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 лат.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cumulation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«увеличение», «скоплен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стетический – от греч.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aisthetes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чувствующи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Picture 4" descr="2"/>
          <p:cNvPicPr/>
          <p:nvPr/>
        </p:nvPicPr>
        <p:blipFill>
          <a:blip r:embed="rId1"/>
          <a:stretch/>
        </p:blipFill>
        <p:spPr>
          <a:xfrm>
            <a:off x="6572160" y="4500720"/>
            <a:ext cx="2038320" cy="17859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93958"/>
                </a:solidFill>
                <a:latin typeface="Cambria"/>
              </a:rPr>
              <a:t>Функциональные </a:t>
            </a:r>
            <a:br>
              <a:rPr sz="2900"/>
            </a:br>
            <a:r>
              <a:rPr b="1" lang="ru-RU" sz="2900" spc="-1" strike="noStrike">
                <a:solidFill>
                  <a:srgbClr val="393958"/>
                </a:solidFill>
                <a:latin typeface="Cambria"/>
              </a:rPr>
              <a:t>разновидности языка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76" name="Picture 4" descr="128"/>
          <p:cNvPicPr/>
          <p:nvPr/>
        </p:nvPicPr>
        <p:blipFill>
          <a:blip r:embed="rId1"/>
          <a:stretch/>
        </p:blipFill>
        <p:spPr>
          <a:xfrm>
            <a:off x="4019400" y="2887560"/>
            <a:ext cx="1105200" cy="1600200"/>
          </a:xfrm>
          <a:prstGeom prst="rect">
            <a:avLst/>
          </a:prstGeom>
          <a:ln w="0">
            <a:noFill/>
          </a:ln>
        </p:spPr>
      </p:pic>
      <p:sp>
        <p:nvSpPr>
          <p:cNvPr id="377" name="Прямоугольник 3"/>
          <p:cNvSpPr/>
          <p:nvPr/>
        </p:nvSpPr>
        <p:spPr>
          <a:xfrm>
            <a:off x="755640" y="1928880"/>
            <a:ext cx="3024360" cy="121428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азговорная ре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4"/>
          <p:cNvSpPr/>
          <p:nvPr/>
        </p:nvSpPr>
        <p:spPr>
          <a:xfrm>
            <a:off x="5143680" y="1928880"/>
            <a:ext cx="3286080" cy="121428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Язык художественной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5"/>
          <p:cNvSpPr/>
          <p:nvPr/>
        </p:nvSpPr>
        <p:spPr>
          <a:xfrm>
            <a:off x="3000240" y="4724280"/>
            <a:ext cx="3500640" cy="122580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Функциональные ст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93958"/>
                </a:solidFill>
                <a:latin typeface="Cambria"/>
              </a:rPr>
              <a:t>Разговорная речь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принужденное общение, обмен мыслям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928800" y="2571840"/>
            <a:ext cx="2228760" cy="15001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"/>
          <p:cNvPicPr/>
          <p:nvPr/>
        </p:nvPicPr>
        <p:blipFill>
          <a:blip r:embed="rId2"/>
          <a:stretch/>
        </p:blipFill>
        <p:spPr>
          <a:xfrm>
            <a:off x="2000160" y="4286160"/>
            <a:ext cx="2428920" cy="15289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"/>
          <p:cNvPicPr/>
          <p:nvPr/>
        </p:nvPicPr>
        <p:blipFill>
          <a:blip r:embed="rId3"/>
          <a:stretch/>
        </p:blipFill>
        <p:spPr>
          <a:xfrm>
            <a:off x="6000840" y="2428920"/>
            <a:ext cx="2166840" cy="16318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"/>
          <p:cNvPicPr/>
          <p:nvPr/>
        </p:nvPicPr>
        <p:blipFill>
          <a:blip r:embed="rId4"/>
          <a:stretch/>
        </p:blipFill>
        <p:spPr>
          <a:xfrm>
            <a:off x="4929120" y="4286160"/>
            <a:ext cx="2500560" cy="1500120"/>
          </a:xfrm>
          <a:prstGeom prst="rect">
            <a:avLst/>
          </a:prstGeom>
          <a:ln w="0">
            <a:noFill/>
          </a:ln>
        </p:spPr>
      </p:pic>
      <p:sp>
        <p:nvSpPr>
          <p:cNvPr id="386" name="Овал 7"/>
          <p:cNvSpPr/>
          <p:nvPr/>
        </p:nvSpPr>
        <p:spPr>
          <a:xfrm>
            <a:off x="4286160" y="2786040"/>
            <a:ext cx="714600" cy="57168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Прямая со стрелкой 9"/>
          <p:cNvCxnSpPr>
            <a:stCxn id="386" idx="2"/>
          </p:cNvCxnSpPr>
          <p:nvPr/>
        </p:nvCxnSpPr>
        <p:spPr>
          <a:xfrm flipH="1" flipV="1">
            <a:off x="3428280" y="3071520"/>
            <a:ext cx="857880" cy="216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388" name="Прямая со стрелкой 11"/>
          <p:cNvCxnSpPr>
            <a:stCxn id="386" idx="6"/>
          </p:cNvCxnSpPr>
          <p:nvPr/>
        </p:nvCxnSpPr>
        <p:spPr>
          <a:xfrm>
            <a:off x="5000400" y="3071880"/>
            <a:ext cx="857880" cy="216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389" name="Прямая со стрелкой 13"/>
          <p:cNvCxnSpPr>
            <a:stCxn id="386" idx="3"/>
          </p:cNvCxnSpPr>
          <p:nvPr/>
        </p:nvCxnSpPr>
        <p:spPr>
          <a:xfrm flipH="1">
            <a:off x="3785760" y="3273480"/>
            <a:ext cx="605520" cy="87048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390" name="Прямая со стрелкой 15"/>
          <p:cNvCxnSpPr>
            <a:stCxn id="386" idx="5"/>
          </p:cNvCxnSpPr>
          <p:nvPr/>
        </p:nvCxnSpPr>
        <p:spPr>
          <a:xfrm>
            <a:off x="4896000" y="3273120"/>
            <a:ext cx="676800" cy="94212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93958"/>
                </a:solidFill>
                <a:latin typeface="Cambria"/>
              </a:rPr>
              <a:t>Язык художественной литературы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изведения художественной литератур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1071720" y="2446200"/>
            <a:ext cx="1714320" cy="11779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"/>
          <p:cNvPicPr/>
          <p:nvPr/>
        </p:nvPicPr>
        <p:blipFill>
          <a:blip r:embed="rId2"/>
          <a:stretch/>
        </p:blipFill>
        <p:spPr>
          <a:xfrm>
            <a:off x="6643800" y="2428920"/>
            <a:ext cx="1357200" cy="1428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"/>
          <p:cNvPicPr/>
          <p:nvPr/>
        </p:nvPicPr>
        <p:blipFill>
          <a:blip r:embed="rId3"/>
          <a:stretch/>
        </p:blipFill>
        <p:spPr>
          <a:xfrm>
            <a:off x="2286000" y="4000680"/>
            <a:ext cx="1857240" cy="13935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"/>
          <p:cNvPicPr/>
          <p:nvPr/>
        </p:nvPicPr>
        <p:blipFill>
          <a:blip r:embed="rId4"/>
          <a:stretch/>
        </p:blipFill>
        <p:spPr>
          <a:xfrm>
            <a:off x="4643280" y="4000680"/>
            <a:ext cx="1857600" cy="1428480"/>
          </a:xfrm>
          <a:prstGeom prst="rect">
            <a:avLst/>
          </a:prstGeom>
          <a:ln w="0">
            <a:noFill/>
          </a:ln>
        </p:spPr>
      </p:pic>
      <p:sp>
        <p:nvSpPr>
          <p:cNvPr id="397" name="Овал 7"/>
          <p:cNvSpPr/>
          <p:nvPr/>
        </p:nvSpPr>
        <p:spPr>
          <a:xfrm>
            <a:off x="4214880" y="3071880"/>
            <a:ext cx="571320" cy="50004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8" name="Прямая со стрелкой 9"/>
          <p:cNvCxnSpPr>
            <a:stCxn id="397" idx="6"/>
          </p:cNvCxnSpPr>
          <p:nvPr/>
        </p:nvCxnSpPr>
        <p:spPr>
          <a:xfrm>
            <a:off x="4786200" y="3321000"/>
            <a:ext cx="1572480" cy="3744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399" name="Прямая со стрелкой 11"/>
          <p:cNvCxnSpPr>
            <a:stCxn id="397" idx="5"/>
          </p:cNvCxnSpPr>
          <p:nvPr/>
        </p:nvCxnSpPr>
        <p:spPr>
          <a:xfrm>
            <a:off x="4701240" y="3498480"/>
            <a:ext cx="370440" cy="35964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400" name="Прямая со стрелкой 13"/>
          <p:cNvCxnSpPr>
            <a:stCxn id="397" idx="2"/>
          </p:cNvCxnSpPr>
          <p:nvPr/>
        </p:nvCxnSpPr>
        <p:spPr>
          <a:xfrm flipH="1" flipV="1">
            <a:off x="2999880" y="3285720"/>
            <a:ext cx="1215360" cy="3744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401" name="Прямая со стрелкой 15"/>
          <p:cNvCxnSpPr>
            <a:stCxn id="397" idx="3"/>
          </p:cNvCxnSpPr>
          <p:nvPr/>
        </p:nvCxnSpPr>
        <p:spPr>
          <a:xfrm flipH="1">
            <a:off x="3857400" y="3498480"/>
            <a:ext cx="442080" cy="35964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93958"/>
                </a:solidFill>
                <a:latin typeface="Cambria"/>
              </a:rPr>
              <a:t>Научный стиль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учные труды, тексты учебников, выступления на научные тем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714240" y="2714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2"/>
          <a:stretch/>
        </p:blipFill>
        <p:spPr>
          <a:xfrm>
            <a:off x="2071800" y="3786120"/>
            <a:ext cx="1928880" cy="13622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"/>
          <p:cNvPicPr/>
          <p:nvPr/>
        </p:nvPicPr>
        <p:blipFill>
          <a:blip r:embed="rId3"/>
          <a:stretch/>
        </p:blipFill>
        <p:spPr>
          <a:xfrm>
            <a:off x="3714840" y="4786200"/>
            <a:ext cx="1643040" cy="13035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"/>
          <p:cNvPicPr/>
          <p:nvPr/>
        </p:nvPicPr>
        <p:blipFill>
          <a:blip r:embed="rId4"/>
          <a:stretch/>
        </p:blipFill>
        <p:spPr>
          <a:xfrm>
            <a:off x="5214960" y="5572080"/>
            <a:ext cx="1571760" cy="1143000"/>
          </a:xfrm>
          <a:prstGeom prst="rect">
            <a:avLst/>
          </a:prstGeom>
          <a:ln w="0">
            <a:noFill/>
          </a:ln>
        </p:spPr>
      </p:pic>
      <p:sp>
        <p:nvSpPr>
          <p:cNvPr id="408" name="Овал 7"/>
          <p:cNvSpPr/>
          <p:nvPr/>
        </p:nvSpPr>
        <p:spPr>
          <a:xfrm>
            <a:off x="7072200" y="2928960"/>
            <a:ext cx="785880" cy="78588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9" name="Прямая со стрелкой 9"/>
          <p:cNvCxnSpPr>
            <a:stCxn id="408" idx="2"/>
          </p:cNvCxnSpPr>
          <p:nvPr/>
        </p:nvCxnSpPr>
        <p:spPr>
          <a:xfrm flipH="1" flipV="1">
            <a:off x="3071520" y="3285720"/>
            <a:ext cx="4001040" cy="3744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410" name="Прямая со стрелкой 11"/>
          <p:cNvCxnSpPr/>
          <p:nvPr/>
        </p:nvCxnSpPr>
        <p:spPr>
          <a:xfrm flipH="1">
            <a:off x="5071680" y="3499200"/>
            <a:ext cx="2000880" cy="78660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411" name="Прямая со стрелкой 14"/>
          <p:cNvCxnSpPr>
            <a:stCxn id="408" idx="3"/>
          </p:cNvCxnSpPr>
          <p:nvPr/>
        </p:nvCxnSpPr>
        <p:spPr>
          <a:xfrm flipH="1">
            <a:off x="5643360" y="3600000"/>
            <a:ext cx="1545120" cy="154404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412" name="Прямая со стрелкой 16"/>
          <p:cNvCxnSpPr/>
          <p:nvPr/>
        </p:nvCxnSpPr>
        <p:spPr>
          <a:xfrm flipH="1">
            <a:off x="6715080" y="3642840"/>
            <a:ext cx="643320" cy="171540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8-08-12T05:25:57Z</dcterms:modified>
  <cp:revision>25</cp:revision>
  <dc:subject/>
  <dc:title>Слайд 1</dc:title>
</cp:coreProperties>
</file>