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BB45-1D88-423A-BF55-1329A509DA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042A6-FF22-45C4-9377-67A15105C9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1E1B-CDD7-4EBD-A5C9-E18BE81C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871D-55CC-4D8F-97CD-C986EF92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B36E-EA6E-41DA-9021-DDC6E85B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C561-658E-433D-931C-378CD4A2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291F9-F60B-459C-8D28-79990CB1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C7D0B-E075-4DE6-9D54-515A5DC8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F3191-C746-48F5-A18C-DE5289F2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F7552-300E-4167-9E07-EA19B024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A3AD7A-425C-46E4-B880-653D116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4C016-F958-4D7A-9BF5-9BC01CAD1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1375E-9C66-45A6-9533-07CA70D3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BEB2-CC5C-4DC5-B01C-EEC7F97D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B0F24-7812-4A45-B673-7EB731EB5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BB944-0497-4427-8DC4-198D5ABD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E1D0A4-3819-4978-AB76-2AAF7D05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D5281-BABC-4220-BD80-F60D066E6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29284-7902-4688-A171-CEC1CE11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ACFE2-5FBA-4514-BA71-84512CF31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2910E-9A64-418F-9F2E-97318353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89CE9-D861-4646-9C0C-CE9D481C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F34B3-60CB-40E3-A0C9-65DEFCF98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826DF-9702-4A51-8535-95C2C7751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55F4-DF14-4C38-AE95-7F7584ED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60B37-9B22-4792-9482-F8636766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2607F-B242-4539-8FA0-FB401ACE0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B630B-AA9B-4300-B258-8F39282B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FE79C-67D5-4560-918C-76D4222D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A9F9F-377E-4466-8E56-642840E7C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7ECEB-C9CB-410B-B2A6-9EB86D1F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A5AD1-BCB7-47A1-9BA0-F061F67A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B52AA0-A874-45FE-BC5E-1CF26AD3C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B2143-353F-479A-87EB-993F4F19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EFCA5-C088-4DBD-963F-4973EEDF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741-0139-468F-88E0-23833890A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73DEAF-FD9B-4536-A226-C3495C3F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819FD-F837-4268-BF3A-4C218B4D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C6F2A3-DE29-4AA1-9A08-A03057C55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A28567-DD23-4D2C-8CD9-A758A82F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CACD12-A697-4CA1-8B00-FF4D8E88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BABA04-2ED1-44ED-A223-B0B420E7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EBC4CD-AA5C-4D5E-9A27-7D0D9C77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9092C6-B60B-4AC9-863C-F469211F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CB314C-DAA3-46FA-B039-3070430BD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DC8C-0CC6-4F38-A51C-C206B896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E183-3FBB-4B41-B2B2-308F3912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8383-F351-4B8C-BB0A-82256032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4468-4AC7-4CD3-AF78-80C7599E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3C6-B3F4-4581-92CD-BD0CA785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C676-1BE5-48FA-9959-57C64649687C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EF84-A582-4865-81F8-B9F2A8CF9924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FB67-95B6-4961-88E6-814AAA99D05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BED98-5A3A-4E98-A53A-A6EC5B26BAE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755640" y="2511360"/>
            <a:ext cx="7772400" cy="3584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Руслан\Мои документы\буклет\панама.jpeg"/>
          <p:cNvPicPr/>
          <p:nvPr/>
        </p:nvPicPr>
        <p:blipFill>
          <a:blip r:embed="rId2"/>
          <a:stretch/>
        </p:blipFill>
        <p:spPr>
          <a:xfrm>
            <a:off x="5000760" y="642960"/>
            <a:ext cx="2404800" cy="13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Documents and Settings\Руслан\Мои документы\буклет\участник афганской войны.jpeg"/>
          <p:cNvPicPr/>
          <p:nvPr/>
        </p:nvPicPr>
        <p:blipFill>
          <a:blip r:embed="rId3"/>
          <a:stretch/>
        </p:blipFill>
        <p:spPr>
          <a:xfrm>
            <a:off x="642960" y="571680"/>
            <a:ext cx="2786040" cy="1500120"/>
          </a:xfrm>
          <a:prstGeom prst="rect">
            <a:avLst/>
          </a:prstGeom>
          <a:ln w="0">
            <a:noFill/>
          </a:ln>
        </p:spPr>
      </p:pic>
      <p:pic>
        <p:nvPicPr>
          <p:cNvPr id="180" name="письмо матери.mp3" descr=""/>
          <p:cNvPicPr/>
          <p:nvPr/>
        </p:nvPicPr>
        <p:blipFill>
          <a:blip r:embed="rId4"/>
          <a:stretch/>
        </p:blipFill>
        <p:spPr>
          <a:xfrm>
            <a:off x="738036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11280" y="64440"/>
            <a:ext cx="7529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auhaus 93"/>
              </a:rPr>
              <a:t>15  февраля 1989 г.</a:t>
            </a: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ВЫВОД Советских войск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из Афганистана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3" name="best-mp3.ru_sprint_-_afganistan.mp3" descr=""/>
          <p:cNvPicPr/>
          <p:nvPr/>
        </p:nvPicPr>
        <p:blipFill>
          <a:blip r:embed="rId2"/>
          <a:stretch/>
        </p:blipFill>
        <p:spPr>
          <a:xfrm>
            <a:off x="766764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Афганистан726200"/>
          <p:cNvPicPr/>
          <p:nvPr/>
        </p:nvPicPr>
        <p:blipFill>
          <a:blip r:embed="rId3"/>
          <a:srcRect l="0" t="7545" r="0" b="9349"/>
          <a:stretch/>
        </p:blipFill>
        <p:spPr>
          <a:xfrm>
            <a:off x="684360" y="2502000"/>
            <a:ext cx="7885080" cy="43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7" name="Picture 5" descr="АФГadf691fe43f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0" name="Picture 7" descr="Афганистан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" descr="http://artofwar.ru/img/r/roj_e/text_0140/ljahovuch3.jpg"/>
          <p:cNvPicPr/>
          <p:nvPr/>
        </p:nvPicPr>
        <p:blipFill>
          <a:blip r:embed="rId2"/>
          <a:stretch/>
        </p:blipFill>
        <p:spPr>
          <a:xfrm>
            <a:off x="-1440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785880" y="785880"/>
            <a:ext cx="792936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ле окончания войны в СССР были опубликованы цифры погибших советских солдат с разбивкой по годам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79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86 человек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4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2346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0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484 человека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5 год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868 челове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1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298 человек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6 год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333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2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948 человек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7 год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    1215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3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446 человек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8 год 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759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9  год   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653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9лет наша страна потеряла по официальным данным 13310человек убитыми, более 30тыс. раненными и искалеченными, около 300 пленными и пропавшими без вест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6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139680"/>
            <a:ext cx="62848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аф..jpe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1714680" y="2214720"/>
            <a:ext cx="542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икто не забыт – ничто не забыто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о чтобы не забыть – надо помнить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А чтобы помнить – надо знать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187280" y="333360"/>
            <a:ext cx="64803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не терпит суеслов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а её народная стез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ё страницы, залитые кровью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е любить без памяти нельзя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4:06:11Z</dcterms:created>
  <dc:creator>РИТА</dc:creator>
  <dc:description/>
  <dc:language>en-US</dc:language>
  <cp:lastModifiedBy>Пользователь Windows</cp:lastModifiedBy>
  <dcterms:modified xsi:type="dcterms:W3CDTF">2018-02-11T16:46:54Z</dcterms:modified>
  <cp:revision>61</cp:revision>
  <dc:subject/>
  <dc:title>Слайд 1</dc:title>
</cp:coreProperties>
</file>