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3FDBB-B130-47A2-B0F2-6C53528A59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ADB9A-1913-4D47-95F8-281F85F1358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BA2C-B01E-4228-BD59-23A4033AC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CFC8-169C-4402-8E60-91BC165F0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72B8-DA2C-4710-9FA4-5712DA853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04A4-77F5-490B-BE57-F022A0C80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04D4A5-23AB-4518-BBBF-BF49A2EEC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4591D7-D8BB-4B77-A5CF-D554EC2F5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94E0A3-78A7-445C-BAF7-2D1E43972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99AC99-ADF3-4043-96B8-2933B1C9F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197CC4-8F66-41A5-88E3-97AD62DD6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1774DF-6A05-494B-ACA8-8DEE8D0BD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67CA7D-7FCB-488B-94F5-0ABBAA37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EE4E-4CFC-4109-848C-41519A7A9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24D6CB-2E86-454A-B174-CF02A208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5FE87D-D2B2-4FDE-9264-9BFBA606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A2E6DC-15E6-4630-8B42-DAE35E201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616980-E949-4A02-B549-3DFD98122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50C7C3-31A4-412E-839E-781C3EEB8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28257-7DB0-4A46-A9F1-81568F01A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E7BD9-AFBD-43FE-91EC-59DF1F114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E693A-E89A-4206-B23C-B87F51739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5BF40-31EF-4814-A47B-3483F6093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E9748-C639-4F77-BB22-DDA951E42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7756-EF3D-4338-AE94-982705D41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1F51C-62FB-4577-ADD2-64E37A23B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2A05A-34B6-4DBF-87EA-DBDA27F5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09CF4-E619-49CF-858F-6B65DD89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B01D9-5615-49EF-B1B6-E0C8DE324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F9A0F-5A93-428A-8D95-FACB2DEB6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15DF9B-E2F2-4B1C-9CC5-3E740876F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857AA-DB01-4A75-886C-5E67FAC46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46619D-9B16-4C81-A312-E31383051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EDA5F0-CE6F-4DB7-9CF7-6B2851DDA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BD379E-7817-4B68-8DBB-E12C482DB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525F-344E-4C41-88EC-C40D4E9A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9F1310-BB9F-457E-AEA8-6BC28349D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154047-DDF7-429D-89E8-189AEF648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697CD4-CA72-459C-A63D-B29B80439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71BB8C-4498-4754-9477-1296CB5B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0BF65A-C667-4E04-9CA8-B596710E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22AA1E-2BE0-467D-8504-EB2C6179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50EE9B-B972-4E25-95F3-D932265E3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360120-CDAD-4D12-BA55-0D19B9917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235BCC-B844-44D0-84FC-D4BF7B60B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61CD-0C08-4732-8206-3569DB87C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F208-2E2D-45DB-A7D2-9DCF3E373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7D48-928B-4153-91C3-7E8FC5A9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8EB6-C678-4FF7-831F-E0487AF6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FDD2-5425-478F-9061-290F382B7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559CF-2962-475D-9BAA-D2B84A435351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31860-C0DD-4E91-97C7-561AC36D3AD8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0D968-E232-4C91-BD29-0C3166CE4069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2D787-AE61-41C5-B4D1-BAEEA9D59476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Заголовок 1" descr=""/>
          <p:cNvPicPr/>
          <p:nvPr/>
        </p:nvPicPr>
        <p:blipFill>
          <a:blip r:embed="rId1"/>
          <a:stretch/>
        </p:blipFill>
        <p:spPr>
          <a:xfrm>
            <a:off x="755640" y="2511360"/>
            <a:ext cx="7772400" cy="35845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C:\Documents and Settings\Руслан\Мои документы\буклет\панама.jpeg"/>
          <p:cNvPicPr/>
          <p:nvPr/>
        </p:nvPicPr>
        <p:blipFill>
          <a:blip r:embed="rId2"/>
          <a:stretch/>
        </p:blipFill>
        <p:spPr>
          <a:xfrm>
            <a:off x="5000760" y="642960"/>
            <a:ext cx="2404800" cy="13572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" descr="C:\Documents and Settings\Руслан\Мои документы\буклет\участник афганской войны.jpeg"/>
          <p:cNvPicPr/>
          <p:nvPr/>
        </p:nvPicPr>
        <p:blipFill>
          <a:blip r:embed="rId3"/>
          <a:stretch/>
        </p:blipFill>
        <p:spPr>
          <a:xfrm>
            <a:off x="642960" y="571680"/>
            <a:ext cx="2786040" cy="1500120"/>
          </a:xfrm>
          <a:prstGeom prst="rect">
            <a:avLst/>
          </a:prstGeom>
          <a:ln w="0">
            <a:noFill/>
          </a:ln>
        </p:spPr>
      </p:pic>
      <p:pic>
        <p:nvPicPr>
          <p:cNvPr id="180" name="письмо матери.mp3" descr=""/>
          <p:cNvPicPr/>
          <p:nvPr/>
        </p:nvPicPr>
        <p:blipFill>
          <a:blip r:embed="rId4"/>
          <a:stretch/>
        </p:blipFill>
        <p:spPr>
          <a:xfrm>
            <a:off x="7380360" y="3933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3"/>
          <p:cNvSpPr/>
          <p:nvPr/>
        </p:nvSpPr>
        <p:spPr>
          <a:xfrm>
            <a:off x="611280" y="64440"/>
            <a:ext cx="752940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ff"/>
                </a:solidFill>
                <a:latin typeface="Bauhaus 93"/>
              </a:rPr>
              <a:t>15  февраля 1989 г.</a:t>
            </a:r>
            <a:r>
              <a:rPr b="1" i="1" lang="ru-RU" sz="4000" spc="-1" strike="noStrike">
                <a:solidFill>
                  <a:srgbClr val="0000ff"/>
                </a:solidFill>
                <a:latin typeface="Bauhaus 93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Bauhaus 93"/>
              </a:rPr>
              <a:t>ВЫВОД Советских войск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ff"/>
                </a:solidFill>
                <a:latin typeface="Bauhaus 93"/>
              </a:rPr>
              <a:t> </a:t>
            </a:r>
            <a:r>
              <a:rPr b="1" i="1" lang="ru-RU" sz="4000" spc="-1" strike="noStrike">
                <a:solidFill>
                  <a:srgbClr val="0000ff"/>
                </a:solidFill>
                <a:latin typeface="Bauhaus 93"/>
              </a:rPr>
              <a:t>из Афганистана.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83" name="best-mp3.ru_sprint_-_afganistan.mp3" descr=""/>
          <p:cNvPicPr/>
          <p:nvPr/>
        </p:nvPicPr>
        <p:blipFill>
          <a:blip r:embed="rId2"/>
          <a:stretch/>
        </p:blipFill>
        <p:spPr>
          <a:xfrm>
            <a:off x="7667640" y="1197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4" descr="Афганистан726200"/>
          <p:cNvPicPr/>
          <p:nvPr/>
        </p:nvPicPr>
        <p:blipFill>
          <a:blip r:embed="rId3"/>
          <a:srcRect l="0" t="7545" r="0" b="9349"/>
          <a:stretch/>
        </p:blipFill>
        <p:spPr>
          <a:xfrm>
            <a:off x="684360" y="2502000"/>
            <a:ext cx="7885080" cy="43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187" name="Picture 5" descr="АФГadf691fe43f_prev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190" name="Picture 7" descr="Афганистан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11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4" name="Рисунок 1" descr="http://artofwar.ru/img/r/roj_e/text_0140/ljahovuch3.jpg"/>
          <p:cNvPicPr/>
          <p:nvPr/>
        </p:nvPicPr>
        <p:blipFill>
          <a:blip r:embed="rId2"/>
          <a:stretch/>
        </p:blipFill>
        <p:spPr>
          <a:xfrm>
            <a:off x="-14400" y="0"/>
            <a:ext cx="91425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Box 1"/>
          <p:cNvSpPr/>
          <p:nvPr/>
        </p:nvSpPr>
        <p:spPr>
          <a:xfrm>
            <a:off x="785880" y="785880"/>
            <a:ext cx="7929360" cy="58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Calibri"/>
              </a:rPr>
              <a:t>После окончания войны в СССР были опубликованы цифры погибших советских солдат с разбивкой по годам: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1979 год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86 человек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1984 год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2346 человек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1980 год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1484 человека              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1985 год     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1868 человека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1981 год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1298 человек                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1986 год     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1333 человек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1982 год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1948 человек                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1987 год 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     1215 человек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1983 год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1446 человек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1988 год      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759 человек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1989  год        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653 человек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За</a:t>
            </a: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c00000"/>
                </a:solidFill>
                <a:latin typeface="Calibri"/>
              </a:rPr>
              <a:t>9лет наша страна потеряла по официальным данным 13310человек убитыми, более 30тыс. раненными и искалеченными, около 300 пленными и пропавшими без вести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96" name="Прямоугольник 3" descr=""/>
          <p:cNvPicPr/>
          <p:nvPr/>
        </p:nvPicPr>
        <p:blipFill>
          <a:blip r:embed="rId1"/>
          <a:stretch/>
        </p:blipFill>
        <p:spPr>
          <a:xfrm>
            <a:off x="1573200" y="139680"/>
            <a:ext cx="6284880" cy="77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Рисунок 1" descr="аф..jpeg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198" name="TextBox 3"/>
          <p:cNvSpPr/>
          <p:nvPr/>
        </p:nvSpPr>
        <p:spPr>
          <a:xfrm>
            <a:off x="1714680" y="2214720"/>
            <a:ext cx="5429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rbel"/>
              </a:rPr>
              <a:t>Никто не забыт – ничто не забыто.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rbel"/>
              </a:rPr>
              <a:t>Но чтобы не забыть – надо помнить.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orbel"/>
              </a:rPr>
              <a:t>А чтобы помнить – надо знать.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Прямоугольник 1"/>
          <p:cNvSpPr/>
          <p:nvPr/>
        </p:nvSpPr>
        <p:spPr>
          <a:xfrm>
            <a:off x="1187280" y="333360"/>
            <a:ext cx="648036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ория не терпит суесловия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удна её народная стезя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ё страницы, залитые кровью,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не любить без памяти нельзя</a:t>
            </a:r>
            <a:r>
              <a:rPr b="1" lang="ru-RU" sz="16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7T04:06:11Z</dcterms:created>
  <dc:creator>РИТА</dc:creator>
  <dc:description/>
  <dc:language>en-US</dc:language>
  <cp:lastModifiedBy>Пользователь Windows</cp:lastModifiedBy>
  <dcterms:modified xsi:type="dcterms:W3CDTF">2018-02-11T16:46:54Z</dcterms:modified>
  <cp:revision>61</cp:revision>
  <dc:subject/>
  <dc:title>Слайд 1</dc:title>
</cp:coreProperties>
</file>