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10.png" ContentType="image/png"/>
  <Override PartName="/ppt/media/bomb.wav" ContentType="audio/x-wav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DD1-03EA-4D39-87C0-33CDF42E7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06F6-7513-481C-8633-07037979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E16F7-119A-4C20-8789-9097320A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321FDA-A01E-4145-AA13-D38F2A57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93147-32F7-411A-8A03-83F2523A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728AF4-DEE2-4B8A-B983-3ADAA69D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1A2DC-4F9E-44C2-BA2C-93E17049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10E49-6CC5-4C34-8294-B18AFAA6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1F77C-5281-4D85-9418-0A43F7931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867C9-F18A-45C7-A6B0-538F9882C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A2628-9C90-4DC3-A97B-7F8AF0511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37AF4C-5004-472C-B6A0-154A62A6D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D291-2A56-4F6E-9247-C684F054E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9258F7-2E9D-40A8-A1A4-615BC9FD4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616A3B-7A63-49DE-8E96-F1F66CC2A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1F3DA-3A6D-4976-B6A3-3E8CCCB2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32088-2C70-4570-B0D3-68C6E6FAC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60846-BC94-4D51-BE72-55B3B157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485951-040E-478B-93C5-C60D6808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EAC7EF-EB25-4626-93AB-F6F099E32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6722F4-A7DC-47FD-892B-8688AB1D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CDF339-C938-482D-8432-17D60359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773D00-8109-4CEA-8AF5-F8281F0C4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D5C-CFE0-4042-90A3-19D0B5C5D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18D0B-55D0-4714-ABB8-CFF5CA3A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0E557-0920-407B-BFBE-66FC2820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24073-3502-45F8-8B68-7F8688736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85A15-7FE5-4CB5-A05E-7F161F13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AF686-3B8D-45F4-AE7B-BCE40DE6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3A1A9F-4635-4E79-BB9A-32BC57513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47E3EF-042A-4998-8210-3657429C6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73DBFC-E15B-4616-8194-A27B513BB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6339C-814E-4070-81D8-CB0CEE3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4EFE94-6FBE-4302-AB10-A2667A5F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71AF4-72FE-4236-B744-603ECC21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679BC-FDF2-4F92-9435-D75F1AC5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90F2F-1659-4921-9E40-D9B13CDCF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4CDD80-FA81-4F83-AEEC-AAE916188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3373D1-AA95-4359-B163-4467C747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395F1-DE25-4BD0-914F-0535710E6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4B6556-BA7A-4385-B8DA-B27D3388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B21F9-594C-4B23-9FD1-BE00D8196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B59A2-2FC3-4819-83F3-A06EFDA5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766486-F1F5-4E1C-B17F-E899B801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C29E5-FA32-4366-84E2-5A1D3B12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38F6-44C9-4D97-9FF4-4044FB7F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54D3A8-0CEB-4B58-A2E5-4608BEBF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06C27C-470E-4E49-93C7-8CD37A29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8D2B33-ABF3-4483-9EE0-1082E457B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38D53-DBAA-4D41-8834-9C670C97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A9289-3C28-46FE-994E-725588A8D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9C59E7-2146-407A-8857-28BF37C22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526A6F-37B7-47DF-95B9-0777A973B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F74E25-D144-445C-9C84-8AAACF5A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8E6F7A-C055-46EB-970F-71078630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10242E-0D3B-4B15-B576-F90E14E5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1DC9-FF02-48DE-9C6F-4763962B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80236E-FCD1-4356-929C-5B1F6051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D06EA4-BF74-453B-A99A-220E87403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446C0-5E26-46C7-96FC-1745782D4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005B72-7871-4362-AAE7-2E2296AD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345515-B0B7-47EA-9AB6-941E13BE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20CE2D-F012-473F-8888-AB3A0EA8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75F9FA-470D-4EFB-8B21-39FD7C97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810609-2911-4E4B-8E62-2B7B7F74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FA328F-F49D-47A8-8094-17EA03B0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BC4E94-8AC0-4B34-AA50-A4E96A61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F4FE-A2AD-49AE-9549-075CE8FB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13B262-228C-4FE1-9C50-B73A99FCC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C479CC-0A14-46EA-858F-AA7F3F562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83225-C402-46B7-BD6A-BE8AF6FB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01041-AB03-4474-9719-BD729EB74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E99A30-93F9-4E55-9195-35AB0165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879283-17DC-4200-884C-226A55AA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30DCF-2080-4EF8-B33A-C4D51756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BA1F69-E2EF-4811-80F4-C88BCA574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A79AB1-6322-4730-834C-B8702598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B287-3C3A-440C-90B3-AA7AC611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28AD-AFDE-4DD2-9F9D-45EC69DE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B08C9-6816-47D0-8E40-6DF432C8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70CA-4EE7-445E-8CC7-A0AED9D0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9CF5-C136-41FE-9A24-A0634ADE4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433F-3898-4191-9C2F-7F2E7962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BB8A9-47F1-4C54-AC1E-5091E2BB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B82C-C0FF-4A0F-90AF-70A9D21B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895A1-7025-4F6B-9F05-2CF387EC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EF265F-9E7B-4559-A074-3CE110461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64B6C-1B2C-48B7-B2B9-38D5C502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13CC1-A0C2-49A4-A9E2-A86117641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C2896-622E-4865-9155-430836276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25410-A4D0-428B-B9FC-7C79F80BA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72C-5B05-4E45-B768-FCAF8264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813CE-E130-4C99-9B26-D2A40818A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1A408-8AF9-42E6-A5DE-E5F97F7B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976A5-DD26-43EB-A55F-3ACB81FB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87563-143C-4507-9557-A3604CD1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1098B-F3F5-43BC-AEC4-F432A799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CE2242-D23B-4A94-A3FE-C38C281FC2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3168C-84C8-4578-8DAB-0243E307D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A921E-5CC6-4092-8829-20BD776F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0A395-406A-47D3-B06C-3ED75BAE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91FEB-AE24-425B-A38F-45DFC3D6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DBF9-3B2E-4B3E-BA72-3582E6CE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3270D-147A-43DC-92E8-82C361FF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072A2-2970-4E39-AA4A-4CC6DEC5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A166D-1C6B-47DD-B69C-0094ACF85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ED398-A020-4232-ABFE-F99E90A9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83E35-3625-4802-A47C-40D98686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73625-D9CE-4665-AB65-637C09B0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C14DDF-EEC3-4C5C-A04E-CF201D88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1903D-37A5-43ED-BF6B-CD1A19D9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81063-2246-435E-9944-83589F74F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8C67C0-18C9-4D66-AF32-DB38D28B9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4B94-016D-4DC4-9DBD-6C6BBA05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9271E-34A1-4D76-BABA-B47EDCDB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EE045-6160-4545-837F-8C211D10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47FDD-153E-4DBC-BD66-5A98891D0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B745E-8ECC-4129-9433-7B5904A7D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4C516-97FB-4921-A872-E7D36972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6BBC5-1946-4743-8B98-262F6F85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F5EA91-CA41-496F-BB07-DDBFBB5A2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B0563-A0F6-4CDF-BA36-CDDCC8E17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D0EE2-B166-4B3D-B113-9A5F8435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BB1B9-C1E9-44EB-B59F-2477B04AD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8A9-1EAD-4274-B89A-3520F767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1A3D9-BAF6-4C75-AB73-2ED4F123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82235-F561-4D3A-9A69-93F25CE2A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21F1E-9CE3-45B4-A447-D8D1F0C5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14938-9823-4466-AFB1-2BD13FE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1EF3D-FC6B-4842-B630-6F667852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E8CE07-14BE-460B-B025-EE039D91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80868-E797-4EFB-A7BA-AF1F8865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6EA5E-2847-4F81-845C-9074EB4D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26128-8694-446D-A0D6-E2873234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55E00-5F19-4646-A756-1E9BCD59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1742F-3643-4A4B-8B32-97DCE241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3E21F3-01EC-4E93-A630-8846DFB67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21F79-11E3-4F99-BC0F-37D2D9A8E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3C2324-58D6-43F6-83DF-EA652A9B1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549EA-9684-4D27-9551-0ACC2F3D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630C4-76E7-4665-BFE1-E4C957F7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D614D8-0FA3-42E7-83A7-AE101E91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95A6B9-242B-40E1-83F1-F7308BEC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3B502-C0F3-4A7C-B8CC-EFFD8EECD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4EC0E9-AD8C-4E31-8F30-EC7CD7E2B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C4CBC-4B1A-49C2-B599-70B6543C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1AE-9DA0-4EC7-BD8C-46C2F3B3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CBF2D-284B-458D-AE47-C2F526F2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545E51-E97F-4DA7-869B-96C5D452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39672-1E35-43A9-A6F2-761CA678F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30C91-F368-42AC-BA91-FAF4D539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046C00-EF35-440A-9AC4-C9F3F494E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EA6CE-6580-4F8E-97AF-825623E75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85677C-58B8-403B-9E6F-6AB90B3B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AAC5F-A902-4016-9FB4-A70531DA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B6F53-781C-47AB-B707-69648AEA4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27268-E063-43FA-85CF-D682516B1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D8AF-7904-4161-A574-D26239C2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230040" y="11556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817AE9-866E-4CFB-B70C-AE57EE56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E8A96-80B7-4EB4-AEEA-8A14E7A4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325DA8-6C5E-424D-8F41-1BF2E6E2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39EF7-D689-481B-8816-04C092BA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6000" y="3702600"/>
            <a:ext cx="757080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9C921-2175-4275-BF78-45FAD63F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995360" y="105228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600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995360" y="3702600"/>
            <a:ext cx="369432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0C324-45E3-4FDE-9415-09DC31C2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759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35560" y="105228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600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759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35560" y="3702600"/>
            <a:ext cx="24375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71C8C-E233-45D7-AD6F-23C6D1382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19BE89-53CF-4025-8CC7-31E071F0B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C61EB-46AC-45F2-9567-3E22F7D2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30040" y="50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D70BE-B571-4882-9B4E-AEADD1E3F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D85D8-C5B8-47D0-877D-674BD05947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846B1-EE49-436D-B223-61B216A7C6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6E15D-9F77-4C7D-8978-5A390189E0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34219-63A0-46C3-99CB-2F24450F291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5AE9-6E5F-447D-BC02-779D5645AA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C00CC-2C76-4F83-9544-8A2FC860AA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9220-1BD8-46ED-94DA-19C337C68B0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96FAD-1AAB-4315-A925-32CD7BE2EE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9ABE-6560-4DD7-8D7F-8EEFF507B0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0692F-2C54-427B-A938-0A1DD150354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57F7-AF33-4706-A986-DB44ACCEE3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FCD56-CC72-47C4-BF55-AA86213DCBE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653F-B263-49E7-8930-FA47E398DB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3"/>
          <p:cNvSpPr/>
          <p:nvPr/>
        </p:nvSpPr>
        <p:spPr>
          <a:xfrm>
            <a:off x="-1765440" y="765000"/>
            <a:ext cx="13458960" cy="7344000"/>
          </a:xfrm>
          <a:prstGeom prst="ellipse">
            <a:avLst/>
          </a:prstGeom>
          <a:solidFill>
            <a:srgbClr val="ffe471"/>
          </a:solidFill>
          <a:ln w="0">
            <a:noFill/>
          </a:ln>
          <a:effectLst>
            <a:outerShdw dist="153753" dir="27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1" marL="343080" indent="-343080" algn="ctr">
              <a:lnSpc>
                <a:spcPct val="7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2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3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343080" indent="-343080" algn="ctr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8C804-F758-4A93-A9C5-9A807364DFE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Oval 2"/>
          <p:cNvSpPr/>
          <p:nvPr/>
        </p:nvSpPr>
        <p:spPr>
          <a:xfrm rot="21321000">
            <a:off x="394920" y="1914480"/>
            <a:ext cx="8315280" cy="3170160"/>
          </a:xfrm>
          <a:prstGeom prst="ellipse">
            <a:avLst/>
          </a:prstGeom>
          <a:solidFill>
            <a:srgbClr val="ff8837"/>
          </a:solidFill>
          <a:ln w="0">
            <a:noFill/>
          </a:ln>
          <a:effectLst>
            <a:outerShdw dist="109184" dir="3271692" blurRad="0" rotWithShape="0">
              <a:srgbClr val="9952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00980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Части Мирового океана. 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04" name="Rectangle 5"/>
          <p:cNvSpPr/>
          <p:nvPr/>
        </p:nvSpPr>
        <p:spPr>
          <a:xfrm>
            <a:off x="903240" y="-171360"/>
            <a:ext cx="77724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Arial"/>
              </a:rPr>
              <a:t>Урок в технологии «Развитие критического мышления через чтение и письмо», география 6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4140360" y="5589720"/>
            <a:ext cx="45352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8000"/>
                </a:solidFill>
                <a:latin typeface="Arial"/>
              </a:rPr>
              <a:t>Выполнила:</a:t>
            </a:r>
            <a:br>
              <a:rPr sz="2000"/>
            </a:br>
            <a:r>
              <a:rPr b="0" i="1" lang="ru-RU" sz="2000" spc="-1" strike="noStrike">
                <a:solidFill>
                  <a:srgbClr val="008000"/>
                </a:solidFill>
                <a:latin typeface="Arial"/>
              </a:rPr>
              <a:t>учитель географии МКОУ АСОШ</a:t>
            </a:r>
            <a:br>
              <a:rPr sz="2000"/>
            </a:br>
            <a:r>
              <a:rPr b="0" i="1" lang="ru-RU" sz="2000" spc="-1" strike="noStrike">
                <a:solidFill>
                  <a:srgbClr val="008000"/>
                </a:solidFill>
                <a:latin typeface="Arial"/>
              </a:rPr>
              <a:t>Козлова А.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Box 1"/>
          <p:cNvSpPr/>
          <p:nvPr/>
        </p:nvSpPr>
        <p:spPr>
          <a:xfrm>
            <a:off x="142920" y="285840"/>
            <a:ext cx="885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ОР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часть океана, отделенная сушей или вдающаяся в 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Box 2"/>
          <p:cNvSpPr/>
          <p:nvPr/>
        </p:nvSpPr>
        <p:spPr>
          <a:xfrm>
            <a:off x="3143160" y="928800"/>
            <a:ext cx="25005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0000"/>
                </a:solidFill>
                <a:latin typeface="Arial"/>
              </a:rPr>
              <a:t>Мор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Стрелка вниз 3"/>
          <p:cNvSpPr/>
          <p:nvPr/>
        </p:nvSpPr>
        <p:spPr>
          <a:xfrm rot="2263800">
            <a:off x="3233520" y="1645920"/>
            <a:ext cx="247680" cy="6159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bbe0e3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Стрелка вниз 4"/>
          <p:cNvSpPr/>
          <p:nvPr/>
        </p:nvSpPr>
        <p:spPr>
          <a:xfrm rot="19253400">
            <a:off x="4943520" y="1690560"/>
            <a:ext cx="303120" cy="1797120"/>
          </a:xfrm>
          <a:prstGeom prst="downArrow">
            <a:avLst>
              <a:gd name="adj1" fmla="val 50000"/>
              <a:gd name="adj2" fmla="val 50010"/>
            </a:avLst>
          </a:prstGeom>
          <a:solidFill>
            <a:srgbClr val="bbe0e3"/>
          </a:solidFill>
          <a:ln w="255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Box 5"/>
          <p:cNvSpPr/>
          <p:nvPr/>
        </p:nvSpPr>
        <p:spPr>
          <a:xfrm>
            <a:off x="1285920" y="20718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6"/>
          <p:cNvSpPr/>
          <p:nvPr/>
        </p:nvSpPr>
        <p:spPr>
          <a:xfrm>
            <a:off x="4572000" y="32860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краи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Стрелка вниз 7"/>
          <p:cNvSpPr/>
          <p:nvPr/>
        </p:nvSpPr>
        <p:spPr>
          <a:xfrm rot="1762200">
            <a:off x="1890360" y="2503440"/>
            <a:ext cx="219240" cy="777960"/>
          </a:xfrm>
          <a:prstGeom prst="downArrow">
            <a:avLst>
              <a:gd name="adj1" fmla="val 50000"/>
              <a:gd name="adj2" fmla="val 49974"/>
            </a:avLst>
          </a:prstGeom>
          <a:solidFill>
            <a:srgbClr val="bbe0e3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Стрелка вниз 8"/>
          <p:cNvSpPr/>
          <p:nvPr/>
        </p:nvSpPr>
        <p:spPr>
          <a:xfrm rot="19420800">
            <a:off x="3429000" y="2480760"/>
            <a:ext cx="193680" cy="785880"/>
          </a:xfrm>
          <a:prstGeom prst="downArrow">
            <a:avLst>
              <a:gd name="adj1" fmla="val 50000"/>
              <a:gd name="adj2" fmla="val 50006"/>
            </a:avLst>
          </a:prstGeom>
          <a:solidFill>
            <a:srgbClr val="bbe0e3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9"/>
          <p:cNvSpPr/>
          <p:nvPr/>
        </p:nvSpPr>
        <p:spPr>
          <a:xfrm>
            <a:off x="0" y="3286080"/>
            <a:ext cx="26431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нутриматериковы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10"/>
          <p:cNvSpPr/>
          <p:nvPr/>
        </p:nvSpPr>
        <p:spPr>
          <a:xfrm>
            <a:off x="2571840" y="3286080"/>
            <a:ext cx="228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жматериковы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Рисунок 12" descr="внутр море.png"/>
          <p:cNvPicPr/>
          <p:nvPr/>
        </p:nvPicPr>
        <p:blipFill>
          <a:blip r:embed="rId1"/>
          <a:stretch/>
        </p:blipFill>
        <p:spPr>
          <a:xfrm>
            <a:off x="152280" y="4145040"/>
            <a:ext cx="1957680" cy="4060800"/>
          </a:xfrm>
          <a:prstGeom prst="rect">
            <a:avLst/>
          </a:prstGeom>
          <a:ln w="0">
            <a:noFill/>
          </a:ln>
        </p:spPr>
      </p:pic>
      <p:pic>
        <p:nvPicPr>
          <p:cNvPr id="651" name="Рисунок 15" descr="Средиземное море.jpg"/>
          <p:cNvPicPr/>
          <p:nvPr/>
        </p:nvPicPr>
        <p:blipFill>
          <a:blip r:embed="rId2"/>
          <a:stretch/>
        </p:blipFill>
        <p:spPr>
          <a:xfrm>
            <a:off x="2749680" y="4286160"/>
            <a:ext cx="1993680" cy="3840120"/>
          </a:xfrm>
          <a:prstGeom prst="rect">
            <a:avLst/>
          </a:prstGeom>
          <a:ln w="0">
            <a:noFill/>
          </a:ln>
        </p:spPr>
      </p:pic>
      <p:pic>
        <p:nvPicPr>
          <p:cNvPr id="652" name="Рисунок 17" descr="Баренцево море.png"/>
          <p:cNvPicPr/>
          <p:nvPr/>
        </p:nvPicPr>
        <p:blipFill>
          <a:blip r:embed="rId3"/>
          <a:stretch/>
        </p:blipFill>
        <p:spPr>
          <a:xfrm>
            <a:off x="5877000" y="4071960"/>
            <a:ext cx="2895480" cy="4206960"/>
          </a:xfrm>
          <a:prstGeom prst="rect">
            <a:avLst/>
          </a:prstGeom>
          <a:ln w="0">
            <a:noFill/>
          </a:ln>
        </p:spPr>
      </p:pic>
      <p:sp>
        <p:nvSpPr>
          <p:cNvPr id="653" name="TextBox 19"/>
          <p:cNvSpPr/>
          <p:nvPr/>
        </p:nvSpPr>
        <p:spPr>
          <a:xfrm>
            <a:off x="6786720" y="3286080"/>
            <a:ext cx="23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4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Овал 15"/>
          <p:cNvSpPr/>
          <p:nvPr/>
        </p:nvSpPr>
        <p:spPr>
          <a:xfrm>
            <a:off x="1928880" y="24289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Овал 22"/>
          <p:cNvSpPr/>
          <p:nvPr/>
        </p:nvSpPr>
        <p:spPr>
          <a:xfrm>
            <a:off x="4643280" y="714240"/>
            <a:ext cx="21456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Овал 23"/>
          <p:cNvSpPr/>
          <p:nvPr/>
        </p:nvSpPr>
        <p:spPr>
          <a:xfrm>
            <a:off x="6643800" y="22147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Овал 24"/>
          <p:cNvSpPr/>
          <p:nvPr/>
        </p:nvSpPr>
        <p:spPr>
          <a:xfrm>
            <a:off x="4500720" y="2000160"/>
            <a:ext cx="21420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Овал 25"/>
          <p:cNvSpPr/>
          <p:nvPr/>
        </p:nvSpPr>
        <p:spPr>
          <a:xfrm>
            <a:off x="4286160" y="1428840"/>
            <a:ext cx="21456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Овал 26"/>
          <p:cNvSpPr/>
          <p:nvPr/>
        </p:nvSpPr>
        <p:spPr>
          <a:xfrm>
            <a:off x="6858000" y="2000160"/>
            <a:ext cx="21420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Овал 27"/>
          <p:cNvSpPr/>
          <p:nvPr/>
        </p:nvSpPr>
        <p:spPr>
          <a:xfrm>
            <a:off x="4643280" y="2714760"/>
            <a:ext cx="21456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Овал 28"/>
          <p:cNvSpPr/>
          <p:nvPr/>
        </p:nvSpPr>
        <p:spPr>
          <a:xfrm>
            <a:off x="4214880" y="22147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Овал 29"/>
          <p:cNvSpPr/>
          <p:nvPr/>
        </p:nvSpPr>
        <p:spPr>
          <a:xfrm>
            <a:off x="1714680" y="292896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Овал 30"/>
          <p:cNvSpPr/>
          <p:nvPr/>
        </p:nvSpPr>
        <p:spPr>
          <a:xfrm>
            <a:off x="6929280" y="1357200"/>
            <a:ext cx="21456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31"/>
          <p:cNvSpPr/>
          <p:nvPr/>
        </p:nvSpPr>
        <p:spPr>
          <a:xfrm>
            <a:off x="6572160" y="21430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32"/>
          <p:cNvSpPr/>
          <p:nvPr/>
        </p:nvSpPr>
        <p:spPr>
          <a:xfrm>
            <a:off x="2000160" y="3429000"/>
            <a:ext cx="5929560" cy="35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 u="sng">
                <a:solidFill>
                  <a:srgbClr val="000000"/>
                </a:solidFill>
                <a:uFillTx/>
                <a:latin typeface="Arial"/>
              </a:rPr>
              <a:t>Провери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звания морей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 Баренцево море      6 Красное мор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 Балтийское море     7 Охотское мор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 Черное море             8 Японское мор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 Средиземное море 9 Саргассово мор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5 Карибское море      10 Желтое мор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Рисунок 1" descr="Бенгальский залив.jpg"/>
          <p:cNvPicPr/>
          <p:nvPr/>
        </p:nvPicPr>
        <p:blipFill>
          <a:blip r:embed="rId1"/>
          <a:stretch/>
        </p:blipFill>
        <p:spPr>
          <a:xfrm>
            <a:off x="971640" y="1628640"/>
            <a:ext cx="3166920" cy="3278160"/>
          </a:xfrm>
          <a:prstGeom prst="rect">
            <a:avLst/>
          </a:prstGeom>
          <a:ln w="0">
            <a:noFill/>
          </a:ln>
        </p:spPr>
      </p:pic>
      <p:sp>
        <p:nvSpPr>
          <p:cNvPr id="669" name="TextBox 2"/>
          <p:cNvSpPr/>
          <p:nvPr/>
        </p:nvSpPr>
        <p:spPr>
          <a:xfrm>
            <a:off x="714240" y="4929120"/>
            <a:ext cx="371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енгальский зали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Рисунок 3" descr="Персидский залив 1.jpg"/>
          <p:cNvPicPr/>
          <p:nvPr/>
        </p:nvPicPr>
        <p:blipFill>
          <a:blip r:embed="rId2"/>
          <a:stretch/>
        </p:blipFill>
        <p:spPr>
          <a:xfrm>
            <a:off x="5219640" y="1341360"/>
            <a:ext cx="3191040" cy="3578400"/>
          </a:xfrm>
          <a:prstGeom prst="rect">
            <a:avLst/>
          </a:prstGeom>
          <a:ln w="0">
            <a:noFill/>
          </a:ln>
        </p:spPr>
      </p:pic>
      <p:sp>
        <p:nvSpPr>
          <p:cNvPr id="671" name="TextBox 5"/>
          <p:cNvSpPr/>
          <p:nvPr/>
        </p:nvSpPr>
        <p:spPr>
          <a:xfrm>
            <a:off x="5286240" y="4929120"/>
            <a:ext cx="27860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ерсидский зали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Рисунок 1" descr="Мексиканский залив.jpg"/>
          <p:cNvPicPr/>
          <p:nvPr/>
        </p:nvPicPr>
        <p:blipFill>
          <a:blip r:embed="rId1"/>
          <a:stretch/>
        </p:blipFill>
        <p:spPr>
          <a:xfrm>
            <a:off x="428760" y="1643040"/>
            <a:ext cx="4109760" cy="3357720"/>
          </a:xfrm>
          <a:prstGeom prst="rect">
            <a:avLst/>
          </a:prstGeom>
          <a:ln w="0">
            <a:noFill/>
          </a:ln>
        </p:spPr>
      </p:pic>
      <p:pic>
        <p:nvPicPr>
          <p:cNvPr id="673" name="Рисунок 2" descr="Гвинейский залив.gif"/>
          <p:cNvPicPr/>
          <p:nvPr/>
        </p:nvPicPr>
        <p:blipFill>
          <a:blip r:embed="rId2"/>
          <a:stretch/>
        </p:blipFill>
        <p:spPr>
          <a:xfrm>
            <a:off x="5072040" y="1571760"/>
            <a:ext cx="3357720" cy="3357360"/>
          </a:xfrm>
          <a:prstGeom prst="rect">
            <a:avLst/>
          </a:prstGeom>
          <a:ln w="0">
            <a:noFill/>
          </a:ln>
        </p:spPr>
      </p:pic>
      <p:sp>
        <p:nvSpPr>
          <p:cNvPr id="674" name="TextBox 4"/>
          <p:cNvSpPr/>
          <p:nvPr/>
        </p:nvSpPr>
        <p:spPr>
          <a:xfrm>
            <a:off x="642960" y="5143680"/>
            <a:ext cx="3786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ексиканский зали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5"/>
          <p:cNvSpPr/>
          <p:nvPr/>
        </p:nvSpPr>
        <p:spPr>
          <a:xfrm>
            <a:off x="5214960" y="5072040"/>
            <a:ext cx="307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Гвинейский зали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6"/>
          <p:cNvSpPr/>
          <p:nvPr/>
        </p:nvSpPr>
        <p:spPr>
          <a:xfrm>
            <a:off x="142920" y="785880"/>
            <a:ext cx="900108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Л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часть моря или океана, глубоко вдающаяся в суш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8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21"/>
          <p:cNvSpPr/>
          <p:nvPr/>
        </p:nvSpPr>
        <p:spPr>
          <a:xfrm>
            <a:off x="3000240" y="4000680"/>
            <a:ext cx="442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37"/>
          <p:cNvSpPr/>
          <p:nvPr/>
        </p:nvSpPr>
        <p:spPr>
          <a:xfrm>
            <a:off x="3143160" y="4143240"/>
            <a:ext cx="450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писать названия зали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Блок-схема: узел 16"/>
          <p:cNvSpPr/>
          <p:nvPr/>
        </p:nvSpPr>
        <p:spPr>
          <a:xfrm>
            <a:off x="5072040" y="242892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Блок-схема: узел 17"/>
          <p:cNvSpPr/>
          <p:nvPr/>
        </p:nvSpPr>
        <p:spPr>
          <a:xfrm>
            <a:off x="2214720" y="1000080"/>
            <a:ext cx="28548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Блок-схема: узел 18"/>
          <p:cNvSpPr/>
          <p:nvPr/>
        </p:nvSpPr>
        <p:spPr>
          <a:xfrm>
            <a:off x="1357200" y="242892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Блок-схема: узел 20"/>
          <p:cNvSpPr/>
          <p:nvPr/>
        </p:nvSpPr>
        <p:spPr>
          <a:xfrm>
            <a:off x="5857920" y="300024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Блок-схема: узел 31"/>
          <p:cNvSpPr/>
          <p:nvPr/>
        </p:nvSpPr>
        <p:spPr>
          <a:xfrm>
            <a:off x="3571920" y="350028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Box 32"/>
          <p:cNvSpPr/>
          <p:nvPr/>
        </p:nvSpPr>
        <p:spPr>
          <a:xfrm>
            <a:off x="2143080" y="928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33"/>
          <p:cNvSpPr/>
          <p:nvPr/>
        </p:nvSpPr>
        <p:spPr>
          <a:xfrm>
            <a:off x="1285920" y="2357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34"/>
          <p:cNvSpPr/>
          <p:nvPr/>
        </p:nvSpPr>
        <p:spPr>
          <a:xfrm>
            <a:off x="5786280" y="29289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35"/>
          <p:cNvSpPr/>
          <p:nvPr/>
        </p:nvSpPr>
        <p:spPr>
          <a:xfrm>
            <a:off x="3500280" y="34290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36"/>
          <p:cNvSpPr/>
          <p:nvPr/>
        </p:nvSpPr>
        <p:spPr>
          <a:xfrm>
            <a:off x="5000760" y="2357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2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Box 21"/>
          <p:cNvSpPr/>
          <p:nvPr/>
        </p:nvSpPr>
        <p:spPr>
          <a:xfrm>
            <a:off x="3000240" y="4000680"/>
            <a:ext cx="442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37"/>
          <p:cNvSpPr/>
          <p:nvPr/>
        </p:nvSpPr>
        <p:spPr>
          <a:xfrm>
            <a:off x="3143160" y="4143240"/>
            <a:ext cx="450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овер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звания зали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6  Мексиканский за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7  Гвинейский за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8  Бенгальский за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9  Персидский за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0  Гудзонов за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Блок-схема: узел 16"/>
          <p:cNvSpPr/>
          <p:nvPr/>
        </p:nvSpPr>
        <p:spPr>
          <a:xfrm>
            <a:off x="5072040" y="242892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Блок-схема: узел 17"/>
          <p:cNvSpPr/>
          <p:nvPr/>
        </p:nvSpPr>
        <p:spPr>
          <a:xfrm>
            <a:off x="2214720" y="1000080"/>
            <a:ext cx="28548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Блок-схема: узел 18"/>
          <p:cNvSpPr/>
          <p:nvPr/>
        </p:nvSpPr>
        <p:spPr>
          <a:xfrm>
            <a:off x="1357200" y="242892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Блок-схема: узел 20"/>
          <p:cNvSpPr/>
          <p:nvPr/>
        </p:nvSpPr>
        <p:spPr>
          <a:xfrm>
            <a:off x="5857920" y="300024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Блок-схема: узел 31"/>
          <p:cNvSpPr/>
          <p:nvPr/>
        </p:nvSpPr>
        <p:spPr>
          <a:xfrm>
            <a:off x="3571920" y="3500280"/>
            <a:ext cx="285840" cy="285840"/>
          </a:xfrm>
          <a:prstGeom prst="flowChartConnector">
            <a:avLst/>
          </a:prstGeom>
          <a:solidFill>
            <a:srgbClr val="7575d1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Box 32"/>
          <p:cNvSpPr/>
          <p:nvPr/>
        </p:nvSpPr>
        <p:spPr>
          <a:xfrm>
            <a:off x="2143080" y="92880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Box 33"/>
          <p:cNvSpPr/>
          <p:nvPr/>
        </p:nvSpPr>
        <p:spPr>
          <a:xfrm>
            <a:off x="1285920" y="2357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34"/>
          <p:cNvSpPr/>
          <p:nvPr/>
        </p:nvSpPr>
        <p:spPr>
          <a:xfrm>
            <a:off x="5786280" y="29289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35"/>
          <p:cNvSpPr/>
          <p:nvPr/>
        </p:nvSpPr>
        <p:spPr>
          <a:xfrm>
            <a:off x="3500280" y="34290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36"/>
          <p:cNvSpPr/>
          <p:nvPr/>
        </p:nvSpPr>
        <p:spPr>
          <a:xfrm>
            <a:off x="5000760" y="2357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Рисунок 1" descr="Берингов пролив.jpg"/>
          <p:cNvPicPr/>
          <p:nvPr/>
        </p:nvPicPr>
        <p:blipFill>
          <a:blip r:embed="rId1"/>
          <a:stretch/>
        </p:blipFill>
        <p:spPr>
          <a:xfrm>
            <a:off x="1258920" y="1484280"/>
            <a:ext cx="3925800" cy="2944800"/>
          </a:xfrm>
          <a:prstGeom prst="rect">
            <a:avLst/>
          </a:prstGeom>
          <a:ln w="0">
            <a:noFill/>
          </a:ln>
        </p:spPr>
      </p:pic>
      <p:pic>
        <p:nvPicPr>
          <p:cNvPr id="706" name="Рисунок 2" descr="Витус Беринг.jpg"/>
          <p:cNvPicPr/>
          <p:nvPr/>
        </p:nvPicPr>
        <p:blipFill>
          <a:blip r:embed="rId2"/>
          <a:stretch/>
        </p:blipFill>
        <p:spPr>
          <a:xfrm>
            <a:off x="6084720" y="2205000"/>
            <a:ext cx="2532240" cy="2809800"/>
          </a:xfrm>
          <a:prstGeom prst="rect">
            <a:avLst/>
          </a:prstGeom>
          <a:ln w="0">
            <a:noFill/>
          </a:ln>
        </p:spPr>
      </p:pic>
      <p:sp>
        <p:nvSpPr>
          <p:cNvPr id="707" name="TextBox 3"/>
          <p:cNvSpPr/>
          <p:nvPr/>
        </p:nvSpPr>
        <p:spPr>
          <a:xfrm flipH="1">
            <a:off x="5786280" y="1500120"/>
            <a:ext cx="2811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итус Беринг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4"/>
          <p:cNvSpPr/>
          <p:nvPr/>
        </p:nvSpPr>
        <p:spPr>
          <a:xfrm>
            <a:off x="971640" y="4581360"/>
            <a:ext cx="45720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ерингов пролив разделяет Евразию и Северную Америку и соединяет Северный Ледовитый и Тихий океан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Рисунок 1" descr="Гибралтарский пролив.jpg"/>
          <p:cNvPicPr/>
          <p:nvPr/>
        </p:nvPicPr>
        <p:blipFill>
          <a:blip r:embed="rId1"/>
          <a:stretch/>
        </p:blipFill>
        <p:spPr>
          <a:xfrm>
            <a:off x="928800" y="1428840"/>
            <a:ext cx="3571920" cy="3535200"/>
          </a:xfrm>
          <a:prstGeom prst="rect">
            <a:avLst/>
          </a:prstGeom>
          <a:ln w="0">
            <a:noFill/>
          </a:ln>
        </p:spPr>
      </p:pic>
      <p:sp>
        <p:nvSpPr>
          <p:cNvPr id="710" name="TextBox 2"/>
          <p:cNvSpPr/>
          <p:nvPr/>
        </p:nvSpPr>
        <p:spPr>
          <a:xfrm>
            <a:off x="324000" y="5229360"/>
            <a:ext cx="450036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Гибралтарский проли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3"/>
          <p:cNvSpPr/>
          <p:nvPr/>
        </p:nvSpPr>
        <p:spPr>
          <a:xfrm>
            <a:off x="6084720" y="1628640"/>
            <a:ext cx="2786400" cy="56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Гибралтарский пролив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- пролив между южной оконечностью Пиренейского полуострова (Европа) и северо-западной частью Африки, соединяет Атлантический океан и Средиземное море. Длина 65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км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, ширина 14—44 </a:t>
            </a:r>
            <a:r>
              <a:rPr b="0" i="1" lang="ru-RU" sz="2300" spc="-1" strike="noStrike">
                <a:solidFill>
                  <a:srgbClr val="000000"/>
                </a:solidFill>
                <a:latin typeface="Arial"/>
              </a:rPr>
              <a:t>к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4"/>
          <p:cNvSpPr/>
          <p:nvPr/>
        </p:nvSpPr>
        <p:spPr>
          <a:xfrm>
            <a:off x="214200" y="214200"/>
            <a:ext cx="860580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ЛИ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узкое водное пространство, разделяющее участки суши и соединяющие соседние моря и оке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Рисунок 1" descr="Дрейк.jpg"/>
          <p:cNvPicPr/>
          <p:nvPr/>
        </p:nvPicPr>
        <p:blipFill>
          <a:blip r:embed="rId1"/>
          <a:stretch/>
        </p:blipFill>
        <p:spPr>
          <a:xfrm>
            <a:off x="5940360" y="2276640"/>
            <a:ext cx="2303640" cy="2533320"/>
          </a:xfrm>
          <a:prstGeom prst="rect">
            <a:avLst/>
          </a:prstGeom>
          <a:ln w="0">
            <a:noFill/>
          </a:ln>
        </p:spPr>
      </p:pic>
      <p:sp>
        <p:nvSpPr>
          <p:cNvPr id="714" name="TextBox 2"/>
          <p:cNvSpPr/>
          <p:nvPr/>
        </p:nvSpPr>
        <p:spPr>
          <a:xfrm>
            <a:off x="5572080" y="150012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ренсис Дрей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4"/>
          <p:cNvSpPr/>
          <p:nvPr/>
        </p:nvSpPr>
        <p:spPr>
          <a:xfrm>
            <a:off x="1116000" y="5013360"/>
            <a:ext cx="51436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олив Дрейка самый широкий пролив в мире. Его ширина составляет 900-950 км, а средняя глубина 5000 м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е 3: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те по карте атласа, что он разделяет, а что соединяет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Рисунок 1" descr=""/>
          <p:cNvPicPr/>
          <p:nvPr/>
        </p:nvPicPr>
        <p:blipFill>
          <a:blip r:embed="rId2"/>
          <a:stretch/>
        </p:blipFill>
        <p:spPr>
          <a:xfrm>
            <a:off x="1042920" y="1700280"/>
            <a:ext cx="4525920" cy="32814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Рисунок 1" descr="Магелланов пролив.jpg"/>
          <p:cNvPicPr/>
          <p:nvPr/>
        </p:nvPicPr>
        <p:blipFill>
          <a:blip r:embed="rId1"/>
          <a:stretch/>
        </p:blipFill>
        <p:spPr>
          <a:xfrm>
            <a:off x="1116000" y="1413000"/>
            <a:ext cx="4071960" cy="3054240"/>
          </a:xfrm>
          <a:prstGeom prst="rect">
            <a:avLst/>
          </a:prstGeom>
          <a:ln w="0">
            <a:noFill/>
          </a:ln>
        </p:spPr>
      </p:pic>
      <p:sp>
        <p:nvSpPr>
          <p:cNvPr id="718" name="TextBox 2"/>
          <p:cNvSpPr/>
          <p:nvPr/>
        </p:nvSpPr>
        <p:spPr>
          <a:xfrm>
            <a:off x="539640" y="4437000"/>
            <a:ext cx="5286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Магелланов проли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пределите, что он разделяет, а что соединяет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Рисунок 3" descr="Фернан Магеллан.jpg"/>
          <p:cNvPicPr/>
          <p:nvPr/>
        </p:nvPicPr>
        <p:blipFill>
          <a:blip r:embed="rId2"/>
          <a:stretch/>
        </p:blipFill>
        <p:spPr>
          <a:xfrm>
            <a:off x="6012000" y="1989000"/>
            <a:ext cx="2501640" cy="2864160"/>
          </a:xfrm>
          <a:prstGeom prst="rect">
            <a:avLst/>
          </a:prstGeom>
          <a:ln w="0">
            <a:noFill/>
          </a:ln>
        </p:spPr>
      </p:pic>
      <p:sp>
        <p:nvSpPr>
          <p:cNvPr id="720" name="TextBox 4"/>
          <p:cNvSpPr/>
          <p:nvPr/>
        </p:nvSpPr>
        <p:spPr>
          <a:xfrm>
            <a:off x="5786280" y="1357200"/>
            <a:ext cx="3143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Фернан Магеллан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Организационный момент</a:t>
            </a:r>
            <a:endParaRPr b="1" lang="en-US" sz="16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573200" y="1052280"/>
            <a:ext cx="7570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Сегодня мы начинаем исследовать Мировой океан.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ткройте атласы и найдите, где находится Мировой океан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Найди на карте: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встралию,о.Гренландию,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Гавайские острова,    полуостров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Индостан. Что у них общего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А теперь подумайте: Что общего у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расного моря,Берингова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моря,Мексиканского залива,пролива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Дрейка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08" name="AutoShape 4">
            <a:hlinkClick r:id="" action="ppaction://hlinkshowjump?jump=nextslide"/>
          </p:cNvPr>
          <p:cNvSpPr/>
          <p:nvPr/>
        </p:nvSpPr>
        <p:spPr>
          <a:xfrm>
            <a:off x="7380360" y="6021360"/>
            <a:ext cx="1079280" cy="64764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104040 h 647640"/>
              <a:gd name="textAreaBottom" fmla="*/ 4626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941" stAng="-5400000" swAng="-5400000"/>
                <a:lnTo>
                  <a:pt x="0" y="11959"/>
                </a:lnTo>
                <a:arcTo wR="21600" hR="6941" stAng="10800000" swAng="-2536051"/>
                <a:lnTo>
                  <a:pt x="14400" y="21203"/>
                </a:lnTo>
                <a:lnTo>
                  <a:pt x="21600" y="16391"/>
                </a:lnTo>
                <a:lnTo>
                  <a:pt x="14400" y="10785"/>
                </a:lnTo>
                <a:lnTo>
                  <a:pt x="14400" y="13485"/>
                </a:lnTo>
                <a:arcTo wR="21600" hR="6941" stAng="8263949" swAng="2109967"/>
                <a:lnTo>
                  <a:pt x="1461" y="9450"/>
                </a:lnTo>
                <a:arcTo wR="21600" hR="6941" stAng="-10373916" swAng="4973916"/>
                <a:close/>
              </a:path>
              <a:path fill="darkenLess" w="21600" h="21600">
                <a:moveTo>
                  <a:pt x="21600" y="0"/>
                </a:moveTo>
                <a:arcTo wR="21600" hR="6941" stAng="-5400000" swAng="-5400000"/>
                <a:lnTo>
                  <a:pt x="0" y="6941"/>
                </a:lnTo>
                <a:arcTo wR="21600" hR="6941" stAng="10800000" swAng="-426084"/>
                <a:lnTo>
                  <a:pt x="1461" y="9450"/>
                </a:lnTo>
                <a:arcTo wR="21600" hR="6941" stAng="-10373916" swAng="4973916"/>
                <a:close/>
              </a:path>
            </a:pathLst>
          </a:cu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Прямоугольник 4"/>
          <p:cNvSpPr/>
          <p:nvPr/>
        </p:nvSpPr>
        <p:spPr>
          <a:xfrm>
            <a:off x="2268360" y="1341360"/>
            <a:ext cx="64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1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2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21"/>
          <p:cNvSpPr/>
          <p:nvPr/>
        </p:nvSpPr>
        <p:spPr>
          <a:xfrm>
            <a:off x="3000240" y="4000680"/>
            <a:ext cx="442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Блок-схема: узел 15"/>
          <p:cNvSpPr/>
          <p:nvPr/>
        </p:nvSpPr>
        <p:spPr>
          <a:xfrm>
            <a:off x="4786200" y="37861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Блок-схема: узел 22"/>
          <p:cNvSpPr/>
          <p:nvPr/>
        </p:nvSpPr>
        <p:spPr>
          <a:xfrm>
            <a:off x="2643120" y="58579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Блок-схема: узел 23"/>
          <p:cNvSpPr/>
          <p:nvPr/>
        </p:nvSpPr>
        <p:spPr>
          <a:xfrm>
            <a:off x="2500200" y="535788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Блок-схема: узел 24"/>
          <p:cNvSpPr/>
          <p:nvPr/>
        </p:nvSpPr>
        <p:spPr>
          <a:xfrm>
            <a:off x="3214800" y="2214720"/>
            <a:ext cx="285480" cy="28548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Блок-схема: узел 25"/>
          <p:cNvSpPr/>
          <p:nvPr/>
        </p:nvSpPr>
        <p:spPr>
          <a:xfrm>
            <a:off x="7000920" y="3571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26"/>
          <p:cNvSpPr/>
          <p:nvPr/>
        </p:nvSpPr>
        <p:spPr>
          <a:xfrm>
            <a:off x="3143160" y="21430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27"/>
          <p:cNvSpPr/>
          <p:nvPr/>
        </p:nvSpPr>
        <p:spPr>
          <a:xfrm>
            <a:off x="6929280" y="285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28"/>
          <p:cNvSpPr/>
          <p:nvPr/>
        </p:nvSpPr>
        <p:spPr>
          <a:xfrm>
            <a:off x="2571840" y="578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29"/>
          <p:cNvSpPr/>
          <p:nvPr/>
        </p:nvSpPr>
        <p:spPr>
          <a:xfrm>
            <a:off x="2428920" y="5286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Box 30"/>
          <p:cNvSpPr/>
          <p:nvPr/>
        </p:nvSpPr>
        <p:spPr>
          <a:xfrm>
            <a:off x="4714920" y="3714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Прямая соединительная линия 32"/>
          <p:cNvSpPr/>
          <p:nvPr/>
        </p:nvSpPr>
        <p:spPr>
          <a:xfrm flipV="1">
            <a:off x="3500280" y="2327040"/>
            <a:ext cx="214560" cy="29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Прямая соединительная линия 34"/>
          <p:cNvSpPr/>
          <p:nvPr/>
        </p:nvSpPr>
        <p:spPr>
          <a:xfrm flipH="1">
            <a:off x="2498760" y="5573880"/>
            <a:ext cx="1440" cy="142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Прямая соединительная линия 36"/>
          <p:cNvSpPr/>
          <p:nvPr/>
        </p:nvSpPr>
        <p:spPr>
          <a:xfrm>
            <a:off x="7214400" y="655560"/>
            <a:ext cx="142920" cy="130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37"/>
          <p:cNvSpPr/>
          <p:nvPr/>
        </p:nvSpPr>
        <p:spPr>
          <a:xfrm>
            <a:off x="3143160" y="4143240"/>
            <a:ext cx="45007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предели пролив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8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9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21"/>
          <p:cNvSpPr/>
          <p:nvPr/>
        </p:nvSpPr>
        <p:spPr>
          <a:xfrm>
            <a:off x="3000240" y="4000680"/>
            <a:ext cx="4429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Блок-схема: узел 15"/>
          <p:cNvSpPr/>
          <p:nvPr/>
        </p:nvSpPr>
        <p:spPr>
          <a:xfrm>
            <a:off x="4786200" y="37861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Блок-схема: узел 22"/>
          <p:cNvSpPr/>
          <p:nvPr/>
        </p:nvSpPr>
        <p:spPr>
          <a:xfrm>
            <a:off x="2643120" y="58579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Блок-схема: узел 23"/>
          <p:cNvSpPr/>
          <p:nvPr/>
        </p:nvSpPr>
        <p:spPr>
          <a:xfrm>
            <a:off x="2500200" y="535788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Блок-схема: узел 24"/>
          <p:cNvSpPr/>
          <p:nvPr/>
        </p:nvSpPr>
        <p:spPr>
          <a:xfrm>
            <a:off x="3214800" y="2214720"/>
            <a:ext cx="285480" cy="28548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Блок-схема: узел 25"/>
          <p:cNvSpPr/>
          <p:nvPr/>
        </p:nvSpPr>
        <p:spPr>
          <a:xfrm>
            <a:off x="7000920" y="357120"/>
            <a:ext cx="285840" cy="285840"/>
          </a:xfrm>
          <a:prstGeom prst="flowChartConnector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26"/>
          <p:cNvSpPr/>
          <p:nvPr/>
        </p:nvSpPr>
        <p:spPr>
          <a:xfrm>
            <a:off x="3143160" y="214308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Box 27"/>
          <p:cNvSpPr/>
          <p:nvPr/>
        </p:nvSpPr>
        <p:spPr>
          <a:xfrm>
            <a:off x="6929280" y="285840"/>
            <a:ext cx="5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28"/>
          <p:cNvSpPr/>
          <p:nvPr/>
        </p:nvSpPr>
        <p:spPr>
          <a:xfrm>
            <a:off x="2571840" y="578628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29"/>
          <p:cNvSpPr/>
          <p:nvPr/>
        </p:nvSpPr>
        <p:spPr>
          <a:xfrm>
            <a:off x="2428920" y="528624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30"/>
          <p:cNvSpPr/>
          <p:nvPr/>
        </p:nvSpPr>
        <p:spPr>
          <a:xfrm>
            <a:off x="4714920" y="3714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Прямая соединительная линия 32"/>
          <p:cNvSpPr/>
          <p:nvPr/>
        </p:nvSpPr>
        <p:spPr>
          <a:xfrm flipV="1">
            <a:off x="3500280" y="2327040"/>
            <a:ext cx="214560" cy="298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Прямая соединительная линия 34"/>
          <p:cNvSpPr/>
          <p:nvPr/>
        </p:nvSpPr>
        <p:spPr>
          <a:xfrm flipH="1">
            <a:off x="2498760" y="5573880"/>
            <a:ext cx="1440" cy="14256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Прямая соединительная линия 36"/>
          <p:cNvSpPr/>
          <p:nvPr/>
        </p:nvSpPr>
        <p:spPr>
          <a:xfrm>
            <a:off x="7214400" y="655560"/>
            <a:ext cx="142920" cy="13032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37"/>
          <p:cNvSpPr/>
          <p:nvPr/>
        </p:nvSpPr>
        <p:spPr>
          <a:xfrm>
            <a:off x="3071880" y="4071960"/>
            <a:ext cx="45003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Провери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звания пролив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 Гибралтарский про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 Берингов про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 Пролив Дрей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 Магелланов про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 Мозамбикский проли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1"/>
          <p:cNvSpPr/>
          <p:nvPr/>
        </p:nvSpPr>
        <p:spPr>
          <a:xfrm>
            <a:off x="250920" y="549360"/>
            <a:ext cx="8429400" cy="1023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НАЛ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скусственный пролив, созданный    людьми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Рисунок 2" descr="Суэцкий канал.jpg"/>
          <p:cNvPicPr/>
          <p:nvPr/>
        </p:nvPicPr>
        <p:blipFill>
          <a:blip r:embed="rId1"/>
          <a:stretch/>
        </p:blipFill>
        <p:spPr>
          <a:xfrm>
            <a:off x="755640" y="2637000"/>
            <a:ext cx="3073320" cy="2665080"/>
          </a:xfrm>
          <a:prstGeom prst="rect">
            <a:avLst/>
          </a:prstGeom>
          <a:ln w="0">
            <a:noFill/>
          </a:ln>
        </p:spPr>
      </p:pic>
      <p:pic>
        <p:nvPicPr>
          <p:cNvPr id="757" name="Рисунок 3" descr="Панамский канал.jpg"/>
          <p:cNvPicPr/>
          <p:nvPr/>
        </p:nvPicPr>
        <p:blipFill>
          <a:blip r:embed="rId2"/>
          <a:stretch/>
        </p:blipFill>
        <p:spPr>
          <a:xfrm>
            <a:off x="4932360" y="2060640"/>
            <a:ext cx="3311640" cy="3868560"/>
          </a:xfrm>
          <a:prstGeom prst="rect">
            <a:avLst/>
          </a:prstGeom>
          <a:ln w="0">
            <a:noFill/>
          </a:ln>
        </p:spPr>
      </p:pic>
      <p:sp>
        <p:nvSpPr>
          <p:cNvPr id="758" name="TextBox 4"/>
          <p:cNvSpPr/>
          <p:nvPr/>
        </p:nvSpPr>
        <p:spPr>
          <a:xfrm>
            <a:off x="4859280" y="6093000"/>
            <a:ext cx="3357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намский канал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5"/>
          <p:cNvSpPr/>
          <p:nvPr/>
        </p:nvSpPr>
        <p:spPr>
          <a:xfrm>
            <a:off x="571680" y="5500800"/>
            <a:ext cx="34290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Суэцкий кана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0" name=""/>
          <p:cNvGraphicFramePr/>
          <p:nvPr/>
        </p:nvGraphicFramePr>
        <p:xfrm>
          <a:off x="1476360" y="1557360"/>
          <a:ext cx="7667640" cy="5486400"/>
        </p:xfrm>
        <a:graphic>
          <a:graphicData uri="http://schemas.openxmlformats.org/drawingml/2006/table">
            <a:tbl>
              <a:tblPr/>
              <a:tblGrid>
                <a:gridCol w="3054240"/>
                <a:gridCol w="4613400"/>
              </a:tblGrid>
              <a:tr h="5486400">
                <a:tc>
                  <a:txBody>
                    <a:bodyPr lIns="9360" rIns="9360" tIns="9360" bIns="93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 Физкультминут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93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Что-то шумно стало, дет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ткуда же здесь взялся ветер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 это – буря, шторм, беда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ывем, и нас спасет вода!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(все «плывут»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лака закрыли пут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ужно хорошо подуть! 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дуют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 солнышку потянем руки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 не будет больше скуки! (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нимают руки вверх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т все успокоилис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а урок настроились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fbdc3"/>
                </a:solidFill>
                <a:latin typeface="Palatino Linotype"/>
              </a:rPr>
              <a:t> 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Ребята, как вы думаете, почему раньше суда, отправляясь в дальнее плавание, всегда брали с собой запас пресной воды? Ведь кругом вода.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Да, соленость – это одно из свойств океанической воды.  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Кто был на море, вспомните, какой вкус имеет морская вода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990000"/>
                </a:solidFill>
                <a:latin typeface="Agency FB"/>
              </a:rPr>
              <a:t>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grpSp>
        <p:nvGrpSpPr>
          <p:cNvPr id="763" name="Group 13"/>
          <p:cNvGrpSpPr/>
          <p:nvPr/>
        </p:nvGrpSpPr>
        <p:grpSpPr>
          <a:xfrm>
            <a:off x="8388360" y="2565360"/>
            <a:ext cx="1871640" cy="2087640"/>
            <a:chOff x="8388360" y="2565360"/>
            <a:chExt cx="1871640" cy="2087640"/>
          </a:xfrm>
        </p:grpSpPr>
        <p:sp>
          <p:nvSpPr>
            <p:cNvPr id="764" name="Text Box 9"/>
            <p:cNvSpPr/>
            <p:nvPr/>
          </p:nvSpPr>
          <p:spPr>
            <a:xfrm>
              <a:off x="8570520" y="2924280"/>
              <a:ext cx="14605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000000"/>
                  </a:solidFill>
                  <a:latin typeface="MV Boli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utoShape 10"/>
            <p:cNvSpPr/>
            <p:nvPr/>
          </p:nvSpPr>
          <p:spPr>
            <a:xfrm>
              <a:off x="8388360" y="2565360"/>
              <a:ext cx="1871640" cy="2087640"/>
            </a:xfrm>
            <a:prstGeom prst="cloudCallout">
              <a:avLst>
                <a:gd name="adj1" fmla="val -66189"/>
                <a:gd name="adj2" fmla="val 54638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"/>
          <p:cNvSpPr txBox="1"/>
          <p:nvPr/>
        </p:nvSpPr>
        <p:spPr>
          <a:xfrm>
            <a:off x="457200" y="378900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оленость выражают в промилле – тысячных долях числа – и обозначают значком </a:t>
            </a:r>
            <a:r>
              <a:rPr b="1" i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0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. Средняя соленость Мирового океана 35</a:t>
            </a:r>
            <a:r>
              <a:rPr b="1" i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00.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 Это значит, что в 1 л воды растворено 35 г веществ. Пресной считается вода, в литер которой содержится менее 1 г растворенных веществ. Из-за растворенных веществ океаническая вода замерзает при температуре -2</a:t>
            </a:r>
            <a:r>
              <a:rPr b="1" i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.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Но соленость в разных частях океана может быть разной. Например, в Черном море - 18</a:t>
            </a:r>
            <a:r>
              <a:rPr b="1" i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00, 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 Балтийском – 5-6</a:t>
            </a:r>
            <a:r>
              <a:rPr b="1" i="1" lang="ru-RU" sz="24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400" spc="-1" strike="noStrike" baseline="-25000">
                <a:solidFill>
                  <a:srgbClr val="990000"/>
                </a:solidFill>
                <a:latin typeface="Arial"/>
              </a:rPr>
              <a:t>00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path" presetID="1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animMotion origin="layout" path="M 0 0 C 0.001 0.0453 0.011 0.08661 0.028 0.11325 C 0.028 0.11459 0.055 0.15056 0.055 0.14923 C 0.07 0.16922 0.079 0.1972 0.079 0.22651 C 0.079 0.28514 0.044 0.33177 0 0.3331 C -0.044 0.33177 -0.079 0.28514 -0.079 0.22651 C -0.079 0.1972 -0.07 0.16922 -0.055 0.14923 C -0.055 0.15056 -0.028 0.11459 -0.028 0.11325 C -0.011 0.08661 -0.001 0.0453 0 0 Z">
                                      <p:cBhvr>
                                        <p:cTn id="34" dur="2000" fill="hold"/>
                                        <p:tgtEl>
                                          <p:spTgt spid="7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8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0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AutoShape 13"/>
          <p:cNvSpPr/>
          <p:nvPr/>
        </p:nvSpPr>
        <p:spPr>
          <a:xfrm>
            <a:off x="826920" y="1773360"/>
            <a:ext cx="4249800" cy="482580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9fd1f3"/>
              </a:gs>
              <a:gs pos="100000">
                <a:srgbClr val="ffcc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1" lang="en-US" sz="60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69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971640" y="1773000"/>
            <a:ext cx="41004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ак зависит соленость от испарения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ак зависит соленость от осадков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ак зависит соленость от впадающих рек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очему соленость Красного моря 42</a:t>
            </a:r>
            <a:r>
              <a:rPr b="1" i="1" lang="ru-RU" sz="28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0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 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очему соленость Карского моря 10</a:t>
            </a:r>
            <a:r>
              <a:rPr b="1" i="1" lang="ru-RU" sz="28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0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 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Температура-свойство океанической воды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7210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Другим свойством морской воды является её температура. 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Arial"/>
              </a:rPr>
              <a:t>Как вы думаете, от чего зависит температура вод Мирового океана? (стр.77)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indent="0" algn="ctr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4" name=""/>
          <p:cNvSpPr txBox="1"/>
          <p:nvPr/>
        </p:nvSpPr>
        <p:spPr>
          <a:xfrm>
            <a:off x="8686800" y="1600200"/>
            <a:ext cx="1332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8686800" y="3938760"/>
            <a:ext cx="6192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Arial Black"/>
              </a:rPr>
              <a:t>РЕФЛЕКСИЯ: ответьте на вопросы</a:t>
            </a:r>
            <a:endParaRPr b="1" lang="en-US" sz="32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77" name=""/>
          <p:cNvSpPr txBox="1"/>
          <p:nvPr/>
        </p:nvSpPr>
        <p:spPr>
          <a:xfrm>
            <a:off x="1186920" y="1267920"/>
            <a:ext cx="7488360" cy="590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)В каком направлении Тихий океан вытянут больше? По экватору или по меридиану 170 з.д.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2)У какого материка все берега северные,а у какого океана все берега южные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3)Что такое Мировой океан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4)Что изучает наука океанология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5) Материк?Остров?Архипелаг? Полуостров? Океан? Море? Залив? Пролив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6)Какие моря внутренние ,а какие окраинные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7)Есть ли на Земле Южный океан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8)Чему равна соленость морской воды,если в 1 литре этой воды содержиться 11 гр. Минеральных веществ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9) Почему Красное море солонее Балтийского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0) Почему океаническая вода не замерзает при -1градусе С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одведение итогов: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1187280" y="1483920"/>
            <a:ext cx="757080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Довольны ли вы тем как прошел урок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Было ли интересно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Были ли вы активны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Сумели ли вы показать свои знания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Оцените свою работу.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-Выставление отметок. 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Я знала, все у нас получится,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сем ученикам 6 класса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В журнал поставлю «хорошо» и «пять».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И в заключении хочу сказать,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Что лучше географии предмета не сыскать.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Мир географии огромен,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Стремитесь вы его познать!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429480" indent="-4294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0" name="Заголовок 1" descr=""/>
          <p:cNvPicPr/>
          <p:nvPr/>
        </p:nvPicPr>
        <p:blipFill>
          <a:blip r:embed="rId1"/>
          <a:stretch/>
        </p:blipFill>
        <p:spPr>
          <a:xfrm>
            <a:off x="60480" y="-274680"/>
            <a:ext cx="8407080" cy="1255680"/>
          </a:xfrm>
          <a:prstGeom prst="rect">
            <a:avLst/>
          </a:prstGeom>
          <a:ln w="0">
            <a:noFill/>
          </a:ln>
        </p:spPr>
      </p:pic>
      <p:sp>
        <p:nvSpPr>
          <p:cNvPr id="781" name=""/>
          <p:cNvSpPr txBox="1"/>
          <p:nvPr/>
        </p:nvSpPr>
        <p:spPr>
          <a:xfrm>
            <a:off x="1714680" y="2143080"/>
            <a:ext cx="592920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7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Arial"/>
              </a:rPr>
              <a:t>§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20 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2.Сколько граммов различных веществ можно получить из 1 т черноморской воды, если ее соленость 18</a:t>
            </a:r>
            <a:r>
              <a:rPr b="1" i="1" lang="ru-RU" sz="28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0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Сколько граммов различных веществ можно получить из 1 т воды Красного моря, если ее соленость 42</a:t>
            </a:r>
            <a:r>
              <a:rPr b="1" i="1" lang="ru-RU" sz="2800" spc="-1" strike="noStrike" baseline="30000">
                <a:solidFill>
                  <a:srgbClr val="99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/</a:t>
            </a:r>
            <a:r>
              <a:rPr b="1" i="1" lang="ru-RU" sz="2800" spc="-1" strike="noStrike" baseline="-25000">
                <a:solidFill>
                  <a:srgbClr val="990000"/>
                </a:solidFill>
                <a:latin typeface="Arial"/>
              </a:rPr>
              <a:t>00.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Какова соленость Карибского моря, если из 1000т воды получили 36 кг различных веществ?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>
              <a:lnSpc>
                <a:spcPct val="7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>
              <a:lnSpc>
                <a:spcPct val="7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473040" indent="-473040">
              <a:lnSpc>
                <a:spcPct val="70000"/>
              </a:lnSpc>
              <a:spcBef>
                <a:spcPts val="700"/>
              </a:spcBef>
              <a:buClr>
                <a:srgbClr val="99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Целевая актуализация</a:t>
            </a:r>
            <a:endParaRPr b="1" lang="en-US" sz="16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570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4800" spc="-1" strike="noStrike">
                <a:solidFill>
                  <a:srgbClr val="990000"/>
                </a:solidFill>
                <a:latin typeface="Arial"/>
              </a:rPr>
              <a:t>Цель:  Познакомиться с частями  Мирового океана.</a:t>
            </a:r>
            <a:endParaRPr b="1" lang="en-US" sz="4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2" name="AutoShape 4">
            <a:hlinkClick r:id="" action="ppaction://hlinkshowjump?jump=nextslide"/>
          </p:cNvPr>
          <p:cNvSpPr/>
          <p:nvPr/>
        </p:nvSpPr>
        <p:spPr>
          <a:xfrm>
            <a:off x="7380360" y="6021360"/>
            <a:ext cx="1079280" cy="64764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104040 h 647640"/>
              <a:gd name="textAreaBottom" fmla="*/ 4626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941" stAng="-5400000" swAng="-5400000"/>
                <a:lnTo>
                  <a:pt x="0" y="11959"/>
                </a:lnTo>
                <a:arcTo wR="21600" hR="6941" stAng="10800000" swAng="-2536051"/>
                <a:lnTo>
                  <a:pt x="14400" y="21203"/>
                </a:lnTo>
                <a:lnTo>
                  <a:pt x="21600" y="16391"/>
                </a:lnTo>
                <a:lnTo>
                  <a:pt x="14400" y="10785"/>
                </a:lnTo>
                <a:lnTo>
                  <a:pt x="14400" y="13485"/>
                </a:lnTo>
                <a:arcTo wR="21600" hR="6941" stAng="8263949" swAng="2109967"/>
                <a:lnTo>
                  <a:pt x="1461" y="9450"/>
                </a:lnTo>
                <a:arcTo wR="21600" hR="6941" stAng="-10373916" swAng="4973916"/>
                <a:close/>
              </a:path>
              <a:path fill="darkenLess" w="21600" h="21600">
                <a:moveTo>
                  <a:pt x="21600" y="0"/>
                </a:moveTo>
                <a:arcTo wR="21600" hR="6941" stAng="-5400000" swAng="-5400000"/>
                <a:lnTo>
                  <a:pt x="0" y="6941"/>
                </a:lnTo>
                <a:arcTo wR="21600" hR="6941" stAng="10800000" swAng="-426084"/>
                <a:lnTo>
                  <a:pt x="1461" y="9450"/>
                </a:lnTo>
                <a:arcTo wR="21600" hR="6941" stAng="-10373916" swAng="4973916"/>
                <a:close/>
              </a:path>
            </a:pathLst>
          </a:cu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5">
            <a:hlinkClick r:id="" action="ppaction://hlinkshowjump?jump=previousslide"/>
          </p:cNvPr>
          <p:cNvSpPr/>
          <p:nvPr/>
        </p:nvSpPr>
        <p:spPr>
          <a:xfrm flipH="1">
            <a:off x="2050200" y="6021360"/>
            <a:ext cx="1079640" cy="647640"/>
          </a:xfrm>
          <a:custGeom>
            <a:avLst/>
            <a:gdLst>
              <a:gd name="textAreaLeft" fmla="*/ 144360 w 1079640"/>
              <a:gd name="textAreaRight" fmla="*/ 935280 w 1079640"/>
              <a:gd name="textAreaTop" fmla="*/ 104040 h 647640"/>
              <a:gd name="textAreaBottom" fmla="*/ 4626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941" stAng="-5400000" swAng="-5400000"/>
                <a:lnTo>
                  <a:pt x="0" y="11959"/>
                </a:lnTo>
                <a:arcTo wR="21600" hR="6941" stAng="10800000" swAng="-2536051"/>
                <a:lnTo>
                  <a:pt x="14400" y="21203"/>
                </a:lnTo>
                <a:lnTo>
                  <a:pt x="21600" y="16391"/>
                </a:lnTo>
                <a:lnTo>
                  <a:pt x="14400" y="10785"/>
                </a:lnTo>
                <a:lnTo>
                  <a:pt x="14400" y="13485"/>
                </a:lnTo>
                <a:arcTo wR="21600" hR="6941" stAng="8263949" swAng="2109967"/>
                <a:lnTo>
                  <a:pt x="1461" y="9450"/>
                </a:lnTo>
                <a:arcTo wR="21600" hR="6941" stAng="-10373916" swAng="4973916"/>
                <a:close/>
              </a:path>
              <a:path fill="darkenLess" w="21600" h="21600">
                <a:moveTo>
                  <a:pt x="21600" y="0"/>
                </a:moveTo>
                <a:arcTo wR="21600" hR="6941" stAng="-5400000" swAng="-5400000"/>
                <a:lnTo>
                  <a:pt x="0" y="6941"/>
                </a:lnTo>
                <a:arcTo wR="21600" hR="6941" stAng="10800000" swAng="-426084"/>
                <a:lnTo>
                  <a:pt x="1461" y="9450"/>
                </a:lnTo>
                <a:arcTo wR="21600" hR="6941" stAng="-10373916" swAng="4973916"/>
                <a:close/>
              </a:path>
            </a:pathLst>
          </a:custGeom>
          <a:solidFill>
            <a:srgbClr val="0080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Между строк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1)Самый широкий на Земле пролив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2)Пролив,соединяющий Средиземное море с Атлантическим океаном,в самом узком месте не шире 14 км.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3)Самый большой остров на земле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4)Вулканические острова-архипелаг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5)Океан,который называют Великим? 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6)Самый маленький океан?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7) «Море без берегов»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  <a:p>
            <a:pPr marL="329040" indent="-32904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Постановка проблемных географических задач                   стадия «Вызова»</a:t>
            </a:r>
            <a:endParaRPr b="1" lang="en-US" sz="16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-396720" y="2115720"/>
            <a:ext cx="9648720" cy="366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8688"/>
            </a:outerShdw>
          </a:effectLst>
        </p:spPr>
        <p:txBody>
          <a:bodyPr anchor="ctr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Мировой океан– 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это совокупность всех океанов.      Вы уже знаете самые крупные части Мирового океана, собственно океаны Земли, которые отделены друг от друга материками и соединяются проливами. Назовите океаны, которые вы знаете.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Но есть и другие части океана, с которыми мы сегодня познакомимся и постараемся ответить на вопросы: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- из каких частей состоит Мировой океан,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- какие свойства имеет океаническая вода.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 Black"/>
              </a:rPr>
              <a:t> </a:t>
            </a:r>
            <a:r>
              <a:rPr b="1" lang="ru-RU" sz="2800" spc="-1" strike="noStrike">
                <a:solidFill>
                  <a:srgbClr val="008000"/>
                </a:solidFill>
                <a:latin typeface="Arial Black"/>
              </a:rPr>
              <a:t>географические загадки</a:t>
            </a:r>
            <a:endParaRPr b="1" lang="en-US" sz="28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1115640" y="1341360"/>
            <a:ext cx="748836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)В каком направлении Тихий океан вытянут больше? По экватору или по меридиану 170 з.д.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2)У какого материка все берега северные,а у какого океана все берега южные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3)Что такое Мировой океан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4)Что изучает наука океанология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5) Материк?Остров?Архипелаг? Полуостров? Океан? Море? Залив? Пролив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6)Какие моря внутренние ,а какие окраинные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7)Есть ли на Земле Южный океан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8)Чему равна соленость морской воды,если в 1 литре этой воды содержиться 11 гр. Минеральных веществ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9) Почему Красное море солонее Балтийского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10) Почему океаническая вода не замерзает при -1градусе С?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  <a:ea typeface="Arial"/>
              </a:rPr>
              <a:t>Актуализация изученного ранее материала</a:t>
            </a:r>
            <a:endParaRPr b="1" lang="en-US" sz="1600" spc="-1" strike="noStrike">
              <a:solidFill>
                <a:srgbClr val="008000"/>
              </a:solidFill>
              <a:latin typeface="Arial Black"/>
            </a:endParaRPr>
          </a:p>
        </p:txBody>
      </p:sp>
      <p:pic>
        <p:nvPicPr>
          <p:cNvPr id="619" name="Содержимое 2" descr=""/>
          <p:cNvPicPr/>
          <p:nvPr/>
        </p:nvPicPr>
        <p:blipFill>
          <a:blip r:embed="rId1"/>
          <a:stretch/>
        </p:blipFill>
        <p:spPr>
          <a:xfrm>
            <a:off x="1036800" y="1835280"/>
            <a:ext cx="7583400" cy="67118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5" descr="http://im0-tub-ru.yandex.net/i?id=4bb7669e78eb678e4b6974fe6b86ece7-75-144&amp;n=21"/>
          <p:cNvPicPr/>
          <p:nvPr/>
        </p:nvPicPr>
        <p:blipFill>
          <a:blip r:embed="rId2"/>
          <a:stretch/>
        </p:blipFill>
        <p:spPr>
          <a:xfrm>
            <a:off x="539640" y="2549520"/>
            <a:ext cx="3961080" cy="3111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8000"/>
                </a:solidFill>
                <a:latin typeface="Arial"/>
              </a:rPr>
              <a:t>Изучение  нового материала                                  стадия «Осмысления»</a:t>
            </a:r>
            <a:endParaRPr b="1" lang="en-US" sz="16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403280" y="1196640"/>
            <a:ext cx="7570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Задание 1:</a:t>
            </a:r>
            <a:endParaRPr b="1" lang="en-US" sz="20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Откроем учебник на стр.74 , по тексту учебника и по картам атласа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Запишите все океаны по мере уменьшения их площади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Задание  2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Вот вам первые координаты. 1). 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40.с.ш., 70 з.д 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  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). 45 с.ш   150 в.д    3).  5 с.ш. 72 в.д 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что общего в этих объектах?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  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23" name="Прямоугольник 3"/>
          <p:cNvSpPr/>
          <p:nvPr/>
        </p:nvSpPr>
        <p:spPr>
          <a:xfrm>
            <a:off x="2050920" y="30686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30040" y="1155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8000"/>
                </a:solidFill>
                <a:latin typeface="Arial Black"/>
              </a:rPr>
              <a:t>Проверим 1-2</a:t>
            </a:r>
            <a:endParaRPr b="1" lang="en-US" sz="4400" spc="-1" strike="noStrike">
              <a:solidFill>
                <a:srgbClr val="008000"/>
              </a:solidFill>
              <a:latin typeface="Arial Black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116000" y="1052280"/>
            <a:ext cx="75708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Задание1:(Тихий, Атлантический, Северный Ледовитый, Индийский)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Задание2: остров Гренландия, коралловые острова, Курильские острова).Они острова.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Попробуйте сформулируйте определение остров!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343080" indent="-343080" algn="ctr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00"/>
                </a:solidFill>
                <a:latin typeface="Arial"/>
              </a:rPr>
              <a:t>Найдите любой архипелаг и полуостров в атласе,сформулируйте определение,сравните с книгой на стр.74</a:t>
            </a:r>
            <a:endParaRPr b="1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5" descr="Contur-World-Map-2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-142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7" name="TextBox 19"/>
          <p:cNvSpPr/>
          <p:nvPr/>
        </p:nvSpPr>
        <p:spPr>
          <a:xfrm>
            <a:off x="2571840" y="578628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Овал 15"/>
          <p:cNvSpPr/>
          <p:nvPr/>
        </p:nvSpPr>
        <p:spPr>
          <a:xfrm>
            <a:off x="1928880" y="24289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Овал 22"/>
          <p:cNvSpPr/>
          <p:nvPr/>
        </p:nvSpPr>
        <p:spPr>
          <a:xfrm>
            <a:off x="4643280" y="714240"/>
            <a:ext cx="21456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Овал 23"/>
          <p:cNvSpPr/>
          <p:nvPr/>
        </p:nvSpPr>
        <p:spPr>
          <a:xfrm>
            <a:off x="6643800" y="22147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Овал 24"/>
          <p:cNvSpPr/>
          <p:nvPr/>
        </p:nvSpPr>
        <p:spPr>
          <a:xfrm>
            <a:off x="4500720" y="2000160"/>
            <a:ext cx="21420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Овал 25"/>
          <p:cNvSpPr/>
          <p:nvPr/>
        </p:nvSpPr>
        <p:spPr>
          <a:xfrm>
            <a:off x="4286160" y="1428840"/>
            <a:ext cx="21456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Овал 26"/>
          <p:cNvSpPr/>
          <p:nvPr/>
        </p:nvSpPr>
        <p:spPr>
          <a:xfrm>
            <a:off x="6858000" y="2000160"/>
            <a:ext cx="21420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Овал 27"/>
          <p:cNvSpPr/>
          <p:nvPr/>
        </p:nvSpPr>
        <p:spPr>
          <a:xfrm>
            <a:off x="4643280" y="2714760"/>
            <a:ext cx="21456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Овал 28"/>
          <p:cNvSpPr/>
          <p:nvPr/>
        </p:nvSpPr>
        <p:spPr>
          <a:xfrm>
            <a:off x="4214880" y="221472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Овал 29"/>
          <p:cNvSpPr/>
          <p:nvPr/>
        </p:nvSpPr>
        <p:spPr>
          <a:xfrm>
            <a:off x="1714680" y="2928960"/>
            <a:ext cx="214200" cy="2142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Овал 30"/>
          <p:cNvSpPr/>
          <p:nvPr/>
        </p:nvSpPr>
        <p:spPr>
          <a:xfrm>
            <a:off x="6929280" y="1357200"/>
            <a:ext cx="214560" cy="21456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31"/>
          <p:cNvSpPr/>
          <p:nvPr/>
        </p:nvSpPr>
        <p:spPr>
          <a:xfrm>
            <a:off x="6572160" y="21430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32"/>
          <p:cNvSpPr/>
          <p:nvPr/>
        </p:nvSpPr>
        <p:spPr>
          <a:xfrm>
            <a:off x="2214720" y="3643200"/>
            <a:ext cx="457200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Задани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йди моря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                                     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                                     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                                     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                                     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5                                    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7T16:24:34Z</dcterms:created>
  <dc:creator>An7Er</dc:creator>
  <dc:description/>
  <dc:language>en-US</dc:language>
  <cp:lastModifiedBy>Игровая</cp:lastModifiedBy>
  <dcterms:modified xsi:type="dcterms:W3CDTF">2018-08-13T13:40:44Z</dcterms:modified>
  <cp:revision>158</cp:revision>
  <dc:subject/>
  <dc:title>Слайд 1</dc:title>
</cp:coreProperties>
</file>