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bomb.wav" ContentType="audio/x-wav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9DF4-DC5C-4FDD-9863-2AE0C49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68B-2DED-4A32-A75A-7E13B778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10D19-EE28-4823-B5EB-971580A2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2389D0-E5AB-4108-9FC8-1E220C97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67CD7-23FA-4CA4-84FA-231F060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1A18F-5D91-49F1-A03A-DF925153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8DBDDD-BCA2-4FF4-AB47-AEDB41C5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25101-1B15-4743-A569-D94A6CC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6CCFB-5545-428E-ABB6-D37DE3A9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4DBCC5-9B30-417A-BEFC-EE6436850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73A1B-730E-49CB-80D6-206A8267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9499C6-3260-48ED-9F95-1B27259DA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9CCC-89F5-4DCC-8EF0-4BFCD61E6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8A92A-C32B-4019-BAB7-407D940E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DED12-06E1-45C3-A535-A7C0CCA6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007D1-100E-4BB1-A0B0-FD4DD6F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9C632-28C0-4F5A-95A6-BC9EAE0F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8428B9-5110-47A9-97ED-114CBC3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420C61-68A8-43F4-AC07-712380BC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D43D0-9CE6-49EA-94D3-02BD6C9F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BC59E-9F27-4022-AEC5-9C463301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D45C5-A251-413B-9D6F-8D9828A6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917E52-2CDA-4ADD-95F1-A246754B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7086-1F8E-4360-B5FA-15223534B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D8E24-3219-451D-8194-F1ACEF2D7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2FB44-D974-4642-8883-34DAB6D0B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92278-2341-4000-9055-446CBB34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6E1AF2-DB47-4A70-90E1-FE07A953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19E73-0C40-466C-98B9-21F41638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CF179-E9D3-4495-B0C5-10EE30CF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6C458-5CE4-4683-B70C-824D30EB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356CD7-256F-4ED2-94E8-E2CACA86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D4831-6AC7-41A0-B13D-8B796424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5862D-1AEB-49DA-8154-730233E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1E12-87A5-409B-9C04-ED030925C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D3FA23-A0D8-4355-BBC8-10C84D1A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788B92-DE0C-41E2-B43A-EF4BC78F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809BA4-8042-41AC-AC36-2BF7D62E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8D0AC-2822-47EF-A04E-ED35A55BB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B48BCC-6268-479C-B070-0C9D3330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EEBA51-E2A5-48C2-A665-451E162C9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1E83B-5E35-4AC3-A665-E32C828B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27A0B-D521-46BA-9E53-FDE8253C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C9292-C40F-4382-8ADC-EC245912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DE98AB-9305-4C47-8F45-B5A53A36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521-65A8-4F4E-9FEB-13D695FD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562293-E33D-49D7-8FB1-BFA94F05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1EFB5-8440-45AF-9462-F1300287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9CA33-D2B0-4E47-AF65-957C7540C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073DE-1737-470B-BA64-84646880B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C19B69-A3C8-4570-9709-20724A7E6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27479F-0939-47CA-8FE6-36E7EC97F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FC4A03-A31D-409B-8313-23B9AC5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13C492-7ADC-4C4B-93EC-3A32D95E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AFDF6-36B9-4D69-BB12-12991EAB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732FEC-5559-4299-8847-4B70603C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D181-D60E-4BA0-820F-3DB7DF5F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0DF25-EB8B-4C4D-8B10-D71B5F51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CF78A6-FFE2-43C0-B0C4-9EE38F8F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1B1089-7DC2-484D-A991-0C50B6CA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6E6517-1B70-48A3-8F40-6C4BCB19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1C597-DCEC-4146-85DA-18FD5797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1AB4B3-51BC-4FCA-BF68-3CBFC0C6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B3A0B-3071-4B03-A24C-FB3EAD1B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260BC-055C-4109-AE91-8905251B2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A9BA4B-6C25-4AC5-B5DC-F50DA1E27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39899-40BA-4AB1-A849-9EF710582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E9F8C-A1B6-45AF-B39F-A55199978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EA673-DEEB-4E66-8F0A-37218A8DA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ABB28C-DF74-4F4D-8165-C5DEB15D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55E69A-C6F3-4624-92F8-D80A6E3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0C372-672C-4BF0-85D9-4C2764E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EA11A-F9E4-43EB-8103-42061FA7C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74EF3-8CCF-48AC-98C6-E6B4B49E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2F295-941A-4876-BD76-4912F5D1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8A60C9-B816-459B-9AF7-C877C833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DBDAAD-D066-4688-9958-CDE64874B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9FD4E-DD18-47B3-8F84-F6154987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EE978-218E-4B6E-9AC6-39963E3C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0FD4-ECAD-4C5C-9183-E46C91D7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B17-8BB9-45A5-ADD1-E348BBEC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2C4D-F97C-4CF3-A65D-6180E941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84A1-1F52-45E6-A873-1E6E059DC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3A998-04FE-4FB6-B8CE-218B06B8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05F5-7822-4C5D-A0DE-9A7963C1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E90A-2C01-4B6E-95C5-0AB4A67BF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D6624-F1CD-4AD9-A645-F09B97D2C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5A3C1-D947-47A9-BF35-EB1D1B40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FBB66-60C1-4901-B269-243912C9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5E36C-5157-4989-940D-270ECD0D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33B15-D8B2-4413-AD3C-5B758E837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6E5-8FF3-46E1-A014-61B7BC4D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64F67-9B1D-41BB-986A-87F4EA2B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D96F-BD6A-4C8A-9CE2-7D85D3C9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1F0D7-11BC-4112-8945-291CC06E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14BF2-CBA0-40A4-B81B-BCEFABB1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04D61-45C9-4431-BA50-E6E513A1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45CDF-7077-4496-8E96-56F1FD6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C9B1-582B-4CD3-8375-AD5A0D42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6A2C-0BF8-4B92-B6E8-0184E952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24450-7324-4107-8BD8-4DE3DDF9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8A7C9-5266-4BE4-A5B5-227E140C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5FA0-A230-4D04-9685-A933F147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6EE7-F5DC-4D41-B47B-DB7AE88A2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89441-9314-47C2-9DA0-05AE1447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3F094-8558-49A5-B7AF-8153C9BF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CBE4-CDF5-47C9-BE0C-945141D6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C6D43-8922-4B4B-B1C0-AF7B77FA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A5E9B-2956-42EF-8321-B5DF895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040BC-F4C7-4D76-83D1-24B6EEEB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D31F4-AA89-49DC-BB70-E28B1068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E5D7-4C9D-4166-8BE8-8545B4AB1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9C7314-0B33-46A4-8985-B74C75488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0D74-D689-4CE3-AD08-0B555B80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3A30DC-2201-4724-B699-9109E901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231D1-5D1E-4890-B491-275BCDD8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51CE7-8DF3-4B06-9554-DDABA280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C6B21-B590-4FDA-8025-1191FA54C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7E32-193F-4353-A5AE-BD673BACA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1B07-53EC-4D2D-8C82-5E5F70B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078B8-AB5C-4B46-BD06-6E31DEA0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45063-A0EB-4370-93E6-D12C0AD1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7402F-32AB-4C1E-8607-375A7554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BF459-B4C8-41FA-986D-58B30519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EF3B-7B9F-4430-9F0B-824201271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6E83FF-2D17-4BC8-93FC-CE2FA15E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7C2480-45F4-46AF-90A5-BE9E9E96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7FB5-D9B1-4CAD-AEF7-5BFF3FC1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C763B-93D4-4CF1-85BE-F9B149D06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D9202-29E5-4813-AB84-247B2573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588C4C-7FB9-44D4-B173-730FE20B7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26FC0-E8B9-48BB-80B9-E6A6DD23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A017-E4C9-441F-875C-380D7D72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D6087-234B-42FA-AE47-378AD91A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221BD-8D47-4234-9612-FE35704A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1753-2B2D-4294-8A98-DC5A2A90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0D22-CB12-420C-8F1D-9A9D8C7F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2C21D-2244-43A3-979A-49F8CAE9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3861CA-6028-4553-A503-54078330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6153D-B7DA-4CDF-9FD3-96801A329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B558-DAD9-46E4-A8BF-1D1A755D2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0637F-E3D3-4BB0-A8FC-922B75FC5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EC60A-2BDE-4776-A1C5-BDEFC28B0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9B2A7-0443-4419-B54C-2BDEBBFB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6BD17-DF0E-4D61-802F-8A73FF64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95522-6DBF-42BE-8165-30E348C5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F848-80CB-43C5-B15D-1098DB54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BFD7C-1A80-4F2F-9D9F-0B8B5757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44AAF-A77C-4EF6-BB99-AA14B1D7F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E1114-CE48-426A-A734-32D3A2F5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6AD7E-8103-4E02-BF21-9457C114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8B646-056A-473C-8149-F8271C9EB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2110D-85A2-49C1-AC43-FF4D85707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06BB5-B660-46C7-AB7D-FD246F3A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5DBED-9DC0-4D0D-AC5D-A487ACEE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DD14-73E1-42C0-8127-15F61CF8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82F97-A3B8-4CB3-8BDB-5CCDF3F13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A33-DC7E-4D31-B8DF-A689006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D99B8-851B-4E2E-94B8-864E48F0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AF1FF-0859-4B37-A95A-4685BF367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0568CE-58A1-420E-9B62-892A6B70F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93B4-A7E3-468A-A6E4-D3E1BBCA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AA3D7-410D-410D-8725-5DE56FC1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431908-3B98-4959-BC08-12C5D73E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4C054-4741-44DE-A29D-3B86482F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E70558-8D12-4731-ADCE-3A2E1EE7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C4542-6A59-42F7-9432-D8258E7D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4EA74-E768-46C0-A0A8-5F05FFCA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075-CC2C-4B99-85E7-69430642F9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2BF4-0A2E-4981-BFD2-6557B65267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A96F-2FB4-4F88-ACC9-58B972DEC8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7FCF3-460A-4BB4-A58E-745513F2B8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8707-5640-4375-BEA6-E7A4BA450B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225A-41F4-48B0-8A10-E5F8665A70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D2AD-D660-4320-B4D2-E6F52D47B4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DA11-0685-48DE-9925-CD759B6205F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45AB-B0D4-480D-8A5C-0E77A7C5807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4795-6680-4153-B740-4B71AA0DB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090B-5432-434F-B31B-C55DAC6F6D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101B-F104-418A-BFE1-25D7E61EB9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FB760-190B-43D8-9C53-8186CCF652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22E0-3099-409C-91D3-364171F98F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Oval 2"/>
          <p:cNvSpPr/>
          <p:nvPr/>
        </p:nvSpPr>
        <p:spPr>
          <a:xfrm rot="21321000">
            <a:off x="394920" y="1914480"/>
            <a:ext cx="8315280" cy="3170160"/>
          </a:xfrm>
          <a:prstGeom prst="ellipse">
            <a:avLst/>
          </a:prstGeom>
          <a:solidFill>
            <a:srgbClr val="ff8837"/>
          </a:solidFill>
          <a:ln w="0">
            <a:noFill/>
          </a:ln>
          <a:effectLst>
            <a:outerShdw dist="109184" dir="3271692" blurRad="0" rotWithShape="0">
              <a:srgbClr val="9952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98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Части Мирового океана. 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90324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Урок в технологии «Развитие критического мышления через чтение и письмо», география 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140360" y="5589720"/>
            <a:ext cx="45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Выполнила: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учитель географии МКОУ АСОШ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Козлова А.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1"/>
          <p:cNvSpPr/>
          <p:nvPr/>
        </p:nvSpPr>
        <p:spPr>
          <a:xfrm>
            <a:off x="142920" y="285840"/>
            <a:ext cx="885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асть океана, отделенная сушей или вдающаяся в 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3143160" y="928800"/>
            <a:ext cx="2500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Мор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Стрелка вниз 3"/>
          <p:cNvSpPr/>
          <p:nvPr/>
        </p:nvSpPr>
        <p:spPr>
          <a:xfrm rot="2263800">
            <a:off x="3233520" y="1645920"/>
            <a:ext cx="247680" cy="6159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трелка вниз 4"/>
          <p:cNvSpPr/>
          <p:nvPr/>
        </p:nvSpPr>
        <p:spPr>
          <a:xfrm rot="19253400">
            <a:off x="4943520" y="1690560"/>
            <a:ext cx="303120" cy="1797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128592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4572000" y="3286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а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трелка вниз 7"/>
          <p:cNvSpPr/>
          <p:nvPr/>
        </p:nvSpPr>
        <p:spPr>
          <a:xfrm rot="1762200">
            <a:off x="1890360" y="2503440"/>
            <a:ext cx="219240" cy="77796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Стрелка вниз 8"/>
          <p:cNvSpPr/>
          <p:nvPr/>
        </p:nvSpPr>
        <p:spPr>
          <a:xfrm rot="19420800">
            <a:off x="3429000" y="2480760"/>
            <a:ext cx="19368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9"/>
          <p:cNvSpPr/>
          <p:nvPr/>
        </p:nvSpPr>
        <p:spPr>
          <a:xfrm>
            <a:off x="0" y="3286080"/>
            <a:ext cx="264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утриматериковы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2571840" y="328608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жматериковы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Рисунок 12" descr="внутр море.png"/>
          <p:cNvPicPr/>
          <p:nvPr/>
        </p:nvPicPr>
        <p:blipFill>
          <a:blip r:embed="rId1"/>
          <a:stretch/>
        </p:blipFill>
        <p:spPr>
          <a:xfrm>
            <a:off x="152280" y="4145040"/>
            <a:ext cx="1957680" cy="406080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15" descr="Средиземное море.jpg"/>
          <p:cNvPicPr/>
          <p:nvPr/>
        </p:nvPicPr>
        <p:blipFill>
          <a:blip r:embed="rId2"/>
          <a:stretch/>
        </p:blipFill>
        <p:spPr>
          <a:xfrm>
            <a:off x="2749680" y="4286160"/>
            <a:ext cx="1993680" cy="3840120"/>
          </a:xfrm>
          <a:prstGeom prst="rect">
            <a:avLst/>
          </a:prstGeom>
          <a:ln w="0">
            <a:noFill/>
          </a:ln>
        </p:spPr>
      </p:pic>
      <p:pic>
        <p:nvPicPr>
          <p:cNvPr id="652" name="Рисунок 17" descr="Баренцево море.png"/>
          <p:cNvPicPr/>
          <p:nvPr/>
        </p:nvPicPr>
        <p:blipFill>
          <a:blip r:embed="rId3"/>
          <a:stretch/>
        </p:blipFill>
        <p:spPr>
          <a:xfrm>
            <a:off x="5877000" y="4071960"/>
            <a:ext cx="2895480" cy="42069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19"/>
          <p:cNvSpPr/>
          <p:nvPr/>
        </p:nvSpPr>
        <p:spPr>
          <a:xfrm>
            <a:off x="6786720" y="3286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15"/>
          <p:cNvSpPr/>
          <p:nvPr/>
        </p:nvSpPr>
        <p:spPr>
          <a:xfrm>
            <a:off x="1928880" y="24289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22"/>
          <p:cNvSpPr/>
          <p:nvPr/>
        </p:nvSpPr>
        <p:spPr>
          <a:xfrm>
            <a:off x="4643280" y="71424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23"/>
          <p:cNvSpPr/>
          <p:nvPr/>
        </p:nvSpPr>
        <p:spPr>
          <a:xfrm>
            <a:off x="664380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Овал 24"/>
          <p:cNvSpPr/>
          <p:nvPr/>
        </p:nvSpPr>
        <p:spPr>
          <a:xfrm>
            <a:off x="450072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Овал 25"/>
          <p:cNvSpPr/>
          <p:nvPr/>
        </p:nvSpPr>
        <p:spPr>
          <a:xfrm>
            <a:off x="4286160" y="142884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Овал 26"/>
          <p:cNvSpPr/>
          <p:nvPr/>
        </p:nvSpPr>
        <p:spPr>
          <a:xfrm>
            <a:off x="685800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Овал 27"/>
          <p:cNvSpPr/>
          <p:nvPr/>
        </p:nvSpPr>
        <p:spPr>
          <a:xfrm>
            <a:off x="4643280" y="271476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28"/>
          <p:cNvSpPr/>
          <p:nvPr/>
        </p:nvSpPr>
        <p:spPr>
          <a:xfrm>
            <a:off x="421488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Овал 29"/>
          <p:cNvSpPr/>
          <p:nvPr/>
        </p:nvSpPr>
        <p:spPr>
          <a:xfrm>
            <a:off x="1714680" y="29289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Овал 30"/>
          <p:cNvSpPr/>
          <p:nvPr/>
        </p:nvSpPr>
        <p:spPr>
          <a:xfrm>
            <a:off x="6929280" y="135720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31"/>
          <p:cNvSpPr/>
          <p:nvPr/>
        </p:nvSpPr>
        <p:spPr>
          <a:xfrm>
            <a:off x="6572160" y="21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2"/>
          <p:cNvSpPr/>
          <p:nvPr/>
        </p:nvSpPr>
        <p:spPr>
          <a:xfrm>
            <a:off x="2000160" y="3429000"/>
            <a:ext cx="592956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звания морей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 Баренцево море      6 Красн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Балтийское море     7 Охотск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 Черное море             8 Японск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 Средиземное море 9 Саргассово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 Карибское море      10 Желт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Рисунок 1" descr="Бенгальский залив.jpg"/>
          <p:cNvPicPr/>
          <p:nvPr/>
        </p:nvPicPr>
        <p:blipFill>
          <a:blip r:embed="rId1"/>
          <a:stretch/>
        </p:blipFill>
        <p:spPr>
          <a:xfrm>
            <a:off x="971640" y="1628640"/>
            <a:ext cx="3166920" cy="3278160"/>
          </a:xfrm>
          <a:prstGeom prst="rect">
            <a:avLst/>
          </a:prstGeom>
          <a:ln w="0">
            <a:noFill/>
          </a:ln>
        </p:spPr>
      </p:pic>
      <p:sp>
        <p:nvSpPr>
          <p:cNvPr id="669" name="TextBox 2"/>
          <p:cNvSpPr/>
          <p:nvPr/>
        </p:nvSpPr>
        <p:spPr>
          <a:xfrm>
            <a:off x="714240" y="492912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Рисунок 3" descr="Персидский залив 1.jpg"/>
          <p:cNvPicPr/>
          <p:nvPr/>
        </p:nvPicPr>
        <p:blipFill>
          <a:blip r:embed="rId2"/>
          <a:stretch/>
        </p:blipFill>
        <p:spPr>
          <a:xfrm>
            <a:off x="5219640" y="1341360"/>
            <a:ext cx="3191040" cy="35784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5"/>
          <p:cNvSpPr/>
          <p:nvPr/>
        </p:nvSpPr>
        <p:spPr>
          <a:xfrm>
            <a:off x="5286240" y="4929120"/>
            <a:ext cx="278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сидский зал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1" descr="Мексиканский залив.jpg"/>
          <p:cNvPicPr/>
          <p:nvPr/>
        </p:nvPicPr>
        <p:blipFill>
          <a:blip r:embed="rId1"/>
          <a:stretch/>
        </p:blipFill>
        <p:spPr>
          <a:xfrm>
            <a:off x="428760" y="1643040"/>
            <a:ext cx="4109760" cy="3357720"/>
          </a:xfrm>
          <a:prstGeom prst="rect">
            <a:avLst/>
          </a:prstGeom>
          <a:ln w="0">
            <a:noFill/>
          </a:ln>
        </p:spPr>
      </p:pic>
      <p:pic>
        <p:nvPicPr>
          <p:cNvPr id="673" name="Рисунок 2" descr="Гвинейский залив.gif"/>
          <p:cNvPicPr/>
          <p:nvPr/>
        </p:nvPicPr>
        <p:blipFill>
          <a:blip r:embed="rId2"/>
          <a:stretch/>
        </p:blipFill>
        <p:spPr>
          <a:xfrm>
            <a:off x="5072040" y="157176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674" name="TextBox 4"/>
          <p:cNvSpPr/>
          <p:nvPr/>
        </p:nvSpPr>
        <p:spPr>
          <a:xfrm>
            <a:off x="642960" y="51436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ксиканский за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5"/>
          <p:cNvSpPr/>
          <p:nvPr/>
        </p:nvSpPr>
        <p:spPr>
          <a:xfrm>
            <a:off x="5214960" y="5072040"/>
            <a:ext cx="307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винейский за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142920" y="785880"/>
            <a:ext cx="90010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Л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асть моря или океана, глубоко вдающаяся в су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писать названия за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Блок-схема: узел 16"/>
          <p:cNvSpPr/>
          <p:nvPr/>
        </p:nvSpPr>
        <p:spPr>
          <a:xfrm>
            <a:off x="507204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Блок-схема: узел 17"/>
          <p:cNvSpPr/>
          <p:nvPr/>
        </p:nvSpPr>
        <p:spPr>
          <a:xfrm>
            <a:off x="2214720" y="1000080"/>
            <a:ext cx="28548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Блок-схема: узел 18"/>
          <p:cNvSpPr/>
          <p:nvPr/>
        </p:nvSpPr>
        <p:spPr>
          <a:xfrm>
            <a:off x="135720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Блок-схема: узел 20"/>
          <p:cNvSpPr/>
          <p:nvPr/>
        </p:nvSpPr>
        <p:spPr>
          <a:xfrm>
            <a:off x="5857920" y="300024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Блок-схема: узел 31"/>
          <p:cNvSpPr/>
          <p:nvPr/>
        </p:nvSpPr>
        <p:spPr>
          <a:xfrm>
            <a:off x="3571920" y="350028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32"/>
          <p:cNvSpPr/>
          <p:nvPr/>
        </p:nvSpPr>
        <p:spPr>
          <a:xfrm>
            <a:off x="2143080" y="928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3"/>
          <p:cNvSpPr/>
          <p:nvPr/>
        </p:nvSpPr>
        <p:spPr>
          <a:xfrm>
            <a:off x="128592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34"/>
          <p:cNvSpPr/>
          <p:nvPr/>
        </p:nvSpPr>
        <p:spPr>
          <a:xfrm>
            <a:off x="5786280" y="2928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5"/>
          <p:cNvSpPr/>
          <p:nvPr/>
        </p:nvSpPr>
        <p:spPr>
          <a:xfrm>
            <a:off x="3500280" y="342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6"/>
          <p:cNvSpPr/>
          <p:nvPr/>
        </p:nvSpPr>
        <p:spPr>
          <a:xfrm>
            <a:off x="500076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я за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  Мексикан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7  Гвиней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8  Бенгаль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  Персид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  Гудзонов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16"/>
          <p:cNvSpPr/>
          <p:nvPr/>
        </p:nvSpPr>
        <p:spPr>
          <a:xfrm>
            <a:off x="507204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17"/>
          <p:cNvSpPr/>
          <p:nvPr/>
        </p:nvSpPr>
        <p:spPr>
          <a:xfrm>
            <a:off x="2214720" y="1000080"/>
            <a:ext cx="28548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18"/>
          <p:cNvSpPr/>
          <p:nvPr/>
        </p:nvSpPr>
        <p:spPr>
          <a:xfrm>
            <a:off x="135720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20"/>
          <p:cNvSpPr/>
          <p:nvPr/>
        </p:nvSpPr>
        <p:spPr>
          <a:xfrm>
            <a:off x="5857920" y="300024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Блок-схема: узел 31"/>
          <p:cNvSpPr/>
          <p:nvPr/>
        </p:nvSpPr>
        <p:spPr>
          <a:xfrm>
            <a:off x="3571920" y="350028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2"/>
          <p:cNvSpPr/>
          <p:nvPr/>
        </p:nvSpPr>
        <p:spPr>
          <a:xfrm>
            <a:off x="2143080" y="928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28592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4"/>
          <p:cNvSpPr/>
          <p:nvPr/>
        </p:nvSpPr>
        <p:spPr>
          <a:xfrm>
            <a:off x="5786280" y="2928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5"/>
          <p:cNvSpPr/>
          <p:nvPr/>
        </p:nvSpPr>
        <p:spPr>
          <a:xfrm>
            <a:off x="3500280" y="342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6"/>
          <p:cNvSpPr/>
          <p:nvPr/>
        </p:nvSpPr>
        <p:spPr>
          <a:xfrm>
            <a:off x="500076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Берингов пролив.jpg"/>
          <p:cNvPicPr/>
          <p:nvPr/>
        </p:nvPicPr>
        <p:blipFill>
          <a:blip r:embed="rId1"/>
          <a:stretch/>
        </p:blipFill>
        <p:spPr>
          <a:xfrm>
            <a:off x="1258920" y="1484280"/>
            <a:ext cx="3925800" cy="294480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2" descr="Витус Беринг.jpg"/>
          <p:cNvPicPr/>
          <p:nvPr/>
        </p:nvPicPr>
        <p:blipFill>
          <a:blip r:embed="rId2"/>
          <a:stretch/>
        </p:blipFill>
        <p:spPr>
          <a:xfrm>
            <a:off x="6084720" y="2205000"/>
            <a:ext cx="2532240" cy="28098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3"/>
          <p:cNvSpPr/>
          <p:nvPr/>
        </p:nvSpPr>
        <p:spPr>
          <a:xfrm flipH="1">
            <a:off x="5786280" y="1500120"/>
            <a:ext cx="281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ус Берин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971640" y="4581360"/>
            <a:ext cx="4572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рингов пролив разделяет Евразию и Северную Америку и соединяет Северный Ледовитый и Тихий океан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Рисунок 1" descr="Гибралтарский пролив.jpg"/>
          <p:cNvPicPr/>
          <p:nvPr/>
        </p:nvPicPr>
        <p:blipFill>
          <a:blip r:embed="rId1"/>
          <a:stretch/>
        </p:blipFill>
        <p:spPr>
          <a:xfrm>
            <a:off x="928800" y="1428840"/>
            <a:ext cx="3571920" cy="353520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"/>
          <p:cNvSpPr/>
          <p:nvPr/>
        </p:nvSpPr>
        <p:spPr>
          <a:xfrm>
            <a:off x="324000" y="5229360"/>
            <a:ext cx="4500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ибралтарский проли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3"/>
          <p:cNvSpPr/>
          <p:nvPr/>
        </p:nvSpPr>
        <p:spPr>
          <a:xfrm>
            <a:off x="6084720" y="1628640"/>
            <a:ext cx="27864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Гибралтарский пролив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пролив между южной оконечностью Пиренейского полуострова (Европа) и северо-западной частью Африки, соединяет Атлантический океан и Средиземное море. Длина 65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ширина 14—44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4"/>
          <p:cNvSpPr/>
          <p:nvPr/>
        </p:nvSpPr>
        <p:spPr>
          <a:xfrm>
            <a:off x="214200" y="214200"/>
            <a:ext cx="86058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зкое водное пространство, разделяющее участки суши и соединяющие соседние моря и 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Рисунок 1" descr="Дрейк.jpg"/>
          <p:cNvPicPr/>
          <p:nvPr/>
        </p:nvPicPr>
        <p:blipFill>
          <a:blip r:embed="rId1"/>
          <a:stretch/>
        </p:blipFill>
        <p:spPr>
          <a:xfrm>
            <a:off x="5940360" y="2276640"/>
            <a:ext cx="2303640" cy="2533320"/>
          </a:xfrm>
          <a:prstGeom prst="rect">
            <a:avLst/>
          </a:prstGeom>
          <a:ln w="0">
            <a:noFill/>
          </a:ln>
        </p:spPr>
      </p:pic>
      <p:sp>
        <p:nvSpPr>
          <p:cNvPr id="714" name="TextBox 2"/>
          <p:cNvSpPr/>
          <p:nvPr/>
        </p:nvSpPr>
        <p:spPr>
          <a:xfrm>
            <a:off x="5572080" y="1500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енсис Дрей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116000" y="5013360"/>
            <a:ext cx="51436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лив Дрейка самый широкий пролив в мире. Его ширина составляет 900-950 км, а средняя глубина 5000 м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 по карте атласа, что он разделяет, а что соединяе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Рисунок 1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4525920" cy="328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Рисунок 1" descr="Магелланов пролив.jpg"/>
          <p:cNvPicPr/>
          <p:nvPr/>
        </p:nvPicPr>
        <p:blipFill>
          <a:blip r:embed="rId1"/>
          <a:stretch/>
        </p:blipFill>
        <p:spPr>
          <a:xfrm>
            <a:off x="1116000" y="141300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718" name="TextBox 2"/>
          <p:cNvSpPr/>
          <p:nvPr/>
        </p:nvSpPr>
        <p:spPr>
          <a:xfrm>
            <a:off x="539640" y="4437000"/>
            <a:ext cx="5286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агелланов про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пределите, что он разделяет, а что соединяе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Рисунок 3" descr="Фернан Магеллан.jpg"/>
          <p:cNvPicPr/>
          <p:nvPr/>
        </p:nvPicPr>
        <p:blipFill>
          <a:blip r:embed="rId2"/>
          <a:stretch/>
        </p:blipFill>
        <p:spPr>
          <a:xfrm>
            <a:off x="6012000" y="1989000"/>
            <a:ext cx="2501640" cy="2864160"/>
          </a:xfrm>
          <a:prstGeom prst="rect">
            <a:avLst/>
          </a:prstGeom>
          <a:ln w="0">
            <a:noFill/>
          </a:ln>
        </p:spPr>
      </p:pic>
      <p:sp>
        <p:nvSpPr>
          <p:cNvPr id="720" name="TextBox 4"/>
          <p:cNvSpPr/>
          <p:nvPr/>
        </p:nvSpPr>
        <p:spPr>
          <a:xfrm>
            <a:off x="5786280" y="1357200"/>
            <a:ext cx="31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ернан Магелл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Организационный момент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73200" y="1052280"/>
            <a:ext cx="757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егодня мы начинаем исследовать Мировой океан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ткройте атласы и найдите, где находится Мировой океан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айди на карте: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встралию,о.Гренландию,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Гавайские острова,    полуостров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Индостан. Что у них общего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 теперь подумайте: Что общего у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ого моря,Берингова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оря,Мексиканского залива,пролива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рейка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8" name="AutoShape 4">
            <a:hlinkClick r:id="" action="ppaction://hlinkshowjump?jump=nextslide"/>
          </p:cNvPr>
          <p:cNvSpPr/>
          <p:nvPr/>
        </p:nvSpPr>
        <p:spPr>
          <a:xfrm>
            <a:off x="7380360" y="6021360"/>
            <a:ext cx="1079280" cy="64764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2268360" y="1341360"/>
            <a:ext cx="64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Блок-схема: узел 15"/>
          <p:cNvSpPr/>
          <p:nvPr/>
        </p:nvSpPr>
        <p:spPr>
          <a:xfrm>
            <a:off x="4786200" y="3786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Блок-схема: узел 22"/>
          <p:cNvSpPr/>
          <p:nvPr/>
        </p:nvSpPr>
        <p:spPr>
          <a:xfrm>
            <a:off x="2643120" y="58579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Блок-схема: узел 23"/>
          <p:cNvSpPr/>
          <p:nvPr/>
        </p:nvSpPr>
        <p:spPr>
          <a:xfrm>
            <a:off x="2500200" y="535788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Блок-схема: узел 24"/>
          <p:cNvSpPr/>
          <p:nvPr/>
        </p:nvSpPr>
        <p:spPr>
          <a:xfrm>
            <a:off x="3214800" y="2214720"/>
            <a:ext cx="285480" cy="28548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Блок-схема: узел 25"/>
          <p:cNvSpPr/>
          <p:nvPr/>
        </p:nvSpPr>
        <p:spPr>
          <a:xfrm>
            <a:off x="7000920" y="357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6"/>
          <p:cNvSpPr/>
          <p:nvPr/>
        </p:nvSpPr>
        <p:spPr>
          <a:xfrm>
            <a:off x="3143160" y="21430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7"/>
          <p:cNvSpPr/>
          <p:nvPr/>
        </p:nvSpPr>
        <p:spPr>
          <a:xfrm>
            <a:off x="6929280" y="285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8"/>
          <p:cNvSpPr/>
          <p:nvPr/>
        </p:nvSpPr>
        <p:spPr>
          <a:xfrm>
            <a:off x="2571840" y="578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9"/>
          <p:cNvSpPr/>
          <p:nvPr/>
        </p:nvSpPr>
        <p:spPr>
          <a:xfrm>
            <a:off x="2428920" y="5286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0"/>
          <p:cNvSpPr/>
          <p:nvPr/>
        </p:nvSpPr>
        <p:spPr>
          <a:xfrm>
            <a:off x="4714920" y="371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ая соединительная линия 32"/>
          <p:cNvSpPr/>
          <p:nvPr/>
        </p:nvSpPr>
        <p:spPr>
          <a:xfrm flipV="1">
            <a:off x="3500280" y="2327040"/>
            <a:ext cx="214560" cy="29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ая соединительная линия 34"/>
          <p:cNvSpPr/>
          <p:nvPr/>
        </p:nvSpPr>
        <p:spPr>
          <a:xfrm flipH="1">
            <a:off x="2498760" y="5573880"/>
            <a:ext cx="1440" cy="142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ая соединительная линия 36"/>
          <p:cNvSpPr/>
          <p:nvPr/>
        </p:nvSpPr>
        <p:spPr>
          <a:xfrm>
            <a:off x="7214400" y="655560"/>
            <a:ext cx="142920" cy="130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 прол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Блок-схема: узел 15"/>
          <p:cNvSpPr/>
          <p:nvPr/>
        </p:nvSpPr>
        <p:spPr>
          <a:xfrm>
            <a:off x="4786200" y="3786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Блок-схема: узел 22"/>
          <p:cNvSpPr/>
          <p:nvPr/>
        </p:nvSpPr>
        <p:spPr>
          <a:xfrm>
            <a:off x="2643120" y="58579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Блок-схема: узел 23"/>
          <p:cNvSpPr/>
          <p:nvPr/>
        </p:nvSpPr>
        <p:spPr>
          <a:xfrm>
            <a:off x="2500200" y="535788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Блок-схема: узел 24"/>
          <p:cNvSpPr/>
          <p:nvPr/>
        </p:nvSpPr>
        <p:spPr>
          <a:xfrm>
            <a:off x="3214800" y="2214720"/>
            <a:ext cx="285480" cy="28548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Блок-схема: узел 25"/>
          <p:cNvSpPr/>
          <p:nvPr/>
        </p:nvSpPr>
        <p:spPr>
          <a:xfrm>
            <a:off x="7000920" y="357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6"/>
          <p:cNvSpPr/>
          <p:nvPr/>
        </p:nvSpPr>
        <p:spPr>
          <a:xfrm>
            <a:off x="3143160" y="21430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7"/>
          <p:cNvSpPr/>
          <p:nvPr/>
        </p:nvSpPr>
        <p:spPr>
          <a:xfrm>
            <a:off x="6929280" y="285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8"/>
          <p:cNvSpPr/>
          <p:nvPr/>
        </p:nvSpPr>
        <p:spPr>
          <a:xfrm>
            <a:off x="2571840" y="578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9"/>
          <p:cNvSpPr/>
          <p:nvPr/>
        </p:nvSpPr>
        <p:spPr>
          <a:xfrm>
            <a:off x="2428920" y="5286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0"/>
          <p:cNvSpPr/>
          <p:nvPr/>
        </p:nvSpPr>
        <p:spPr>
          <a:xfrm>
            <a:off x="4714920" y="371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32"/>
          <p:cNvSpPr/>
          <p:nvPr/>
        </p:nvSpPr>
        <p:spPr>
          <a:xfrm flipV="1">
            <a:off x="3500280" y="2327040"/>
            <a:ext cx="214560" cy="29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34"/>
          <p:cNvSpPr/>
          <p:nvPr/>
        </p:nvSpPr>
        <p:spPr>
          <a:xfrm flipH="1">
            <a:off x="2498760" y="5573880"/>
            <a:ext cx="1440" cy="142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36"/>
          <p:cNvSpPr/>
          <p:nvPr/>
        </p:nvSpPr>
        <p:spPr>
          <a:xfrm>
            <a:off x="7214400" y="655560"/>
            <a:ext cx="142920" cy="130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7"/>
          <p:cNvSpPr/>
          <p:nvPr/>
        </p:nvSpPr>
        <p:spPr>
          <a:xfrm>
            <a:off x="3071880" y="4071960"/>
            <a:ext cx="450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я про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ибралтарский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Берингов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 Пролив Дре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 Магелланов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 Мозамбикский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1"/>
          <p:cNvSpPr/>
          <p:nvPr/>
        </p:nvSpPr>
        <p:spPr>
          <a:xfrm>
            <a:off x="250920" y="549360"/>
            <a:ext cx="8429400" cy="102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скусственный пролив, созданный    людьм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Рисунок 2" descr="Суэцкий канал.jpg"/>
          <p:cNvPicPr/>
          <p:nvPr/>
        </p:nvPicPr>
        <p:blipFill>
          <a:blip r:embed="rId1"/>
          <a:stretch/>
        </p:blipFill>
        <p:spPr>
          <a:xfrm>
            <a:off x="755640" y="2637000"/>
            <a:ext cx="3073320" cy="2665080"/>
          </a:xfrm>
          <a:prstGeom prst="rect">
            <a:avLst/>
          </a:prstGeom>
          <a:ln w="0">
            <a:noFill/>
          </a:ln>
        </p:spPr>
      </p:pic>
      <p:pic>
        <p:nvPicPr>
          <p:cNvPr id="757" name="Рисунок 3" descr="Панамский канал.jpg"/>
          <p:cNvPicPr/>
          <p:nvPr/>
        </p:nvPicPr>
        <p:blipFill>
          <a:blip r:embed="rId2"/>
          <a:stretch/>
        </p:blipFill>
        <p:spPr>
          <a:xfrm>
            <a:off x="4932360" y="2060640"/>
            <a:ext cx="3311640" cy="3868560"/>
          </a:xfrm>
          <a:prstGeom prst="rect">
            <a:avLst/>
          </a:prstGeom>
          <a:ln w="0">
            <a:noFill/>
          </a:ln>
        </p:spPr>
      </p:pic>
      <p:sp>
        <p:nvSpPr>
          <p:cNvPr id="758" name="TextBox 4"/>
          <p:cNvSpPr/>
          <p:nvPr/>
        </p:nvSpPr>
        <p:spPr>
          <a:xfrm>
            <a:off x="4859280" y="6093000"/>
            <a:ext cx="3357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намский канал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"/>
          <p:cNvSpPr/>
          <p:nvPr/>
        </p:nvSpPr>
        <p:spPr>
          <a:xfrm>
            <a:off x="571680" y="5500800"/>
            <a:ext cx="3429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уэцкий кана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1476360" y="1557360"/>
          <a:ext cx="7667640" cy="5486400"/>
        </p:xfrm>
        <a:graphic>
          <a:graphicData uri="http://schemas.openxmlformats.org/drawingml/2006/table">
            <a:tbl>
              <a:tblPr/>
              <a:tblGrid>
                <a:gridCol w="3054240"/>
                <a:gridCol w="4613400"/>
              </a:tblGrid>
              <a:tr h="5486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Физкультмину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-то шумно стало, дет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уда же здесь взялся ветер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это – буря, шторм, бед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ывем, и нас спасет вода!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(все «плывут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ка закрыли пу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жно хорошо подуть!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дую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солнышку потянем ру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не будет больше скуки!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ют руки вверх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т все успокоил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урок настроили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fbdc3"/>
                </a:solidFill>
                <a:latin typeface="Palatino Linotype"/>
              </a:rPr>
              <a:t> 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Ребята, как вы думаете, почему раньше суда, отправляясь в дальнее плавание, всегда брали с собой запас пресной воды? Ведь кругом вода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а, соленость – это одно из свойств океанической воды.  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Кто был на море, вспомните, какой вкус имеет морская вода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gency FB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763" name="Group 13"/>
          <p:cNvGrpSpPr/>
          <p:nvPr/>
        </p:nvGrpSpPr>
        <p:grpSpPr>
          <a:xfrm>
            <a:off x="8388360" y="2565360"/>
            <a:ext cx="1871640" cy="2087640"/>
            <a:chOff x="8388360" y="2565360"/>
            <a:chExt cx="1871640" cy="2087640"/>
          </a:xfrm>
        </p:grpSpPr>
        <p:sp>
          <p:nvSpPr>
            <p:cNvPr id="764" name="Text Box 9"/>
            <p:cNvSpPr/>
            <p:nvPr/>
          </p:nvSpPr>
          <p:spPr>
            <a:xfrm>
              <a:off x="8570520" y="2924280"/>
              <a:ext cx="14605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MV Bol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0"/>
            <p:cNvSpPr/>
            <p:nvPr/>
          </p:nvSpPr>
          <p:spPr>
            <a:xfrm>
              <a:off x="8388360" y="2565360"/>
              <a:ext cx="1871640" cy="2087640"/>
            </a:xfrm>
            <a:prstGeom prst="cloudCallout">
              <a:avLst>
                <a:gd name="adj1" fmla="val -66189"/>
                <a:gd name="adj2" fmla="val 5463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 txBox="1"/>
          <p:nvPr/>
        </p:nvSpPr>
        <p:spPr>
          <a:xfrm>
            <a:off x="457200" y="378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оленость выражают в промилле – тысячных долях числа – и обозначают значком 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 Средняя соленость Мирового океана 35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.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 Это значит, что в 1 л воды растворено 35 г веществ. Пресной считается вода, в литер которой содержится менее 1 г растворенных веществ. Из-за растворенных веществ океаническая вода замерзает при температуре -2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о соленость в разных частях океана может быть разной. Например, в Черном море - 18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, 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 Балтийском – 5-6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34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AutoShape 13"/>
          <p:cNvSpPr/>
          <p:nvPr/>
        </p:nvSpPr>
        <p:spPr>
          <a:xfrm>
            <a:off x="826920" y="1773360"/>
            <a:ext cx="4249800" cy="482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fd1f3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6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41004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испарения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осадков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впадающих рек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чему соленость Красного моря 42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 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чему соленость Карского моря 10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 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Температура-свойство океанической воды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21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Другим свойством морской воды является её температура.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Как вы думаете, от чего зависит температура вод Мирового океана? (стр.77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8686800" y="1600200"/>
            <a:ext cx="133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8686800" y="3938760"/>
            <a:ext cx="619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 Black"/>
              </a:rPr>
              <a:t>РЕФЛЕКСИЯ: ответьте на вопросы</a:t>
            </a:r>
            <a:endParaRPr b="1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186920" y="1267920"/>
            <a:ext cx="748836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)В каком направлении Тихий океан вытянут больше? По экватору или по меридиану 170 з.д.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)У какого материка все берега северные,а у какого океана все берега юж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)Что такое Мирово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)Что изучает наука океанолог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5) Материк?Остров?Архипелаг? Полуостров? Океан? Море? Залив? Проли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)Какие моря внутренние ,а какие окраин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7)Есть ли на Земле Южны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8)Чему равна соленость морской воды,если в 1 литре этой воды содержиться 11 гр. Минеральных вещест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9) Почему Красное море солонее Балтийског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) Почему океаническая вода не замерзает при -1градусе С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одведение итогов: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87280" y="1483920"/>
            <a:ext cx="75708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Довольны ли вы тем как прошел урок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Было ли интересн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Были ли вы активны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Сумели ли вы показать свои знан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Оцените свою работу.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Выставление отметок. 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Я знала, все у нас получится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сем ученикам 6 класса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 журнал поставлю «хорошо» и «пять»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И в заключении хочу сказать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Что лучше географии предмета не сыскать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ир географии огромен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тремитесь вы его познать!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Заголовок 1" descr=""/>
          <p:cNvPicPr/>
          <p:nvPr/>
        </p:nvPicPr>
        <p:blipFill>
          <a:blip r:embed="rId1"/>
          <a:stretch/>
        </p:blipFill>
        <p:spPr>
          <a:xfrm>
            <a:off x="60480" y="-274680"/>
            <a:ext cx="8407080" cy="12556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 txBox="1"/>
          <p:nvPr/>
        </p:nvSpPr>
        <p:spPr>
          <a:xfrm>
            <a:off x="1714680" y="2143080"/>
            <a:ext cx="59292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§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0 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.Сколько граммов различных веществ можно получить из 1 т черноморской воды, если ее соленость 18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колько граммов различных веществ можно получить из 1 т воды Красного моря, если ее соленость 42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.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ова соленость Карибского моря, если из 1000т воды получили 36 кг различных веществ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Целевая актуализация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57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Цель:  Познакомиться с частями  Мирового океана.</a:t>
            </a:r>
            <a:endParaRPr b="1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2" name="AutoShape 4">
            <a:hlinkClick r:id="" action="ppaction://hlinkshowjump?jump=nextslide"/>
          </p:cNvPr>
          <p:cNvSpPr/>
          <p:nvPr/>
        </p:nvSpPr>
        <p:spPr>
          <a:xfrm>
            <a:off x="7380360" y="6021360"/>
            <a:ext cx="1079280" cy="64764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>
            <a:hlinkClick r:id="" action="ppaction://hlinkshowjump?jump=previousslide"/>
          </p:cNvPr>
          <p:cNvSpPr/>
          <p:nvPr/>
        </p:nvSpPr>
        <p:spPr>
          <a:xfrm flipH="1">
            <a:off x="2050200" y="6021360"/>
            <a:ext cx="1079640" cy="647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ежду строк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1)Самый широкий на Земле пролив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2)Пролив,соединяющий Средиземное море с Атлантическим океаном,в самом узком месте не шире 14 км.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3)Самый большой остров на земле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4)Вулканические острова-архипелаг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5)Океан,который называют Великим?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6)Самый маленький океан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7) «Море без берегов»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Постановка проблемных географических задач                   стадия «Вызова»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96720" y="2115720"/>
            <a:ext cx="9648720" cy="36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ировой океан–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это совокупность всех океанов.      Вы уже знаете самые крупные части Мирового океана, собственно океаны Земли, которые отделены друг от друга материками и соединяются проливами. Назовите океаны, которые вы знаете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о есть и другие части океана, с которыми мы сегодня познакомимся и постараемся ответить на вопросы: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- из каких частей состоит Мировой океан,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- какие свойства имеет океаническая вод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географические загадки</a:t>
            </a:r>
            <a:endParaRPr b="1" lang="en-US" sz="2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115640" y="1341360"/>
            <a:ext cx="748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)В каком направлении Тихий океан вытянут больше? По экватору или по меридиану 170 з.д.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)У какого материка все берега северные,а у какого океана все берега юж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)Что такое Мирово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)Что изучает наука океанолог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5) Материк?Остров?Архипелаг? Полуостров? Океан? Море? Залив? Проли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)Какие моря внутренние ,а какие окраин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7)Есть ли на Земле Южны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8)Чему равна соленость морской воды,если в 1 литре этой воды содержиться 11 гр. Минеральных вещест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9) Почему Красное море солонее Балтийског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) Почему океаническая вода не замерзает при -1градусе С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Актуализация изученного ранее материала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pic>
        <p:nvPicPr>
          <p:cNvPr id="619" name="Содержимое 2" descr=""/>
          <p:cNvPicPr/>
          <p:nvPr/>
        </p:nvPicPr>
        <p:blipFill>
          <a:blip r:embed="rId1"/>
          <a:stretch/>
        </p:blipFill>
        <p:spPr>
          <a:xfrm>
            <a:off x="1036800" y="1835280"/>
            <a:ext cx="7583400" cy="6711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http://im0-tub-ru.yandex.net/i?id=4bb7669e78eb678e4b6974fe6b86ece7-75-144&amp;n=21"/>
          <p:cNvPicPr/>
          <p:nvPr/>
        </p:nvPicPr>
        <p:blipFill>
          <a:blip r:embed="rId2"/>
          <a:stretch/>
        </p:blipFill>
        <p:spPr>
          <a:xfrm>
            <a:off x="539640" y="2549520"/>
            <a:ext cx="3961080" cy="311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Изучение  нового материала                                  стадия «Осмысления»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03280" y="1196640"/>
            <a:ext cx="757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Задание 1: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ткроем учебник на стр.74 , по тексту учебника и по картам атласа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Запишите все океаны по мере уменьшения их площад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адание  2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т вам первые координаты. 1). 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40.с.ш., 70 з.д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 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). 45 с.ш   150 в.д    3).  5 с.ш. 72 в.д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что общего в этих объектах?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 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3" name="Прямоугольник 3"/>
          <p:cNvSpPr/>
          <p:nvPr/>
        </p:nvSpPr>
        <p:spPr>
          <a:xfrm>
            <a:off x="2050920" y="306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оверим 1-2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адание1:(Тихий, Атлантический, Северный Ледовитый, Индийский)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адание2: остров Гренландия, коралловые острова, Курильские острова).Они острова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пробуйте сформулируйте определение остров!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айдите любой архипелаг и полуостров в атласе,сформулируйте определение,сравните с книгой на стр.74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5"/>
          <p:cNvSpPr/>
          <p:nvPr/>
        </p:nvSpPr>
        <p:spPr>
          <a:xfrm>
            <a:off x="1928880" y="24289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22"/>
          <p:cNvSpPr/>
          <p:nvPr/>
        </p:nvSpPr>
        <p:spPr>
          <a:xfrm>
            <a:off x="4643280" y="71424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23"/>
          <p:cNvSpPr/>
          <p:nvPr/>
        </p:nvSpPr>
        <p:spPr>
          <a:xfrm>
            <a:off x="664380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24"/>
          <p:cNvSpPr/>
          <p:nvPr/>
        </p:nvSpPr>
        <p:spPr>
          <a:xfrm>
            <a:off x="450072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25"/>
          <p:cNvSpPr/>
          <p:nvPr/>
        </p:nvSpPr>
        <p:spPr>
          <a:xfrm>
            <a:off x="4286160" y="142884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26"/>
          <p:cNvSpPr/>
          <p:nvPr/>
        </p:nvSpPr>
        <p:spPr>
          <a:xfrm>
            <a:off x="685800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27"/>
          <p:cNvSpPr/>
          <p:nvPr/>
        </p:nvSpPr>
        <p:spPr>
          <a:xfrm>
            <a:off x="4643280" y="271476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8"/>
          <p:cNvSpPr/>
          <p:nvPr/>
        </p:nvSpPr>
        <p:spPr>
          <a:xfrm>
            <a:off x="421488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9"/>
          <p:cNvSpPr/>
          <p:nvPr/>
        </p:nvSpPr>
        <p:spPr>
          <a:xfrm>
            <a:off x="1714680" y="29289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30"/>
          <p:cNvSpPr/>
          <p:nvPr/>
        </p:nvSpPr>
        <p:spPr>
          <a:xfrm>
            <a:off x="6929280" y="135720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1"/>
          <p:cNvSpPr/>
          <p:nvPr/>
        </p:nvSpPr>
        <p:spPr>
          <a:xfrm>
            <a:off x="6572160" y="21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2214720" y="3643200"/>
            <a:ext cx="4572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йди мор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                               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                                   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                                    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                                     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                                   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6:24:34Z</dcterms:created>
  <dc:creator>An7Er</dc:creator>
  <dc:description/>
  <dc:language>en-US</dc:language>
  <cp:lastModifiedBy>Игровая</cp:lastModifiedBy>
  <dcterms:modified xsi:type="dcterms:W3CDTF">2018-08-13T13:40:44Z</dcterms:modified>
  <cp:revision>158</cp:revision>
  <dc:subject/>
  <dc:title>Слайд 1</dc:title>
</cp:coreProperties>
</file>