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12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3.png" ContentType="image/png"/>
  <Override PartName="/ppt/media/image54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11B-9E08-4C26-99BA-B0D11146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071-3B51-46F8-A973-9A2D6128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519-A8A7-4DBD-9454-B3208207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BE5-D945-4BA3-A0F5-63A82FFB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F99-EF64-418C-96A5-01AD3CC5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3D2-3FF1-4D6B-A3D4-3D6B0660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7F7-FD00-4A94-8258-BA88B601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BA8-5B3E-4558-A9D4-A94891D4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B23-54CD-4A4E-BA6B-6C54C5BC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FE2-410C-494B-AA63-A99176BC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574-5D9D-4875-BDCA-9D28C2C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490-29D4-4E48-BF64-0D2E5D62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7CDB-ADE6-4E7D-B01F-ABBB74365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s://ru.wikipedia.org/wiki/&#1045;&#1074;&#1088;&#1077;&#1080;" TargetMode="External"/><Relationship Id="rId3" Type="http://schemas.openxmlformats.org/officeDocument/2006/relationships/hyperlink" Target="https://ru.wikipedia.org/wiki/&#1062;&#1099;&#1075;&#1072;&#1085;&#1077;" TargetMode="External"/><Relationship Id="rId4" Type="http://schemas.openxmlformats.org/officeDocument/2006/relationships/hyperlink" Target="https://ru.wikipedia.org/wiki/&#1057;&#1086;&#1074;&#1077;&#1090;&#1089;&#1082;&#1080;&#1077;_&#1074;&#1086;&#1077;&#1085;&#1085;&#1086;&#1087;&#1083;&#1077;&#1085;&#1085;&#1099;&#1077;_&#1074;&#1086;_&#1074;&#1088;&#1077;&#1084;&#1103;_&#1042;&#1077;&#1083;&#1080;&#1082;&#1086;&#1081;_&#1054;&#1090;&#1077;&#1095;&#1077;&#1089;&#1090;&#1074;&#1077;&#1085;&#1085;&#1086;&#1081;_&#1074;&#1086;&#1081;&#1085;&#1099;" TargetMode="External"/><Relationship Id="rId5" Type="http://schemas.openxmlformats.org/officeDocument/2006/relationships/hyperlink" Target="https://ru.wikipedia.org/wiki/&#1056;&#1077;&#1081;&#1093;&#1089;&#1082;&#1086;&#1084;&#1080;&#1089;&#1089;&#1072;&#1088;&#1080;&#1072;&#1090;_&#1059;&#1082;&#1088;&#1072;&#1080;&#1085;&#1072;" TargetMode="External"/><Relationship Id="rId6" Type="http://schemas.openxmlformats.org/officeDocument/2006/relationships/hyperlink" Target="https://ru.wikipedia.org/wiki/&#1059;&#1082;&#1088;&#1072;&#1080;&#1085;&#1089;&#1082;&#1080;&#1081;_&#1082;&#1086;&#1083;&#1083;&#1072;&#1073;&#1086;&#1088;&#1072;&#1094;&#1080;&#1086;&#1085;&#1080;&#1079;&#1084;_&#1074;&#1086;_&#1042;&#1090;&#1086;&#1088;&#1086;&#1081;_&#1084;&#1080;&#1088;&#1086;&#1074;&#1086;&#1081;_&#1074;&#1086;&#1081;&#1085;&#1077;" TargetMode="External"/><Relationship Id="rId7" Type="http://schemas.openxmlformats.org/officeDocument/2006/relationships/hyperlink" Target="https://ru.wikipedia.org/wiki/&#1051;&#1102;&#1076;&#1080;,_&#1089;&#1087;&#1072;&#1089;&#1096;&#1080;&#1077;&#1089;&#1103;_&#1080;&#1079;_&#1041;&#1072;&#1073;&#1100;&#1077;&#1075;&#1086;_&#1071;&#1088;&#1072;" TargetMode="External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7 января  -  Международный день памяти  жертв Холокос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f2513"/>
                </a:solidFill>
                <a:latin typeface="Times New Roman"/>
              </a:rPr>
              <a:t>Так выглядела зона смер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117991"/>
          <p:cNvPicPr/>
          <p:nvPr/>
        </p:nvPicPr>
        <p:blipFill>
          <a:blip r:embed="rId1"/>
          <a:stretch/>
        </p:blipFill>
        <p:spPr>
          <a:xfrm>
            <a:off x="179280" y="141300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ushviu2"/>
          <p:cNvPicPr/>
          <p:nvPr/>
        </p:nvPicPr>
        <p:blipFill>
          <a:blip r:embed="rId2"/>
          <a:stretch/>
        </p:blipFill>
        <p:spPr>
          <a:xfrm>
            <a:off x="4859280" y="1484280"/>
            <a:ext cx="4140360" cy="446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ushvitz"/>
          <p:cNvPicPr/>
          <p:nvPr/>
        </p:nvPicPr>
        <p:blipFill>
          <a:blip r:embed="rId3"/>
          <a:stretch/>
        </p:blipFill>
        <p:spPr>
          <a:xfrm>
            <a:off x="0" y="1197000"/>
            <a:ext cx="6372360" cy="504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aushviuO"/>
          <p:cNvPicPr/>
          <p:nvPr/>
        </p:nvPicPr>
        <p:blipFill>
          <a:blip r:embed="rId4"/>
          <a:stretch/>
        </p:blipFill>
        <p:spPr>
          <a:xfrm>
            <a:off x="2987640" y="1197000"/>
            <a:ext cx="6156360" cy="504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buchen2"/>
          <p:cNvPicPr/>
          <p:nvPr/>
        </p:nvPicPr>
        <p:blipFill>
          <a:blip r:embed="rId5"/>
          <a:stretch/>
        </p:blipFill>
        <p:spPr>
          <a:xfrm>
            <a:off x="108000" y="1341360"/>
            <a:ext cx="5842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На территории лагеря гитлеровцы построили крематории с газовыми камера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117868"/>
          <p:cNvPicPr/>
          <p:nvPr/>
        </p:nvPicPr>
        <p:blipFill>
          <a:blip r:embed="rId1"/>
          <a:stretch/>
        </p:blipFill>
        <p:spPr>
          <a:xfrm>
            <a:off x="1692360" y="1268280"/>
            <a:ext cx="626436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2117945"/>
          <p:cNvPicPr/>
          <p:nvPr/>
        </p:nvPicPr>
        <p:blipFill>
          <a:blip r:embed="rId2"/>
          <a:stretch/>
        </p:blipFill>
        <p:spPr>
          <a:xfrm>
            <a:off x="5302080" y="2492280"/>
            <a:ext cx="3841920" cy="4365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117696"/>
          <p:cNvPicPr/>
          <p:nvPr/>
        </p:nvPicPr>
        <p:blipFill>
          <a:blip r:embed="rId3"/>
          <a:stretch/>
        </p:blipFill>
        <p:spPr>
          <a:xfrm>
            <a:off x="395280" y="2492280"/>
            <a:ext cx="3500280" cy="4365720"/>
          </a:xfrm>
          <a:prstGeom prst="rect">
            <a:avLst/>
          </a:prstGeom>
          <a:ln w="0">
            <a:noFill/>
          </a:ln>
        </p:spPr>
      </p:pic>
      <p:pic>
        <p:nvPicPr>
          <p:cNvPr id="86" name="rekviem.mp3" descr=""/>
          <p:cNvPicPr/>
          <p:nvPr/>
        </p:nvPicPr>
        <p:blipFill>
          <a:blip r:embed="rId4"/>
          <a:stretch/>
        </p:blipFill>
        <p:spPr>
          <a:xfrm>
            <a:off x="28584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то лица тех, кто стал лагерной пылью, пепл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117879"/>
          <p:cNvPicPr/>
          <p:nvPr/>
        </p:nvPicPr>
        <p:blipFill>
          <a:blip r:embed="rId1"/>
          <a:stretch/>
        </p:blipFill>
        <p:spPr>
          <a:xfrm>
            <a:off x="250920" y="1638360"/>
            <a:ext cx="4681440" cy="481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05s0088"/>
          <p:cNvPicPr/>
          <p:nvPr/>
        </p:nvPicPr>
        <p:blipFill>
          <a:blip r:embed="rId2"/>
          <a:stretch/>
        </p:blipFill>
        <p:spPr>
          <a:xfrm>
            <a:off x="3203640" y="1628640"/>
            <a:ext cx="5940360" cy="4803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73"/>
          <p:cNvPicPr/>
          <p:nvPr/>
        </p:nvPicPr>
        <p:blipFill>
          <a:blip r:embed="rId3"/>
          <a:stretch/>
        </p:blipFill>
        <p:spPr>
          <a:xfrm>
            <a:off x="2700360" y="2349360"/>
            <a:ext cx="579600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f2513"/>
                </a:solidFill>
                <a:latin typeface="Times New Roman"/>
              </a:rPr>
              <a:t>Стена смерт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воспомин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Times New Roman"/>
              </a:rPr>
              <a:t>« Стена смерти  между 10 и 11 блоками. Тех, кого расстреливали здесь, считали «счастливцами» - их гибель была быстрой и не столь мучительной, как там, в газовой камер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pict006"/>
          <p:cNvPicPr/>
          <p:nvPr/>
        </p:nvPicPr>
        <p:blipFill>
          <a:blip r:embed="rId1"/>
          <a:stretch/>
        </p:blipFill>
        <p:spPr>
          <a:xfrm>
            <a:off x="3492360" y="3933720"/>
            <a:ext cx="5329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Массовые расстре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По всей Прибалтике, Украине, Белоруссии, Польше, почти возле каждого небольшого города, возле многих деревень находятся «ямы» - овраги, куда сгоняли и расстреливали мужчин, женщин,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ushviu5"/>
          <p:cNvPicPr/>
          <p:nvPr/>
        </p:nvPicPr>
        <p:blipFill>
          <a:blip r:embed="rId1"/>
          <a:stretch/>
        </p:blipFill>
        <p:spPr>
          <a:xfrm>
            <a:off x="250920" y="2997360"/>
            <a:ext cx="5715000" cy="3714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aushviuH"/>
          <p:cNvPicPr/>
          <p:nvPr/>
        </p:nvPicPr>
        <p:blipFill>
          <a:blip r:embed="rId2"/>
          <a:stretch/>
        </p:blipFill>
        <p:spPr>
          <a:xfrm>
            <a:off x="3429000" y="2924280"/>
            <a:ext cx="5715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468360" y="3419640"/>
            <a:ext cx="2674800" cy="23493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68360" y="476280"/>
            <a:ext cx="813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Бабий яр - место массовых расстрелов гражданского населения, главным образом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евреев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,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цыга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, а также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оветских военнопленных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, осуществлённых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немецкими оккупационными войскам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 и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украинскими коллаборационистам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 в 1941 году</a:t>
            </a:r>
            <a:r>
              <a:rPr b="0" lang="ru-RU" sz="1600" spc="-1" strike="noStrike" baseline="30000">
                <a:solidFill>
                  <a:srgbClr val="ffff00"/>
                </a:solidFill>
                <a:latin typeface="Arial"/>
              </a:rPr>
              <a:t>[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сего было расстреляно свыше ста (или ста пятидесяти</a:t>
            </a:r>
            <a:r>
              <a:rPr b="0" lang="ru-RU" sz="1600" spc="-1" strike="noStrike" baseline="30000">
                <a:solidFill>
                  <a:srgbClr val="ffff00"/>
                </a:solidFill>
                <a:latin typeface="Arial"/>
              </a:rPr>
              <a:t>]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) тысяч человек. По мнению некоторых исследователей, в Бабьем Яру только евреев было расстреляно около ста пятидесяти тысяч человек (жителей Киева и других городов Украины). Из Бабьего Яра 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спаслось 29 челов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"/>
          <p:cNvPicPr/>
          <p:nvPr/>
        </p:nvPicPr>
        <p:blipFill>
          <a:blip r:embed="rId8"/>
          <a:stretch/>
        </p:blipFill>
        <p:spPr>
          <a:xfrm>
            <a:off x="3780000" y="2637000"/>
            <a:ext cx="50004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Ангел смер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Йозеф Менгеле – немецкий врач, проводивший опыты на узниках лагеря Освенцим во время Второй мировой войны. Более 40 тысяч человек он отправил в газовые ка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117771"/>
          <p:cNvPicPr/>
          <p:nvPr/>
        </p:nvPicPr>
        <p:blipFill>
          <a:blip r:embed="rId1"/>
          <a:stretch/>
        </p:blipFill>
        <p:spPr>
          <a:xfrm>
            <a:off x="1476360" y="3429000"/>
            <a:ext cx="5715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н любил детей и раздавал им конфеты, отправляя в газовую камеру. 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«Ангел смерти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до конца жизни не раскаялся в содеян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78x"/>
          <p:cNvPicPr/>
          <p:nvPr/>
        </p:nvPicPr>
        <p:blipFill>
          <a:blip r:embed="rId1"/>
          <a:stretch/>
        </p:blipFill>
        <p:spPr>
          <a:xfrm>
            <a:off x="0" y="1844640"/>
            <a:ext cx="4795920" cy="3551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olocaust-auschwitz-childrens-barracks2"/>
          <p:cNvPicPr/>
          <p:nvPr/>
        </p:nvPicPr>
        <p:blipFill>
          <a:blip r:embed="rId2"/>
          <a:stretch/>
        </p:blipFill>
        <p:spPr>
          <a:xfrm>
            <a:off x="4859280" y="3228840"/>
            <a:ext cx="4176720" cy="351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net004"/>
          <p:cNvPicPr/>
          <p:nvPr/>
        </p:nvPicPr>
        <p:blipFill>
          <a:blip r:embed="rId3"/>
          <a:stretch/>
        </p:blipFill>
        <p:spPr>
          <a:xfrm>
            <a:off x="3635280" y="2693880"/>
            <a:ext cx="55087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человеческие опы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С 1941 года в лагере испытывались средства для массового уничтожения людей. Это был газ « Циклон Б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800px_Zyklon_B_Container"/>
          <p:cNvPicPr/>
          <p:nvPr/>
        </p:nvPicPr>
        <p:blipFill>
          <a:blip r:embed="rId1"/>
          <a:stretch/>
        </p:blipFill>
        <p:spPr>
          <a:xfrm>
            <a:off x="2627280" y="3213000"/>
            <a:ext cx="5219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117849"/>
          <p:cNvPicPr/>
          <p:nvPr/>
        </p:nvPicPr>
        <p:blipFill>
          <a:blip r:embed="rId1"/>
          <a:stretch/>
        </p:blipFill>
        <p:spPr>
          <a:xfrm>
            <a:off x="3024360" y="1413000"/>
            <a:ext cx="6119640" cy="510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117659"/>
          <p:cNvPicPr/>
          <p:nvPr/>
        </p:nvPicPr>
        <p:blipFill>
          <a:blip r:embed="rId2"/>
          <a:stretch/>
        </p:blipFill>
        <p:spPr>
          <a:xfrm>
            <a:off x="250920" y="1392120"/>
            <a:ext cx="5400720" cy="5194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117685"/>
          <p:cNvPicPr/>
          <p:nvPr/>
        </p:nvPicPr>
        <p:blipFill>
          <a:blip r:embed="rId3"/>
          <a:stretch/>
        </p:blipFill>
        <p:spPr>
          <a:xfrm>
            <a:off x="2556000" y="1052640"/>
            <a:ext cx="4671720" cy="39733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7"/>
          <p:cNvSpPr txBox="1"/>
          <p:nvPr/>
        </p:nvSpPr>
        <p:spPr>
          <a:xfrm>
            <a:off x="684360" y="2781360"/>
            <a:ext cx="6696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то нельзя забыть!!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640720" cy="6048360"/>
          </a:xfrm>
          <a:prstGeom prst="rect">
            <a:avLst/>
          </a:prstGeom>
          <a:solidFill>
            <a:srgbClr val="544c41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Холокост» (американизм от древнегреческого Голокаустис -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"всесожжение"; уничтожение огнем; жертвоприношение). Впервые это название использовал будущий лауреат Нобелевской премии мира Эли Визель (1928-2016) в начале 1960-х годов как метафору, символизирующую сожжение целого народа в крематориях нацистских лагерей смерти. Под  термином «Холокост» понимается политика и практика нацистской Германии, ее союзников и пособников по преследованию и уничтожению еврейского населения в 1933-1945 гг. Холокост – беспрецедентное явление в новейшей истории человечества. Целью нацистов было тотальное уничтожение евреев не только Германии, но и всего мира. Жертвы не могли спастись, сменив веру или покинув страну, где подвергались преследованиям. Все евреи, независимо от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возраста, вероисповедания, политических взглядов, места проживания, были приговорены нацистами к полному уничтожению. Ни один предшествующий геноцид в новой истории не ставил задачу искоренения целого народа. В нацистской идеологии вина еврея была предопределена самим фактом его  рождения. Они должны были полностью исчезнуть с лица земли как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биологический вид. Были подготовлены специальные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одразделения убийц; созданы лагеря уничтожения; построены газовые камеры для умерщвления жертв и крематории для сжигания трупов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pict033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7 января 1945 г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оветские войска освободили узников Освенц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Точное число жертв Освенцима неизвестно. На Нюрнбергском процессе прозвучало от одного до пяти милли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 наши дни здесь музей, посвящённый памяти его уз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2117976"/>
          <p:cNvPicPr/>
          <p:nvPr/>
        </p:nvPicPr>
        <p:blipFill>
          <a:blip r:embed="rId1"/>
          <a:stretch/>
        </p:blipFill>
        <p:spPr>
          <a:xfrm>
            <a:off x="4427640" y="3645000"/>
            <a:ext cx="4716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В 1947 году на территории лагеря был создан музей, который стал Всемирным наследием ЮНЕС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ushviuP"/>
          <p:cNvPicPr/>
          <p:nvPr/>
        </p:nvPicPr>
        <p:blipFill>
          <a:blip r:embed="rId1"/>
          <a:stretch/>
        </p:blipFill>
        <p:spPr>
          <a:xfrm>
            <a:off x="395280" y="1484280"/>
            <a:ext cx="5788080" cy="475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aushviuO"/>
          <p:cNvPicPr/>
          <p:nvPr/>
        </p:nvPicPr>
        <p:blipFill>
          <a:blip r:embed="rId2"/>
          <a:stretch/>
        </p:blipFill>
        <p:spPr>
          <a:xfrm>
            <a:off x="2987640" y="1461960"/>
            <a:ext cx="6156360" cy="4775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06"/>
          <p:cNvPicPr/>
          <p:nvPr/>
        </p:nvPicPr>
        <p:blipFill>
          <a:blip r:embed="rId3"/>
          <a:stretch/>
        </p:blipFill>
        <p:spPr>
          <a:xfrm>
            <a:off x="1692360" y="1541520"/>
            <a:ext cx="597528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олокост – жесточайшее преступление!!! Так хочется стереть из памяти это кровавое мес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2117819"/>
          <p:cNvPicPr/>
          <p:nvPr/>
        </p:nvPicPr>
        <p:blipFill>
          <a:blip r:embed="rId1"/>
          <a:stretch/>
        </p:blipFill>
        <p:spPr>
          <a:xfrm>
            <a:off x="395280" y="1413000"/>
            <a:ext cx="5715000" cy="410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auschwitz_04"/>
          <p:cNvPicPr/>
          <p:nvPr/>
        </p:nvPicPr>
        <p:blipFill>
          <a:blip r:embed="rId2"/>
          <a:stretch/>
        </p:blipFill>
        <p:spPr>
          <a:xfrm>
            <a:off x="4356000" y="3575160"/>
            <a:ext cx="4788000" cy="3282840"/>
          </a:xfrm>
          <a:prstGeom prst="rect">
            <a:avLst/>
          </a:prstGeom>
          <a:ln w="0">
            <a:noFill/>
          </a:ln>
        </p:spPr>
      </p:pic>
      <p:sp>
        <p:nvSpPr>
          <p:cNvPr id="129" name="WordArt 8"/>
          <p:cNvSpPr txBox="1"/>
          <p:nvPr/>
        </p:nvSpPr>
        <p:spPr>
          <a:xfrm>
            <a:off x="108000" y="2962440"/>
            <a:ext cx="84312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assandra"/>
              </a:rPr>
              <a:t>...Но забвение - это верный путь к повторению.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assandra"/>
              <a:ea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50920" y="404640"/>
            <a:ext cx="8497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Международный день памяти жертв холоко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отмечается 27 январ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Установлен Генеральной Ассамблеей ООН 1 ноября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Дата 27 января была выбрана потому, что в этот день советские войска освободили концентрационный лагерь Освенцим (Польш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В своём послании израильскому президенту М. Кацаву, посвящённом впервые отмечаемому Дню памяти жертв холокоста, В. В. Путин сказал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«Вижу в этом единогласно принятом решении твердую волю мирового сообщества передать будущим поколениям правду о варварских преступлениях нацизма, защитить человечество от пороков ксенофобии, расизма и экстремизма.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2" descr=""/>
          <p:cNvPicPr/>
          <p:nvPr/>
        </p:nvPicPr>
        <p:blipFill>
          <a:blip r:embed="rId1"/>
          <a:stretch/>
        </p:blipFill>
        <p:spPr>
          <a:xfrm>
            <a:off x="3986280" y="3257640"/>
            <a:ext cx="4762440" cy="3000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312120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мятник жертвам фашизма в Освенц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_49f14_e8037271_L"/>
          <p:cNvPicPr/>
          <p:nvPr/>
        </p:nvPicPr>
        <p:blipFill>
          <a:blip r:embed="rId1"/>
          <a:stretch/>
        </p:blipFill>
        <p:spPr>
          <a:xfrm>
            <a:off x="611280" y="1628640"/>
            <a:ext cx="79930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3"/>
          <p:cNvSpPr/>
          <p:nvPr/>
        </p:nvSpPr>
        <p:spPr>
          <a:xfrm>
            <a:off x="468360" y="133668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ередайте об этом детям вашим… История Холокоста в Европе 1933-1945. - Стефан Брухфельд, Пол А. Левин. М., 2001г. – 103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Сайт: 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http://www.ushmm.org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. (Мемориальный музей Холокоста США) Статья: Дети во время Холокоста. 21.01.2013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http://www.holocf.ru/facts/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 Центр и фонд Холокост. Статья: Уроки, внеклассные мероприятия, проекты. Фото. 21.01.2013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http://his.1september.ru/2002/40/4.htm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Статья: Холокост. Тема для размышления. Авторы: Илья Альтман, Давид Полторак. 19.01.2013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http://www1.yadvashem.org/yv/ru/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Мемориальный комплекс Катастрофы и героизма еврейского народа. Статья: пособие для учащихся младших и средних классов: «Три куклы». 21.01.2013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http://www1.yadvashem.org/yv/ru/education/learning_environments/index.asp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Статья: Виртуальные учебные проекты. « Дети в гетто».21.01.2013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476360" y="62064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спользуемая литература и Интернет источник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79280" y="476280"/>
            <a:ext cx="88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Результат этой политики - 6 миллионов уничтоженных людей; более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оловины еврейского населения Европы; треть всего народа. Около 50 % всех жертв Холокоста были гражданами Советского Союза, которых</a:t>
            </a:r>
            <a:br>
              <a:rPr sz="2000"/>
            </a:b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уничтожили в годы Великой Отечественной войн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4140360" y="2457360"/>
            <a:ext cx="4762440" cy="341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250920" y="2863800"/>
            <a:ext cx="34750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f2513"/>
                </a:solidFill>
                <a:latin typeface="Times New Roman"/>
              </a:rPr>
              <a:t>Холокост. Лагеря смерти</a:t>
            </a:r>
            <a:r>
              <a:rPr b="0" lang="ru-RU" sz="4400" spc="-1" strike="noStrike">
                <a:solidFill>
                  <a:srgbClr val="cf2513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Для истребления миллионов людей были построены лагеря смер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Освенцим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ушвиц-Биркена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Бухенвальд, Дах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Заксенхауз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Собибор, Маутхаузен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Саласпил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25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2513"/>
                </a:solidFill>
                <a:latin typeface="Times New Roman"/>
              </a:rPr>
              <a:t>Треблинка ,Майдан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5867280" y="3862440"/>
            <a:ext cx="2333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706840" cy="3019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0658"/>
          <p:cNvPicPr/>
          <p:nvPr/>
        </p:nvPicPr>
        <p:blipFill>
          <a:blip r:embed="rId2"/>
          <a:stretch/>
        </p:blipFill>
        <p:spPr>
          <a:xfrm>
            <a:off x="179280" y="4221000"/>
            <a:ext cx="357516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3708360" y="260280"/>
            <a:ext cx="3816360" cy="27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5580000" y="3213000"/>
            <a:ext cx="2887560" cy="3024360"/>
          </a:xfrm>
          <a:prstGeom prst="rect">
            <a:avLst/>
          </a:prstGeom>
          <a:ln w="0">
            <a:noFill/>
          </a:ln>
        </p:spPr>
      </p:pic>
      <p:sp>
        <p:nvSpPr>
          <p:cNvPr id="55" name="WordArt 8"/>
          <p:cNvSpPr txBox="1"/>
          <p:nvPr/>
        </p:nvSpPr>
        <p:spPr>
          <a:xfrm>
            <a:off x="250920" y="2997360"/>
            <a:ext cx="1704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Аушвиц</a:t>
            </a:r>
            <a:endParaRPr b="1" lang="en-US" sz="1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4643280" y="5877000"/>
            <a:ext cx="2610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Бухенвальд</a:t>
            </a:r>
            <a:endParaRPr b="1" lang="en-US" sz="1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7" name="WordArt 10"/>
          <p:cNvSpPr txBox="1"/>
          <p:nvPr/>
        </p:nvSpPr>
        <p:spPr>
          <a:xfrm>
            <a:off x="2340000" y="3068640"/>
            <a:ext cx="259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Освенцим</a:t>
            </a:r>
            <a:endParaRPr b="1" lang="en-US" sz="1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1116000" y="5805360"/>
            <a:ext cx="2592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Саласпилс</a:t>
            </a:r>
            <a:endParaRPr b="1" lang="en-US" sz="1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1"/>
          <p:cNvPicPr/>
          <p:nvPr/>
        </p:nvPicPr>
        <p:blipFill>
          <a:blip r:embed="rId1"/>
          <a:stretch/>
        </p:blipFill>
        <p:spPr>
          <a:xfrm>
            <a:off x="539640" y="1484280"/>
            <a:ext cx="424836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971640" y="4653000"/>
            <a:ext cx="2476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енсбрюк</a:t>
            </a:r>
            <a:endParaRPr b="0" lang="en-US" sz="1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7" descr="5"/>
          <p:cNvPicPr/>
          <p:nvPr/>
        </p:nvPicPr>
        <p:blipFill>
          <a:blip r:embed="rId4"/>
          <a:stretch/>
        </p:blipFill>
        <p:spPr>
          <a:xfrm>
            <a:off x="4643280" y="3141720"/>
            <a:ext cx="4319640" cy="2838240"/>
          </a:xfrm>
          <a:prstGeom prst="rect">
            <a:avLst/>
          </a:prstGeom>
          <a:ln w="0">
            <a:noFill/>
          </a:ln>
        </p:spPr>
      </p:pic>
      <p:sp>
        <p:nvSpPr>
          <p:cNvPr id="63" name="WordArt 8"/>
          <p:cNvSpPr txBox="1"/>
          <p:nvPr/>
        </p:nvSpPr>
        <p:spPr>
          <a:xfrm>
            <a:off x="5651640" y="5805360"/>
            <a:ext cx="23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хенвальд</a:t>
            </a:r>
            <a:endParaRPr b="0" lang="en-US" sz="1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9" descr="6"/>
          <p:cNvPicPr/>
          <p:nvPr/>
        </p:nvPicPr>
        <p:blipFill>
          <a:blip r:embed="rId7"/>
          <a:stretch/>
        </p:blipFill>
        <p:spPr>
          <a:xfrm>
            <a:off x="3059280" y="260280"/>
            <a:ext cx="56163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WordArt 10"/>
          <p:cNvSpPr txBox="1"/>
          <p:nvPr/>
        </p:nvSpPr>
        <p:spPr>
          <a:xfrm>
            <a:off x="3780000" y="2492280"/>
            <a:ext cx="4248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einrichScript"/>
              </a:rPr>
              <a:t>Освенцим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einrichScript"/>
              <a:ea typeface="Heinrich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7280" y="260280"/>
            <a:ext cx="439236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Один из крупных концлагерей. Это был целый комплекс на юге Польши.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По последним данным в лагерях Освенцим было умерщвлено около 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 пяти  млн.человек</a:t>
            </a:r>
            <a:r>
              <a:rPr b="1" lang="ru-RU" sz="3200" spc="-1" strike="noStrike">
                <a:solidFill>
                  <a:srgbClr val="ff66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2391"/>
          <p:cNvPicPr/>
          <p:nvPr/>
        </p:nvPicPr>
        <p:blipFill>
          <a:blip r:embed="rId1"/>
          <a:stretch/>
        </p:blipFill>
        <p:spPr>
          <a:xfrm>
            <a:off x="324000" y="3213000"/>
            <a:ext cx="3962160" cy="285768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611280" y="836640"/>
            <a:ext cx="3456000" cy="23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ntino script"/>
              </a:rPr>
              <a:t>Освенцим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ndantino script"/>
              <a:ea typeface="Andantino script"/>
            </a:endParaRPr>
          </a:p>
        </p:txBody>
      </p:sp>
      <p:pic>
        <p:nvPicPr>
          <p:cNvPr id="69" name="Picture 8" descr="400px-AuschwitzCampEntrance"/>
          <p:cNvPicPr/>
          <p:nvPr/>
        </p:nvPicPr>
        <p:blipFill>
          <a:blip r:embed="rId2"/>
          <a:stretch/>
        </p:blipFill>
        <p:spPr>
          <a:xfrm>
            <a:off x="4356000" y="5229360"/>
            <a:ext cx="4680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f2513"/>
                </a:solidFill>
                <a:latin typeface="Times New Roman"/>
              </a:rPr>
              <a:t>В Освенциме погибло от полутора до пяти  миллионов человек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mage_600729002684040697603272691856927999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Над входом в Освенцим висел лозунг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rbeit macht frei</a:t>
            </a: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» (Труд освобожда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117976"/>
          <p:cNvPicPr/>
          <p:nvPr/>
        </p:nvPicPr>
        <p:blipFill>
          <a:blip r:embed="rId1"/>
          <a:stretch/>
        </p:blipFill>
        <p:spPr>
          <a:xfrm>
            <a:off x="395280" y="155736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auschwitz-04"/>
          <p:cNvPicPr/>
          <p:nvPr/>
        </p:nvPicPr>
        <p:blipFill>
          <a:blip r:embed="rId2"/>
          <a:stretch/>
        </p:blipFill>
        <p:spPr>
          <a:xfrm>
            <a:off x="3686040" y="3057480"/>
            <a:ext cx="54579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5:02:07Z</dcterms:created>
  <dc:creator>Сафрыгин Б.Б.</dc:creator>
  <dc:description/>
  <dc:language>en-US</dc:language>
  <cp:lastModifiedBy>Пользователь Windows</cp:lastModifiedBy>
  <dcterms:modified xsi:type="dcterms:W3CDTF">2018-01-20T14:45:41Z</dcterms:modified>
  <cp:revision>30</cp:revision>
  <dc:subject/>
  <dc:title>27 янавря-день памяти Холокоста</dc:title>
</cp:coreProperties>
</file>