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54CA-A21D-4375-BC30-65B05FFE8F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E5C6-EA84-4842-B9D8-F3B5FA4BF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F2F9-229D-4410-AED9-D9F65E22B9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431A-02ED-4891-85B5-D63330D86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7EE-2C5F-43F6-A38D-98777F780F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DFAC-B360-4640-A805-48F32A0F6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35E7-D70C-42CF-AE5B-483ACED30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4242-2659-4AB2-AC17-DC9BD5C22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552-7922-4824-80E1-B0CD08398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EB4-E597-46D2-A45A-099D6CF8EE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A24-F474-4564-85F0-BF44F84E3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EFCF-0E41-49F2-BFF2-BDB908AE74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711-53BA-44C9-95AA-2086B1A8B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D547-97C3-4D78-9749-AD949F85AD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331-98FE-4EDA-9CBF-48BC8170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CE38-B900-4944-BEE4-822ED7B6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E22-38C1-458F-956E-E51033E1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5A7-15FC-40C6-8C49-7ABFD040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5677-B4C8-4803-B249-ED998C11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6BAA-3068-4CAC-870C-9989E99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4D0E-DC83-4103-B87F-FD74ADB6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3C29-167E-42A5-BDA3-4B1E2D40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EA2-FD00-4FF0-AE51-48277FA9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0AB9-39E8-49B6-A065-9E4359EB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3F0E-5C69-4F15-972D-3B0AA57B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1D0-F924-4349-8475-6D507C5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09DE-7C73-4C6B-98B8-66BFAFCF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BBFE-CB43-4B98-A62F-C1B7E3C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E8C9-0B99-4CBD-89C8-AC98EB2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B206-EEE7-4C5A-82F8-FA82E19D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D768-0BD5-457C-B8DB-E801AE49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4A1C-3F4A-4A8F-91D2-2D2D4A81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436-B4B9-41AF-BBA6-B8B6AD15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081-FEA0-45EA-8266-800477EC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573-8A48-4F8F-839D-1D2DC549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711-D576-4461-A160-A4454722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07A-0229-462B-A703-7F5B8393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3DB-ADD3-4355-8176-42BAF16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D14-F379-4931-8AE4-9D05CF1D41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7360" y="50832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4240" y="27072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4080" y="141156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612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7880" y="20088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9ED5-3D6A-4C7A-BCF4-A9D0CE856F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тепень окисления. Бинарные соедин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484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31640" y="2923920"/>
            <a:ext cx="6032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S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539640" y="33336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На первом месте в формуле принято писать элемент с положительной степенью окисления, на последнем месте – с отрицательной степенью окислени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11280" y="1484280"/>
            <a:ext cx="72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Сумма положительных и отрицательных степеней окисления элементов в соединении равна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39640" y="2276640"/>
            <a:ext cx="86043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НИЕ 5.Определить степени окисления элементов в соединения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 baseline="30000">
                <a:solidFill>
                  <a:srgbClr val="c00000"/>
                </a:solidFill>
                <a:latin typeface="Comic Sans MS"/>
              </a:rPr>
              <a:t>+5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2800" spc="-1" strike="noStrike" baseline="30000">
                <a:solidFill>
                  <a:srgbClr val="c00000"/>
                </a:solidFill>
                <a:latin typeface="Comic Sans MS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    CC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F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2*5=-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10:2=-</a:t>
            </a: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Степень окисления свободных атомов и простых вещест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равна 0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  Н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;      Mg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omic Sans MS"/>
              </a:rPr>
              <a:t>0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0" name="Прямая со стрелкой 6"/>
          <p:cNvCxnSpPr/>
          <p:nvPr/>
        </p:nvCxnSpPr>
        <p:spPr>
          <a:xfrm flipH="1">
            <a:off x="2700000" y="3716280"/>
            <a:ext cx="72000" cy="43416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91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4000" y="3428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Comic Sans MS"/>
              </a:rPr>
              <a:t>Названия бинарных соедин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1280" y="1267920"/>
            <a:ext cx="7696080" cy="32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втором месте в формул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лор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кс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ульф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тр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гидр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илиц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арб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фосфид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Пример: 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NaCl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  хлорид натрия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084720" y="2637000"/>
            <a:ext cx="2448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cc3300"/>
                </a:solidFill>
                <a:latin typeface="Comic Sans MS"/>
              </a:rPr>
              <a:t>-И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Бинарное соеди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62"/>
          <p:cNvSpPr/>
          <p:nvPr/>
        </p:nvSpPr>
        <p:spPr>
          <a:xfrm>
            <a:off x="468360" y="260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НИЕ 6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авить формулы веществ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Назвать 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1538280"/>
          <a:ext cx="7490160" cy="3389400"/>
        </p:xfrm>
        <a:graphic>
          <a:graphicData uri="http://schemas.openxmlformats.org/drawingml/2006/table">
            <a:tbl>
              <a:tblPr/>
              <a:tblGrid>
                <a:gridCol w="1008360"/>
                <a:gridCol w="1728720"/>
                <a:gridCol w="2376360"/>
                <a:gridCol w="2376720"/>
              </a:tblGrid>
              <a:tr h="38088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 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Comic Sans MS"/>
                        </a:rPr>
                        <a:t>+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Comic Sans MS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кс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ид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люм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l </a:t>
                      </a:r>
                      <a:r>
                        <a:rPr b="1" lang="ru-RU" sz="1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ид каль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01" name="Прямая со стрелкой 3"/>
          <p:cNvCxnSpPr/>
          <p:nvPr/>
        </p:nvCxnSpPr>
        <p:spPr>
          <a:xfrm flipH="1">
            <a:off x="6516360" y="2133360"/>
            <a:ext cx="72000" cy="3610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02" name="Прямая со стрелкой 4"/>
          <p:cNvCxnSpPr/>
          <p:nvPr/>
        </p:nvCxnSpPr>
        <p:spPr>
          <a:xfrm>
            <a:off x="6803640" y="2133720"/>
            <a:ext cx="144720" cy="358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0800" cy="83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26920" y="2060640"/>
          <a:ext cx="7777440" cy="2692440"/>
        </p:xfrm>
        <a:graphic>
          <a:graphicData uri="http://schemas.openxmlformats.org/drawingml/2006/table">
            <a:tbl>
              <a:tblPr/>
              <a:tblGrid>
                <a:gridCol w="954360"/>
                <a:gridCol w="1965240"/>
                <a:gridCol w="2894040"/>
                <a:gridCol w="1963800"/>
              </a:tblGrid>
              <a:tr h="357120"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en-US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en-US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O </a:t>
                      </a:r>
                      <a:r>
                        <a:rPr b="1" lang="en-US" sz="1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 каль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O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 алюми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l </a:t>
                      </a:r>
                      <a:r>
                        <a:rPr b="1" lang="ru-RU" sz="1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l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аль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алюми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S </a:t>
                      </a:r>
                      <a:r>
                        <a:rPr b="1" lang="en-US" sz="1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S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ид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ид каль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S 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ид алюми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395280" y="189000"/>
            <a:ext cx="87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mic Sans MS"/>
              </a:rPr>
              <a:t>Некоторые элементы могут проявлять </a:t>
            </a:r>
            <a:r>
              <a:rPr b="1" lang="ru-RU" sz="2400" spc="-1" strike="noStrike" u="sng">
                <a:solidFill>
                  <a:srgbClr val="bf0000"/>
                </a:solidFill>
                <a:uFillTx/>
                <a:latin typeface="Comic Sans MS"/>
              </a:rPr>
              <a:t>несколько</a:t>
            </a:r>
            <a:r>
              <a:rPr b="1" lang="ru-RU" sz="2400" spc="-1" strike="noStrike">
                <a:solidFill>
                  <a:srgbClr val="bf0000"/>
                </a:solidFill>
                <a:latin typeface="Comic Sans MS"/>
              </a:rPr>
              <a:t> положительных степеней окисления (переменную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, медь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u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+1 и +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сер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+4 и +6</a:t>
            </a: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чет степени окисления начинают с элемент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оящего на втором месте в формуле вещест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епень окисления первого элемента указывают в названи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имской цифрой в скобк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692360" y="4724280"/>
            <a:ext cx="71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mic Sans MS"/>
              </a:rPr>
              <a:t>ПРИМЕР : 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Fe</a:t>
            </a:r>
            <a:r>
              <a:rPr b="0" lang="en-US" sz="1400" spc="-1" strike="noStrike">
                <a:solidFill>
                  <a:srgbClr val="b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bf0000"/>
                </a:solidFill>
                <a:latin typeface="Comic Sans MS"/>
              </a:rPr>
              <a:t>3 –  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оксид железа (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II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SO</a:t>
            </a:r>
            <a:r>
              <a:rPr b="0" lang="en-US" sz="1400" spc="-1" strike="noStrike">
                <a:solidFill>
                  <a:srgbClr val="b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оксид серы (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IV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95280" y="3573360"/>
            <a:ext cx="813600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Cl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9280" y="206028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НИЕ 7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ть переменную степень окисления элементов и назвать соеди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С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1052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6840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оксид меди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- оксид углерода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+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сид углерода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39640" y="333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ДАНИЕ 8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ить формулы бинарных соеди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84360" y="177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403280" y="2220480"/>
            <a:ext cx="633744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хлорид каль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оксид железа (II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оксид азота (V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епень окис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яется количеством электронов, которо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оже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отдавать или принимать элемент, вступая в соеди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Условный заряд атома химического элемента, который рассчитывается из предположения, что вещество образовано ионной связь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24000" y="549360"/>
            <a:ext cx="6400800" cy="172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риведенных формулах найдите ошибки и исправьте и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8560" y="2565000"/>
            <a:ext cx="6032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S – сульфид натрия (I),              M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– оксид магни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43200" y="259920"/>
            <a:ext cx="6400800" cy="10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43280" y="2349360"/>
            <a:ext cx="4500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 – сульфид на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– оксид маг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одзаголовок 2"/>
          <p:cNvSpPr/>
          <p:nvPr/>
        </p:nvSpPr>
        <p:spPr>
          <a:xfrm>
            <a:off x="250920" y="2421000"/>
            <a:ext cx="4249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 – сульфид натри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(I)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ru-RU" sz="2400" spc="-1" strike="noStrike" baseline="-25000">
                <a:solidFill>
                  <a:srgbClr val="c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400" spc="-1" strike="noStrike" baseline="-25000">
                <a:solidFill>
                  <a:srgbClr val="c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– оксид маг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 определения, упр. 1,2 (письмен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1280" y="3068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СПАСИБО ЗА РАБОТУ!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7"/>
          <p:cNvSpPr/>
          <p:nvPr/>
        </p:nvSpPr>
        <p:spPr>
          <a:xfrm>
            <a:off x="826920" y="6206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ксимальная положительная степень окисления элемента равна номеру группы в таблиц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.И. Менделее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 для всех элементов, кроме О и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993080" cy="3936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68360" y="476280"/>
            <a:ext cx="820728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пределить положительные степени окисления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    Zn     Mg   Si      Li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О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684360" y="1815120"/>
            <a:ext cx="799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овери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Al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3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Zn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Mg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Si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Li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1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39640" y="4762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рицательную степень окисления могут проявлять только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еметаллы</a:t>
            </a:r>
            <a:r>
              <a:rPr b="0" lang="ru-RU" sz="1800" spc="-1" strike="noStrike" u="sng">
                <a:solidFill>
                  <a:srgbClr val="00b050"/>
                </a:solidFill>
                <a:uFillTx/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4360" y="184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Comic Sans MS"/>
              </a:rPr>
              <a:t>Отрицательная степень окисления = № группы -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9640" y="2565360"/>
            <a:ext cx="80647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ь возможные отрицательные степени окисления у элемент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Cl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N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F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43200" y="260280"/>
            <a:ext cx="6400800" cy="1270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42560" y="3079440"/>
            <a:ext cx="74898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l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1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O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3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1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А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l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3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   Ca</a:t>
            </a:r>
            <a:r>
              <a:rPr b="1" lang="ru-RU" sz="36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2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    K</a:t>
            </a:r>
            <a:r>
              <a:rPr b="1" lang="ru-RU" sz="36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нарное соеди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сложное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щество, состоящее из 2 химических элементо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24000" y="47628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f0000"/>
                </a:solidFill>
                <a:uFillTx/>
                <a:latin typeface="Comic Sans MS"/>
              </a:rPr>
              <a:t>На первое место в формуле ставится элемент, с меньшей электроотрицательность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1628640"/>
            <a:ext cx="7056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НИЕ 4. Составить формулы веществ, образованных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и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  и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и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3:35:26Z</dcterms:created>
  <dc:creator>User</dc:creator>
  <dc:description/>
  <dc:language>en-US</dc:language>
  <cp:lastModifiedBy>Windows User</cp:lastModifiedBy>
  <dcterms:modified xsi:type="dcterms:W3CDTF">2017-11-28T18:29:01Z</dcterms:modified>
  <cp:revision>57</cp:revision>
  <dc:subject/>
  <dc:title>Степень окисления. Бинарные соединения.</dc:title>
</cp:coreProperties>
</file>