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2819-E9DB-49C7-A980-8D55A6552E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B24D-5BA0-4667-9F67-CBD42AAC5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246B-D360-4D17-8AF8-74147F5C73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2B65-E0BB-47BD-8A97-D9EAAE2E17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76F62-7A73-4EF7-8083-2684FFD84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04FA-31F8-4A69-9751-A202FBB8D0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B4D2-A755-4DD1-9D2E-869A9849D5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2434-C7E6-4CB7-8E00-B1D185DABF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97E-45AD-4CC3-B05C-69986464A6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4BBB-8138-454E-B4F2-5F001CD8D6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D2C6-A94D-48ED-8456-BCF94F9109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52C7-D1B0-4FF5-BBD0-5A6A503F00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E96-6C91-4CD6-BC30-0C61AEA874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9448-FA7E-4DC0-886D-442087091D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D0CA-3E3A-489A-86CD-5C395636B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23A3-EF7E-4B12-B757-D40DB684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810E-BCD8-4F31-BD96-56B145599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4CFC-D3A4-43EA-9EEB-4C0B61097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CC4B-451E-4045-ADB6-63A4D1FB5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F8B4-DD8C-45DA-B857-D3824700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F732-4C57-4B36-939E-E628BD7F8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F575-031C-4584-A7E7-3EEC0864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5EFC0-187E-4010-8EE3-3ED70EB0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E6AF-07C4-4751-9C8D-D2E3E8E6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9FE7-6AAF-46AA-9FC7-4DD092B3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7B95-2942-4A38-8D58-B44A9BEA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1B57-79DB-4A32-82F2-EC543AE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8B96-3519-4BB6-AEA8-AAB0D84A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9F07-9CFC-4D7E-B7F3-CBD235414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AAE4-46E5-4F70-9098-AFC5F5F2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CFCE-59C9-4B09-B881-1E6F752E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77B-DD9C-47C6-801B-541E95F9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A002-DAF2-4851-83F6-4F7674EF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1A36-343C-4FAD-9CDB-A05D04E3E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481-3016-4FF6-A39D-3CF26A46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495-DA08-4772-87B6-EC87F0385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C079-CCB4-4B6F-A20A-D3A5AAAD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7F4-AA13-44EF-A81C-64DA81E5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BD6F-E910-47F0-B2E1-582286B6E3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>
                    <a:gd name="textAreaLeft" fmla="*/ 0 w 245160"/>
                    <a:gd name="textAreaRight" fmla="*/ 245520 w 24516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37360" y="508320"/>
                  <a:ext cx="431280" cy="695520"/>
                </a:xfrm>
                <a:custGeom>
                  <a:avLst/>
                  <a:gdLst>
                    <a:gd name="textAreaLeft" fmla="*/ 0 w 431280"/>
                    <a:gd name="textAreaRight" fmla="*/ 431640 w 43128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34240" y="270720"/>
                  <a:ext cx="809640" cy="1425600"/>
                </a:xfrm>
                <a:custGeom>
                  <a:avLst/>
                  <a:gdLst>
                    <a:gd name="textAreaLeft" fmla="*/ 0 w 809640"/>
                    <a:gd name="textAreaRight" fmla="*/ 810000 w 80964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>
                    <a:gd name="textAreaLeft" fmla="*/ 0 w 1215720"/>
                    <a:gd name="textAreaRight" fmla="*/ 1216080 w 121572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34080" y="1411560"/>
                  <a:ext cx="270720" cy="193680"/>
                </a:xfrm>
                <a:custGeom>
                  <a:avLst/>
                  <a:gdLst>
                    <a:gd name="textAreaLeft" fmla="*/ 0 w 270720"/>
                    <a:gd name="textAreaRight" fmla="*/ 271080 w 27072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66120"/>
                  <a:ext cx="290160" cy="22860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>
                    <a:gd name="textAreaLeft" fmla="*/ 0 w 290160"/>
                    <a:gd name="textAreaRight" fmla="*/ 290520 w 2901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77880" y="200880"/>
                  <a:ext cx="286920" cy="219240"/>
                </a:xfrm>
                <a:custGeom>
                  <a:avLst/>
                  <a:gdLst>
                    <a:gd name="textAreaLeft" fmla="*/ 0 w 286920"/>
                    <a:gd name="textAreaRight" fmla="*/ 287280 w 2869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120"/>
                  <a:gd name="textAreaBottom" fmla="*/ 96480 h 9612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1760"/>
                  <a:gd name="textAreaBottom" fmla="*/ 492120 h 49176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280"/>
                  <a:gd name="textAreaBottom" fmla="*/ 278640 h 2782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520"/>
                  <a:gd name="textAreaBottom" fmla="*/ 164880 h 16452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C905-D42A-42FD-BF6D-5C070C18DC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Степень окисления. Бинарные соединения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00800" cy="1484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31640" y="2923920"/>
            <a:ext cx="60325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S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C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539640" y="333360"/>
            <a:ext cx="770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omic Sans MS"/>
              </a:rPr>
              <a:t>На первом месте в формуле принято писать элемент с положительной степенью окисления, на последнем месте – с отрицательной степенью окисления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611280" y="1484280"/>
            <a:ext cx="72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3300"/>
                </a:solidFill>
                <a:latin typeface="Comic Sans MS"/>
              </a:rPr>
              <a:t>Сумма положительных и отрицательных степеней окисления элементов в соединении равна  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539640" y="2276640"/>
            <a:ext cx="8604360" cy="38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НИЕ 5.Определить степени окисления элементов в соединениях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 baseline="30000">
                <a:solidFill>
                  <a:srgbClr val="c00000"/>
                </a:solidFill>
                <a:latin typeface="Comic Sans MS"/>
              </a:rPr>
              <a:t>+5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ru-RU" sz="2800" spc="-1" strike="noStrike" baseline="30000">
                <a:solidFill>
                  <a:srgbClr val="c00000"/>
                </a:solidFill>
                <a:latin typeface="Comic Sans MS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   CCl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F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2*5=-</a:t>
            </a:r>
            <a:r>
              <a:rPr b="1" lang="ru-RU" sz="2800" spc="-1" strike="noStrike">
                <a:solidFill>
                  <a:srgbClr val="0070c0"/>
                </a:solidFill>
                <a:latin typeface="Comic Sans MS"/>
              </a:rPr>
              <a:t>1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-10:2=-</a:t>
            </a: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Степень окисления свободных атомов и простых веществ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bf0000"/>
                </a:solidFill>
                <a:latin typeface="Comic Sans MS"/>
              </a:rPr>
              <a:t>равна 0: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(  Н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;      Mg</a:t>
            </a:r>
            <a:r>
              <a:rPr b="1" lang="ru-RU" sz="1800" spc="-1" strike="noStrike" baseline="30000">
                <a:solidFill>
                  <a:srgbClr val="000000"/>
                </a:solidFill>
                <a:latin typeface="Comic Sans MS"/>
              </a:rPr>
              <a:t>0  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90" name="Прямая со стрелкой 6"/>
          <p:cNvCxnSpPr/>
          <p:nvPr/>
        </p:nvCxnSpPr>
        <p:spPr>
          <a:xfrm flipH="1">
            <a:off x="2700000" y="3716280"/>
            <a:ext cx="72000" cy="43416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91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987640" y="476280"/>
            <a:ext cx="6400800" cy="100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324000" y="3428640"/>
            <a:ext cx="8496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4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+3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3300"/>
                </a:solidFill>
                <a:uFillTx/>
                <a:latin typeface="Comic Sans MS"/>
              </a:rPr>
              <a:t>Названия бинарных соединени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11280" y="1267920"/>
            <a:ext cx="7696080" cy="32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 втором месте в формул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хлор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кс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ульф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итр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гидр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илиц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-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карби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 –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фосфид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Пример:   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NaCl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  хлорид натрия</a:t>
            </a: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084720" y="2637000"/>
            <a:ext cx="244800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6000" spc="-1" strike="noStrike">
                <a:solidFill>
                  <a:srgbClr val="cc3300"/>
                </a:solidFill>
                <a:latin typeface="Comic Sans MS"/>
              </a:rPr>
              <a:t>-ИД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Comic Sans MS"/>
              </a:rPr>
              <a:t>Бинарное соединени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62"/>
          <p:cNvSpPr/>
          <p:nvPr/>
        </p:nvSpPr>
        <p:spPr>
          <a:xfrm>
            <a:off x="468360" y="26028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6.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авить формулы веществ.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 Назвать их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826920" y="1538280"/>
          <a:ext cx="7490160" cy="3389400"/>
        </p:xfrm>
        <a:graphic>
          <a:graphicData uri="http://schemas.openxmlformats.org/drawingml/2006/table">
            <a:tbl>
              <a:tblPr/>
              <a:tblGrid>
                <a:gridCol w="1008360"/>
                <a:gridCol w="1728720"/>
                <a:gridCol w="2376360"/>
                <a:gridCol w="2376720"/>
              </a:tblGrid>
              <a:tr h="38088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Na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ru-RU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Al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+3</a:t>
                      </a: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O 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l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Comic Sans MS"/>
                        </a:rPr>
                        <a:t>+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</a:t>
                      </a:r>
                      <a:r>
                        <a:rPr b="1" lang="ru-RU" sz="1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1800" spc="-1" strike="noStrike" baseline="30000">
                          <a:solidFill>
                            <a:srgbClr val="0070c0"/>
                          </a:solidFill>
                          <a:latin typeface="Comic Sans MS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кс</a:t>
                      </a:r>
                      <a:r>
                        <a:rPr b="0" lang="ru-RU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ид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люми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l </a:t>
                      </a:r>
                      <a:r>
                        <a:rPr b="1" lang="ru-RU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9160"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1800" spc="-1" strike="noStrike" baseline="30000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2</a:t>
                      </a:r>
                      <a:r>
                        <a:rPr b="1" lang="ru-RU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ьфид каль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32400" bIns="324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201" name="Прямая со стрелкой 3"/>
          <p:cNvCxnSpPr/>
          <p:nvPr/>
        </p:nvCxnSpPr>
        <p:spPr>
          <a:xfrm flipH="1">
            <a:off x="6516360" y="2133360"/>
            <a:ext cx="72000" cy="36108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02" name="Прямая со стрелкой 4"/>
          <p:cNvCxnSpPr/>
          <p:nvPr/>
        </p:nvCxnSpPr>
        <p:spPr>
          <a:xfrm>
            <a:off x="6803640" y="2133720"/>
            <a:ext cx="144720" cy="358920"/>
          </a:xfrm>
          <a:prstGeom prst="straightConnector1">
            <a:avLst/>
          </a:prstGeom>
          <a:ln w="93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11280" y="333360"/>
            <a:ext cx="6400800" cy="836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826920" y="2060640"/>
          <a:ext cx="7777440" cy="2692440"/>
        </p:xfrm>
        <a:graphic>
          <a:graphicData uri="http://schemas.openxmlformats.org/drawingml/2006/table">
            <a:tbl>
              <a:tblPr/>
              <a:tblGrid>
                <a:gridCol w="954360"/>
                <a:gridCol w="1965240"/>
                <a:gridCol w="2894040"/>
                <a:gridCol w="1963800"/>
              </a:tblGrid>
              <a:tr h="357120"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en-US" sz="1400" spc="-1" strike="noStrike" baseline="30000">
                          <a:solidFill>
                            <a:srgbClr val="548dd4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O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ксид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Cl </a:t>
                      </a:r>
                      <a:r>
                        <a:rPr b="1" lang="ru-RU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C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–1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орид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55440" rIns="55440" tIns="27720" bIns="2772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S </a:t>
                      </a:r>
                      <a:r>
                        <a:rPr b="1" lang="en-US" sz="1400" spc="-1" strike="noStrike" baseline="30000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a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натр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2</a:t>
                      </a:r>
                      <a:r>
                        <a:rPr b="1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каль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440" rIns="55440" tIns="27720" bIns="2772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l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+3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S </a:t>
                      </a:r>
                      <a:r>
                        <a:rPr b="1" lang="ru-RU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8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льфид алюми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5440" marR="55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395280" y="189000"/>
            <a:ext cx="874872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f0000"/>
                </a:solidFill>
                <a:latin typeface="Comic Sans MS"/>
              </a:rPr>
              <a:t>Некоторые элементы могут проявлять </a:t>
            </a:r>
            <a:r>
              <a:rPr b="1" lang="ru-RU" sz="2400" spc="-1" strike="noStrike" u="sng">
                <a:solidFill>
                  <a:srgbClr val="bf0000"/>
                </a:solidFill>
                <a:uFillTx/>
                <a:latin typeface="Comic Sans MS"/>
              </a:rPr>
              <a:t>несколько</a:t>
            </a:r>
            <a:r>
              <a:rPr b="1" lang="ru-RU" sz="2400" spc="-1" strike="noStrike">
                <a:solidFill>
                  <a:srgbClr val="bf0000"/>
                </a:solidFill>
                <a:latin typeface="Comic Sans MS"/>
              </a:rPr>
              <a:t> положительных степеней окисления (переменную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, медь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Cu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+1 и +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, сера </a:t>
            </a:r>
            <a:r>
              <a:rPr b="0" lang="en-US" sz="2400" spc="-1" strike="noStrike">
                <a:solidFill>
                  <a:srgbClr val="c00000"/>
                </a:solidFill>
                <a:latin typeface="Comic Sans MS"/>
              </a:rPr>
              <a:t>S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   +4 и +6</a:t>
            </a:r>
            <a:r>
              <a:rPr b="1" lang="ru-RU" sz="2400" spc="-1" strike="noStrike">
                <a:solidFill>
                  <a:srgbClr val="c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чет степени окисления начинают с элемент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оящего на втором месте в формуле вещества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тепень окисления первого элемента указывают в названии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имской цифрой в скобках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692360" y="4724280"/>
            <a:ext cx="71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f0000"/>
                </a:solidFill>
                <a:latin typeface="Comic Sans MS"/>
              </a:rPr>
              <a:t>ПРИМЕР :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Fe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O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3 –  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оксид железа (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III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SO</a:t>
            </a:r>
            <a:r>
              <a:rPr b="0" lang="en-US" sz="1400" spc="-1" strike="noStrike">
                <a:solidFill>
                  <a:srgbClr val="bf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 – </a:t>
            </a:r>
            <a:r>
              <a:rPr b="0" lang="ru-RU" sz="2400" spc="-1" strike="noStrike">
                <a:solidFill>
                  <a:srgbClr val="bf0000"/>
                </a:solidFill>
                <a:latin typeface="Comic Sans MS"/>
              </a:rPr>
              <a:t>оксид серы (</a:t>
            </a:r>
            <a:r>
              <a:rPr b="0" lang="en-US" sz="2400" spc="-1" strike="noStrike">
                <a:solidFill>
                  <a:srgbClr val="bf0000"/>
                </a:solidFill>
                <a:latin typeface="Comic Sans MS"/>
              </a:rPr>
              <a:t>IV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95280" y="3573360"/>
            <a:ext cx="8136000" cy="29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Cl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539280" y="2060280"/>
            <a:ext cx="828036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ЗАДАНИЕ 7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пределить переменную степень окисления элементов и назвать соеди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С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С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743200" y="0"/>
            <a:ext cx="6400800" cy="1052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26920" y="2349000"/>
            <a:ext cx="6840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1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2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- оксид углерода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mic Sans MS"/>
              </a:rPr>
              <a:t>+4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800" spc="-1" strike="noStrike" baseline="30000">
                <a:solidFill>
                  <a:srgbClr val="000000"/>
                </a:solidFill>
                <a:latin typeface="Comic Sans MS"/>
              </a:rPr>
              <a:t>–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ксид углерода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V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39640" y="333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ЗАДАНИЕ 8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оставить формулы бинарных соединени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684360" y="17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1403280" y="2220480"/>
            <a:ext cx="6337440" cy="33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хлорид кальц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ксид железа (II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Comic Sans MS"/>
                <a:ea typeface="Times New Roman"/>
              </a:rPr>
              <a:t>оксид азота (V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3333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Степень окисл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69608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пределяется количеством электронов, которое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mic Sans MS"/>
              </a:rPr>
              <a:t>может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отдавать или принимать элемент, вступая в соединени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703dff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Условный заряд атома химического элемента, который рассчитывается из предположения, что вещество образовано ионной связью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24000" y="549360"/>
            <a:ext cx="6400800" cy="17272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 приведенных формулах найдите ошибки и исправьте и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58560" y="2565000"/>
            <a:ext cx="60325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S – сульфид натрия (I),              Mg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 – оксид магния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43200" y="259920"/>
            <a:ext cx="6400800" cy="1081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643280" y="2349360"/>
            <a:ext cx="4500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 – сульфид натр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– оксид маг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Подзаголовок 2"/>
          <p:cNvSpPr/>
          <p:nvPr/>
        </p:nvSpPr>
        <p:spPr>
          <a:xfrm>
            <a:off x="250920" y="2421000"/>
            <a:ext cx="4249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S – сульфид натрия </a:t>
            </a:r>
            <a:r>
              <a:rPr b="0" lang="ru-RU" sz="2400" spc="-1" strike="noStrike">
                <a:solidFill>
                  <a:srgbClr val="c00000"/>
                </a:solidFill>
                <a:latin typeface="Comic Sans MS"/>
              </a:rPr>
              <a:t>(I)            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Mg</a:t>
            </a:r>
            <a:r>
              <a:rPr b="0" lang="ru-RU" sz="24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ru-RU" sz="2400" spc="-1" strike="noStrike" baseline="-25000">
                <a:solidFill>
                  <a:srgbClr val="c00000"/>
                </a:solidFill>
                <a:latin typeface="Comic Sans MS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 – оксид магни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- 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829152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 определения, упр. 1,2 (письменн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611280" y="3068640"/>
            <a:ext cx="72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Comic Sans MS"/>
              </a:rPr>
              <a:t>СПАСИБО ЗА РАБОТУ!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7"/>
          <p:cNvSpPr/>
          <p:nvPr/>
        </p:nvSpPr>
        <p:spPr>
          <a:xfrm>
            <a:off x="826920" y="620640"/>
            <a:ext cx="70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ксимальная положительная степень окисления элемента равна номеру группы в таблице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.И. Менделеев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( для всех элементов, кроме О и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8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7993080" cy="393696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4"/>
          <p:cNvSpPr/>
          <p:nvPr/>
        </p:nvSpPr>
        <p:spPr>
          <a:xfrm>
            <a:off x="468360" y="476280"/>
            <a:ext cx="8207280" cy="48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ЗАДАНИЕ 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пределить положительные степени окисления элементо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l    Zn     Mg   Si      Li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О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1"/>
          <p:cNvSpPr/>
          <p:nvPr/>
        </p:nvSpPr>
        <p:spPr>
          <a:xfrm>
            <a:off x="684360" y="1815120"/>
            <a:ext cx="7991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Al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3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Zn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Mg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Si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4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</a:t>
            </a:r>
            <a:r>
              <a:rPr b="1" lang="ru-RU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,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  Li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alibri"/>
                <a:ea typeface="Times New Roman"/>
              </a:rPr>
              <a:t>+1</a:t>
            </a:r>
            <a:r>
              <a:rPr b="1" lang="en-US" sz="3600" spc="-1" strike="noStrike">
                <a:solidFill>
                  <a:srgbClr val="0070c0"/>
                </a:solidFill>
                <a:latin typeface="Calibri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539640" y="47628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трицательную степень окисления могут проявлять только </a:t>
            </a:r>
            <a:r>
              <a:rPr b="1" lang="ru-RU" sz="2400" spc="-1" strike="noStrike" u="sng">
                <a:solidFill>
                  <a:srgbClr val="00b050"/>
                </a:solidFill>
                <a:uFillTx/>
                <a:latin typeface="Comic Sans MS"/>
              </a:rPr>
              <a:t>неметаллы</a:t>
            </a:r>
            <a:r>
              <a:rPr b="0" lang="ru-RU" sz="1800" spc="-1" strike="noStrike" u="sng">
                <a:solidFill>
                  <a:srgbClr val="00b050"/>
                </a:solidFill>
                <a:uFillTx/>
                <a:latin typeface="Comic Sans MS"/>
              </a:rPr>
              <a:t>.</a:t>
            </a: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84360" y="1844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cc3300"/>
                </a:solidFill>
                <a:uFillTx/>
                <a:latin typeface="Comic Sans MS"/>
              </a:rPr>
              <a:t>Отрицательная степень окисления = № группы - 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39640" y="2565360"/>
            <a:ext cx="8064720" cy="25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3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пределить возможные отрицательные степени окисления у элементов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Cl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 N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F</a:t>
            </a:r>
            <a:r>
              <a:rPr b="1" lang="ru-RU" sz="2800" spc="-1" strike="noStrike">
                <a:solidFill>
                  <a:srgbClr val="00b05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Comic Sans MS"/>
              </a:rPr>
              <a:t> 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43200" y="260280"/>
            <a:ext cx="6400800" cy="1270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042560" y="3079440"/>
            <a:ext cx="7489800" cy="17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Cl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</a:t>
            </a:r>
            <a:r>
              <a:rPr b="1" lang="ru-RU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1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O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N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3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F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1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А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l </a:t>
            </a:r>
            <a:r>
              <a:rPr b="1" lang="en-US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3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   Ca</a:t>
            </a:r>
            <a:r>
              <a:rPr b="1" lang="ru-RU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2</a:t>
            </a:r>
            <a:r>
              <a:rPr b="1" lang="en-US" sz="36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    K</a:t>
            </a:r>
            <a:r>
              <a:rPr b="1" lang="ru-RU" sz="3600" spc="-1" strike="noStrike" baseline="30000">
                <a:solidFill>
                  <a:srgbClr val="0070c0"/>
                </a:solidFill>
                <a:latin typeface="Comic Sans MS"/>
                <a:ea typeface="Times New Roman"/>
              </a:rPr>
              <a:t>+1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e0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Бинарное соеди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сложное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вещество, состоящее из 2 химических элементов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324000" y="476280"/>
            <a:ext cx="81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bf0000"/>
                </a:solidFill>
                <a:uFillTx/>
                <a:latin typeface="Comic Sans MS"/>
              </a:rPr>
              <a:t>На первое место в формуле ставится элемент, с меньшей электроотрицательностью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1628640"/>
            <a:ext cx="7056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ЗАДАНИЕ 4. Составить формулы веществ, образованных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и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   и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и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8317080" y="0"/>
            <a:ext cx="826920" cy="620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13:35:26Z</dcterms:created>
  <dc:creator>User</dc:creator>
  <dc:description/>
  <dc:language>en-US</dc:language>
  <cp:lastModifiedBy>Windows User</cp:lastModifiedBy>
  <dcterms:modified xsi:type="dcterms:W3CDTF">2017-11-28T18:29:01Z</dcterms:modified>
  <cp:revision>57</cp:revision>
  <dc:subject/>
  <dc:title>Степень окисления. Бинарные соединения.</dc:title>
</cp:coreProperties>
</file>