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8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C5B-21EA-49F7-8061-DFEA1705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058-7FAA-46F4-954B-0C28D35B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316-DEBA-44C0-A02A-1C880D27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F33-1386-4515-9400-A5741384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BA9B-78CE-48D7-9483-47FAD3D5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ED26-933A-4908-B8A4-ED2BF57A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613D-A26E-4816-96AB-ABFE7C84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6ED3-439A-4CAB-B50D-879F5C2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E02F-864E-4C40-954F-FB629F6D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4DE8-0241-4CA1-BAB5-895FBDF5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64A7-F494-4AB6-9071-277EF357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6F9-A329-47F0-BD96-70A491C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6A50-2774-4E41-9E94-CD65A59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716-2C72-43EF-8054-2D4FD1F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AF8-8BCA-4A28-945D-08AB6A15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473F-39B7-4799-AAF7-BCD797ED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8C41-D8D5-4FCE-A965-72331000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1C6-BF1B-400F-AE6C-A75542D9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D2F-2965-4EF9-8C6C-7A344717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6A6-08BD-4B01-829F-C75A65B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E5B-F7DA-40B1-AC67-79FC8515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5CD-744E-4371-A231-A72D8D8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E9E-7024-4BB0-86D5-E3B663C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458-4CB3-4220-84E7-475FCAC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88E-C586-4D87-B579-EE728C0A8D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FEE9-9020-4DB5-8A9C-65FFB7416C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9133"/>
                </a:solidFill>
                <a:latin typeface="Arial"/>
              </a:rPr>
              <a:t>АНО СОШ «Димитриевская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6476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9133"/>
                </a:solidFill>
                <a:latin typeface="Verdana"/>
                <a:ea typeface="Complex"/>
              </a:rPr>
              <a:t>Демографический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портрет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православной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школ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d9133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1424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5562720" cy="3811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553080" y="2666880"/>
            <a:ext cx="1981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Выполнили учащиеся 10 класс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Князев А., Соловьева П., Шеремет И.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Руководитель: учитель географ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Макшаева И.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Количество человек в семь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0" name="Объект 3"/>
          <p:cNvGraphicFramePr/>
          <p:nvPr/>
        </p:nvGraphicFramePr>
        <p:xfrm>
          <a:off x="406440" y="1854360"/>
          <a:ext cx="8331120" cy="42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54360"/>
                    <a:ext cx="83311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Со сколькими родителями живут учащиес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3" name="Объект 3"/>
          <p:cNvGraphicFramePr/>
          <p:nvPr/>
        </p:nvGraphicFramePr>
        <p:xfrm>
          <a:off x="409680" y="1857240"/>
          <a:ext cx="8286480" cy="42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857240"/>
                    <a:ext cx="828648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Сколько, на ваш взгляд, должно быть детей в нормальной семь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25680" y="1521000"/>
          <a:ext cx="670392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521000"/>
                    <a:ext cx="670392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Вы любите учиться?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219320"/>
          <a:ext cx="716112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71611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Занимаетесь ли вы/ваша семья каким-нибудь видом фольклор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90720" y="1295280"/>
          <a:ext cx="73152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Ваш класс дружный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114560"/>
          <a:ext cx="807696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14560"/>
                    <a:ext cx="807696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9133"/>
                </a:solidFill>
                <a:latin typeface="Arial"/>
              </a:rPr>
              <a:t>Общаются ли учащиеся с младшеклассниками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Объект 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31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Вы предпочли бы путешествовать по России или за рубежом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5680" y="1628640"/>
          <a:ext cx="6091200" cy="44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628640"/>
                    <a:ext cx="609120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Что в выборе профессии будет для вас самым главным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66680" y="1600200"/>
          <a:ext cx="723744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23744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Есть ли в вашем доме старинные вещи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137160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01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Цель нашего исследования:</a:t>
            </a:r>
            <a:r>
              <a:rPr b="0" lang="en-US" sz="2800" spc="-1" strike="noStrike">
                <a:solidFill>
                  <a:srgbClr val="7d91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d9133"/>
                </a:solidFill>
                <a:latin typeface="Arial"/>
              </a:rPr>
              <a:t>составить демографический портрет нашей школы в свете актуальности данных проблем.</a:t>
            </a:r>
            <a:r>
              <a:rPr b="0" lang="en-US" sz="4000" spc="-1" strike="noStrike">
                <a:solidFill>
                  <a:srgbClr val="7d91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Verdan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познакомиться с демографической ситуацией в Росс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узнать чем занимаются учащиеся в свободное от учёбы время; какие любят школьные предметы; любят ли ходить в школу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привлечь внимание учащихся к демографическим проблемам Росс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сравнить демографическую ситуацию нашей школы с демографическими процессами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Собираетесь ли заниматься каким-то творчеством серьёзн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5680" y="1628640"/>
          <a:ext cx="6091200" cy="44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628640"/>
                    <a:ext cx="609120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Что из нижеперечисленного вы делаете дом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3880" y="1933560"/>
          <a:ext cx="71056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33560"/>
                    <a:ext cx="71056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Любимые предме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66680" y="1214280"/>
          <a:ext cx="716292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4280"/>
                    <a:ext cx="71629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d9133"/>
                </a:solidFill>
                <a:latin typeface="Corbel Bold Italic"/>
              </a:rPr>
              <a:t>Примеры анкет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497400" cy="4848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5910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9133"/>
                </a:solidFill>
                <a:latin typeface="Corbel Bold Italic"/>
              </a:rPr>
              <a:t>Заключение</a:t>
            </a:r>
            <a:r>
              <a:rPr b="0" lang="en-US" sz="4400" spc="-1" strike="noStrike">
                <a:solidFill>
                  <a:srgbClr val="7d91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В своей работе мы постарались  составить демографический портрет 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нашей </a:t>
            </a: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школы. В процессе исследования мы расширили свои знания по демографическим проблемам в нашей стране. С помощью анкетирования и статистического методов пришли к вывод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у, что духовно-нравственные принципы и убеждения большинства учащихся Свято-Димитриевской православной школы будут содействовать преумножению российского народа в численности и укреплению христианских моральных качеств нашего общест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Материалы нашей работы можно использовать на уроках географии России, обществозн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Используемые источники информаци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http://президент.рф/news/1711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http://ru.wikipedia.org/wiki/%CD%E0%F1%E5%EB%E5%ED%E8%E5_%D0%EE%F1%F1%E8%E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http://www.vedomosti.ru/career/news/7816621/mintruda_za_11_mesyacev_estestvennyj_prirost_naseleniya_v#ixzz2LWhgwd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Актуальность темы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7d9133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На протяжении только одного XX века Россия прошла через две мировые и гражданскую войны, через революции, дважды испытала катастрофу распада единого государства. В нашей стране несколько раз коренным образом менялась вся система жизнеустройства. В результате в начале XXI века мы столкнулись с настоящей демографической и ценностной катастрофой, с настоящим демографическим и ценностным кризисом. А если нация не способна себя сберегать и воспроизводить, если она утрачивает жизненные ориентиры и идеалы, ей и внешний враг не нужен, всё и так развалится само по себ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9133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7d9133"/>
                </a:solidFill>
                <a:latin typeface="Verdana"/>
              </a:rPr>
              <a:t>( Из Послания Президента В.Путина Федеральному собранию, декабрь 2012 г.)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298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Проблема:</a:t>
            </a:r>
            <a:r>
              <a:rPr b="0" lang="en-US" sz="2400" spc="-1" strike="noStrike">
                <a:solidFill>
                  <a:srgbClr val="7d9133"/>
                </a:solidFill>
                <a:latin typeface="Arial"/>
              </a:rPr>
              <a:t> В настоящее время ученики проводят много времени в школе, поэтому помимо демографических процессов, происходящих в православных семьях учащихся необходимо узнать, чем дети увлекаются, </a:t>
            </a:r>
            <a:br>
              <a:rPr sz="2400"/>
            </a:br>
            <a:r>
              <a:rPr b="0" lang="en-US" sz="2400" spc="-1" strike="noStrike">
                <a:solidFill>
                  <a:srgbClr val="7d9133"/>
                </a:solidFill>
                <a:latin typeface="Arial"/>
              </a:rPr>
              <a:t>кем мечтают стать, кто они.</a:t>
            </a:r>
            <a:r>
              <a:rPr b="0" lang="en-US" sz="4400" spc="-1" strike="noStrike">
                <a:solidFill>
                  <a:srgbClr val="7d91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446640"/>
            <a:ext cx="8229600" cy="26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Verdana"/>
              </a:rPr>
              <a:t>Объект исследования:</a:t>
            </a:r>
            <a:r>
              <a:rPr b="0" lang="en-US" sz="28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учащиеся школ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9133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7d9133"/>
                </a:solidFill>
                <a:latin typeface="Verdana"/>
              </a:rPr>
              <a:t>Методы:</a:t>
            </a:r>
            <a:r>
              <a:rPr b="0" lang="en-US" sz="2800" spc="-1" strike="noStrike">
                <a:solidFill>
                  <a:srgbClr val="7d91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сравнительный анализ литератур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метод анкетирова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статистическ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Этапы работы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Подготовитель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Обработка анк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Составление отч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0" name="Объект 3" descr=""/>
          <p:cNvPicPr/>
          <p:nvPr/>
        </p:nvPicPr>
        <p:blipFill>
          <a:blip r:embed="rId3"/>
          <a:stretch/>
        </p:blipFill>
        <p:spPr>
          <a:xfrm>
            <a:off x="762120" y="386712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d9133"/>
                </a:solidFill>
                <a:latin typeface="Arial"/>
              </a:rPr>
              <a:t>Фотографии с анкетиров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Объект 3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ba202"/>
                </a:solidFill>
                <a:latin typeface="Arial"/>
              </a:rPr>
              <a:t>Динамика численности родившихся  и умерших в России в период с 1991 по 2008 гг, человек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9133"/>
                </a:solidFill>
                <a:latin typeface="Arial"/>
              </a:rPr>
              <a:t>Динамика естественного прироста населения России в период с 1950 по 2008 гг.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06360" y="1600200"/>
            <a:ext cx="6731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d9133"/>
                </a:solidFill>
                <a:latin typeface="Arial"/>
              </a:rPr>
              <a:t>Карта убыли/прироста населения регионов России в 2012 год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86000" y="1600200"/>
            <a:ext cx="637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risa Y. Solov`eva</dc:creator>
  <dc:description/>
  <dc:language>en-US</dc:language>
  <cp:lastModifiedBy>imakshaeva</cp:lastModifiedBy>
  <dcterms:modified xsi:type="dcterms:W3CDTF">2013-12-17T09:11:3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