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2.wmf" ContentType="image/x-wmf"/>
  <Override PartName="/ppt/media/image8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6.png" ContentType="image/png"/>
  <Override PartName="/ppt/media/image14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6F5-051C-47B4-A627-86530FC2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8DD-9577-48FF-A624-B9B67662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21C-2F23-4982-8D2F-E0BCC7EC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730-A5E6-426E-AB6E-DE368060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6EDC-CD11-4A54-8FDC-239CE024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4C5D-81AB-4026-8537-FB37C36B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6604-ADCE-4E14-9988-D11A63FD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5E33-2436-4336-BD0F-6A3FCCF0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401A-08DB-4174-94EB-53FEF8AD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1EA1-9C44-4283-8506-9BF26074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0DDF-59D7-4E7D-A428-E3934064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9DF-DBC3-4A15-AD01-FFDEF522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5CEA-DC0C-486F-9FDC-8FAE679A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47E6-019D-4FB6-96A1-0FED6CBE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2E06-D0E9-4ECD-9B91-24222C36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02B1-49A0-4BC5-A685-19EEA690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270A-5551-42C1-B9B5-3B52F6DF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615-FD81-478A-8591-2D9613B4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B25-0AB7-4861-B6A0-EE643B71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558-5133-416F-B5E6-CD8B1316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5F7-38F4-4A64-AE6A-51A6C247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D51-9974-4991-8C43-B7D9E1B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44E-37B4-41C1-91E4-CFC77D6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7A2-268D-4DEC-87F8-B19C26D1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260F-5183-4CD3-83DF-3F90D444B4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61DA-22BA-42F3-80DA-D9A8090EC5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8720"/>
            <a:ext cx="7772400" cy="376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d9133"/>
                </a:solidFill>
                <a:latin typeface="Arial"/>
              </a:rPr>
              <a:t>АНО СОШ «Димитриевская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904760" y="914400"/>
            <a:ext cx="6476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9133"/>
                </a:solidFill>
                <a:latin typeface="Verdana"/>
                <a:ea typeface="Complex"/>
              </a:rPr>
              <a:t>Демографический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портрет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православной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7d9133"/>
                </a:solidFill>
                <a:latin typeface="Verdana"/>
              </a:rPr>
              <a:t>школы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d9133"/>
                </a:solidFill>
                <a:latin typeface="Verdana"/>
              </a:rPr>
              <a:t>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14240" cy="718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5562720" cy="3811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553080" y="2666880"/>
            <a:ext cx="19814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Выполнили учащиеся 10 класс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Князев А., Соловьева П., Шеремет И.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Руководитель: учитель географи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d9133"/>
                </a:solidFill>
                <a:latin typeface="Corbel"/>
              </a:rPr>
              <a:t>Макшаева И.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Количество человек в семь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0" name="Объект 3"/>
          <p:cNvGraphicFramePr/>
          <p:nvPr/>
        </p:nvGraphicFramePr>
        <p:xfrm>
          <a:off x="406440" y="1854360"/>
          <a:ext cx="8331120" cy="42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54360"/>
                    <a:ext cx="83311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Со сколькими родителями живут учащиес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3" name="Объект 3"/>
          <p:cNvGraphicFramePr/>
          <p:nvPr/>
        </p:nvGraphicFramePr>
        <p:xfrm>
          <a:off x="409680" y="1857240"/>
          <a:ext cx="8286480" cy="42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857240"/>
                    <a:ext cx="828648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Сколько, на ваш взгляд, должно быть детей в нормальной семь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525680" y="1521000"/>
          <a:ext cx="670392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521000"/>
                    <a:ext cx="670392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Вы любите учиться?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219320"/>
          <a:ext cx="716112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71611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Занимаетесь ли вы/ваша семья каким-нибудь видом фольклора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90720" y="1295280"/>
          <a:ext cx="73152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Ваш класс дружный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1114560"/>
          <a:ext cx="8076960" cy="53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14560"/>
                    <a:ext cx="807696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d9133"/>
                </a:solidFill>
                <a:latin typeface="Arial"/>
              </a:rPr>
              <a:t>Общаются ли учащиеся с младшеклассниками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Объект 3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31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Вы предпочли бы путешествовать по России или за рубежом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5680" y="1628640"/>
          <a:ext cx="6091200" cy="44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628640"/>
                    <a:ext cx="609120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Что в выборе профессии будет для вас самым главным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066680" y="1600200"/>
          <a:ext cx="723744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723744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Есть ли в вашем доме старинные вещи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137160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01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Цель нашего исследования:</a:t>
            </a:r>
            <a:r>
              <a:rPr b="0" lang="en-US" sz="2800" spc="-1" strike="noStrike">
                <a:solidFill>
                  <a:srgbClr val="7d91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d9133"/>
                </a:solidFill>
                <a:latin typeface="Arial"/>
              </a:rPr>
              <a:t>составить демографический портрет нашей школы в свете актуальности данных проблем.</a:t>
            </a:r>
            <a:r>
              <a:rPr b="0" lang="en-US" sz="4000" spc="-1" strike="noStrike">
                <a:solidFill>
                  <a:srgbClr val="7d91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Verdan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познакомиться с демографической ситуацией в Росс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узнать чем занимаются учащиеся в свободное от учёбы время; какие любят школьные предметы; любят ли ходить в школу и т.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привлечь внимание учащихся к демографическим проблемам Росс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сравнить демографическую ситуацию нашей школы с демографическими процессами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Собираетесь ли заниматься каким-то творчеством серьёзн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5680" y="1628640"/>
          <a:ext cx="6091200" cy="44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628640"/>
                    <a:ext cx="609120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Что из нижеперечисленного вы делаете дома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3880" y="1933560"/>
          <a:ext cx="71056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33560"/>
                    <a:ext cx="71056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d9133"/>
                </a:solidFill>
                <a:latin typeface="Arial"/>
              </a:rPr>
              <a:t>Любимые предмет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66680" y="1214280"/>
          <a:ext cx="7162920" cy="478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4280"/>
                    <a:ext cx="71629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d9133"/>
                </a:solidFill>
                <a:latin typeface="Corbel Bold Italic"/>
              </a:rPr>
              <a:t>Примеры анкет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497400" cy="4848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5910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9133"/>
                </a:solidFill>
                <a:latin typeface="Corbel Bold Italic"/>
              </a:rPr>
              <a:t>Заключение</a:t>
            </a:r>
            <a:r>
              <a:rPr b="0" lang="en-US" sz="4400" spc="-1" strike="noStrike">
                <a:solidFill>
                  <a:srgbClr val="7d91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В своей работе мы постарались  составить демографический портрет </a:t>
            </a: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нашей </a:t>
            </a: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школы. В процессе исследования мы расширили свои знания по демографическим проблемам в нашей стране. С помощью анкетирования и статистического методов пришли к вывод</a:t>
            </a: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у, что духовно-нравственные принципы и убеждения большинства учащихся Свято-Димитриевской православной школы будут содействовать преумножению российского народа в численности и укреплению христианских моральных качеств нашего общест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Материалы нашей работы можно использовать на уроках географии России, обществозн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Используемые источники информации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http://президент.рф/news/1711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http://ru.wikipedia.org/wiki/%CD%E0%F1%E5%EB%E5%ED%E8%E5_%D0%EE%F1%F1%E8%E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http://www.vedomosti.ru/career/news/7816621/mintruda_za_11_mesyacev_estestvennyj_prirost_naseleniya_v#ixzz2LWhgwd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Актуальность темы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7d9133"/>
                </a:solidFill>
                <a:latin typeface="Verdana"/>
              </a:rPr>
              <a:t>               </a:t>
            </a: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На протяжении только одного XX века Россия прошла через две мировые и гражданскую войны, через революции, дважды испытала катастрофу распада единого государства. В нашей стране несколько раз коренным образом менялась вся система жизнеустройства. В результате в начале XXI века мы столкнулись с настоящей демографической и ценностной катастрофой, с настоящим демографическим и ценностным кризисом. А если нация не способна себя сберегать и воспроизводить, если она утрачивает жизненные ориентиры и идеалы, ей и внешний враг не нужен, всё и так развалится само по себ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d9133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7d9133"/>
                </a:solidFill>
                <a:latin typeface="Verdana"/>
              </a:rPr>
              <a:t>( Из Послания Президента В.Путина Федеральному собранию, декабрь 2012 г.)</a:t>
            </a:r>
            <a:r>
              <a:rPr b="0" lang="ru-RU" sz="2400" spc="-1" strike="noStrike">
                <a:solidFill>
                  <a:srgbClr val="7d913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58200" cy="298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Проблема:</a:t>
            </a:r>
            <a:r>
              <a:rPr b="0" lang="en-US" sz="2400" spc="-1" strike="noStrike">
                <a:solidFill>
                  <a:srgbClr val="7d9133"/>
                </a:solidFill>
                <a:latin typeface="Arial"/>
              </a:rPr>
              <a:t> В настоящее время ученики проводят много времени в школе, поэтому помимо демографических процессов, происходящих в православных семьях учащихся необходимо узнать, чем дети увлекаются, </a:t>
            </a:r>
            <a:br>
              <a:rPr sz="2400"/>
            </a:br>
            <a:r>
              <a:rPr b="0" lang="en-US" sz="2400" spc="-1" strike="noStrike">
                <a:solidFill>
                  <a:srgbClr val="7d9133"/>
                </a:solidFill>
                <a:latin typeface="Arial"/>
              </a:rPr>
              <a:t>кем мечтают стать, кто они.</a:t>
            </a:r>
            <a:r>
              <a:rPr b="0" lang="en-US" sz="4400" spc="-1" strike="noStrike">
                <a:solidFill>
                  <a:srgbClr val="7d91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446640"/>
            <a:ext cx="8229600" cy="26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Verdana"/>
              </a:rPr>
              <a:t>Объект исследования:</a:t>
            </a:r>
            <a:r>
              <a:rPr b="0" lang="en-US" sz="2800" spc="-1" strike="noStrike">
                <a:solidFill>
                  <a:srgbClr val="7d9133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учащиеся школ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9133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7d9133"/>
                </a:solidFill>
                <a:latin typeface="Verdana"/>
              </a:rPr>
              <a:t>Методы:</a:t>
            </a:r>
            <a:r>
              <a:rPr b="0" lang="en-US" sz="2800" spc="-1" strike="noStrike">
                <a:solidFill>
                  <a:srgbClr val="7d91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сравнительный анализ литератур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метод анкетирова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a60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- статистическ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d9133"/>
                </a:solidFill>
                <a:latin typeface="Arial"/>
              </a:rPr>
              <a:t>Этапы работы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Подготовитель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Обработка анк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9133"/>
                </a:solidFill>
                <a:latin typeface="Verdana"/>
              </a:rPr>
              <a:t>Составление отче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4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5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70" name="Объект 3" descr=""/>
          <p:cNvPicPr/>
          <p:nvPr/>
        </p:nvPicPr>
        <p:blipFill>
          <a:blip r:embed="rId3"/>
          <a:stretch/>
        </p:blipFill>
        <p:spPr>
          <a:xfrm>
            <a:off x="762120" y="386712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d9133"/>
                </a:solidFill>
                <a:latin typeface="Arial"/>
              </a:rPr>
              <a:t>Фотографии с анкетировния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Объект 3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994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ba202"/>
                </a:solidFill>
                <a:latin typeface="Arial"/>
              </a:rPr>
              <a:t>Динамика численности родившихся  и умерших в России в период с 1991 по 2008 гг, человек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9133"/>
                </a:solidFill>
                <a:latin typeface="Arial"/>
              </a:rPr>
              <a:t>Динамика естественного прироста населения России в период с 1950 по 2008 гг.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06360" y="1600200"/>
            <a:ext cx="6731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d9133"/>
                </a:solidFill>
                <a:latin typeface="Arial"/>
              </a:rPr>
              <a:t>Карта убыли/прироста населения регионов России в 2012 год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86000" y="1600200"/>
            <a:ext cx="637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risa Y. Solov`eva</dc:creator>
  <dc:description/>
  <dc:language>en-US</dc:language>
  <cp:lastModifiedBy>imakshaeva</cp:lastModifiedBy>
  <dcterms:modified xsi:type="dcterms:W3CDTF">2013-12-17T09:11:3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