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19.png" ContentType="image/png"/>
  <Override PartName="/ppt/media/image24.jpeg" ContentType="image/jpeg"/>
  <Override PartName="/ppt/media/image27.gif" ContentType="image/gif"/>
  <Override PartName="/ppt/media/image22.jpeg" ContentType="image/jpeg"/>
  <Override PartName="/ppt/media/image21.jpeg" ContentType="image/jpeg"/>
  <Override PartName="/ppt/media/image6.gif" ContentType="image/gif"/>
  <Override PartName="/ppt/media/chimes.wav" ContentType="audio/x-wav"/>
  <Override PartName="/ppt/media/image18.jpeg" ContentType="image/jpeg"/>
  <Override PartName="/ppt/media/image5.jpeg" ContentType="image/jpeg"/>
  <Override PartName="/ppt/media/image32.gif" ContentType="image/gif"/>
  <Override PartName="/ppt/media/image1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7.gif" ContentType="image/gif"/>
  <Override PartName="/ppt/media/image29.jpeg" ContentType="image/jpeg"/>
  <Override PartName="/ppt/media/image37.gif" ContentType="image/gif"/>
  <Override PartName="/ppt/media/image30.jpeg" ContentType="image/jpeg"/>
  <Override PartName="/ppt/media/image33.jpeg" ContentType="image/jpeg"/>
  <Override PartName="/ppt/media/image34.jpeg" ContentType="image/jpeg"/>
  <Override PartName="/ppt/media/image3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23.png" ContentType="image/png"/>
  <Override PartName="/ppt/media/image14.jpeg" ContentType="image/jpeg"/>
  <Override PartName="/ppt/media/image28.gif" ContentType="image/gif"/>
  <Override PartName="/ppt/media/image15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dt" idx="39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8C0AF-C2DA-4C01-B9C8-25987556EB3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6ADEF1-1F1F-47F1-819A-27BD293756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474F7-DA12-428A-8AA9-859187EEDB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1EC701-5AB2-48FF-A148-98D5F0DED3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1FA82-EC34-4A05-B809-2676C318E3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8078F-5A7C-4E52-86DC-FBC7CD0BA5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599B0-69A1-49D8-B1E1-6073FBE703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978D8A-269F-42B1-A5C6-389C9676EC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B0881A-F0DE-4D93-978F-365D4AA7F1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B6E74-EE5D-48BF-8DED-AE9D2C8ABB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7DDFE-906C-4C8D-BBA4-4BD3D4976B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08F77-921E-4357-960B-0FE308E8BC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E9B3E-2015-4357-AF89-01996C0143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22FCF-13C2-4666-98AA-AE6CFFD1E3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9FA65-BD7B-49F5-8871-CE3B0FE1FE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6AFB8-6490-4A71-AD16-66B8C5D014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F9DFB-B58D-4309-B98A-314B766AAB7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8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96081-C5BC-433D-8B20-3026BC09FA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AEFCF3-8788-4416-9D02-354BCAB77F4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17DCB-AB48-45FC-BDDA-70756952A00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2F289-40EE-4192-9576-499FB8552BC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8C7D1-FC0D-49F5-A788-184ADF64CF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A3A2F-8F9C-49ED-9174-1479D269E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CFF97-810F-4AE7-9462-C9C078B2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DE1EDE-B855-4FFC-A7D9-0EDD0F35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1C665-D3C9-494A-8B28-49EC879A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D8399-1BDB-4D6B-96D5-3779EDDD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D0BF0-F17C-42EF-A036-23AA2228A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1B0EA-8270-4A39-B7E1-0E87629F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5B689-2AD2-49F9-BA91-20D4A4A49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93168-7791-48B6-B56A-AE811180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CBF53-A076-4E49-8678-83BC5F8AAC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410F34-DEE5-432C-8EB7-E1266BD4C62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946A5-3AEB-41D5-B5B9-CC101080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4664A-9699-41C1-956A-3EF57C8E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0B0AF3-7BC0-43E0-96B6-50C4828A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91434C-A712-4B03-9FAE-B66C0F3C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19BD7-363D-4C5C-BB0D-095EECB3B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624FD4-CC04-4BB6-B13D-E7292362B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300B7C-21FF-4E63-8743-425DFE39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16BCBA-FE76-4834-AAC3-5B1BA659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98BB0D-1B80-40FB-8A49-BD061639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DAD0AA-8A5C-42FC-BB0C-0E33DF29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9F82A6-0D0A-4016-9010-4304CAEA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90A3-E4C7-4D35-93AF-0B50CE6DA11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52EC03-D77D-4171-94DC-D40DEAF850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5E0BFF-AD6D-45C8-95BF-F1EEE2ECBD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13052D3-8E98-4C6F-8624-8980ECDF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25F633-C991-4FB5-A8A2-F440A810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2E1B5E-DC62-4E05-8110-162D108B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AA53FF9-6980-4141-A76C-CF24AA2DA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3ADF693-B7FE-429E-B7A1-4475CFC4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9FEF38-C833-4DFC-B33B-6A690B51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1C8CF7-8E28-46D8-AF1E-E8D3B744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D4F3D4-05B8-4F24-B5AF-DC412C94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2B9D0-8F55-4547-9BB1-5CF065A8DC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A44FF3-4603-4F68-A720-B5541685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512E3A-3D7B-40AC-85BE-CE57F85D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C94662-8F82-4122-8DF2-88BB14E94E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B5852-02F5-464C-8D6F-C29BB3EE1C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11E7B-DDEF-4978-A54D-9FD0E15A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B9CC1-66E6-44A1-B016-FB23C989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CCA60-7E39-4EE0-BED1-D6102CCC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FF3570-6CC8-42B0-9687-03596051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C11D-4E4D-4C46-BB96-0FCCBD03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5E9B6-4C9E-4B93-8D89-3B736259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6880B-EB25-4365-BE42-4E239B58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267C6-7506-49C4-8ED6-FDE913F3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4D17A-B162-44AE-ACA5-E8D34634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3EDD1-D607-4C48-B49A-4029A223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39B8F-488C-4979-80F7-A99DB4F8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552D48-1E17-41C5-A21A-2D002A83F5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5BC8CE-9447-4AF0-B754-E203DCF315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C9C3AD-0440-40F9-8C34-D130400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45F486-CE41-4E15-BA2C-7E2A32A0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A39BB0-0836-4571-809F-3A2ABBE1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AE2409-2DE3-4AAB-BEEB-767ABA5A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77F28-CF30-4F56-BDF6-3A8DBD6C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2213894-22D0-450E-82E8-EAEB921C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47936E-F7C2-4BD4-B95D-7EC8CB69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134318-E235-4088-ACA1-7EE57E10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1D23A7-5527-4E28-A794-A417CBAD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B9A89B-EBD8-4C29-832B-AF68E2BD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6082F8-54B1-47DF-84A4-49FED524D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9DE1A1-D975-42E9-969D-BD014AE152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DC3C68-B6FC-48C9-8586-273EBE91D6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1AD648-7313-4558-A4EA-6206902C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15A79D-7FB6-441D-9545-887426558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E7FCB-4954-45AD-8B8E-5C20D6037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7F7E49-206A-403E-ACB6-809F5882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AD4065-668B-457E-8F19-917FC153A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C8712D-8264-4A9D-9C4F-656156666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554C65-27A9-4BD7-A378-028F5FE5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7AB8E7-1B4B-4F5C-94AC-FD36686B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A6A487-102B-476D-B71C-C1B9A545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E92EF1-6269-48BB-9752-5747A7B88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74C0F-3573-4F7E-B3EC-D5236F86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653B4E-7A03-49B9-8CC6-B0B058ABAE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D8F9B-3534-4743-AA60-894C9FACEF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23D36-0818-4C9C-A4C2-6BCEB14B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31849-EBC8-47B5-BD48-5EC0A429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CDFD1-F7FC-4B1C-898A-0E453B5F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431BD-5874-4416-96A2-C374EBEB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F2D0F-AF1F-49A7-A953-3040E042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41C1C-F21F-4D87-B5D7-1D8495C43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637C7C-D72D-4A36-856E-9406C986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02886-59D9-4F2D-9C69-01E8AB6F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89AA32-9793-4CC6-8935-80629681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E9CCB1-F960-4BBB-99B1-698CD3D0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C0E770-5207-4D6C-9F2C-63D9AAD8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BE998-49BD-474E-8A72-8F00E4125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836572-F0DD-4E82-947A-33E2AF2088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3AB47A-E786-4FE7-826F-67784E424F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15E64A0-28F2-4AA0-B863-FF1BC5768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1543F8B-E3A3-415B-871F-B257B48C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6F246C-BAD4-4995-9257-99D8AAEC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3721D1-F9A1-430C-8655-72B231797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3FBEE8D-026D-41A1-9CA2-7FA39AFF0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867156-8132-4470-8993-81407C6B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88B1032-AC54-4A0B-808A-6C41C809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481293-5655-43E0-9847-B5BE759D6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64670C-BA19-4052-B357-9088C956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AD324C-8EEB-49AA-ACC5-6EC5C3AB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C3B5E9E-CF32-4CFA-A330-7D6BADCD1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3DDC35-50BD-479F-92CB-CDA8A67443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6FEEBE-60A6-49E6-A6B7-EEF6075231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616D8-A588-4D28-95E2-E3CEF751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634E01-89D8-47F6-8C28-1281BD77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C5F236-10BB-4CC8-B785-72CE044A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7D1C1C-874E-4EC2-A5FE-22CC8F288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AC3299-D5F1-490E-B017-E07A5808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C8ACF8-CED6-48D9-8D26-6884A6CF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21A37-40A9-437B-82CE-EDA7CAD6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A02576-A960-4134-976E-E920E8E16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1C109C-E43B-4100-97C2-900A0485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91AECE-7FD0-4EF9-ABBB-82B95980B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6B847F-D4F1-4915-B003-1753CB0B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C3F7C-1BFA-4804-BAFB-EC4F0F25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EFC354-5094-483A-BF78-3909084A20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305802-235B-4C03-8F5B-05DA5113CB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2F49CD-A146-437B-A6A2-6BA688CB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81F7AE-6C06-4350-99A1-06E28365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AC0F3A-0E8B-423B-9D47-82F2E555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71CF1-0207-4445-8F70-8C03D9D9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00DC4-D2EE-41FD-95DE-EF4C1A2C7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D77E1-819E-4205-B13A-AA131211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B4E9F9-E13D-487F-B846-C11E5D69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96425-93A9-427D-A083-1D8DE130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9177C-B5B6-4FC6-BF48-619DED37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E4ABE7-FC5E-4224-9E8E-617C025F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9BB5A-FEFC-4211-9CEC-1E8973D7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A2789D-CBB7-4EA9-9C9E-ACB5E4D924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CCC6328-CB37-425D-A30A-C4ECAFA498B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C17B55A-7017-4A6A-AB05-46D6AA72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363FFA8-1DF7-41D4-9ED1-3511AE20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2DFC32-DC4B-44AC-98D5-638C61AB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7ACCBB4-044F-4D6C-A628-C7F565CD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D97F829-D91F-4077-A8AD-29E90CBB1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049184E-72BB-4F68-BC2C-CD491AFF7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B14DE82-8C2A-4751-9C1A-BAF004EA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49049C2-4F50-4EAF-A3BA-0C9DCDA4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391E1B6-B649-4079-A056-5D388D2A0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9F00BF-B29F-4E17-B33D-6D6331EA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3FF16A3-8714-4BD6-8A4F-6DB34B41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445D722-EEA3-4901-9726-BD01B45DB1E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7D1F7E-F772-4A52-8D57-39DE4103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647E89-E2D4-4359-9969-46762DA6F7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D6A5-EBD4-4BED-85B1-8BE4EAEE40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4CD4-C28C-4690-8A63-4B783846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98FC1-1C79-480D-A52F-1650161C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4BAF2-1ED7-43A5-8490-6AB2EBF2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22784-6BD3-40B9-82C3-5B67F6F85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E5A14-F24D-4F68-BC7F-6DAF43E3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C150-53EE-4443-8AEA-23273169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27E7-0D08-4A48-B3B9-580764DE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B7836-2C6A-4DEF-BEFA-CDD3D1B4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D724-7F88-4EF4-8EDF-3BE794F5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C95F-FB0A-432B-B661-64356B5F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7561-C2E0-4597-8843-4184DE4B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500C5-C315-4C4C-A83F-CD72366483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1C88F6-1703-463E-9271-4663DF3915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6ACF6E-300F-44B3-BE8E-9E5FD252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8E1F4-67DC-4DB8-9FB9-7C613A1D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67609-78F1-4B8B-89C1-5F9BB20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D5641-1A7A-455D-9046-4206F233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267970-8F0F-4B64-AF9B-463B8E4E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701C5-E84F-47FE-9183-F2658A632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C8988-8DCA-4CD5-945F-BD6CC2FC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8CD78-5155-45AE-8A6E-33375745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439B3-5FC0-4B22-B699-87CA8F65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CE726D-BC4A-4706-8270-515CE36C4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E167FD-74E2-419D-8CEF-63636DE5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E3394-DF66-4114-82E0-C4B4180A57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E9522A-E545-49CA-9372-1E375C6DE8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6F4B2-4E3C-41C2-8A71-9C8E8993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713AE5-B75A-43F7-8E08-227DBCDE5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8382ED-6CEF-48A6-B206-385CE8EEA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B3BC5C-FB7E-4A66-B1C4-F889A4A2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E7DF1E-69E3-47E5-91B6-702B606D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62121-AEE9-4790-9FFA-ECE3F1324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D4491C-7DF7-48D0-A695-1EAD1BB2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9BDE74-796A-4F53-BEF4-06F970D11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2C935A-5794-4CCD-AAB2-95F34161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E6A7A8-10DC-4FE1-80E7-A0230E07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AB2A0-A240-4C54-B5BA-E83B4F71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1A4BF-8DD9-4BE1-85D4-C04932F81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2AB05A-D3A6-48F6-8DB6-53E1D01384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E89B-3272-4E8F-8150-B6084AE00B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1536-215C-438D-8B7D-316741E9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A0B2F-E04C-401A-93F3-BC561AA8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95EF-5E5F-4A9C-A4D0-4F848A1C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53A81-3045-429D-A9AF-B35FAB52D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83863-5127-4D80-A800-5A4240E8A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A457A-F32A-427D-A490-68905A6B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9182A-CB19-4D34-893C-88C752F6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2751-FE62-4366-9CAA-A7043641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E2412-02F9-4016-8BE6-BA19AAE5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15119-DE6C-40FA-B361-8D5F181A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5F926-DBA4-4875-B106-0EB2A9D6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8DEF2-3DFD-4180-A68D-F5C309FD48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9B1B7D-BBE7-4E6E-B0C7-97DC617A07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C28134-6E7B-4295-81BC-5D38F1A7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5DFF5F-AE18-48E0-93EE-A6A6E32B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D2AFB6-213D-473D-9DFB-35F29441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DF8D63-724C-41C7-80C9-44D81C60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0BEB6-E55D-4103-8F50-27BB292A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F926A5-E32C-40F4-A9AD-C96A72A3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9A246-36B1-48EA-AA0D-9363A920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96618D-8671-4B2F-8F09-B9D0ED97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4F98CA-91B1-4320-8462-C1BFE4D6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AFDB7-BF62-450A-86D0-1D6DD023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A39D65-339F-4E66-B560-54A50590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3BD14B-C36C-4A34-80A9-C0F92286BE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2121AC-0622-46C9-808E-D2A49F3329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F11B45-1AD8-4F2C-B956-066BFF65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1617BA-DA69-4EB8-B4B6-22D14BB1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4E498A-1BC6-46B4-BCC9-58E03D14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A11C2C2-FBF0-4961-92F4-FAD09021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B633-50B4-4E94-82B3-754C6E55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0DDCA6-474E-422C-93BF-EE2E47AD8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93D7A1-68F9-46E9-A0E3-8961EDCCA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B5B66A-983E-439C-A1E2-A37864A4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AA7283-85ED-4C3E-95FB-FA898DEE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527BD2-CA56-45A1-947B-410D750B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364B7A-015B-4A45-A5ED-81AC9885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D4F5AF-B409-4097-AD6C-80E1CCA37A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7606C-E58A-4103-BE69-5F0FAA6B89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B323A-2533-4CA6-96D6-C8359B62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F3B52-352B-41B7-AA45-76FD166E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E8F458-0B85-4527-B3DE-A800D474340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417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C0A4A4-A0E0-4AC9-BD1E-F82203FD084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465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2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FDB9BB-9C4B-4D7E-9F1B-DF325643B1F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D78644-641D-406F-9A47-1ABEA5EE2E17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6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2C55EE-ECC8-47AF-BF40-E5D524265A9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609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2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2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194832-4713-4557-8D50-154A2528550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657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2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sldNum" idx="3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256377-32CB-4CF6-B519-F13A58577B81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705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7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3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321B62-63E8-46EB-A88D-D0D74C5213F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75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3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A12CBE-871D-4D61-9778-24C061B83EE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80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3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sldNum" idx="3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8A4DB35-87B4-437A-AC49-3BF5277648D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849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1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3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sldNum" idx="3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926859-ED31-40A0-942B-7964C54E7990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200" y="144432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a23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6B2E0E-97CF-4FB9-92D4-8E785CCBED76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200" y="2844360"/>
              <a:ext cx="14652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a23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9E4023E-6DBF-43CC-A775-43E662692D31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C38078-FA45-40C8-BEAD-0E6970EE9723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651389C-AAA6-47D2-B2AD-1663DD0E107A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530901-126D-4EBC-86D8-A5E185FB122D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1760" y="1066320"/>
              <a:ext cx="4570200" cy="45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4140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3D2044B-F9D4-4CD6-BD23-8AE0A98D97D2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2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0AF193-5A98-4596-8D15-59A56A2E773F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69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4DC09E-C8DC-4C32-A699-0032614841F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3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image" Target="../media/image3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57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1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1"/>
          <p:cNvSpPr/>
          <p:nvPr/>
        </p:nvSpPr>
        <p:spPr>
          <a:xfrm>
            <a:off x="1258920" y="1765440"/>
            <a:ext cx="7407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c22ea4"/>
                </a:solidFill>
                <a:latin typeface="Times New Roman"/>
              </a:rPr>
              <a:t>Поговорим о дружб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1673280" y="3419640"/>
            <a:ext cx="2467080" cy="19792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" descr=""/>
          <p:cNvPicPr/>
          <p:nvPr/>
        </p:nvPicPr>
        <p:blipFill>
          <a:blip r:embed="rId2"/>
          <a:stretch/>
        </p:blipFill>
        <p:spPr>
          <a:xfrm>
            <a:off x="6840360" y="3600360"/>
            <a:ext cx="2049480" cy="1979640"/>
          </a:xfrm>
          <a:prstGeom prst="rect">
            <a:avLst/>
          </a:prstGeom>
          <a:ln w="0">
            <a:noFill/>
          </a:ln>
        </p:spPr>
      </p:pic>
      <p:sp>
        <p:nvSpPr>
          <p:cNvPr id="907" name="Text Box 4"/>
          <p:cNvSpPr/>
          <p:nvPr/>
        </p:nvSpPr>
        <p:spPr>
          <a:xfrm>
            <a:off x="1162080" y="2948040"/>
            <a:ext cx="181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-360" y="106200"/>
            <a:ext cx="91803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т герой произносил : «Я самый больной в мире человек!» Ему дали лекарство, а он в ответ произнёс : «Друг спас жизнь друга!» О ком идёт речь? Какое лекарство дали больному?</a:t>
            </a:r>
            <a:endParaRPr b="0" lang="en-US" sz="24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31" name="Picture 2" descr=""/>
          <p:cNvPicPr/>
          <p:nvPr/>
        </p:nvPicPr>
        <p:blipFill>
          <a:blip r:embed="rId1"/>
          <a:stretch/>
        </p:blipFill>
        <p:spPr>
          <a:xfrm>
            <a:off x="684360" y="1353960"/>
            <a:ext cx="8280360" cy="550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7552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акие два друга лежали на песке и пели песню о солнышке? Назовите их.</a:t>
            </a:r>
            <a:endParaRPr b="0" lang="en-US" sz="20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33" name="Picture 2" descr=""/>
          <p:cNvPicPr/>
          <p:nvPr/>
        </p:nvPicPr>
        <p:blipFill>
          <a:blip r:embed="rId1"/>
          <a:stretch/>
        </p:blipFill>
        <p:spPr>
          <a:xfrm>
            <a:off x="539640" y="900000"/>
            <a:ext cx="8280360" cy="575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344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 девочки с голубыми волосами было много друзей, но один был рядом всегда. Кто он ?</a:t>
            </a:r>
            <a:endParaRPr b="0" lang="en-US" sz="28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8640720" cy="59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0" y="-179640"/>
            <a:ext cx="91440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Кто первым из животных показал пример обитателям  джунглей в том, что с человеческим детёнышем можно дружить? Назовите друзей Маугли.</a:t>
            </a:r>
            <a:endParaRPr b="0" lang="en-US" sz="26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37" name="Picture 2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45964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4960" y="9648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22ea4"/>
                </a:solidFill>
                <a:latin typeface="DejaVu Sans Condensed"/>
              </a:rPr>
              <a:t>Д Р У Ж Б А</a:t>
            </a:r>
            <a:endParaRPr b="0" lang="en-US" sz="48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079280" y="1447560"/>
            <a:ext cx="785484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Есть ли у вас друзья- животные? Какие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ем отличается дружба с животными от дружбы с мальчиками или девочками?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то самого хорошего в дружбе с животными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1" descr=""/>
          <p:cNvPicPr/>
          <p:nvPr/>
        </p:nvPicPr>
        <p:blipFill>
          <a:blip r:embed="rId1"/>
          <a:stretch/>
        </p:blipFill>
        <p:spPr>
          <a:xfrm>
            <a:off x="3780000" y="4508640"/>
            <a:ext cx="2232000" cy="2089080"/>
          </a:xfrm>
          <a:prstGeom prst="rect">
            <a:avLst/>
          </a:prstGeom>
          <a:ln w="0">
            <a:noFill/>
          </a:ln>
        </p:spPr>
      </p:pic>
      <p:sp>
        <p:nvSpPr>
          <p:cNvPr id="941" name="Text Box 2"/>
          <p:cNvSpPr/>
          <p:nvPr/>
        </p:nvSpPr>
        <p:spPr>
          <a:xfrm>
            <a:off x="1258920" y="404640"/>
            <a:ext cx="612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22ea4"/>
                </a:solidFill>
                <a:latin typeface="Corbel"/>
              </a:rPr>
              <a:t>Животные </a:t>
            </a:r>
            <a:r>
              <a:rPr b="1" i="1" lang="ru-RU" sz="3600" spc="-1" strike="noStrike">
                <a:solidFill>
                  <a:srgbClr val="c22ea4"/>
                </a:solidFill>
                <a:latin typeface="Arial"/>
              </a:rPr>
              <a:t>- </a:t>
            </a:r>
            <a:r>
              <a:rPr b="1" i="1" lang="ru-RU" sz="3600" spc="-1" strike="noStrike">
                <a:solidFill>
                  <a:srgbClr val="c22ea4"/>
                </a:solidFill>
                <a:latin typeface="Corbel"/>
              </a:rPr>
              <a:t>наши друз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1116000" y="1341360"/>
            <a:ext cx="61927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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Дружба — это созвучие ду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в соединённости судеб.</a:t>
            </a: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Picture 4" descr=""/>
          <p:cNvPicPr/>
          <p:nvPr/>
        </p:nvPicPr>
        <p:blipFill>
          <a:blip r:embed="rId2"/>
          <a:stretch/>
        </p:blipFill>
        <p:spPr>
          <a:xfrm>
            <a:off x="7500960" y="214200"/>
            <a:ext cx="1428840" cy="1568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5" descr=""/>
          <p:cNvPicPr/>
          <p:nvPr/>
        </p:nvPicPr>
        <p:blipFill>
          <a:blip r:embed="rId3"/>
          <a:stretch/>
        </p:blipFill>
        <p:spPr>
          <a:xfrm>
            <a:off x="4788000" y="2781360"/>
            <a:ext cx="1928880" cy="1422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6" descr=""/>
          <p:cNvPicPr/>
          <p:nvPr/>
        </p:nvPicPr>
        <p:blipFill>
          <a:blip r:embed="rId4"/>
          <a:stretch/>
        </p:blipFill>
        <p:spPr>
          <a:xfrm>
            <a:off x="6143760" y="4572000"/>
            <a:ext cx="2636640" cy="20448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7" descr=""/>
          <p:cNvPicPr/>
          <p:nvPr/>
        </p:nvPicPr>
        <p:blipFill>
          <a:blip r:embed="rId5"/>
          <a:stretch/>
        </p:blipFill>
        <p:spPr>
          <a:xfrm>
            <a:off x="1071720" y="4643280"/>
            <a:ext cx="2543040" cy="19828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8" descr=""/>
          <p:cNvPicPr/>
          <p:nvPr/>
        </p:nvPicPr>
        <p:blipFill>
          <a:blip r:embed="rId6"/>
          <a:stretch/>
        </p:blipFill>
        <p:spPr>
          <a:xfrm>
            <a:off x="6786720" y="2071800"/>
            <a:ext cx="2143080" cy="2065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9" descr=""/>
          <p:cNvPicPr/>
          <p:nvPr/>
        </p:nvPicPr>
        <p:blipFill>
          <a:blip r:embed="rId7"/>
          <a:stretch/>
        </p:blipFill>
        <p:spPr>
          <a:xfrm>
            <a:off x="1143000" y="2714760"/>
            <a:ext cx="2000160" cy="1436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0" descr=""/>
          <p:cNvPicPr/>
          <p:nvPr/>
        </p:nvPicPr>
        <p:blipFill>
          <a:blip r:embed="rId8"/>
          <a:stretch/>
        </p:blipFill>
        <p:spPr>
          <a:xfrm>
            <a:off x="3357720" y="2500200"/>
            <a:ext cx="111276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9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1"/>
          <p:cNvSpPr/>
          <p:nvPr/>
        </p:nvSpPr>
        <p:spPr>
          <a:xfrm>
            <a:off x="1619280" y="0"/>
            <a:ext cx="683568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 в песнях о дружбе поётся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Я иду и пою обо всём хорошем.                                                                             И улыбку свою я дарю прохож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Тем, кто дружен, не страшны тревоги!                                                      Нам любые дороги дорог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Если добрый ты, то всегда легко,                                                                А когда наоборот – трудно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Жил на свете добрый жук, старый добрый друг.                                       Никогда он не ворчал, не кричал, не пищал,                                          Громко крыльями трещал, строго ссоры запрещ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С голубого ручейка начинается река,                                                                              Ну а дружба начинается с улыб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Если с другом вышел в путь - веселей дорог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Друг в беде не бросит, лишнего не спросит.                                                     Вот, что значит настоящий друг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Picture 2" descr=""/>
          <p:cNvPicPr/>
          <p:nvPr/>
        </p:nvPicPr>
        <p:blipFill>
          <a:blip r:embed="rId1"/>
          <a:stretch/>
        </p:blipFill>
        <p:spPr>
          <a:xfrm>
            <a:off x="179280" y="214200"/>
            <a:ext cx="1260720" cy="14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7559640" y="360360"/>
            <a:ext cx="1440000" cy="16207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3"/>
          <a:stretch/>
        </p:blipFill>
        <p:spPr>
          <a:xfrm>
            <a:off x="7429680" y="5143680"/>
            <a:ext cx="1250640" cy="1223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1" descr=""/>
          <p:cNvPicPr/>
          <p:nvPr/>
        </p:nvPicPr>
        <p:blipFill>
          <a:blip r:embed="rId1"/>
          <a:stretch/>
        </p:blipFill>
        <p:spPr>
          <a:xfrm>
            <a:off x="6659640" y="2160720"/>
            <a:ext cx="2484360" cy="2879640"/>
          </a:xfrm>
          <a:prstGeom prst="rect">
            <a:avLst/>
          </a:prstGeom>
          <a:ln w="0">
            <a:noFill/>
          </a:ln>
        </p:spPr>
      </p:pic>
      <p:sp>
        <p:nvSpPr>
          <p:cNvPr id="955" name="Text Box 2"/>
          <p:cNvSpPr/>
          <p:nvPr/>
        </p:nvSpPr>
        <p:spPr>
          <a:xfrm>
            <a:off x="1434960" y="189000"/>
            <a:ext cx="695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  </a:t>
            </a:r>
            <a:r>
              <a:rPr b="1" lang="ru-RU" sz="4000" spc="-1" strike="noStrike">
                <a:solidFill>
                  <a:srgbClr val="c22ea4"/>
                </a:solidFill>
                <a:latin typeface="Corbel"/>
              </a:rPr>
              <a:t>Ребята, </a:t>
            </a:r>
            <a:br>
              <a:rPr sz="4000"/>
            </a:br>
            <a:r>
              <a:rPr b="1" lang="en-US" sz="4000" spc="-1" strike="noStrike">
                <a:solidFill>
                  <a:srgbClr val="c22ea4"/>
                </a:solidFill>
                <a:latin typeface="Corbel"/>
              </a:rPr>
              <a:t> </a:t>
            </a:r>
            <a:r>
              <a:rPr b="1" lang="ru-RU" sz="4000" spc="-1" strike="noStrike">
                <a:solidFill>
                  <a:srgbClr val="c22ea4"/>
                </a:solidFill>
                <a:latin typeface="Corbel"/>
              </a:rPr>
              <a:t>давайте жить дружно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3"/>
          <p:cNvSpPr/>
          <p:nvPr/>
        </p:nvSpPr>
        <p:spPr>
          <a:xfrm>
            <a:off x="360360" y="1628640"/>
            <a:ext cx="878364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 2" charset="2"/>
              <a:buChar char="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то любит лгать, того нельзя в друзья брать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 2" charset="2"/>
              <a:buChar char="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Лучше честный враг,   ч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 2" charset="2"/>
              <a:buChar char="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оварный дру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 2" charset="2"/>
              <a:buChar char="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 бойся врага умног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ойся друга глупо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4" descr=""/>
          <p:cNvPicPr/>
          <p:nvPr/>
        </p:nvPicPr>
        <p:blipFill>
          <a:blip r:embed="rId2"/>
          <a:stretch/>
        </p:blipFill>
        <p:spPr>
          <a:xfrm>
            <a:off x="1143000" y="500040"/>
            <a:ext cx="8571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c22ea4"/>
                </a:solidFill>
                <a:latin typeface="Corbel"/>
              </a:rPr>
              <a:t>       </a:t>
            </a:r>
            <a:r>
              <a:rPr b="1" lang="ru-RU" sz="4300" spc="-1" strike="noStrike">
                <a:solidFill>
                  <a:srgbClr val="c22ea4"/>
                </a:solidFill>
                <a:latin typeface="Arial"/>
              </a:rPr>
              <a:t>    </a:t>
            </a:r>
            <a:r>
              <a:rPr b="1" lang="ru-RU" sz="4300" spc="-1" strike="noStrike">
                <a:solidFill>
                  <a:srgbClr val="c22ea4"/>
                </a:solidFill>
                <a:latin typeface="Corbel"/>
              </a:rPr>
              <a:t> </a:t>
            </a:r>
            <a:r>
              <a:rPr b="1" lang="ru-RU" sz="4300" spc="-1" strike="noStrike" u="sng">
                <a:solidFill>
                  <a:srgbClr val="c22ea4"/>
                </a:solidFill>
                <a:uFillTx/>
                <a:latin typeface="Corbel"/>
              </a:rPr>
              <a:t>Правила дружбы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2"/>
          <p:cNvSpPr/>
          <p:nvPr/>
        </p:nvSpPr>
        <p:spPr>
          <a:xfrm>
            <a:off x="1079640" y="1260360"/>
            <a:ext cx="785484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282600"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Не ссор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Уступ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Не бояться просить прощения,              если обидел д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ыть вежлив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Не зл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Не жаднич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Помогать др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Быть чест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ыть вниматель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0" name="Picture 3" descr=""/>
          <p:cNvPicPr/>
          <p:nvPr/>
        </p:nvPicPr>
        <p:blipFill>
          <a:blip r:embed="rId1"/>
          <a:stretch/>
        </p:blipFill>
        <p:spPr>
          <a:xfrm>
            <a:off x="1214280" y="0"/>
            <a:ext cx="1141560" cy="15001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"/>
          <p:cNvPicPr/>
          <p:nvPr/>
        </p:nvPicPr>
        <p:blipFill>
          <a:blip r:embed="rId2"/>
          <a:srcRect l="0" t="17975" r="1360" b="0"/>
          <a:stretch/>
        </p:blipFill>
        <p:spPr>
          <a:xfrm>
            <a:off x="6659640" y="1268280"/>
            <a:ext cx="2071440" cy="130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5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642960" cy="603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6" descr=""/>
          <p:cNvPicPr/>
          <p:nvPr/>
        </p:nvPicPr>
        <p:blipFill>
          <a:blip r:embed="rId4"/>
          <a:stretch/>
        </p:blipFill>
        <p:spPr>
          <a:xfrm>
            <a:off x="7093080" y="4076640"/>
            <a:ext cx="1000080" cy="2282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" descr=""/>
          <p:cNvPicPr/>
          <p:nvPr/>
        </p:nvPicPr>
        <p:blipFill>
          <a:blip r:embed="rId1"/>
          <a:stretch/>
        </p:blipFill>
        <p:spPr>
          <a:xfrm>
            <a:off x="179280" y="3143160"/>
            <a:ext cx="3060720" cy="302904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2"/>
          <p:cNvSpPr/>
          <p:nvPr/>
        </p:nvSpPr>
        <p:spPr>
          <a:xfrm>
            <a:off x="2195640" y="260280"/>
            <a:ext cx="674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22ea4"/>
                </a:solidFill>
                <a:latin typeface="Corbel"/>
              </a:rPr>
              <a:t>Теперь </a:t>
            </a:r>
            <a:r>
              <a:rPr b="1" lang="ru-RU" sz="3200" spc="-1" strike="noStrike">
                <a:solidFill>
                  <a:srgbClr val="c22ea4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c22ea4"/>
                </a:solidFill>
                <a:latin typeface="Corbel"/>
              </a:rPr>
              <a:t>ы знае</a:t>
            </a:r>
            <a:r>
              <a:rPr b="1" lang="ru-RU" sz="3200" spc="-1" strike="noStrike">
                <a:solidFill>
                  <a:srgbClr val="c22ea4"/>
                </a:solidFill>
                <a:latin typeface="Arial"/>
              </a:rPr>
              <a:t>те</a:t>
            </a:r>
            <a:r>
              <a:rPr b="1" lang="ru-RU" sz="3200" spc="-1" strike="noStrike">
                <a:solidFill>
                  <a:srgbClr val="c22ea4"/>
                </a:solidFill>
                <a:latin typeface="Corbel"/>
              </a:rPr>
              <a:t> о дружбе всё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3"/>
          <p:cNvSpPr/>
          <p:nvPr/>
        </p:nvSpPr>
        <p:spPr>
          <a:xfrm>
            <a:off x="179280" y="1500120"/>
            <a:ext cx="89647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рузей находит тот,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то сам встречает  их улыб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дачи 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 поисках настоящего друг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4" descr=""/>
          <p:cNvPicPr/>
          <p:nvPr/>
        </p:nvPicPr>
        <p:blipFill>
          <a:blip r:embed="rId2"/>
          <a:stretch/>
        </p:blipFill>
        <p:spPr>
          <a:xfrm>
            <a:off x="3995640" y="4319640"/>
            <a:ext cx="2484360" cy="2340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5" descr=""/>
          <p:cNvPicPr/>
          <p:nvPr/>
        </p:nvPicPr>
        <p:blipFill>
          <a:blip r:embed="rId3"/>
          <a:stretch/>
        </p:blipFill>
        <p:spPr>
          <a:xfrm>
            <a:off x="7380360" y="1125360"/>
            <a:ext cx="1589040" cy="2297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6" descr=""/>
          <p:cNvPicPr/>
          <p:nvPr/>
        </p:nvPicPr>
        <p:blipFill>
          <a:blip r:embed="rId4"/>
          <a:stretch/>
        </p:blipFill>
        <p:spPr>
          <a:xfrm>
            <a:off x="7380360" y="521964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7" descr=""/>
          <p:cNvPicPr/>
          <p:nvPr/>
        </p:nvPicPr>
        <p:blipFill>
          <a:blip r:embed="rId5"/>
          <a:stretch/>
        </p:blipFill>
        <p:spPr>
          <a:xfrm>
            <a:off x="1042920" y="476280"/>
            <a:ext cx="8859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6" name="chimes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34960" y="9648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900" spc="-1" strike="noStrike">
                <a:solidFill>
                  <a:srgbClr val="c22ea4"/>
                </a:solidFill>
                <a:latin typeface="Corbel"/>
              </a:rPr>
              <a:t>      </a:t>
            </a:r>
            <a:r>
              <a:rPr b="1" i="1" lang="ru-RU" sz="3900" spc="-1" strike="noStrike">
                <a:solidFill>
                  <a:srgbClr val="c22ea4"/>
                </a:solidFill>
                <a:latin typeface="Arial"/>
              </a:rPr>
              <a:t> 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09" name="Picture 2" descr=""/>
          <p:cNvPicPr/>
          <p:nvPr/>
        </p:nvPicPr>
        <p:blipFill>
          <a:blip r:embed="rId1"/>
          <a:stretch/>
        </p:blipFill>
        <p:spPr>
          <a:xfrm>
            <a:off x="7858080" y="285840"/>
            <a:ext cx="828720" cy="69048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720720" y="899640"/>
            <a:ext cx="821376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мы называем дружбой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го считаем друзьями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помогает, а что мешает дружбе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80"/>
                </a:solidFill>
                <a:uFillTx/>
                <a:latin typeface="Arial"/>
              </a:rPr>
              <a:t>Дружба</a:t>
            </a: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 – близкие отношения,</a:t>
            </a:r>
            <a:r>
              <a:rPr b="1" i="1" lang="ru-RU" sz="3200" spc="-1" strike="noStrike">
                <a:solidFill>
                  <a:srgbClr val="000080"/>
                </a:solidFill>
                <a:latin typeface="Corbel"/>
              </a:rPr>
              <a:t> основанные на взаимном доверии, привязанности, общности интерес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434960" y="9648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22ea4"/>
                </a:solidFill>
                <a:latin typeface="Corbel"/>
              </a:rPr>
              <a:t>Словесная  игра</a:t>
            </a:r>
            <a:endParaRPr b="0" lang="en-US" sz="48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60360" y="1447560"/>
            <a:ext cx="864072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умеющий жить дружно, без ссо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умеющий сам выполнять свои обязан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любящий трудитьс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который знает свои недостат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всегда готовый помоч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умеющий радоваться жизн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желающий добра другим людя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который всегда всех приветству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360000" y="179280"/>
            <a:ext cx="4319640" cy="63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964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rbe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СВЕТЛ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964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Вежлив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Вниматель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Мужествен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Надёж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Предан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Терпелив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Чест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Чутки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859280" y="178920"/>
            <a:ext cx="4076640" cy="67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800080"/>
                </a:solidFill>
                <a:latin typeface="Corbel"/>
              </a:rPr>
              <a:t>  </a:t>
            </a:r>
            <a:r>
              <a:rPr b="1" lang="ru-RU" sz="3200" spc="-1" strike="noStrike">
                <a:solidFill>
                  <a:srgbClr val="4700b8"/>
                </a:solidFill>
                <a:latin typeface="Corbel"/>
              </a:rPr>
              <a:t>ТЁМ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Глуп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Груб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Дерзки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Жад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Зло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Каприз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Любопыт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Лжив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34960" y="9648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Пословицы о  дружбе</a:t>
            </a:r>
            <a:br>
              <a:rPr sz="3900"/>
            </a:b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            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1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619280" cy="13939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3" descr=""/>
          <p:cNvPicPr/>
          <p:nvPr/>
        </p:nvPicPr>
        <p:blipFill>
          <a:blip r:embed="rId2"/>
          <a:stretch/>
        </p:blipFill>
        <p:spPr>
          <a:xfrm>
            <a:off x="3995640" y="5580000"/>
            <a:ext cx="1452600" cy="127800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0" y="1260360"/>
            <a:ext cx="9144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Человек без друзей, что дерево без корне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т друга - ищи, а нашел - берег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ружба крепка не лестью, а правдой и честью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ружба как стекло: разобьешь - не сложиш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кажи мне кто твой друг, и я скажу, кто т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тот друг, кто на пиру гуляет, а тот, кто в беде помога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руг спорит, а враг поддакива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1"/>
          <p:cNvSpPr/>
          <p:nvPr/>
        </p:nvSpPr>
        <p:spPr>
          <a:xfrm>
            <a:off x="1428840" y="404640"/>
            <a:ext cx="48718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 u="sng">
                <a:solidFill>
                  <a:srgbClr val="c22ea4"/>
                </a:solidFill>
                <a:uFillTx/>
                <a:latin typeface="Corbel"/>
              </a:rPr>
              <a:t>Дружба народов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2"/>
          <p:cNvSpPr/>
          <p:nvPr/>
        </p:nvSpPr>
        <p:spPr>
          <a:xfrm>
            <a:off x="1079640" y="1979640"/>
            <a:ext cx="7499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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Если дружбой дорожи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Можно спорить и дружи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И не вспыхнет сс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Из любого спо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tretch/>
        </p:blipFill>
        <p:spPr>
          <a:xfrm>
            <a:off x="6929280" y="357120"/>
            <a:ext cx="202248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3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79280" y="142560"/>
            <a:ext cx="8755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обрались однажды четыре музыканта, подружились.Вместе концерты давали, вместе разбойников прогоняли … . Назовите музыкантов - друзей.</a:t>
            </a:r>
            <a:endParaRPr b="0" lang="en-US" sz="24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79280" y="1581120"/>
            <a:ext cx="87552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4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0" y="-343080"/>
            <a:ext cx="9144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ригорий Остер написал немало рассказов о Попугае, Удаве, Мартышке и их дружной жизни в Африке. Кто был четвёртым в компании друзей?</a:t>
            </a:r>
            <a:endParaRPr b="0" lang="en-US" sz="28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179280" y="1349280"/>
            <a:ext cx="87552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7" name="Picture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80629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79280" y="-28800"/>
            <a:ext cx="87537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Какая девочка выручила своего друга из ледового плена? Вызывает ли у вас уважение её поступок и почему?</a:t>
            </a:r>
            <a:endParaRPr b="0" lang="en-US" sz="26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1"/>
          <a:stretch/>
        </p:blipFill>
        <p:spPr>
          <a:xfrm>
            <a:off x="179280" y="1176480"/>
            <a:ext cx="8964720" cy="562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9:38:42Z</dcterms:created>
  <dc:creator>Л.Ф.</dc:creator>
  <dc:description/>
  <dc:language>en-US</dc:language>
  <cp:lastModifiedBy>Сергей</cp:lastModifiedBy>
  <dcterms:modified xsi:type="dcterms:W3CDTF">2014-06-01T18:22:31Z</dcterms:modified>
  <cp:revision>51</cp:revision>
  <dc:subject/>
  <dc:title>Поговорим о дружбе</dc:title>
</cp:coreProperties>
</file>