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7.gif" ContentType="image/gif"/>
  <Override PartName="/ppt/media/image22.jpeg" ContentType="image/jpeg"/>
  <Override PartName="/ppt/media/image21.jpeg" ContentType="image/jpeg"/>
  <Override PartName="/ppt/media/image6.gif" ContentType="image/gif"/>
  <Override PartName="/ppt/media/chimes.wav" ContentType="audio/x-wav"/>
  <Override PartName="/ppt/media/image18.jpeg" ContentType="image/jpeg"/>
  <Override PartName="/ppt/media/image5.jpeg" ContentType="image/jpeg"/>
  <Override PartName="/ppt/media/image32.gif" ContentType="image/gif"/>
  <Override PartName="/ppt/media/image16.jpeg" ContentType="image/jpeg"/>
  <Override PartName="/ppt/media/image11.jpeg" ContentType="image/jpeg"/>
  <Override PartName="/ppt/media/image9.jpeg" ContentType="image/jpeg"/>
  <Override PartName="/ppt/media/image35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7.gif" ContentType="image/gif"/>
  <Override PartName="/ppt/media/image29.jpeg" ContentType="image/jpeg"/>
  <Override PartName="/ppt/media/image37.gif" ContentType="image/gif"/>
  <Override PartName="/ppt/media/image30.jpeg" ContentType="image/jpeg"/>
  <Override PartName="/ppt/media/image33.jpeg" ContentType="image/jpeg"/>
  <Override PartName="/ppt/media/image34.jpeg" ContentType="image/jpeg"/>
  <Override PartName="/ppt/media/image36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23.png" ContentType="image/png"/>
  <Override PartName="/ppt/media/image14.jpeg" ContentType="image/jpeg"/>
  <Override PartName="/ppt/media/image28.gif" ContentType="image/gif"/>
  <Override PartName="/ppt/media/image15.jpeg" ContentType="image/jpe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Text Box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dt" idx="39"/>
          </p:nvPr>
        </p:nvSpPr>
        <p:spPr>
          <a:xfrm>
            <a:off x="3884400" y="-360"/>
            <a:ext cx="296676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7320" cy="342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1720" cy="41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Text Box 8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498B-BEA3-4DD0-9FA5-E89E9245FAC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6CAD0A-1DCB-46A7-8C5B-A07D8C2287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67FB-CE42-425D-AB6D-41AA68AB75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73CBEE-3D71-4205-AD62-EBEE0E941F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B28999-29ED-4D6D-B2F4-FC850E28F53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B2850F-E100-4DBC-BE0F-50B0DE5876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9A42D9-10C9-4F62-84AF-92732AFEA1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871F26-C451-4E9C-946D-D168DA772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9B4251-9C85-4388-8C89-188DF30328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0560" cy="342756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5CCE3C-61DC-419B-A883-B1E5353F581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5596E4-B02A-4CE1-ABCE-E2E599C36E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A7D18-5509-4723-AE81-F901D51CCC8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8A5B95-80DB-48DC-AF3E-4CD4041834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61F2AC-8258-4C51-8EBE-2DEAAA8288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B4B45D-7F7D-4EFC-A130-DD7C6E1ED30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610E8-6944-4BB5-8EB5-9FE6EBFDB9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A872CB-0C5D-4C51-9545-DE1F2C9EC28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89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45BA23-C83F-4195-B3B9-72C86A2704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2A4DC2-30EC-4E46-A7E8-A6B3E112EE7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02BD5E-64CB-46A1-AA90-5D00065D992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Rectangle 9"/>
          <p:cNvSpPr/>
          <p:nvPr/>
        </p:nvSpPr>
        <p:spPr>
          <a:xfrm>
            <a:off x="3884760" y="8685360"/>
            <a:ext cx="29667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ED62D7-B0B1-43D3-BE57-C652F44998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2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96780-F1F5-4484-B67C-BEAAB8BE32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0E0BF-5D86-4B52-8963-59FCFA34F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90FDA-DCAF-4550-A924-8E3EAB8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F50CFB-37AF-4580-A337-02D256295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989CD-3651-49E0-917B-4FF5D13B0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C41D6-5F92-4351-AF1B-24BED240D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4081C-5B2A-4A25-B717-61946E15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0EBA11-DF69-425E-BC3F-9DFCD375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56A6E-8125-4CF0-89B6-5FE3AC8E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0964C-C07E-4F56-B38D-5893BF9E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DC2623-F05B-4814-B75F-57C88F5DF3F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4D29FA-9BAC-42E1-9163-6302910E2A3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B7D5A0-74AA-4FAB-9ECF-A89F8BDA8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30DD7-61FC-4D56-933E-3E6F84883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0E72E4-3A65-45B3-95B2-68D48E2D7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127537-31CD-4B10-8710-31638A0FF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EDA88C-7BFD-4BBC-8253-5CBB80036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7A58B9-CC4D-4640-81E6-F40C39CB1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300DC3-DBC7-4307-AC59-616D5CE6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62586-F31B-442C-98AE-54C424C8A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7063155-D4A9-404F-97A6-3927C7ED8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6FD136-4A3C-46C5-A1D3-A34A5A8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2CCE39-EA24-4134-83AF-FFC972B2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5E45-6584-45F2-8E12-837E33841F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711634-5198-43EC-B00D-E876ACC236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E14469-036B-45C7-95AE-83533878B8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784E83-C57A-4FF2-B404-8E243639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3A094-CA0A-4586-896D-991C3BC5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093A52-7D56-48F6-8CFD-7712726C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706302-1FA5-4AA2-A5D1-85DC019A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7A2BE7-018B-4D74-93E6-AC3B1AAD1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C688F6-FB89-4D22-B05C-5EAA54F2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744F40-FE87-45CB-87D4-FF2C71795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C01339-8FF4-4001-8940-DE66C342D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5F92F0-FE1C-4D9A-A554-8D20047644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C16311F-1C6E-4FF9-B63A-FA8FC772B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2CD8DCF-3892-4666-B3C8-F227A6CC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8E5860-27B5-46A3-8E0F-6E683809CA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18278-5E5E-4174-8B79-EBED2A11DB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02C3E0-C4BC-4ADD-91BB-118F5A80E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D4263-097C-4217-9B3D-2D97CBB6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873269-6F61-4112-9D9D-DF591721E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C48169-23C2-4A48-83E3-30840AF15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791FC-47D9-4C49-87B4-29E6FF35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64D3-1268-4742-839D-E44942FC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AFEC78-80BD-4C19-B028-32FB923F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06EBA6-B2BB-4FAE-8126-BD6C1E71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4F892-3295-46CB-86CC-006D0A38F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164BB-63A5-4464-8826-3C3223EB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23D8C-533C-445F-A460-831A53BF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476A04-534C-476A-83AA-40DED2BBD2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89470A-4BAB-4EEB-9059-9037AD3DDC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F626E-AF4F-465A-A298-CC255D318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8CB69AB-AF8E-4A9B-BE6E-E1D59680B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34D6BE-2DC3-42A6-B91E-CFE210B13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720C9D-DFBC-4E81-81E6-2AD2FA5A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03456F-F65A-4EDB-AB87-5028E99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5407F6D-9D00-43FE-8203-186BBB76B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43FE1-358E-4B67-B744-DEC61CB6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FBC15D-3095-4515-9A34-3DD9EAB2D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E6BA0F-F297-44EE-A84F-9BC51D9C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F50897-906B-47C4-8977-96129CB7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2891DA-103C-4310-A6AE-255E3CCF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149A8A-5D91-4452-892E-A2E8377ECD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6B77D3-E28B-4133-9B68-CAA736A5B5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AB7486-C0D7-41AA-81D9-F9A253687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F7D4FD-613A-49B3-BDCB-0F1F983A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7674A-B60E-4301-9AAB-4FBD5C4B6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EE551F-1A54-44F8-AB71-989ECC7C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5E5897-6978-4E4B-9809-DA4BC9C0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170059-FE53-4491-95D6-B7C9E06C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D97458-C3B4-4DCF-9F50-CCD887DE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3DD9517-FF89-435B-A765-D8F5B04F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CAF190-19FE-4F7D-AFFB-379E113BF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787E1A-0ED6-465F-A406-A55DD3CD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DF7CB8-5D1D-4EFC-8BD8-330825FA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1C9DF0-8EF0-40E0-B77C-825DB779B7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ED369-FD82-4C0B-B8E9-C7DC97354E8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85643-A6E0-47A9-8357-7B5A9D58E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FC97A5-38D9-4713-9ACF-D592C423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EC1B-1B68-48C3-A511-FC0B2354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9BCEBC-9E0F-441F-99A1-7C3003122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D6D12C-147F-4C7B-A5C3-635476F3A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79B1E4-152D-45B7-A06D-16845D7A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0B8D4-43B6-489B-84AC-CC1F30AD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2D5F8-4F9F-4212-92D8-472567D46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2F2A3A-8281-470D-89CC-C42F348B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D08592-1532-4E01-A9DD-631290A9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9FE35-0732-490D-9C0F-92D9B8AE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55083-597E-48EF-96FD-67EB23A50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39CE45-31BF-45E5-B37C-4473C0AE6C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14FB384-BC1C-4317-8AAA-B3A8740A7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A3F8AD-F73A-4606-92DF-217655C3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C804AAB-CC6C-41ED-AC7B-5B96B817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48AFF9-94AD-4BCE-B9C2-30F7B5E7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881B900-548A-4C19-917E-F616E37EA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E1BD0C-FC25-4C4D-BB65-8A9C497EB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17ADC7-F1C5-4732-94A7-BE23EB0B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CB0067D-71D7-4BAC-A963-D4B6023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062FA0-EAB0-4A74-A1EC-48E4C4E16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A4421E-F59F-4E4D-A29C-EE4C1919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0821E30-B206-45B5-96AF-454E3C9CF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337392-E62B-4C11-8D03-0644D4E3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6ACA228-4181-4DB2-9B78-18877B1EA2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995A80-9DDE-4552-8FB2-B7B978F562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593A11-9F7A-4FD6-9427-854DF0B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4040F-AFE9-40D3-8782-0BD828917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6D434E0-D5B6-4B82-803D-E701498C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7F677C-A553-4CEB-8020-2DBC7499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570FF13-CB32-401E-BBB4-FEE45ECE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C059C8-E1AA-4519-8654-37703D7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C957A-B775-41AB-A05B-1981C915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2BFB04-3A44-4845-A1B2-7025AA0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69A599A-B247-44C6-8DB6-37923701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FCFC99-C10E-4970-8579-100A11C2E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54A79B-4993-4E58-8897-E85C154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4326A-AA7A-4A9F-9212-16B95BCB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7C14DA-A60E-473A-B3DB-AA84B3D468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6D9DB-F93E-47CA-9C02-E100946953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32F872-BD01-438B-A2C8-54856AFE7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05743-5C73-4FF9-AF69-FF38567E3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4F814-3EE9-4580-8938-9D77E451E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CA9B41-7C68-49C6-A91D-E98988312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F741A4-1EC5-44DF-BBAD-E6706785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9B2B2-DB7E-4098-BF1B-FDFCD5FCC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0C152-9A40-40A6-8E82-156B58CBD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59D15-C659-44DB-9343-804E8DA0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BD432F-EFA8-4062-A067-90F9E8C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E36CAE-5350-40ED-9E13-4CAEFE28B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E95ED5-B0CE-468E-A3A0-ABE782CD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460A74-1BCD-4B50-9E74-88B077563E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FC09AB2-CA14-457D-9B3A-037D5E9BD04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979ABDE-7D1A-43DC-BFB5-60C43E57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A6801C-4E09-44D2-9296-75A275C61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152590-C08E-4DB5-BC1A-02D96AA9A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F6F274B-0BBC-4E71-B6EE-84F28F6E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A68A56-F37F-4390-AA65-ED0DF3FC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EBEB72F-1A57-41EB-88F3-D732720C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839DDDD-7384-42C6-8C4F-87B2CD54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476783F-AA78-4BFD-A51D-010FB2F7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7DF6F18-0CE3-42DC-8E0E-F196B3D7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209A742-EB54-4CA3-9EE9-78E6C743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52BBFD3-455D-4BBA-9A04-D1BE26BA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E6CD4E8-E1E2-4E9C-8ADA-A790ED72B4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AA8A-9F45-4D5F-BE22-34D484DE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6FA92-252F-4185-BE3E-A6735F5E86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ED4C-7226-4722-94E3-55D509B01A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E646-D210-41F6-B1E8-2BC83E44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BFF5-39B9-427F-9A33-D21A3207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EE1F-54FA-42E1-8441-A670A9F7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6809-7B69-4A28-B3CF-054FB06B7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0F82E-49BC-4E3A-94DE-B325465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BA96-B8EB-4A20-A1B9-945618E7D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EF671-F611-43C9-A254-54169F0E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E2112-0B38-45C8-A10C-C58A90245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87B06-1C57-44D9-B915-3F685C0D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DC63-9219-4B60-8220-0CCD1631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E36-99B4-4C7A-A1B9-8F65CB10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30E6-EA86-4F68-82CA-10514A859D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809FBE-AAAD-4DEA-9C46-A845F1579F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BBEF6C-19DD-43C0-8DCF-6AD0641F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1CE2CC-B376-4618-AAFA-5EE0CB6F8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EC341-3D81-43F3-8FD5-8E2D1798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9DA8F-F9B9-4105-B89C-DD00840C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2F307-6879-45BB-8B7B-DC2749741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2992A-C790-45D6-BBFE-E56D15E47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490FC2-A963-4390-9068-178BFE179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9D2477-2239-448F-82F3-B35FF6FA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F67DFA-CE46-4717-A5F5-4EA5DDD8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A8484-111A-4365-8DCB-CAB3B82D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A232DC-41F5-42A5-89AD-C3684F8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9D08E7-3508-41B0-8B43-2BC3A516C3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ACE262-8EE8-4D9D-8BED-FE1D44D57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9E090-5551-4488-A501-603BB1C5B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84F26-B8EA-4217-AE7D-54F1A18CA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AB100-4AB3-4A17-8756-537C0A40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1F0141-F693-4FE4-8888-A842D486C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317D5B-CD33-417D-8F74-8A68F770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0656A4-EB41-4448-BD60-A356F71BB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6DD7D-8954-44AC-8F42-5BB7E157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6274DA-5636-442D-985E-EBF40551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0D700D-656F-4A42-9C28-BF414FDF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ADB97D-1B10-492E-BDD4-EDE2FCE1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EA9F78-8D1F-4CD1-B4A3-5EEFB087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358A2-61FD-46AF-9AD7-DE253F6D0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5ED5ED-D13A-4F9C-B6F0-30D6CA4575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F90E4-D333-4932-BF42-18B5BC4A43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246C-A8DB-4243-8785-EC78AD7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7B267C-EF52-45B1-9D4D-1C68EF53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61693-8E0F-4B46-8346-E456D90C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05746-7D15-4EC6-9AB6-0EDA7B4F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D014D-0C94-4634-86D2-362D5F485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EB02F-D698-4040-BA20-E8BD93FD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E3698-E9F9-4850-AFF0-39162341C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0195B-0217-4137-977E-AC770D81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B00C71-A05A-4C98-A744-80CAB476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EEDC8-6C4F-4061-BB0D-B205BC58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56DC6-7F89-40ED-A78D-3718FF67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BC05-6381-4A93-8097-B6CE978F7C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F3FF0C-5114-4EC6-B4A1-A8FEF6E847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59E8B7-CCFC-41B7-817F-1A64BD00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5C3E98-575D-4348-A117-816DF206D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746CFE-ADB7-4591-BB47-2DFA9879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8EFDC6-A3D7-4D95-8929-15FF42DA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97372F-A808-4F14-BB0C-A8A60AAFD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CB6E1-1D41-4EC0-9216-339DA311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13DAD-08AD-40E4-961E-05AA8B7D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FA4E3-7748-4B77-8907-B191F317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8E6776-7AE7-4DEE-86F4-33B7F311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D4C4D-E20C-4AA6-AE4F-B185D65FA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968719-3A9B-48FA-8D8B-F3189F41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081E00-AA06-4FA7-97A8-378E63F4CD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228E5-863F-4D63-A5EF-1C36381EF1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83A4F6-834D-4675-AEFA-14BB3B5D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08DA09-7EE9-4193-A7A7-C022F1E6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7E8A9C-402A-4CC1-947D-1F43F8D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1A6C40-62E6-43AC-BF49-DFC2F14B6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9AA86-1206-42AD-BA96-48F1E7A5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434600" y="144360"/>
            <a:ext cx="7494840" cy="650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E0F42E-6BFE-46D2-8D4C-F096B599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D45492B-5993-44DD-B9F5-B360E387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B4BA25-42A8-4D03-8DFC-827326192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6D44A-D854-4F1D-8D49-A1DC11F7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434600" y="3952800"/>
            <a:ext cx="74948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69FC82-34EB-499F-8E5C-1349697B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275080" y="144756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43460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275080" y="3952800"/>
            <a:ext cx="365724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DE7BC-109F-424C-A875-592CEB3E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96864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502680" y="144756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43460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96864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502680" y="3952800"/>
            <a:ext cx="241308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18F21E-A5FA-47A3-93FA-95A669BB5B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92BA6-EC0F-4449-A439-08937F9B8A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901FD-D73E-4D64-90CC-A9995BCD7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31CBA-EBD3-44ED-890C-A3564858E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D24E6D-98A5-4D79-B7BE-553CB3A6C94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417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9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1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29E8E7F-EEAE-4F08-AD4B-5DEC5EC4BC3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4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465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2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2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15CF959-387F-408A-B3E8-E75DD362EF9B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3092273-F394-49D5-9A7B-AC155D1B8328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6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dt" idx="2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CB63D96-7052-4934-839F-5C3DF482E032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60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dt" idx="2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sldNum" idx="2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4F39F31-CE93-4FDF-8FFD-9180DBE4AA2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657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9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 type="dt" idx="2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 type="sldNum" idx="3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79765AF-CA90-4C7A-BCAA-9D70EAE1609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4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705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6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07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 type="dt" idx="3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 type="sldNum" idx="3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12E8B2-9629-4468-AD5B-00807A7592DD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2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753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55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3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sldNum" idx="3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776DE25-1DE4-412A-9543-7DE604DD3CA5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80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 type="dt" idx="3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 type="sldNum" idx="3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58E1B49-EF56-4B5D-89C4-98F398E0A976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84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3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sldNum" idx="3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BBF3397-8C2A-40DA-86FD-3FFD49C1A2E4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Picture 9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10"/>
            <p:cNvSpPr/>
            <p:nvPr/>
          </p:nvSpPr>
          <p:spPr>
            <a:xfrm>
              <a:off x="952200" y="144432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Oval 11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w="12600">
            <a:solidFill>
              <a:srgbClr val="a23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6354A82-1B5F-46E5-8A1A-91A26C93CEE8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Group 3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Picture 4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5"/>
            <p:cNvSpPr/>
            <p:nvPr/>
          </p:nvSpPr>
          <p:spPr>
            <a:xfrm>
              <a:off x="2203200" y="2844360"/>
              <a:ext cx="146520" cy="14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" name="Oval 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w="12600">
            <a:solidFill>
              <a:srgbClr val="a235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409C0B3-9D36-45C9-BAF2-39473FCE3CE4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8EB46B-24EA-40E3-95E5-706F68F18FEE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6DE2C8-8A0D-497E-931C-59BFE3112F37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21781D7-D415-47E3-A50E-6019ED32142F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Group 1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Picture 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Text Box 3"/>
            <p:cNvSpPr/>
            <p:nvPr/>
          </p:nvSpPr>
          <p:spPr>
            <a:xfrm>
              <a:off x="761760" y="1066320"/>
              <a:ext cx="4570200" cy="457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5" name="AutoShape 4"/>
          <p:cNvSpPr/>
          <p:nvPr/>
        </p:nvSpPr>
        <p:spPr>
          <a:xfrm rot="19440000">
            <a:off x="3967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fd6e2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5"/>
          <p:cNvSpPr/>
          <p:nvPr/>
        </p:nvSpPr>
        <p:spPr>
          <a:xfrm flipH="1" rot="2100000">
            <a:off x="5003640" y="94140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4e7e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9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b8a5ae"/>
                </a:solidFill>
                <a:latin typeface="Corbe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99E182-3A80-4778-BDEF-926FE68BD818}" type="slidenum">
              <a:rPr b="0" lang="ru-RU" sz="1200" spc="-1" strike="noStrike">
                <a:solidFill>
                  <a:srgbClr val="b8a5ae"/>
                </a:solidFill>
                <a:latin typeface="Corbe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21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3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15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sldNum" idx="16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785095-1638-4606-A17F-30299394FD9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AutoShape 1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cubicBezTo>
                  <a:pt x="1638300" y="1271554"/>
                  <a:pt x="1271554" y="1638300"/>
                  <a:pt x="819150" y="1638300"/>
                </a:cubicBezTo>
                <a:cubicBezTo>
                  <a:pt x="818981" y="1638300"/>
                  <a:pt x="818812" y="1638299"/>
                  <a:pt x="818644" y="1638299"/>
                </a:cubicBezTo>
                <a:lnTo>
                  <a:pt x="819150" y="819150"/>
                </a:lnTo>
                <a:close/>
              </a:path>
            </a:pathLst>
          </a:custGeom>
          <a:solidFill>
            <a:srgbClr val="fefafc">
              <a:alpha val="33000"/>
            </a:srgbClr>
          </a:solidFill>
          <a:ln w="3240">
            <a:solidFill>
              <a:srgbClr val="d6c0c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Oval 2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w="27360">
            <a:solidFill>
              <a:srgbClr val="ffeef7"/>
            </a:solidFill>
            <a:miter/>
          </a:ln>
          <a:effectLst>
            <a:outerShdw dist="12600" dir="5400000" blurRad="0" rotWithShape="0">
              <a:srgbClr val="b6a7ae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69" name="Picture 4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5"/>
            <p:cNvSpPr/>
            <p:nvPr/>
          </p:nvSpPr>
          <p:spPr>
            <a:xfrm rot="2340000">
              <a:off x="353160" y="1212480"/>
              <a:ext cx="79416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Rectangle 6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5715000" y="630396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2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66f72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600" y="144360"/>
            <a:ext cx="7494840" cy="14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c22ea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434600" y="1447560"/>
            <a:ext cx="7494840" cy="47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17"/>
          </p:nvPr>
        </p:nvSpPr>
        <p:spPr>
          <a:xfrm>
            <a:off x="3581280" y="630396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sldNum" idx="18"/>
          </p:nvPr>
        </p:nvSpPr>
        <p:spPr>
          <a:xfrm>
            <a:off x="8613360" y="6303960"/>
            <a:ext cx="4525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A49CC0-E779-48C6-A346-041C64455203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pn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57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image" Target="../media/image28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7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gif"/><Relationship Id="rId4" Type="http://schemas.openxmlformats.org/officeDocument/2006/relationships/image" Target="../media/image33.jpe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8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57.xml"/><Relationship Id="rId8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1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17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Text Box 1"/>
          <p:cNvSpPr/>
          <p:nvPr/>
        </p:nvSpPr>
        <p:spPr>
          <a:xfrm>
            <a:off x="1258920" y="1765440"/>
            <a:ext cx="7407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6000" spc="-1" strike="noStrike">
                <a:solidFill>
                  <a:srgbClr val="c22ea4"/>
                </a:solidFill>
                <a:latin typeface="Times New Roman"/>
              </a:rPr>
              <a:t>Поговорим о дружбе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5" name="Picture 2" descr=""/>
          <p:cNvPicPr/>
          <p:nvPr/>
        </p:nvPicPr>
        <p:blipFill>
          <a:blip r:embed="rId1"/>
          <a:stretch/>
        </p:blipFill>
        <p:spPr>
          <a:xfrm>
            <a:off x="1673280" y="3419640"/>
            <a:ext cx="2467080" cy="197928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3" descr=""/>
          <p:cNvPicPr/>
          <p:nvPr/>
        </p:nvPicPr>
        <p:blipFill>
          <a:blip r:embed="rId2"/>
          <a:stretch/>
        </p:blipFill>
        <p:spPr>
          <a:xfrm>
            <a:off x="6840360" y="3600360"/>
            <a:ext cx="2049480" cy="1979640"/>
          </a:xfrm>
          <a:prstGeom prst="rect">
            <a:avLst/>
          </a:prstGeom>
          <a:ln w="0">
            <a:noFill/>
          </a:ln>
        </p:spPr>
      </p:pic>
      <p:sp>
        <p:nvSpPr>
          <p:cNvPr id="907" name="Text Box 4"/>
          <p:cNvSpPr/>
          <p:nvPr/>
        </p:nvSpPr>
        <p:spPr>
          <a:xfrm>
            <a:off x="1162080" y="2948040"/>
            <a:ext cx="18108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-360" y="106200"/>
            <a:ext cx="918036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т герой произносил : «Я самый больной в мире человек!» Ему дали лекарство, а он в ответ произнёс : «Друг спас жизнь друга!» О ком идёт речь? Какое лекарство дали больному?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1" name="Picture 2" descr=""/>
          <p:cNvPicPr/>
          <p:nvPr/>
        </p:nvPicPr>
        <p:blipFill>
          <a:blip r:embed="rId1"/>
          <a:stretch/>
        </p:blipFill>
        <p:spPr>
          <a:xfrm>
            <a:off x="684360" y="1353960"/>
            <a:ext cx="8280360" cy="5504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179280" y="142920"/>
            <a:ext cx="8755200" cy="93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Какие два друга лежали на песке и пели песню о солнышке? Назовите их.</a:t>
            </a:r>
            <a:endParaRPr b="0" lang="en-US" sz="20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3" name="Picture 2" descr=""/>
          <p:cNvPicPr/>
          <p:nvPr/>
        </p:nvPicPr>
        <p:blipFill>
          <a:blip r:embed="rId1"/>
          <a:stretch/>
        </p:blipFill>
        <p:spPr>
          <a:xfrm>
            <a:off x="539640" y="900000"/>
            <a:ext cx="828036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3448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У девочки с голубыми волосами было много друзей, но один был рядом всегда. Кто он ?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5" name="Picture 2" descr=""/>
          <p:cNvPicPr/>
          <p:nvPr/>
        </p:nvPicPr>
        <p:blipFill>
          <a:blip r:embed="rId1"/>
          <a:stretch/>
        </p:blipFill>
        <p:spPr>
          <a:xfrm>
            <a:off x="360360" y="900000"/>
            <a:ext cx="8640720" cy="59580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0" y="-179640"/>
            <a:ext cx="9144000" cy="13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то первым из животных показал пример обитателям  джунглей в том, что с человеческим детёнышем можно дружить? Назовите друзей Маугли.</a:t>
            </a:r>
            <a:endParaRPr b="0" lang="en-US" sz="26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37" name="Picture 2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459640" cy="57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800" spc="-1" strike="noStrike">
                <a:solidFill>
                  <a:srgbClr val="c22ea4"/>
                </a:solidFill>
                <a:latin typeface="DejaVu Sans Condensed"/>
              </a:rPr>
              <a:t>Д Р У Ж Б А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79280" y="1447560"/>
            <a:ext cx="7854840" cy="53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Есть ли у вас друзья- животные? Какие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ем отличается дружба с животными от дружбы с мальчиками или девочками?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Что самого хорошего в дружбе с животным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Picture 1" descr=""/>
          <p:cNvPicPr/>
          <p:nvPr/>
        </p:nvPicPr>
        <p:blipFill>
          <a:blip r:embed="rId1"/>
          <a:stretch/>
        </p:blipFill>
        <p:spPr>
          <a:xfrm>
            <a:off x="3780000" y="4508640"/>
            <a:ext cx="2232000" cy="2089080"/>
          </a:xfrm>
          <a:prstGeom prst="rect">
            <a:avLst/>
          </a:prstGeom>
          <a:ln w="0">
            <a:noFill/>
          </a:ln>
        </p:spPr>
      </p:pic>
      <p:sp>
        <p:nvSpPr>
          <p:cNvPr id="941" name="Text Box 2"/>
          <p:cNvSpPr/>
          <p:nvPr/>
        </p:nvSpPr>
        <p:spPr>
          <a:xfrm>
            <a:off x="1258920" y="404640"/>
            <a:ext cx="61214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c22ea4"/>
                </a:solidFill>
                <a:latin typeface="Corbel"/>
              </a:rPr>
              <a:t>Животные </a:t>
            </a:r>
            <a:r>
              <a:rPr b="1" i="1" lang="ru-RU" sz="3600" spc="-1" strike="noStrike">
                <a:solidFill>
                  <a:srgbClr val="c22ea4"/>
                </a:solidFill>
                <a:latin typeface="Arial"/>
              </a:rPr>
              <a:t>- </a:t>
            </a:r>
            <a:r>
              <a:rPr b="1" i="1" lang="ru-RU" sz="3600" spc="-1" strike="noStrike">
                <a:solidFill>
                  <a:srgbClr val="c22ea4"/>
                </a:solidFill>
                <a:latin typeface="Corbel"/>
              </a:rPr>
              <a:t>наши друзь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Text Box 3"/>
          <p:cNvSpPr/>
          <p:nvPr/>
        </p:nvSpPr>
        <p:spPr>
          <a:xfrm>
            <a:off x="1116000" y="1341360"/>
            <a:ext cx="61927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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Дружба — это созвучие душ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           </a:t>
            </a: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в соединённости судеб.</a:t>
            </a:r>
            <a:r>
              <a:rPr b="1" i="1" lang="ru-RU" sz="3200" spc="-1" strike="noStrike">
                <a:solidFill>
                  <a:srgbClr val="0070c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3" name="Picture 4" descr=""/>
          <p:cNvPicPr/>
          <p:nvPr/>
        </p:nvPicPr>
        <p:blipFill>
          <a:blip r:embed="rId2"/>
          <a:stretch/>
        </p:blipFill>
        <p:spPr>
          <a:xfrm>
            <a:off x="7500960" y="214200"/>
            <a:ext cx="1428840" cy="1568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5" descr=""/>
          <p:cNvPicPr/>
          <p:nvPr/>
        </p:nvPicPr>
        <p:blipFill>
          <a:blip r:embed="rId3"/>
          <a:stretch/>
        </p:blipFill>
        <p:spPr>
          <a:xfrm>
            <a:off x="4788000" y="2781360"/>
            <a:ext cx="1928880" cy="14223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6" descr=""/>
          <p:cNvPicPr/>
          <p:nvPr/>
        </p:nvPicPr>
        <p:blipFill>
          <a:blip r:embed="rId4"/>
          <a:stretch/>
        </p:blipFill>
        <p:spPr>
          <a:xfrm>
            <a:off x="6143760" y="4572000"/>
            <a:ext cx="2636640" cy="20448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7" descr=""/>
          <p:cNvPicPr/>
          <p:nvPr/>
        </p:nvPicPr>
        <p:blipFill>
          <a:blip r:embed="rId5"/>
          <a:stretch/>
        </p:blipFill>
        <p:spPr>
          <a:xfrm>
            <a:off x="1071720" y="4643280"/>
            <a:ext cx="2543040" cy="19828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8" descr=""/>
          <p:cNvPicPr/>
          <p:nvPr/>
        </p:nvPicPr>
        <p:blipFill>
          <a:blip r:embed="rId6"/>
          <a:stretch/>
        </p:blipFill>
        <p:spPr>
          <a:xfrm>
            <a:off x="6786720" y="2071800"/>
            <a:ext cx="2143080" cy="2065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9" descr=""/>
          <p:cNvPicPr/>
          <p:nvPr/>
        </p:nvPicPr>
        <p:blipFill>
          <a:blip r:embed="rId7"/>
          <a:stretch/>
        </p:blipFill>
        <p:spPr>
          <a:xfrm>
            <a:off x="1143000" y="2714760"/>
            <a:ext cx="2000160" cy="143640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0" descr=""/>
          <p:cNvPicPr/>
          <p:nvPr/>
        </p:nvPicPr>
        <p:blipFill>
          <a:blip r:embed="rId8"/>
          <a:stretch/>
        </p:blipFill>
        <p:spPr>
          <a:xfrm>
            <a:off x="3357720" y="2500200"/>
            <a:ext cx="1112760" cy="192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9" name="chimes.wav"/>
      </p:stSnd>
    </p:sndAc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9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2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1"/>
          <p:cNvSpPr/>
          <p:nvPr/>
        </p:nvSpPr>
        <p:spPr>
          <a:xfrm>
            <a:off x="1619280" y="0"/>
            <a:ext cx="683568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Times New Roman"/>
              </a:rPr>
              <a:t>И в песнях о дружбе поётся 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Я иду и пою обо всём хорошем.                                                                             И улыбку свою я дарю прохожи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Тем, кто дружен, не страшны тревоги!                                                      Нам любые дороги дороги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Если добрый ты, то всегда легко,                                                                А когда наоборот – трудно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Жил на свете добрый жук, старый добрый друг.                                       Никогда он не ворчал, не кричал, не пищал,                                          Громко крыльями трещал, строго ссоры запреща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С голубого ручейка начинается река,                                                                              Ну а дружба начинается с улыб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Если с другом вышел в путь - веселей дорог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Times New Roman"/>
              </a:rPr>
              <a:t>Друг в беде не бросит, лишнего не спросит.                                                     Вот, что значит настоящий друг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1" name="Picture 2" descr=""/>
          <p:cNvPicPr/>
          <p:nvPr/>
        </p:nvPicPr>
        <p:blipFill>
          <a:blip r:embed="rId1"/>
          <a:stretch/>
        </p:blipFill>
        <p:spPr>
          <a:xfrm>
            <a:off x="179280" y="214200"/>
            <a:ext cx="1260720" cy="14065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3" descr=""/>
          <p:cNvPicPr/>
          <p:nvPr/>
        </p:nvPicPr>
        <p:blipFill>
          <a:blip r:embed="rId2"/>
          <a:stretch/>
        </p:blipFill>
        <p:spPr>
          <a:xfrm>
            <a:off x="7559640" y="360360"/>
            <a:ext cx="1440000" cy="16207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4" descr=""/>
          <p:cNvPicPr/>
          <p:nvPr/>
        </p:nvPicPr>
        <p:blipFill>
          <a:blip r:embed="rId3"/>
          <a:stretch/>
        </p:blipFill>
        <p:spPr>
          <a:xfrm>
            <a:off x="7429680" y="5143680"/>
            <a:ext cx="1250640" cy="1223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1" descr=""/>
          <p:cNvPicPr/>
          <p:nvPr/>
        </p:nvPicPr>
        <p:blipFill>
          <a:blip r:embed="rId1"/>
          <a:stretch/>
        </p:blipFill>
        <p:spPr>
          <a:xfrm>
            <a:off x="6659640" y="2160720"/>
            <a:ext cx="2484360" cy="2879640"/>
          </a:xfrm>
          <a:prstGeom prst="rect">
            <a:avLst/>
          </a:prstGeom>
          <a:ln w="0">
            <a:noFill/>
          </a:ln>
        </p:spPr>
      </p:pic>
      <p:sp>
        <p:nvSpPr>
          <p:cNvPr id="955" name="Text Box 2"/>
          <p:cNvSpPr/>
          <p:nvPr/>
        </p:nvSpPr>
        <p:spPr>
          <a:xfrm>
            <a:off x="1434960" y="189000"/>
            <a:ext cx="695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Ребята, </a:t>
            </a:r>
            <a:br>
              <a:rPr sz="4000"/>
            </a:br>
            <a:r>
              <a:rPr b="1" lang="en-US" sz="40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ru-RU" sz="4000" spc="-1" strike="noStrike">
                <a:solidFill>
                  <a:srgbClr val="c22ea4"/>
                </a:solidFill>
                <a:latin typeface="Corbel"/>
              </a:rPr>
              <a:t>давайте жить дружно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 Box 3"/>
          <p:cNvSpPr/>
          <p:nvPr/>
        </p:nvSpPr>
        <p:spPr>
          <a:xfrm>
            <a:off x="360360" y="1628640"/>
            <a:ext cx="8783640" cy="50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то любит лгать, того нельзя в друзья брать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Лучше честный враг,   чем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коварный друг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Font typeface="Wingdings 2" charset="2"/>
              <a:buChar char="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Не бойся врага умного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бойся друга глупог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7" name="Picture 4" descr=""/>
          <p:cNvPicPr/>
          <p:nvPr/>
        </p:nvPicPr>
        <p:blipFill>
          <a:blip r:embed="rId2"/>
          <a:stretch/>
        </p:blipFill>
        <p:spPr>
          <a:xfrm>
            <a:off x="1143000" y="500040"/>
            <a:ext cx="857160" cy="714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9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9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1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       </a:t>
            </a:r>
            <a:r>
              <a:rPr b="1" lang="ru-RU" sz="4300" spc="-1" strike="noStrike">
                <a:solidFill>
                  <a:srgbClr val="c22ea4"/>
                </a:solidFill>
                <a:latin typeface="Arial"/>
              </a:rPr>
              <a:t>    </a:t>
            </a:r>
            <a:r>
              <a:rPr b="1" lang="ru-RU" sz="4300" spc="-1" strike="noStrike">
                <a:solidFill>
                  <a:srgbClr val="c22ea4"/>
                </a:solidFill>
                <a:latin typeface="Corbel"/>
              </a:rPr>
              <a:t> </a:t>
            </a:r>
            <a:r>
              <a:rPr b="1" lang="ru-RU" sz="4300" spc="-1" strike="noStrike" u="sng">
                <a:solidFill>
                  <a:srgbClr val="c22ea4"/>
                </a:solidFill>
                <a:uFillTx/>
                <a:latin typeface="Corbel"/>
              </a:rPr>
              <a:t>Правила дружбы: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Text Box 2"/>
          <p:cNvSpPr/>
          <p:nvPr/>
        </p:nvSpPr>
        <p:spPr>
          <a:xfrm>
            <a:off x="1079640" y="1260360"/>
            <a:ext cx="7854840" cy="57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Не ссор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Уступ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бояться просить прощения,              если обидел дру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ыть вежлив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зл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Не жаднича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Помогать друг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Corbel"/>
              </a:rPr>
              <a:t>Быть чест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Font typeface="Wingdings" charset="2"/>
              <a:buChar char="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Быть внимательны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0" name="Picture 3" descr=""/>
          <p:cNvPicPr/>
          <p:nvPr/>
        </p:nvPicPr>
        <p:blipFill>
          <a:blip r:embed="rId1"/>
          <a:stretch/>
        </p:blipFill>
        <p:spPr>
          <a:xfrm>
            <a:off x="1214280" y="0"/>
            <a:ext cx="1141560" cy="15001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"/>
          <p:cNvPicPr/>
          <p:nvPr/>
        </p:nvPicPr>
        <p:blipFill>
          <a:blip r:embed="rId2"/>
          <a:srcRect l="0" t="17975" r="1360" b="0"/>
          <a:stretch/>
        </p:blipFill>
        <p:spPr>
          <a:xfrm>
            <a:off x="6659640" y="1268280"/>
            <a:ext cx="2071440" cy="130356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5" descr=""/>
          <p:cNvPicPr/>
          <p:nvPr/>
        </p:nvPicPr>
        <p:blipFill>
          <a:blip r:embed="rId3"/>
          <a:stretch/>
        </p:blipFill>
        <p:spPr>
          <a:xfrm>
            <a:off x="5364000" y="1557360"/>
            <a:ext cx="642960" cy="6033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6" descr=""/>
          <p:cNvPicPr/>
          <p:nvPr/>
        </p:nvPicPr>
        <p:blipFill>
          <a:blip r:embed="rId4"/>
          <a:stretch/>
        </p:blipFill>
        <p:spPr>
          <a:xfrm>
            <a:off x="7093080" y="4076640"/>
            <a:ext cx="1000080" cy="2282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5" name="chimes.wav"/>
      </p:stSnd>
    </p:sndAc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3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000" fill="hold"/>
                                        <p:tgtEl>
                                          <p:spTgt spid="9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9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9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9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9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9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000" fill="hold"/>
                                        <p:tgtEl>
                                          <p:spTgt spid="9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Picture 1" descr=""/>
          <p:cNvPicPr/>
          <p:nvPr/>
        </p:nvPicPr>
        <p:blipFill>
          <a:blip r:embed="rId1"/>
          <a:stretch/>
        </p:blipFill>
        <p:spPr>
          <a:xfrm>
            <a:off x="179280" y="3143160"/>
            <a:ext cx="3060720" cy="3029040"/>
          </a:xfrm>
          <a:prstGeom prst="rect">
            <a:avLst/>
          </a:prstGeom>
          <a:ln w="0">
            <a:noFill/>
          </a:ln>
        </p:spPr>
      </p:pic>
      <p:sp>
        <p:nvSpPr>
          <p:cNvPr id="965" name="Text Box 2"/>
          <p:cNvSpPr/>
          <p:nvPr/>
        </p:nvSpPr>
        <p:spPr>
          <a:xfrm>
            <a:off x="2195640" y="260280"/>
            <a:ext cx="6743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Теперь </a:t>
            </a:r>
            <a:r>
              <a:rPr b="1" lang="ru-RU" sz="3200" spc="-1" strike="noStrike">
                <a:solidFill>
                  <a:srgbClr val="c22ea4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ы знае</a:t>
            </a:r>
            <a:r>
              <a:rPr b="1" lang="ru-RU" sz="3200" spc="-1" strike="noStrike">
                <a:solidFill>
                  <a:srgbClr val="c22ea4"/>
                </a:solidFill>
                <a:latin typeface="Arial"/>
              </a:rPr>
              <a:t>те</a:t>
            </a:r>
            <a:r>
              <a:rPr b="1" lang="ru-RU" sz="3200" spc="-1" strike="noStrike">
                <a:solidFill>
                  <a:srgbClr val="c22ea4"/>
                </a:solidFill>
                <a:latin typeface="Corbel"/>
              </a:rPr>
              <a:t> о дружбе всё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Text Box 3"/>
          <p:cNvSpPr/>
          <p:nvPr/>
        </p:nvSpPr>
        <p:spPr>
          <a:xfrm>
            <a:off x="179280" y="1500120"/>
            <a:ext cx="8964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      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зей находит тот,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кто сам встречает  их улыбк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65040" indent="-277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5040"/>
                <a:tab algn="l" pos="812880"/>
                <a:tab algn="l" pos="1262160"/>
                <a:tab algn="l" pos="1711440"/>
                <a:tab algn="l" pos="2160720"/>
                <a:tab algn="l" pos="2610000"/>
                <a:tab algn="l" pos="3059280"/>
                <a:tab algn="l" pos="3508200"/>
                <a:tab algn="l" pos="3957480"/>
                <a:tab algn="l" pos="4406760"/>
                <a:tab algn="l" pos="4856040"/>
                <a:tab algn="l" pos="5305320"/>
                <a:tab algn="l" pos="5754600"/>
                <a:tab algn="l" pos="6203880"/>
                <a:tab algn="l" pos="6653160"/>
                <a:tab algn="l" pos="7102440"/>
                <a:tab algn="l" pos="7551720"/>
                <a:tab algn="l" pos="8001000"/>
                <a:tab algn="l" pos="8450280"/>
                <a:tab algn="l" pos="8899560"/>
                <a:tab algn="l" pos="9348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Удачи 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ем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 поисках настоящего друга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7" name="Picture 4" descr=""/>
          <p:cNvPicPr/>
          <p:nvPr/>
        </p:nvPicPr>
        <p:blipFill>
          <a:blip r:embed="rId2"/>
          <a:stretch/>
        </p:blipFill>
        <p:spPr>
          <a:xfrm>
            <a:off x="3995640" y="4319640"/>
            <a:ext cx="2484360" cy="234000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5" descr=""/>
          <p:cNvPicPr/>
          <p:nvPr/>
        </p:nvPicPr>
        <p:blipFill>
          <a:blip r:embed="rId3"/>
          <a:stretch/>
        </p:blipFill>
        <p:spPr>
          <a:xfrm>
            <a:off x="7380360" y="1125360"/>
            <a:ext cx="1589040" cy="2297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6" descr=""/>
          <p:cNvPicPr/>
          <p:nvPr/>
        </p:nvPicPr>
        <p:blipFill>
          <a:blip r:embed="rId4"/>
          <a:stretch/>
        </p:blipFill>
        <p:spPr>
          <a:xfrm>
            <a:off x="7380360" y="5219640"/>
            <a:ext cx="1619280" cy="144000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7" descr=""/>
          <p:cNvPicPr/>
          <p:nvPr/>
        </p:nvPicPr>
        <p:blipFill>
          <a:blip r:embed="rId5"/>
          <a:stretch/>
        </p:blipFill>
        <p:spPr>
          <a:xfrm>
            <a:off x="1042920" y="476280"/>
            <a:ext cx="885960" cy="866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6" name="chimes.wav"/>
      </p:stSnd>
    </p:sndAc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9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900" spc="-1" strike="noStrike">
                <a:solidFill>
                  <a:srgbClr val="c22ea4"/>
                </a:solidFill>
                <a:latin typeface="Corbel"/>
              </a:rPr>
              <a:t>      </a:t>
            </a:r>
            <a:r>
              <a:rPr b="1" i="1" lang="ru-RU" sz="3900" spc="-1" strike="noStrike">
                <a:solidFill>
                  <a:srgbClr val="c22ea4"/>
                </a:solidFill>
                <a:latin typeface="Arial"/>
              </a:rPr>
              <a:t>       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09" name="Picture 2" descr=""/>
          <p:cNvPicPr/>
          <p:nvPr/>
        </p:nvPicPr>
        <p:blipFill>
          <a:blip r:embed="rId1"/>
          <a:stretch/>
        </p:blipFill>
        <p:spPr>
          <a:xfrm>
            <a:off x="7858080" y="285840"/>
            <a:ext cx="828720" cy="690480"/>
          </a:xfrm>
          <a:prstGeom prst="rect">
            <a:avLst/>
          </a:prstGeom>
          <a:ln w="0">
            <a:noFill/>
          </a:ln>
        </p:spPr>
      </p:pic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20720" y="899640"/>
            <a:ext cx="8213760" cy="57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мы называем дружбой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Кого считаем друзьями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 помогает, а что мешает дружбе?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80"/>
                </a:solidFill>
                <a:uFillTx/>
                <a:latin typeface="Arial"/>
              </a:rPr>
              <a:t>Дружба</a:t>
            </a:r>
            <a:r>
              <a:rPr b="1" i="1" lang="ru-RU" sz="3200" spc="-1" strike="noStrike">
                <a:solidFill>
                  <a:srgbClr val="000080"/>
                </a:solidFill>
                <a:latin typeface="Arial"/>
              </a:rPr>
              <a:t> – близкие отношения,</a:t>
            </a:r>
            <a:r>
              <a:rPr b="1" i="1" lang="ru-RU" sz="3200" spc="-1" strike="noStrike">
                <a:solidFill>
                  <a:srgbClr val="000080"/>
                </a:solidFill>
                <a:latin typeface="Corbel"/>
              </a:rPr>
              <a:t> основанные на взаимном доверии, привязанности, общности интересов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22ea4"/>
                </a:solidFill>
                <a:latin typeface="Corbel"/>
              </a:rPr>
              <a:t>Словесная  игра</a:t>
            </a:r>
            <a:endParaRPr b="0" lang="en-US" sz="4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360360" y="1447560"/>
            <a:ext cx="8640720" cy="49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жить дружно, без ссор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сам выполнять свои обязанност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любящий трудитьс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который знает свои недостатк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всегда готовый помочь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умеющий радоваться жизн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желающий добра другим людям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ловек, который всегда всех приветствует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360000" y="179280"/>
            <a:ext cx="4319640" cy="63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964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rbel"/>
              </a:rPr>
              <a:t>СВЕТЛ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964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Вежл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Вниматель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Мужествен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Надёж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Предан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Терпел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Чест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59640" indent="-27648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Чутк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859280" y="178920"/>
            <a:ext cx="4076640" cy="676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1" lang="ru-RU" sz="3200" spc="-1" strike="noStrike">
                <a:solidFill>
                  <a:srgbClr val="800080"/>
                </a:solidFill>
                <a:latin typeface="Corbel"/>
              </a:rPr>
              <a:t>  </a:t>
            </a:r>
            <a:r>
              <a:rPr b="1" lang="ru-RU" sz="3200" spc="-1" strike="noStrike">
                <a:solidFill>
                  <a:srgbClr val="4700b8"/>
                </a:solidFill>
                <a:latin typeface="Corbel"/>
              </a:rPr>
              <a:t>ТЁМ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Глуп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Груб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Дерзки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Жад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Зло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Каприз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Любопытн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-279360">
              <a:spcBef>
                <a:spcPts val="601"/>
              </a:spcBef>
              <a:buClr>
                <a:srgbClr val="b83d68"/>
              </a:buClr>
              <a:buSzPct val="80000"/>
              <a:buFont typeface="Wingdings 2" charset="2"/>
              <a:buChar char=""/>
              <a:tabLst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80"/>
                </a:solidFill>
                <a:latin typeface="Corbel"/>
              </a:rPr>
              <a:t>Лживый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363600"/>
                <a:tab algn="l" pos="468360"/>
                <a:tab algn="l" pos="917640"/>
                <a:tab algn="l" pos="1366920"/>
                <a:tab algn="l" pos="1816200"/>
                <a:tab algn="l" pos="2265480"/>
                <a:tab algn="l" pos="2714760"/>
                <a:tab algn="l" pos="3164040"/>
                <a:tab algn="l" pos="3613320"/>
                <a:tab algn="l" pos="4062240"/>
                <a:tab algn="l" pos="4511520"/>
                <a:tab algn="l" pos="4960800"/>
                <a:tab algn="l" pos="5410080"/>
                <a:tab algn="l" pos="5859360"/>
                <a:tab algn="l" pos="6308640"/>
                <a:tab algn="l" pos="6757920"/>
                <a:tab algn="l" pos="7207200"/>
                <a:tab algn="l" pos="7656480"/>
                <a:tab algn="l" pos="8105760"/>
                <a:tab algn="l" pos="8555040"/>
                <a:tab algn="l" pos="90043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34960" y="96480"/>
            <a:ext cx="749952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</a:t>
            </a: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Пословицы о  дружбе</a:t>
            </a:r>
            <a:br>
              <a:rPr sz="3900"/>
            </a:br>
            <a:r>
              <a:rPr b="1" lang="ru-RU" sz="3900" spc="-1" strike="noStrike">
                <a:solidFill>
                  <a:srgbClr val="c22ea4"/>
                </a:solidFill>
                <a:latin typeface="Corbel"/>
              </a:rPr>
              <a:t>            </a:t>
            </a:r>
            <a:endParaRPr b="0" lang="en-US" sz="39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16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619280" cy="1393920"/>
          </a:xfrm>
          <a:prstGeom prst="rect">
            <a:avLst/>
          </a:prstGeom>
          <a:ln w="0">
            <a:noFill/>
          </a:ln>
        </p:spPr>
      </p:pic>
      <p:pic>
        <p:nvPicPr>
          <p:cNvPr id="917" name="Picture 3" descr=""/>
          <p:cNvPicPr/>
          <p:nvPr/>
        </p:nvPicPr>
        <p:blipFill>
          <a:blip r:embed="rId2"/>
          <a:stretch/>
        </p:blipFill>
        <p:spPr>
          <a:xfrm>
            <a:off x="3995640" y="5580000"/>
            <a:ext cx="1452600" cy="127800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0" y="1260360"/>
            <a:ext cx="914400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Человек без друзей, что дерево без корней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т друга - ищи, а нашел - береги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жба крепка не лестью, а правдой и честью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жба как стекло: разобьешь - не сложишь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кажи мне кто твой друг, и я скажу, кто ты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е тот друг, кто на пиру гуляет, а тот, кто в беде помог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>
              <a:lnSpc>
                <a:spcPct val="80000"/>
              </a:lnSpc>
              <a:spcBef>
                <a:spcPts val="601"/>
              </a:spcBef>
              <a:buClr>
                <a:srgbClr val="002060"/>
              </a:buClr>
              <a:buSzPct val="170000"/>
              <a:buFont typeface="Wingdings" charset="2"/>
              <a:buChar char=""/>
              <a:tabLst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Друг спорит, а враг поддакивает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036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60360"/>
                <a:tab algn="l" pos="465120"/>
                <a:tab algn="l" pos="914400"/>
                <a:tab algn="l" pos="1363680"/>
                <a:tab algn="l" pos="1812960"/>
                <a:tab algn="l" pos="2262240"/>
                <a:tab algn="l" pos="2711520"/>
                <a:tab algn="l" pos="3160800"/>
                <a:tab algn="l" pos="3610080"/>
                <a:tab algn="l" pos="4059360"/>
                <a:tab algn="l" pos="4508640"/>
                <a:tab algn="l" pos="4957920"/>
                <a:tab algn="l" pos="5407200"/>
                <a:tab algn="l" pos="5856120"/>
                <a:tab algn="l" pos="6305400"/>
                <a:tab algn="l" pos="6754680"/>
                <a:tab algn="l" pos="7203960"/>
                <a:tab algn="l" pos="7653240"/>
                <a:tab algn="l" pos="8102520"/>
                <a:tab algn="l" pos="8551800"/>
                <a:tab algn="l" pos="9001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 spd="med">
    <p:dissolve/>
    <p:sndAc>
      <p:stSnd>
        <p:snd r:embed="rId3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"/>
          <p:cNvSpPr/>
          <p:nvPr/>
        </p:nvSpPr>
        <p:spPr>
          <a:xfrm>
            <a:off x="1428840" y="404640"/>
            <a:ext cx="487188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300" spc="-1" strike="noStrike" u="sng">
                <a:solidFill>
                  <a:srgbClr val="c22ea4"/>
                </a:solidFill>
                <a:uFillTx/>
                <a:latin typeface="Corbel"/>
              </a:rPr>
              <a:t>Дружба народов</a:t>
            </a:r>
            <a:endParaRPr b="0" lang="en-US" sz="4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Text Box 2"/>
          <p:cNvSpPr/>
          <p:nvPr/>
        </p:nvSpPr>
        <p:spPr>
          <a:xfrm>
            <a:off x="1079640" y="1979640"/>
            <a:ext cx="7499160" cy="42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036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 2" charset="2"/>
              <a:buChar char=""/>
              <a:tabLst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Если дружбой дорож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Можно спорить и дружить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И не вспыхнет ссо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   </a:t>
            </a:r>
            <a:r>
              <a:rPr b="1" i="1" lang="ru-RU" sz="4400" spc="-1" strike="noStrike">
                <a:solidFill>
                  <a:srgbClr val="0070c0"/>
                </a:solidFill>
                <a:latin typeface="Corbel"/>
              </a:rPr>
              <a:t>Из любого спор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60360" indent="-2826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0360"/>
                <a:tab algn="l" pos="808200"/>
                <a:tab algn="l" pos="1257480"/>
                <a:tab algn="l" pos="1706400"/>
                <a:tab algn="l" pos="2155680"/>
                <a:tab algn="l" pos="2604960"/>
                <a:tab algn="l" pos="3054240"/>
                <a:tab algn="l" pos="3503520"/>
                <a:tab algn="l" pos="3952800"/>
                <a:tab algn="l" pos="4402080"/>
                <a:tab algn="l" pos="4851360"/>
                <a:tab algn="l" pos="5300640"/>
                <a:tab algn="l" pos="5749920"/>
                <a:tab algn="l" pos="6199200"/>
                <a:tab algn="l" pos="6648480"/>
                <a:tab algn="l" pos="7097760"/>
                <a:tab algn="l" pos="7547040"/>
                <a:tab algn="l" pos="7996320"/>
                <a:tab algn="l" pos="8445600"/>
                <a:tab algn="l" pos="8894880"/>
                <a:tab algn="l" pos="93441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1" name="Picture 3" descr=""/>
          <p:cNvPicPr/>
          <p:nvPr/>
        </p:nvPicPr>
        <p:blipFill>
          <a:blip r:embed="rId1"/>
          <a:stretch/>
        </p:blipFill>
        <p:spPr>
          <a:xfrm>
            <a:off x="6929280" y="357120"/>
            <a:ext cx="2022480" cy="1785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300"/>
                            </p:stCondLst>
                            <p:childTnLst>
                              <p:par>
                                <p:cTn id="5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9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9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9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9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79280" y="142560"/>
            <a:ext cx="8755200" cy="14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обрались однажды четыре музыканта, подружились.Вместе концерты давали, вместе разбойников прогоняли … . Назовите музыкантов - друзей.</a:t>
            </a:r>
            <a:endParaRPr b="0" lang="en-US" sz="24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179280" y="1581120"/>
            <a:ext cx="87552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4" name="Picture 3" descr=""/>
          <p:cNvPicPr/>
          <p:nvPr/>
        </p:nvPicPr>
        <p:blipFill>
          <a:blip r:embed="rId1"/>
          <a:stretch/>
        </p:blipFill>
        <p:spPr>
          <a:xfrm>
            <a:off x="539640" y="148428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0" y="-343080"/>
            <a:ext cx="9144000" cy="21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ригорий Остер написал немало рассказов о Попугае, Удаве, Мартышке и их дружной жизни в Африке. Кто был четвёртым в компании друзей?</a:t>
            </a:r>
            <a:endParaRPr b="0" lang="en-US" sz="2800" spc="-1" strike="noStrike">
              <a:solidFill>
                <a:srgbClr val="c22ea4"/>
              </a:solidFill>
              <a:latin typeface="Corbe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 type="subTitle"/>
          </p:nvPr>
        </p:nvSpPr>
        <p:spPr>
          <a:xfrm>
            <a:off x="179280" y="1349280"/>
            <a:ext cx="87552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927" name="Picture 3" descr=""/>
          <p:cNvPicPr/>
          <p:nvPr/>
        </p:nvPicPr>
        <p:blipFill>
          <a:blip r:embed="rId1"/>
          <a:stretch/>
        </p:blipFill>
        <p:spPr>
          <a:xfrm>
            <a:off x="755640" y="1484280"/>
            <a:ext cx="8062920" cy="5040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79280" y="-28800"/>
            <a:ext cx="875376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Какая девочка выручила своего друга из ледового плена? Вызывает ли у вас уважение её поступок и почему?</a:t>
            </a:r>
            <a:endParaRPr b="0" lang="en-US" sz="2600" spc="-1" strike="noStrike">
              <a:solidFill>
                <a:srgbClr val="c22ea4"/>
              </a:solidFill>
              <a:latin typeface="Corbel"/>
            </a:endParaRPr>
          </a:p>
        </p:txBody>
      </p:sp>
      <p:pic>
        <p:nvPicPr>
          <p:cNvPr id="929" name="Picture 2" descr=""/>
          <p:cNvPicPr/>
          <p:nvPr/>
        </p:nvPicPr>
        <p:blipFill>
          <a:blip r:embed="rId1"/>
          <a:stretch/>
        </p:blipFill>
        <p:spPr>
          <a:xfrm>
            <a:off x="179280" y="1176480"/>
            <a:ext cx="8964720" cy="56289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5T19:38:42Z</dcterms:created>
  <dc:creator>Л.Ф.</dc:creator>
  <dc:description/>
  <dc:language>en-US</dc:language>
  <cp:lastModifiedBy>Сергей</cp:lastModifiedBy>
  <dcterms:modified xsi:type="dcterms:W3CDTF">2014-06-01T18:22:31Z</dcterms:modified>
  <cp:revision>51</cp:revision>
  <dc:subject/>
  <dc:title>Поговорим о дружбе</dc:title>
</cp:coreProperties>
</file>